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C2F-D0E5-461B-BC69-5C89963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34C-A6B1-4DA4-BA2A-8C09BB40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CA4-AB40-427B-8E01-7383A83C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AC3-0DE9-4C29-9ECD-A8786A7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214-E3FE-42D7-931E-89EDB31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67A-6DC8-48AB-8F9C-76FE435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49D-E4A5-436D-B4AC-0947F6D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1F0-1B5C-459F-8EC0-B2DB81A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BCB-72C1-44B4-9B82-D475711F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FA5-1CD0-4D05-922C-AD14A13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8EF-7075-492C-BBD7-AE78A18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01A-2DCD-4607-8B82-4673C59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EDD-C48D-48A9-B37A-53E26C43B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6337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bat-Bold"/>
              </a:rPr>
              <a:t>Использование ИКТ как средство повышения эффективности логопедической работы в ДО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3720" y="4941720"/>
            <a:ext cx="5791320" cy="16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Учитель-логопед МБДОУ «Колокольчик» п.Чернянка Бел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Волобуева Юлия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770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Основной целью логопедической службы ДОУ </a:t>
            </a:r>
            <a:r>
              <a:rPr b="0" lang="ru-RU" sz="4000" spc="-1" strike="noStrike">
                <a:solidFill>
                  <a:srgbClr val="cc6600"/>
                </a:solidFill>
                <a:latin typeface="Arbat-Bold"/>
              </a:rPr>
              <a:t>является коррекция речевых наруш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463840"/>
            <a:ext cx="84247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bat-Bold"/>
              </a:rPr>
              <a:t>Своевременное овладение правильной речью имеет огромное значение для формирования полноценной личности ребенка и успешного обучения его в школ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3300"/>
                </a:solidFill>
                <a:uFillTx/>
                <a:latin typeface="AGReverance"/>
              </a:rPr>
              <a:t>В связи с введением ФГОС 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060280"/>
            <a:ext cx="8610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bat-Bold"/>
              </a:rPr>
              <a:t>одной из основных задач логопеда является поиск и разработка новых, более эффективных методов и приемов работы с деть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3678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Информационно-коммуникационные технологии в образовании (ИКТ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— </a:t>
            </a:r>
            <a:r>
              <a:rPr b="0" lang="ru-RU" sz="2800" spc="-1" strike="noStrike">
                <a:solidFill>
                  <a:srgbClr val="cc6600"/>
                </a:solidFill>
                <a:latin typeface="Arbat-Bold"/>
              </a:rPr>
              <a:t>это комплекс учебно-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, а также для образования (развития, диагностики, коррекци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AGReverance"/>
              </a:rPr>
              <a:t>Возможности ИКТ в коррекционной работе с детьми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мотивации детей к трудным для них видам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автоматизация речевых навыков с коррекцией звукопроиз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расширение кругозора дошкольников, развитие их познавате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эффективности усвоения материала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скорости запоми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активизация и развитие высших психических функций, мелкой моторики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формирование теоретического, творческого и рефлексивного мышления обучаемых, повышение их интеллектуально-творческого развит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3300"/>
                </a:solidFill>
                <a:uFillTx/>
                <a:latin typeface="AGReverance"/>
              </a:rPr>
              <a:t>Коррекционно-развивающие игры позволяю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повышать речевую мотив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повышать скорость запоминания и улучшать речевое продуц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активизировать и восстанавливать высшие психические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автоматизировать необходимые звуки в результате запоминания большого количества речевого материала.</a:t>
            </a:r>
            <a:r>
              <a:rPr b="0" lang="ru-RU" sz="3600" spc="-1" strike="noStrike">
                <a:solidFill>
                  <a:srgbClr val="cc6600"/>
                </a:solidFill>
                <a:latin typeface="Arbat-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438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Использование компьютерных технологий в коррекционно-образовательном процессе  </a:t>
            </a:r>
            <a:r>
              <a:rPr b="1" lang="ru-RU" sz="4400" spc="-1" strike="noStrike">
                <a:solidFill>
                  <a:srgbClr val="663300"/>
                </a:solidFill>
                <a:latin typeface="AGReverance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3055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bat-Bold"/>
              </a:rPr>
              <a:t>это доступный и удобный способ быстрого подбора необходимого речевого, литературного материала и его оформление с помощью различных информационных и электронных ресур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AGReverance"/>
              </a:rPr>
              <a:t>Информационно-коммуникационные технологии </a:t>
            </a:r>
            <a:r>
              <a:rPr b="0" lang="ru-RU" sz="3000" spc="-1" strike="noStrike">
                <a:solidFill>
                  <a:srgbClr val="cc6600"/>
                </a:solidFill>
                <a:latin typeface="Arbat-Bold"/>
              </a:rPr>
              <a:t>являются эффективным техническим средством, при помощи которого можно значительно обогатить коррекционно-развивающий процесс, стимулировать индивидуальную деятельность и развитие познавательных процессов детей, расширить кругозор ребенка, воспитать творческую личность, адаптированную к жизни в современном обществ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073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  </a:t>
            </a: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1073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       </a:t>
            </a: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0153516"/>
          <p:cNvPicPr/>
          <p:nvPr/>
        </p:nvPicPr>
        <p:blipFill>
          <a:blip r:embed="rId1"/>
          <a:stretch/>
        </p:blipFill>
        <p:spPr>
          <a:xfrm rot="10800000">
            <a:off x="1828440" y="4800240"/>
            <a:ext cx="579132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5:21:50Z</dcterms:created>
  <dc:creator/>
  <dc:description/>
  <dc:language>en-US</dc:language>
  <cp:lastModifiedBy>Юлия</cp:lastModifiedBy>
  <dcterms:modified xsi:type="dcterms:W3CDTF">2015-11-03T17:14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