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E8A-BE65-412F-968C-5B49C7EE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A42-809C-43AA-A55E-7F30AB24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675-F455-4069-AF98-ADE83B18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950-87DD-42F8-95D0-D3D06F46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30F-BE0B-4C64-AB95-F1EF04B1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1EE-644F-4BB2-90E3-19E5D6E9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889-84D1-45D6-B2B9-A4069E83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321-1FEE-4DB3-8C1D-7615DED4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C10-779A-4D48-BF5B-436ADBCC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F44-975D-4AB7-9F4D-0A55012E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013-BEA6-4A35-8D2F-659C8EDB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CA0-1A0B-4C60-AE28-DB78FF8E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0DB0-B285-42AB-A569-B90FB60384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63374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bat-Bold"/>
              </a:rPr>
              <a:t>Использование ИКТ как средство повышения эффективности логопедической работы в ДО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3720" y="4941720"/>
            <a:ext cx="5791320" cy="16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GReverance"/>
              </a:rPr>
              <a:t>Подгото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GReverance"/>
              </a:rPr>
              <a:t>Учитель-логопед МБДОУ «Колокольчик» п.Чернянка Белгоро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GReverance"/>
              </a:rPr>
              <a:t>Волобуева Юлия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770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AGReverance"/>
              </a:rPr>
              <a:t>Основной целью логопедической службы ДОУ </a:t>
            </a:r>
            <a:r>
              <a:rPr b="0" lang="ru-RU" sz="4000" spc="-1" strike="noStrike">
                <a:solidFill>
                  <a:srgbClr val="cc6600"/>
                </a:solidFill>
                <a:latin typeface="Arbat-Bold"/>
              </a:rPr>
              <a:t>является коррекция речевых нарушен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463840"/>
            <a:ext cx="842472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bat-Bold"/>
              </a:rPr>
              <a:t>Своевременное овладение правильной речью имеет огромное значение для формирования полноценной личности ребенка и успешного обучения его в школ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3300"/>
                </a:solidFill>
                <a:uFillTx/>
                <a:latin typeface="AGReverance"/>
              </a:rPr>
              <a:t>В связи с введением ФГОС Д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2060280"/>
            <a:ext cx="8610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bat-Bold"/>
              </a:rPr>
              <a:t>одной из основных задач логопеда является поиск и разработка новых, более эффективных методов и приемов работы с детьм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04640"/>
            <a:ext cx="83678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AGReverance"/>
              </a:rPr>
              <a:t>Информационно-коммуникационные технологии в образовании (ИКТ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— </a:t>
            </a:r>
            <a:r>
              <a:rPr b="0" lang="ru-RU" sz="2800" spc="-1" strike="noStrike">
                <a:solidFill>
                  <a:srgbClr val="cc6600"/>
                </a:solidFill>
                <a:latin typeface="Arbat-Bold"/>
              </a:rPr>
              <a:t>это комплекс учебно-методических материалов, технических и инструментальных средств вычислительной техники в учебном процессе, формах и методах их применения для совершенствования деятельности специалистов учреждений образования (администрации, воспитателей, специалистов, а также для образования (развития, диагностики, коррекци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AGReverance"/>
              </a:rPr>
              <a:t>Возможности ИКТ в коррекционной работе с детьми 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повышение мотивации детей к трудным для них видам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автоматизация речевых навыков с коррекцией звукопроизно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расширение кругозора дошкольников, развитие их познаватель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повышение эффективности усвоения материала дет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повышение скорости запоми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активизация и развитие высших психических функций, мелкой моторики р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bat-Bold"/>
              </a:rPr>
              <a:t>формирование теоретического, творческого и рефлексивного мышления обучаемых, повышение их интеллектуально-творческого развит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663300"/>
                </a:solidFill>
                <a:uFillTx/>
                <a:latin typeface="AGReverance"/>
              </a:rPr>
              <a:t>Коррекционно-развивающие игры позволяю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bat-Bold"/>
              </a:rPr>
              <a:t>повышать речевую мотивац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bat-Bold"/>
              </a:rPr>
              <a:t>повышать скорость запоминания и улучшать речевое продуц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bat-Bold"/>
              </a:rPr>
              <a:t>активизировать и восстанавливать высшие психические фун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bat-Bold"/>
              </a:rPr>
              <a:t>автоматизировать необходимые звуки в результате запоминания большого количества речевого материала.</a:t>
            </a:r>
            <a:r>
              <a:rPr b="0" lang="ru-RU" sz="3600" spc="-1" strike="noStrike">
                <a:solidFill>
                  <a:srgbClr val="cc6600"/>
                </a:solidFill>
                <a:latin typeface="Arbat-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438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AGReverance"/>
              </a:rPr>
              <a:t>Использование компьютерных технологий в коррекционно-образовательном процессе  </a:t>
            </a:r>
            <a:r>
              <a:rPr b="1" lang="ru-RU" sz="4400" spc="-1" strike="noStrike">
                <a:solidFill>
                  <a:srgbClr val="663300"/>
                </a:solidFill>
                <a:latin typeface="AGReverance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2781000"/>
            <a:ext cx="83055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bat-Bold"/>
              </a:rPr>
              <a:t>это доступный и удобный способ быстрого подбора необходимого речевого, литературного материала и его оформление с помощью различных информационных и электронных ресур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AGReverance"/>
              </a:rPr>
              <a:t>Информационно-коммуникационные технологии </a:t>
            </a:r>
            <a:r>
              <a:rPr b="0" lang="ru-RU" sz="3000" spc="-1" strike="noStrike">
                <a:solidFill>
                  <a:srgbClr val="cc6600"/>
                </a:solidFill>
                <a:latin typeface="Arbat-Bold"/>
              </a:rPr>
              <a:t>являются эффективным техническим средством, при помощи которого можно значительно обогатить коррекционно-развивающий процесс, стимулировать индивидуальную деятельность и развитие познавательных процессов детей, расширить кругозор ребенка, воспитать творческую личность, адаптированную к жизни в современном обществ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073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GReverance"/>
              </a:rPr>
              <a:t>  </a:t>
            </a:r>
            <a:r>
              <a:rPr b="1" lang="ru-RU" sz="9600" spc="-1" strike="noStrike">
                <a:solidFill>
                  <a:srgbClr val="663300"/>
                </a:solidFill>
                <a:latin typeface="AGReverance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1073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GReverance"/>
              </a:rPr>
              <a:t>       </a:t>
            </a:r>
            <a:r>
              <a:rPr b="1" lang="ru-RU" sz="9600" spc="-1" strike="noStrike">
                <a:solidFill>
                  <a:srgbClr val="663300"/>
                </a:solidFill>
                <a:latin typeface="AGReverance"/>
              </a:rPr>
              <a:t>за вним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J0153516"/>
          <p:cNvPicPr/>
          <p:nvPr/>
        </p:nvPicPr>
        <p:blipFill>
          <a:blip r:embed="rId1"/>
          <a:stretch/>
        </p:blipFill>
        <p:spPr>
          <a:xfrm rot="10800000">
            <a:off x="1828440" y="4800240"/>
            <a:ext cx="5791320" cy="15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5:21:50Z</dcterms:created>
  <dc:creator/>
  <dc:description/>
  <dc:language>en-US</dc:language>
  <cp:lastModifiedBy>Юлия</cp:lastModifiedBy>
  <dcterms:modified xsi:type="dcterms:W3CDTF">2015-11-03T17:14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