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8.jpeg" ContentType="image/jpeg"/>
  <Override PartName="/ppt/media/image5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3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097-479D-4A2B-ABA6-74B67263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241-395B-4EB0-8DB7-35C267B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D5C-D579-454D-877F-F4F331AB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2A9-1E97-4797-A542-90D5AC2D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1C56E-2908-4756-9E17-2C81D15E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6D6D-710B-46D3-9AA7-BE405DF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C039F-59CC-4C32-99FA-F76F4A5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37FBF-EF6F-4B51-81BA-95A064E7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E10FE-29A9-4323-9211-ACE4FEF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FBD6B-EB97-42E0-AA38-298A3B3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76716-ED2B-4F88-B455-DB67275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4E9-C671-497C-A38C-6DE063BA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74655-1BAD-4915-9D40-59E2896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65CA-535B-4147-9E1B-78818AB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6F0D8-CACA-4E0C-85AA-C4CEB79D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2B501-1C56-4899-B40C-677F4DE2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276AD-831E-4774-B086-E12EFBED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DD0C-A41C-4862-9871-E47AD3CD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53CC-6745-4EFD-BF94-9EEDC13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5FDC-696D-434F-B9E5-0BAA4714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7C15-D521-4B3F-A4F9-927D20C7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06F3-7CCC-42C7-AFC5-81D0452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795-8774-4A02-B6BB-D0068197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F18A-8D01-487E-AA41-D0C2062B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9B1C-B4E2-4298-A668-7299F44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D6F0-4E49-4549-8FF8-2E2EF63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8F97-606E-4943-8405-DDFA059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BFC4-D322-483E-A550-10F9572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0904-3AEC-4FF7-BA21-EB8F1106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0058-CF04-45A3-B59E-083498E0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AFCD7-1E1C-4A68-9316-73D32B07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AF003-BD22-4DB2-941A-60020D3D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7E418-B7D2-47E3-B554-B4A3CD1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078-D897-4EFF-9892-CF455F5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B8A93-C445-4EC1-B904-23C7F0C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225D4-8F52-4779-897E-11BFDB8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935A7-8871-4806-ACC0-6DFE14C1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2B2A1-F8B7-4638-95BC-7E5E34A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945DD-FE6A-4198-8F95-75072AA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94017-1A71-4F9A-ACD9-8AC0890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85BA8-7BEE-42D1-BC0D-F0DC15C9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554C3-1AFE-4BD5-A458-87BD5FEF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05978-436E-4090-889C-6B0BDF2F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D6D-D463-4559-B7CE-9D7B7B9B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0D1-81C2-4E27-81F8-7D7D7A89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DDE-7396-4F68-87B4-76B9EC3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927-9C3C-481F-A082-419FE41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E17-4470-4F0B-BA8D-293D57A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54A-B026-4A8E-BC09-ED6B144ACB06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7F7-8CCB-4668-92FB-B429E13FADD7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2D34-3687-42CA-BD16-9A8BAB6E6FF0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1B30-79FB-4BD5-AA6D-644CD8429E66}" type="slidenum">
              <a:rPr b="0" lang="ru-RU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2781360"/>
            <a:ext cx="6257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и:  Мустаева Алевтина Михайл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ева Ирина Николае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-психолог перво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йся          Николаева Софья, 2 класс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437680" cy="11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софья\Desktop\СОФЬЯ\ШКОЛА\ПАЛЕОТОЛОГ\20160111_222540.jpg"/>
          <p:cNvPicPr/>
          <p:nvPr/>
        </p:nvPicPr>
        <p:blipFill>
          <a:blip r:embed="rId3"/>
          <a:stretch/>
        </p:blipFill>
        <p:spPr>
          <a:xfrm>
            <a:off x="4987800" y="4149720"/>
            <a:ext cx="3918240" cy="246060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1" descr=""/>
          <p:cNvPicPr/>
          <p:nvPr/>
        </p:nvPicPr>
        <p:blipFill>
          <a:blip r:embed="rId4"/>
          <a:stretch/>
        </p:blipFill>
        <p:spPr>
          <a:xfrm>
            <a:off x="500040" y="1609560"/>
            <a:ext cx="8435880" cy="12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107200" cy="1176480"/>
          </a:xfrm>
          <a:prstGeom prst="rect">
            <a:avLst/>
          </a:prstGeom>
          <a:ln w="0">
            <a:noFill/>
          </a:ln>
        </p:spPr>
      </p:pic>
      <p:pic>
        <p:nvPicPr>
          <p:cNvPr id="175" name="Объект 6" descr=""/>
          <p:cNvPicPr/>
          <p:nvPr/>
        </p:nvPicPr>
        <p:blipFill>
          <a:blip r:embed="rId3"/>
          <a:stretch/>
        </p:blipFill>
        <p:spPr>
          <a:xfrm>
            <a:off x="395280" y="1819440"/>
            <a:ext cx="3941640" cy="2846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7" name="Picture 1" descr="C:\Users\софья\Desktop\СОФЬЯ\ШКОЛА\ПАЛЕОТОЛОГ\Norman_Ross_Dino.jpg"/>
          <p:cNvPicPr/>
          <p:nvPr/>
        </p:nvPicPr>
        <p:blipFill>
          <a:blip r:embed="rId4"/>
          <a:stretch/>
        </p:blipFill>
        <p:spPr>
          <a:xfrm>
            <a:off x="2808360" y="4400640"/>
            <a:ext cx="3384360" cy="226512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9" descr=""/>
          <p:cNvPicPr/>
          <p:nvPr/>
        </p:nvPicPr>
        <p:blipFill>
          <a:blip r:embed="rId5"/>
          <a:stretch/>
        </p:blipFill>
        <p:spPr>
          <a:xfrm>
            <a:off x="4470480" y="1793880"/>
            <a:ext cx="428616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Текст 2" descr=""/>
          <p:cNvPicPr/>
          <p:nvPr/>
        </p:nvPicPr>
        <p:blipFill>
          <a:blip r:embed="rId6"/>
          <a:stretch/>
        </p:blipFill>
        <p:spPr>
          <a:xfrm>
            <a:off x="324000" y="1090440"/>
            <a:ext cx="4039920" cy="920880"/>
          </a:xfrm>
          <a:prstGeom prst="rect">
            <a:avLst/>
          </a:prstGeom>
          <a:ln w="0">
            <a:noFill/>
          </a:ln>
        </p:spPr>
      </p:pic>
      <p:pic>
        <p:nvPicPr>
          <p:cNvPr id="180" name="Текст 2" descr=""/>
          <p:cNvPicPr/>
          <p:nvPr/>
        </p:nvPicPr>
        <p:blipFill>
          <a:blip r:embed="rId7"/>
          <a:stretch/>
        </p:blipFill>
        <p:spPr>
          <a:xfrm>
            <a:off x="4498920" y="1054080"/>
            <a:ext cx="4260960" cy="87156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8"/>
          <a:stretch/>
        </p:blipFill>
        <p:spPr>
          <a:xfrm>
            <a:off x="3206880" y="4175280"/>
            <a:ext cx="37242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1399680"/>
            <a:ext cx="404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3" name="Объект 6" descr=""/>
          <p:cNvPicPr/>
          <p:nvPr/>
        </p:nvPicPr>
        <p:blipFill>
          <a:blip r:embed="rId2"/>
          <a:stretch/>
        </p:blipFill>
        <p:spPr>
          <a:xfrm>
            <a:off x="127080" y="1125360"/>
            <a:ext cx="3092400" cy="216864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4" descr=""/>
          <p:cNvPicPr/>
          <p:nvPr/>
        </p:nvPicPr>
        <p:blipFill>
          <a:blip r:embed="rId3"/>
          <a:stretch/>
        </p:blipFill>
        <p:spPr>
          <a:xfrm>
            <a:off x="457200" y="128520"/>
            <a:ext cx="8004240" cy="1133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Picture 2" descr="C:\Users\софья\Desktop\СОФЬЯ\ШКОЛА\ПАЛЕОТОЛОГ\рн.jpg"/>
          <p:cNvPicPr/>
          <p:nvPr/>
        </p:nvPicPr>
        <p:blipFill>
          <a:blip r:embed="rId4"/>
          <a:stretch/>
        </p:blipFill>
        <p:spPr>
          <a:xfrm>
            <a:off x="3227400" y="1569960"/>
            <a:ext cx="269568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офья\Desktop\СОФЬЯ\ШКОЛА\ПАЛЕОТОЛОГ\velo6.jpg"/>
          <p:cNvPicPr/>
          <p:nvPr/>
        </p:nvPicPr>
        <p:blipFill>
          <a:blip r:embed="rId5"/>
          <a:srcRect l="0" t="0" r="15764" b="0"/>
          <a:stretch/>
        </p:blipFill>
        <p:spPr>
          <a:xfrm>
            <a:off x="11160" y="3586320"/>
            <a:ext cx="3921120" cy="211932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9" descr=""/>
          <p:cNvPicPr/>
          <p:nvPr/>
        </p:nvPicPr>
        <p:blipFill>
          <a:blip r:embed="rId6"/>
          <a:stretch/>
        </p:blipFill>
        <p:spPr>
          <a:xfrm>
            <a:off x="5867280" y="1316160"/>
            <a:ext cx="2857680" cy="272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софья\Desktop\СОФЬЯ\ШКОЛА\ПАЛЕОТОЛОГ\128171768999565-big.jpg"/>
          <p:cNvPicPr/>
          <p:nvPr/>
        </p:nvPicPr>
        <p:blipFill>
          <a:blip r:embed="rId7"/>
          <a:stretch/>
        </p:blipFill>
        <p:spPr>
          <a:xfrm>
            <a:off x="3857760" y="3664080"/>
            <a:ext cx="2019240" cy="25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Users\софья\Desktop\СОФЬЯ\ШКОЛА\ПАЛЕОТОЛОГ\Paleontology.jpg"/>
          <p:cNvPicPr/>
          <p:nvPr/>
        </p:nvPicPr>
        <p:blipFill>
          <a:blip r:embed="rId8"/>
          <a:stretch/>
        </p:blipFill>
        <p:spPr>
          <a:xfrm>
            <a:off x="5899320" y="4030560"/>
            <a:ext cx="26920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:\Users\софья\Desktop\СОФЬЯ\ШКОЛА\ПАЛЕОТОЛОГ\20160111_новое.jpg"/>
          <p:cNvPicPr/>
          <p:nvPr/>
        </p:nvPicPr>
        <p:blipFill>
          <a:blip r:embed="rId2"/>
          <a:stretch/>
        </p:blipFill>
        <p:spPr>
          <a:xfrm>
            <a:off x="179280" y="1125360"/>
            <a:ext cx="3041640" cy="221328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3"/>
          <a:stretch/>
        </p:blipFill>
        <p:spPr>
          <a:xfrm>
            <a:off x="933480" y="115920"/>
            <a:ext cx="7240680" cy="1017720"/>
          </a:xfrm>
          <a:prstGeom prst="rect">
            <a:avLst/>
          </a:prstGeom>
          <a:ln w="0">
            <a:noFill/>
          </a:ln>
        </p:spPr>
      </p:pic>
      <p:pic>
        <p:nvPicPr>
          <p:cNvPr id="193" name="Объект 2" descr=""/>
          <p:cNvPicPr/>
          <p:nvPr/>
        </p:nvPicPr>
        <p:blipFill>
          <a:blip r:embed="rId4"/>
          <a:stretch/>
        </p:blipFill>
        <p:spPr>
          <a:xfrm>
            <a:off x="193680" y="3213000"/>
            <a:ext cx="3260880" cy="201132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6" descr="C:\Users\софья\Desktop\СОФЬЯ\ШКОЛА\ПАЛЕОТОЛОГ\нова.jpg"/>
          <p:cNvPicPr/>
          <p:nvPr/>
        </p:nvPicPr>
        <p:blipFill>
          <a:blip r:embed="rId5"/>
          <a:stretch/>
        </p:blipFill>
        <p:spPr>
          <a:xfrm>
            <a:off x="3348000" y="4349880"/>
            <a:ext cx="3240000" cy="24350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C:\Users\софья\Desktop\СОФЬЯ\ШКОЛА\ПАЛЕОТОЛОГ\новое.jpg"/>
          <p:cNvPicPr/>
          <p:nvPr/>
        </p:nvPicPr>
        <p:blipFill>
          <a:blip r:embed="rId6"/>
          <a:stretch/>
        </p:blipFill>
        <p:spPr>
          <a:xfrm>
            <a:off x="5867280" y="1989000"/>
            <a:ext cx="3276720" cy="2543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0" descr="C:\Users\софья\Desktop\СОФЬЯ\ШКОЛА\ПАЛЕОТОЛОГ\20160112_151448-1-1.jpg"/>
          <p:cNvPicPr/>
          <p:nvPr/>
        </p:nvPicPr>
        <p:blipFill>
          <a:blip r:embed="rId7"/>
          <a:stretch/>
        </p:blipFill>
        <p:spPr>
          <a:xfrm>
            <a:off x="3564000" y="907920"/>
            <a:ext cx="230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791480" cy="6667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ршающий этап работы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427280" cy="5283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0" name="Picture 1" descr="C:\Users\софья\Desktop\СОФЬЯ\ШКОЛА\ПАЛЕОТОЛОГ\20160ноаваа-1.jpg"/>
          <p:cNvPicPr/>
          <p:nvPr/>
        </p:nvPicPr>
        <p:blipFill>
          <a:blip r:embed="rId3"/>
          <a:stretch/>
        </p:blipFill>
        <p:spPr>
          <a:xfrm>
            <a:off x="5364000" y="1488960"/>
            <a:ext cx="31147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6840" y="1399680"/>
            <a:ext cx="404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2" name="Объект 6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790880" cy="273672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7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373280" cy="3233880"/>
          </a:xfrm>
          <a:prstGeom prst="rect">
            <a:avLst/>
          </a:prstGeom>
          <a:ln w="0">
            <a:noFill/>
          </a:ln>
        </p:spPr>
      </p:pic>
      <p:pic>
        <p:nvPicPr>
          <p:cNvPr id="204" name="Заголовок 1" descr=""/>
          <p:cNvPicPr/>
          <p:nvPr/>
        </p:nvPicPr>
        <p:blipFill>
          <a:blip r:embed="rId4"/>
          <a:stretch/>
        </p:blipFill>
        <p:spPr>
          <a:xfrm>
            <a:off x="457200" y="158760"/>
            <a:ext cx="8077320" cy="950760"/>
          </a:xfrm>
          <a:prstGeom prst="rect">
            <a:avLst/>
          </a:prstGeom>
          <a:ln w="0">
            <a:noFill/>
          </a:ln>
        </p:spPr>
      </p:pic>
      <p:grpSp>
        <p:nvGrpSpPr>
          <p:cNvPr id="205" name="Текст 4"/>
          <p:cNvGrpSpPr/>
          <p:nvPr/>
        </p:nvGrpSpPr>
        <p:grpSpPr>
          <a:xfrm>
            <a:off x="5005440" y="1195560"/>
            <a:ext cx="3608280" cy="1657080"/>
            <a:chOff x="5005440" y="1195560"/>
            <a:chExt cx="3608280" cy="1657080"/>
          </a:xfrm>
        </p:grpSpPr>
        <p:pic>
          <p:nvPicPr>
            <p:cNvPr id="206" name="Текст 4" descr=""/>
            <p:cNvPicPr/>
            <p:nvPr/>
          </p:nvPicPr>
          <p:blipFill>
            <a:blip r:embed="rId5"/>
            <a:stretch/>
          </p:blipFill>
          <p:spPr>
            <a:xfrm>
              <a:off x="5006880" y="1195560"/>
              <a:ext cx="36032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005440" y="1197000"/>
              <a:ext cx="36082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Times New Roman"/>
                  <a:ea typeface="Times New Roman"/>
                </a:rPr>
                <a:t>Окаменелости на стенах станций метро.</a:t>
              </a:r>
              <a:endParaRPr b="0" lang="en-US" sz="2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8" name="Прямоугольник 1"/>
          <p:cNvSpPr/>
          <p:nvPr/>
        </p:nvSpPr>
        <p:spPr>
          <a:xfrm>
            <a:off x="-28440" y="4365720"/>
            <a:ext cx="4572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озиции  Московского палеонтологического музея им Ю.А.Орлова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Объект 2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4400640" cy="2932200"/>
          </a:xfrm>
          <a:prstGeom prst="rect">
            <a:avLst/>
          </a:prstGeom>
          <a:ln w="0">
            <a:noFill/>
          </a:ln>
        </p:spPr>
      </p:pic>
      <p:pic>
        <p:nvPicPr>
          <p:cNvPr id="210" name="Заголовок 1" descr=""/>
          <p:cNvPicPr/>
          <p:nvPr/>
        </p:nvPicPr>
        <p:blipFill>
          <a:blip r:embed="rId3"/>
          <a:stretch/>
        </p:blipFill>
        <p:spPr>
          <a:xfrm>
            <a:off x="324000" y="152280"/>
            <a:ext cx="83628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23:19:46Z</dcterms:created>
  <dc:creator>Михаил</dc:creator>
  <dc:description/>
  <dc:language>en-US</dc:language>
  <cp:lastModifiedBy>219</cp:lastModifiedBy>
  <dcterms:modified xsi:type="dcterms:W3CDTF">2017-02-10T13:58:30Z</dcterms:modified>
  <cp:revision>97</cp:revision>
  <dc:subject/>
  <dc:title>Семейное право в России: ХХI век</dc:title>
</cp:coreProperties>
</file>