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F41-202E-43C7-8B32-DA3B93F8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146-9C3A-4594-BC0D-1BC7768B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B2C-5C2B-44E2-818E-C959CB3A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9DC-C93E-47FC-B53A-07C1B5DF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98E3-443B-47BE-B55D-77ED0BFA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380D-CF04-4E19-87CC-72FF16D5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5BA2-94F5-48D5-AA88-FF65F006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AE18-293B-4BA1-80C2-8EFC18C5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EF41-B284-4D0B-84FB-CB61A47F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CD54-4943-45A9-844D-B7A32694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36D2-2231-4997-852E-BE540666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B78-0DB6-4CEB-B6BF-A06CDC6C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2AE6-9BA1-4047-AB46-79031E51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F605-6FF0-4F51-BCD2-26E94721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0851-8C04-43C0-A3C1-F5F447E7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2895-274C-4F4D-AD69-2F51B4E6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2D6F-813A-4412-97BF-5C45A824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0A5-786D-42EC-84CA-E7E398AA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7D6-F3DB-43C4-9644-09F52876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5B7-E53D-45FE-8F46-04D1A6E2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9DB-92C3-4718-B59E-AC1FCD93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AC7-5C6A-4460-B0C8-7BCB3E74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154-0A7D-4DF8-B2B7-13C267B3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871-AF6B-4FA0-AF3C-76EAE107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9A7A-B705-47AC-A203-A277E8B5224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5236-DA84-4C5F-9771-A369924C961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так, кто идет на «Праздник алфавита»?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витие грамматических и орфографических навы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тавьте пред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8360" y="2565360"/>
            <a:ext cx="136692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ah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59280" y="2276640"/>
            <a:ext cx="64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003640" y="2349360"/>
            <a:ext cx="129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l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780000" y="3645000"/>
            <a:ext cx="1393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bin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508720" y="3573360"/>
            <a:ext cx="1655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ch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0.00532 L -0.56302 0.00532 E">
                                      <p:cBhvr>
                                        <p:cTn id="10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44444E-006 L -0.14965 -4.44444E-006 E">
                                      <p:cBhvr>
                                        <p:cTn id="10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16 0.0368 L 0.14618 0.22569 E">
                                      <p:cBhvr>
                                        <p:cTn id="112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22222E-006 L 0.57882 0.15416 E">
                                      <p:cBhvr>
                                        <p:cTn id="11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3 0.09445 L 0.24028 0.2206 E">
                                      <p:cBhvr>
                                        <p:cTn id="120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читайте имена мальчиков и девочек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da, Hans, Helga, Jens, Willi, Ute, Lothar, Monika, Brigitte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ein Mann</a:t>
            </a:r>
            <a:endParaRPr b="0" lang="en-US" sz="1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684360" y="765000"/>
          <a:ext cx="8121600" cy="4780080"/>
        </p:xfrm>
        <a:graphic>
          <a:graphicData uri="http://schemas.openxmlformats.org/drawingml/2006/table">
            <a:tbl>
              <a:tblPr/>
              <a:tblGrid>
                <a:gridCol w="2950920"/>
                <a:gridCol w="1657440"/>
                <a:gridCol w="1800360"/>
                <a:gridCol w="17128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ртик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ужско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ски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ни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Неопределен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ный артик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e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Определенный артик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d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69608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У. с.77 у.4 и 9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РТ с.67 у.1, с.68 у.3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онетическая заряд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, a, 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d Monik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, e, 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H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ga, L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d 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, i, 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se,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 und Ma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, o, 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t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 und Marg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, u, 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sel, 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d d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3516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i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ni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, setzt eu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freut mi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ans,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eißen,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te,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ga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]: w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, P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, f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t, Ir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, ang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]: U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l,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th,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sa, 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i, f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ut mi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4894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чевая заряд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484280"/>
            <a:ext cx="7991280" cy="22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etzt kommt Hampelman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3314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тавьте предложе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332000" y="2565360"/>
            <a:ext cx="19857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219560" y="2349360"/>
            <a:ext cx="164772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bi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443640" y="2781360"/>
            <a:ext cx="151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028000" y="2852640"/>
            <a:ext cx="56052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64 0.09445 L -0.63386 0.08403 E">
                                      <p:cBhvr>
                                        <p:cTn id="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0.12454 L -0.1776 0.12454 E">
                                      <p:cBhvr>
                                        <p:cTn id="1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79 0.11736 L 0.36388 0.12778 E">
                                      <p:cBhvr>
                                        <p:cTn id="1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8611 L -0.06198 0.10694 E">
                                      <p:cBhvr>
                                        <p:cTn id="1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тавьте пред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32000" y="2565360"/>
            <a:ext cx="19857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219560" y="2349360"/>
            <a:ext cx="164772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komm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443640" y="2781360"/>
            <a:ext cx="151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h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028000" y="2852640"/>
            <a:ext cx="56052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64 0.09445 L -0.63386 0.08403 E">
                                      <p:cBhvr>
                                        <p:cTn id="2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0.12454 L -0.1776 0.12454 E">
                                      <p:cBhvr>
                                        <p:cTn id="2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79 0.11736 L 0.36388 0.12778 E">
                                      <p:cBhvr>
                                        <p:cTn id="3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8611 L -0.06198 0.10694 E">
                                      <p:cBhvr>
                                        <p:cTn id="3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тавьте пред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2565360"/>
            <a:ext cx="136692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u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59280" y="1628640"/>
            <a:ext cx="1215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nn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3640" y="2060640"/>
            <a:ext cx="151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et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028000" y="2852640"/>
            <a:ext cx="56052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780000" y="3645000"/>
            <a:ext cx="1393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as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508720" y="3573360"/>
            <a:ext cx="1655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ind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0.00532 L -0.56302 0.00532 E">
                                      <p:cBhvr>
                                        <p:cTn id="42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44444E-006 L -0.14965 -4.44444E-006 E">
                                      <p:cBhvr>
                                        <p:cTn id="46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16 0.0368 L 0.14618 0.22569 E">
                                      <p:cBhvr>
                                        <p:cTn id="50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22222E-006 L 0.57882 0.15416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3 0.09445 L 0.24028 0.2206 E">
                                      <p:cBhvr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6 0.11759 L 0.09149 0.14907 E">
                                      <p:cBhvr>
                                        <p:cTn id="62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тавьте пред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332000" y="2565360"/>
            <a:ext cx="19857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19560" y="2349360"/>
            <a:ext cx="164772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443640" y="2781360"/>
            <a:ext cx="151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028000" y="2852640"/>
            <a:ext cx="56052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64 0.09445 L -0.63386 0.08403 E">
                                      <p:cBhvr>
                                        <p:cTn id="6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0.12454 L -0.1776 0.12454 E">
                                      <p:cBhvr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79 0.11736 L 0.36388 0.12778 E">
                                      <p:cBhvr>
                                        <p:cTn id="76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8611 L -0.06198 0.10694 E">
                                      <p:cBhvr>
                                        <p:cTn id="8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тавьте пред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8360" y="2565360"/>
            <a:ext cx="136692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Köl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59280" y="2133720"/>
            <a:ext cx="108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u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780000" y="3645000"/>
            <a:ext cx="1393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komme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508720" y="3573360"/>
            <a:ext cx="1655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ch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12000" y="32457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Köl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0.00532 L -0.56302 0.00532 E">
                                      <p:cBhvr>
                                        <p:cTn id="8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44444E-006 L -0.14965 -4.44444E-006 E">
                                      <p:cBhvr>
                                        <p:cTn id="90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16 0.0368 L 0.14618 0.22569 E">
                                      <p:cBhvr>
                                        <p:cTn id="9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22222E-006 L 0.57882 0.15416 E">
                                      <p:cBhvr>
                                        <p:cTn id="98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18:01:20Z</dcterms:created>
  <dc:creator>Наташа</dc:creator>
  <dc:description/>
  <dc:language>en-US</dc:language>
  <cp:lastModifiedBy>Наташа</cp:lastModifiedBy>
  <dcterms:modified xsi:type="dcterms:W3CDTF">2016-12-05T18:48:56Z</dcterms:modified>
  <cp:revision>6</cp:revision>
  <dc:subject/>
  <dc:title>Итак, кто идет на «Праздник алфавита»?</dc:title>
</cp:coreProperties>
</file>