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B6B-64E0-4AA4-B4C5-DD185E51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625-D7BE-416B-A868-4C7027A9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683-40DE-41FA-B8CD-B3BEDD76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952-9EA0-4AC5-8D81-319ECB91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1348-4A10-4E64-99BF-2090EFB4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8FFF-0F12-40EB-9146-252C34F7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D0B7-E4D7-4F44-89E0-615AF482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8E79-2EA0-4C24-915B-B255A901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9793-49C9-4AA5-BB13-AF5AAF8E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84D3-F6ED-4FB2-B78E-EB6DF031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21E9-9964-447E-931E-8FFD3CF7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927-BF5A-4B4E-82B9-9D04938B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E175-83BE-4C99-A55D-1B17A18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B221-B2A3-45F6-928C-A9B7BE0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8F01-AED2-4927-9A4E-E972638E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9620-030F-4EB5-AB14-0E6302A4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3AE3-D85A-4498-881B-362A0DFC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C2A-FEA3-4D9F-932A-3A2503B2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A3B-E8CD-4906-A4DD-2C5E685C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79B-A241-4365-9182-925CB3AC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A49-FE25-4AEA-90B0-FB44FF9F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4B3-ECBB-40A9-890A-A35F31F3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A10-6473-4A03-9942-36F248B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7F1-B69F-490C-B240-6A58EF0A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418-F1E2-4D6A-85AF-8724A5E60B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B0F4-6D62-4342-ACC9-8C12607C6B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так, кто идет на «Праздник алфавита»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витие грамматических и орфографических навы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2565360"/>
            <a:ext cx="136692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ah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59280" y="2276640"/>
            <a:ext cx="64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03640" y="2349360"/>
            <a:ext cx="12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l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80000" y="3645000"/>
            <a:ext cx="1393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in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08720" y="3573360"/>
            <a:ext cx="165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ch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0.00532 L -0.56302 0.00532 E">
                                      <p:cBhvr>
                                        <p:cTn id="10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-0.14965 -4.44444E-006 E">
                                      <p:cBhvr>
                                        <p:cTn id="10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16 0.0368 L 0.14618 0.22569 E">
                                      <p:cBhvr>
                                        <p:cTn id="11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0.57882 0.15416 E">
                                      <p:cBhvr>
                                        <p:cTn id="11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9445 L 0.24028 0.2206 E">
                                      <p:cBhvr>
                                        <p:cTn id="120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читайте имена мальчиков и девочек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da, Hans, Helga, Jens, Willi, Ute, Lothar, Monika, Brigitte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ein Mann</a:t>
            </a:r>
            <a:endParaRPr b="0" lang="en-US" sz="1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684360" y="765000"/>
          <a:ext cx="8121600" cy="4780080"/>
        </p:xfrm>
        <a:graphic>
          <a:graphicData uri="http://schemas.openxmlformats.org/drawingml/2006/table">
            <a:tbl>
              <a:tblPr/>
              <a:tblGrid>
                <a:gridCol w="2950920"/>
                <a:gridCol w="1657440"/>
                <a:gridCol w="1800360"/>
                <a:gridCol w="171288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тик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ужско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ск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Неопределен</a:t>
                      </a:r>
                      <a:r>
                        <a:rPr b="1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ный артик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e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Определенный артик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d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69608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У. с.77 у.4 и 9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РТ с.67 у.1, с.68 у.3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онетическая заря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, a,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d Monik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, e, 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ga, L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d 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, i, 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se,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 und Ma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, o, 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t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 und Marg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, u, 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sel, 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d d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3516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n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, setzt eu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freut mi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ans,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eißen,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te,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ga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]: w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, P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, f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t, Ir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, ang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]: U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l,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th,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sa, 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, f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ut mi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4894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чевая заря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484280"/>
            <a:ext cx="799128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etzt kommt Hampelman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3314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332000" y="2565360"/>
            <a:ext cx="19857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19560" y="2349360"/>
            <a:ext cx="164772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bi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443640" y="2781360"/>
            <a:ext cx="151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028000" y="2852640"/>
            <a:ext cx="5605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64 0.09445 L -0.63386 0.08403 E">
                                      <p:cBhvr>
                                        <p:cTn id="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12454 L -0.1776 0.12454 E">
                                      <p:cBhvr>
                                        <p:cTn id="1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79 0.11736 L 0.36388 0.12778 E">
                                      <p:cBhvr>
                                        <p:cTn id="1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8611 L -0.06198 0.10694 E">
                                      <p:cBhvr>
                                        <p:cTn id="1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32000" y="2565360"/>
            <a:ext cx="19857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219560" y="2349360"/>
            <a:ext cx="164772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komm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443640" y="2781360"/>
            <a:ext cx="151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h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028000" y="2852640"/>
            <a:ext cx="5605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64 0.09445 L -0.63386 0.08403 E">
                                      <p:cBhvr>
                                        <p:cTn id="2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12454 L -0.1776 0.12454 E">
                                      <p:cBhvr>
                                        <p:cTn id="2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79 0.11736 L 0.36388 0.12778 E">
                                      <p:cBhvr>
                                        <p:cTn id="3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8611 L -0.06198 0.10694 E">
                                      <p:cBhvr>
                                        <p:cTn id="3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2565360"/>
            <a:ext cx="136692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u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59280" y="1628640"/>
            <a:ext cx="1215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nn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3640" y="2060640"/>
            <a:ext cx="151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e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028000" y="2852640"/>
            <a:ext cx="5605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780000" y="3645000"/>
            <a:ext cx="1393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as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508720" y="3573360"/>
            <a:ext cx="165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ind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0.00532 L -0.56302 0.00532 E">
                                      <p:cBhvr>
                                        <p:cTn id="42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-0.14965 -4.44444E-006 E">
                                      <p:cBhvr>
                                        <p:cTn id="4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16 0.0368 L 0.14618 0.22569 E">
                                      <p:cBhvr>
                                        <p:cTn id="5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0.57882 0.1541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9445 L 0.24028 0.2206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6 0.11759 L 0.09149 0.14907 E">
                                      <p:cBhvr>
                                        <p:cTn id="6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32000" y="2565360"/>
            <a:ext cx="19857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19560" y="2349360"/>
            <a:ext cx="164772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443640" y="2781360"/>
            <a:ext cx="151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028000" y="2852640"/>
            <a:ext cx="5605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64 0.09445 L -0.63386 0.08403 E">
                                      <p:cBhvr>
                                        <p:cTn id="6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12454 L -0.1776 0.12454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79 0.11736 L 0.36388 0.12778 E">
                                      <p:cBhvr>
                                        <p:cTn id="7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8611 L -0.06198 0.10694 E">
                                      <p:cBhvr>
                                        <p:cTn id="8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тавьте предло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8360" y="2565360"/>
            <a:ext cx="136692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Köl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59280" y="2133720"/>
            <a:ext cx="108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u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780000" y="3645000"/>
            <a:ext cx="13935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komme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508720" y="3573360"/>
            <a:ext cx="165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ch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12000" y="32457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Köl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0.00532 L -0.56302 0.00532 E">
                                      <p:cBhvr>
                                        <p:cTn id="8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-0.14965 -4.44444E-006 E">
                                      <p:cBhvr>
                                        <p:cTn id="90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16 0.0368 L 0.14618 0.22569 E">
                                      <p:cBhvr>
                                        <p:cTn id="9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0.57882 0.15416 E">
                                      <p:cBhvr>
                                        <p:cTn id="9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18:01:20Z</dcterms:created>
  <dc:creator>Наташа</dc:creator>
  <dc:description/>
  <dc:language>en-US</dc:language>
  <cp:lastModifiedBy>Наташа</cp:lastModifiedBy>
  <dcterms:modified xsi:type="dcterms:W3CDTF">2016-12-05T18:48:56Z</dcterms:modified>
  <cp:revision>6</cp:revision>
  <dc:subject/>
  <dc:title>Итак, кто идет на «Праздник алфавита»?</dc:title>
</cp:coreProperties>
</file>