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CE27-D70A-41E3-9B36-BC303D8DC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CDE4-4AD7-409F-A4EE-17BC77D1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F224-D235-4F3F-8C7A-3113D7748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726A-8355-4946-8AA7-BFDF40A6A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29F4-B36E-415B-B1BF-2D2547739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FFD7-7766-41DF-8B36-4657CA8E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26B5-1A73-46A2-881D-B32D1FAB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2707-6272-458B-8EE1-FBC64117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378B-E771-4EB2-9E4B-A2334389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4F26-1138-41E4-8A9A-E4C30A2F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0605-B0E9-488A-9C7B-54E3F129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427F-E9BD-4905-8858-3FCC0ACD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7DEE-0A81-4D1F-A5C8-2331043C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9DB9-CFF2-4046-A2CD-5D2F9EBA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295C-A70B-48BE-B9F9-B30CF8A2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A33A-58F0-491C-AA4D-717C13B51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481B-9ADF-4715-A3DA-E3D8C8984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337FF-03F7-4927-815A-C9FB631D6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C827D-4D01-4DAD-9D38-7340023C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EA495-E7FB-4EC8-9D2A-348C52DF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0A9EE-D32A-4E03-9542-E77530C2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56F58-DF54-4B0C-ADDD-13219550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7056-8F54-4B44-9117-F1382241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CE813-DBB9-4387-95C8-5688E957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23981-074E-4275-8A1A-373ED38E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48E8C-1ECD-407E-8D0B-B43D40F2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0C052-359F-4E40-9AAD-977F3BED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B6C09-273C-4204-8BEE-6D15D93C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3136F-FDDF-435B-BE53-69DF77854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F6E18-76BA-4FC0-A4A8-3A267C819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7D04C-B719-4B10-9DE8-7E25C3AA2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81E31-77B1-4281-B710-32E0C0AD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4B046-216D-4AFA-86B5-BDEC622C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97D2-5F90-433C-A030-177FC2A9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E88D6-1A63-40BB-AB41-E8ABCC47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D1C96-B18E-4AD0-97EE-46500A2B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D3EA4-3D6C-4BB6-BAD9-7D643C91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931F4-DBCE-4CC9-AC60-6D686BC0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5E058-B3AB-4DA3-9CA0-AE15F1B0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E7DD1-F741-4433-9337-EC41B1FD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CF9A9-576E-41A6-AFD7-C6D520B2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900CE-8F95-4F9C-AE62-63E06AD06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CC24E-FB4B-4B8A-8F77-D9B0A06C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948C-054F-4D4A-8148-C6FA945F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F89A-747A-41BC-8639-AD879F50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56FE-F041-453C-8388-BC46385C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DE18-B7CF-41FB-809C-75DC2159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77B4-F71E-4202-B269-E86B7F63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1EC5-34DF-4310-A192-CECDFC16EB7D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510B-9BE8-45BB-9E3A-6C7C71FE9E01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258E-A0DC-41E0-ACBC-005B3CA1902E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971A-971E-455C-AC94-8DACB4829262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Rectangle 2" descr=""/>
          <p:cNvPicPr/>
          <p:nvPr/>
        </p:nvPicPr>
        <p:blipFill>
          <a:blip r:embed="rId1"/>
          <a:stretch/>
        </p:blipFill>
        <p:spPr>
          <a:xfrm>
            <a:off x="0" y="2840040"/>
            <a:ext cx="744372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70000"/>
              </a:lnSpc>
              <a:spcBef>
                <a:spcPts val="102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404040"/>
                </a:solidFill>
                <a:latin typeface="Trebuchet MS"/>
              </a:rPr>
              <a:t>Вывод связывается с доказательствами чаще всего посредством вводных слов и сочетаний : </a:t>
            </a: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70000"/>
              </a:lnSpc>
              <a:spcBef>
                <a:spcPts val="102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404040"/>
                </a:solidFill>
                <a:latin typeface="Trebuchet MS"/>
              </a:rPr>
              <a:t>итак, </a:t>
            </a: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70000"/>
              </a:lnSpc>
              <a:spcBef>
                <a:spcPts val="102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404040"/>
                </a:solidFill>
                <a:latin typeface="Trebuchet MS"/>
              </a:rPr>
              <a:t>таким образом, </a:t>
            </a: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70000"/>
              </a:lnSpc>
              <a:spcBef>
                <a:spcPts val="102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404040"/>
                </a:solidFill>
                <a:latin typeface="Trebuchet MS"/>
              </a:rPr>
              <a:t>поэтому, </a:t>
            </a: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70000"/>
              </a:lnSpc>
              <a:spcBef>
                <a:spcPts val="102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404040"/>
                </a:solidFill>
                <a:latin typeface="Trebuchet MS"/>
              </a:rPr>
              <a:t>вот почему.</a:t>
            </a: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Части рассуждения могут быть связаны и без специальных языковых средств, только </a:t>
            </a: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о смыслу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11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Trebuchet MS"/>
              </a:rPr>
              <a:t>Практическая часть 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Rectangle 2" descr=""/>
          <p:cNvPicPr/>
          <p:nvPr/>
        </p:nvPicPr>
        <p:blipFill>
          <a:blip r:embed="rId1"/>
          <a:stretch/>
        </p:blipFill>
        <p:spPr>
          <a:xfrm>
            <a:off x="0" y="19080"/>
            <a:ext cx="5815080" cy="278460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3173040" y="4606920"/>
            <a:ext cx="597060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684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Что такое «сочинение на лингвистическую тему»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8400" indent="-547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илагательное «лингвистический» произошло от слова «лингвистика»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8400" indent="-547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Лингви́стика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 (языкозна́ние, языкове́дение; от лат. lingua — язык) — наука, изучающая язык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8400" indent="-547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Значит, основным содержанием такого сочинения будет именно 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лингвистический материал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8400" indent="-547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ам придется рассуждать о различных 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лингвистических понятиях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, например, о знаках препинания, синонимах, антонимах, фразеологизмах, частицах, глаголах, суффиксах и т.д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2" descr=""/>
          <p:cNvPicPr/>
          <p:nvPr/>
        </p:nvPicPr>
        <p:blipFill>
          <a:blip r:embed="rId1"/>
          <a:stretch/>
        </p:blipFill>
        <p:spPr>
          <a:xfrm>
            <a:off x="4498920" y="4968720"/>
            <a:ext cx="4078440" cy="14925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%D1%81%D0%BE%D1%87"/>
          <p:cNvPicPr/>
          <p:nvPr/>
        </p:nvPicPr>
        <p:blipFill>
          <a:blip r:embed="rId2"/>
          <a:stretch/>
        </p:blipFill>
        <p:spPr>
          <a:xfrm>
            <a:off x="349200" y="685800"/>
            <a:ext cx="742320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2" descr=""/>
          <p:cNvPicPr/>
          <p:nvPr/>
        </p:nvPicPr>
        <p:blipFill>
          <a:blip r:embed="rId1"/>
          <a:stretch/>
        </p:blipFill>
        <p:spPr>
          <a:xfrm>
            <a:off x="1792440" y="4157640"/>
            <a:ext cx="6845040" cy="22431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6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Trebuchet MS"/>
              </a:rPr>
              <a:t>Шаг 1. Знакомимся с высказыванием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6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Внимательно </a:t>
            </a:r>
            <a:r>
              <a:rPr b="0" lang="ru-RU" sz="2600" spc="-1" strike="noStrike" u="sng">
                <a:solidFill>
                  <a:srgbClr val="404040"/>
                </a:solidFill>
                <a:uFillTx/>
                <a:latin typeface="Trebuchet MS"/>
              </a:rPr>
              <a:t>прочитайте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 высказывание о языке.  </a:t>
            </a:r>
            <a:r>
              <a:rPr b="0" lang="ru-RU" sz="2600" spc="-1" strike="noStrike" u="sng">
                <a:solidFill>
                  <a:srgbClr val="404040"/>
                </a:solidFill>
                <a:uFillTx/>
                <a:latin typeface="Trebuchet MS"/>
              </a:rPr>
              <a:t>Осмыслите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 его. Выделите </a:t>
            </a:r>
            <a:r>
              <a:rPr b="0" lang="ru-RU" sz="2600" spc="-1" strike="noStrike" u="sng">
                <a:solidFill>
                  <a:srgbClr val="404040"/>
                </a:solidFill>
                <a:uFillTx/>
                <a:latin typeface="Trebuchet MS"/>
              </a:rPr>
              <a:t>ключевые слова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6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Trebuchet MS"/>
              </a:rPr>
              <a:t>Шаг 2.  Определяем основную мысль высказывания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6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Выясните, о каких </a:t>
            </a:r>
            <a:r>
              <a:rPr b="0" lang="ru-RU" sz="2600" spc="-1" strike="noStrike" u="sng">
                <a:solidFill>
                  <a:srgbClr val="404040"/>
                </a:solidFill>
                <a:uFillTx/>
                <a:latin typeface="Trebuchet MS"/>
              </a:rPr>
              <a:t>свойствах языка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, о каких </a:t>
            </a:r>
            <a:r>
              <a:rPr b="0" lang="ru-RU" sz="2600" spc="-1" strike="noStrike" u="sng">
                <a:solidFill>
                  <a:srgbClr val="404040"/>
                </a:solidFill>
                <a:uFillTx/>
                <a:latin typeface="Trebuchet MS"/>
              </a:rPr>
              <a:t>языковых явлениях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 идёт речь в высказывании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1785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ответы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 богатстве, выразительности, точности русской реч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 средствах выражения мыслей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 роли в русском языке эпитетов, метафор, олицетворений, сравнений, синонимов, антонимов, фразеологизмов и т.п.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 взаимосвязи лексики и грамматик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 роли синтаксиса в человеческом общени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 гибкости русской пунктуационной системы и функциях знаков препинания и т.д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2" descr=""/>
          <p:cNvPicPr/>
          <p:nvPr/>
        </p:nvPicPr>
        <p:blipFill>
          <a:blip r:embed="rId1"/>
          <a:stretch/>
        </p:blipFill>
        <p:spPr>
          <a:xfrm>
            <a:off x="1792440" y="4157640"/>
            <a:ext cx="6838920" cy="16938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176760">
              <a:lnSpc>
                <a:spcPct val="7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1. Цитируем высказывание.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7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2. Объясняем смысл высказывания.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7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3. Приводим 2 примера из прочитанного текста.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7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4. Делаем вывод.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Rectangle 2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778440" cy="15001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Trebuchet MS"/>
              </a:rPr>
              <a:t>         </a:t>
            </a:r>
            <a:r>
              <a:rPr b="0" i="1" lang="ru-RU" sz="2800" spc="-1" strike="noStrike">
                <a:solidFill>
                  <a:srgbClr val="404040"/>
                </a:solidFill>
                <a:latin typeface="Trebuchet MS"/>
              </a:rPr>
              <a:t>К.Г.Паустовский </a:t>
            </a:r>
            <a:r>
              <a:rPr b="0" i="1" lang="ru-RU" sz="2800" spc="-1" strike="noStrike" u="sng">
                <a:solidFill>
                  <a:srgbClr val="404040"/>
                </a:solidFill>
                <a:uFillTx/>
                <a:latin typeface="Trebuchet MS"/>
              </a:rPr>
              <a:t>сказал</a:t>
            </a:r>
            <a:r>
              <a:rPr b="0" i="1" lang="ru-RU" sz="2800" spc="-1" strike="noStrike">
                <a:solidFill>
                  <a:srgbClr val="404040"/>
                </a:solidFill>
                <a:latin typeface="Trebuchet MS"/>
              </a:rPr>
              <a:t>: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 "Нет ничего такого в жизни и в нашем сознании,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чего нельзя было бы передать русским словом". </a:t>
            </a:r>
            <a:r>
              <a:rPr b="0" i="1" lang="ru-RU" sz="2800" spc="-1" strike="noStrike">
                <a:solidFill>
                  <a:srgbClr val="404040"/>
                </a:solidFill>
                <a:latin typeface="Trebuchet MS"/>
              </a:rPr>
              <a:t>Действительно, слова наиболее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i="1" lang="ru-RU" sz="2800" spc="-1" strike="noStrike">
                <a:solidFill>
                  <a:srgbClr val="404040"/>
                </a:solidFill>
                <a:latin typeface="Trebuchet MS"/>
              </a:rPr>
              <a:t>точно, ясно и образно выражают самые сложные мысли и чувства людей, всё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i="1" lang="ru-RU" sz="2800" spc="-1" strike="noStrike">
                <a:solidFill>
                  <a:srgbClr val="404040"/>
                </a:solidFill>
                <a:latin typeface="Trebuchet MS"/>
              </a:rPr>
              <a:t>многообразие окружающего мира. 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Чтобы убедиться в справедливости данного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высказывания, рассмотрим конкретные примеры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Rectangle 2" descr=""/>
          <p:cNvPicPr/>
          <p:nvPr/>
        </p:nvPicPr>
        <p:blipFill>
          <a:blip r:embed="rId1"/>
          <a:stretch/>
        </p:blipFill>
        <p:spPr>
          <a:xfrm>
            <a:off x="1792440" y="4237200"/>
            <a:ext cx="6711840" cy="12794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утверждал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рассуждал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отмечал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считал и т.д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Rectangle 2" descr=""/>
          <p:cNvPicPr/>
          <p:nvPr/>
        </p:nvPicPr>
        <p:blipFill>
          <a:blip r:embed="rId1"/>
          <a:stretch/>
        </p:blipFill>
        <p:spPr>
          <a:xfrm>
            <a:off x="1706400" y="4102200"/>
            <a:ext cx="7010640" cy="14205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11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Rectangle 2" descr=""/>
          <p:cNvPicPr/>
          <p:nvPr/>
        </p:nvPicPr>
        <p:blipFill>
          <a:blip r:embed="rId1"/>
          <a:stretch/>
        </p:blipFill>
        <p:spPr>
          <a:xfrm>
            <a:off x="1792440" y="4157640"/>
            <a:ext cx="6838920" cy="1693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Язык – одно из чудес, с помощью которого люди передают тончайшие оттенки мыслей. Великий русский писатель К.Паустовский </a:t>
            </a:r>
            <a:r>
              <a:rPr b="1" i="1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утверждал</a:t>
            </a: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, что русским словом можно не только назвать предметы, явления и действия, но и выразить идеи, мысли, чувства. Убедимся в этом, обратившись к тексту Б.Васильев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2" descr=""/>
          <p:cNvPicPr/>
          <p:nvPr/>
        </p:nvPicPr>
        <p:blipFill>
          <a:blip r:embed="rId1"/>
          <a:stretch/>
        </p:blipFill>
        <p:spPr>
          <a:xfrm>
            <a:off x="1792440" y="4187880"/>
            <a:ext cx="6771960" cy="2041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римеров </a:t>
            </a:r>
            <a:r>
              <a:rPr b="0" lang="ru-RU" sz="2200" spc="-1" strike="noStrike" u="sng">
                <a:solidFill>
                  <a:srgbClr val="404040"/>
                </a:solidFill>
                <a:uFillTx/>
                <a:latin typeface="Trebuchet MS"/>
              </a:rPr>
              <a:t>должно быть 2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римеры должны быть </a:t>
            </a:r>
            <a:r>
              <a:rPr b="0" lang="ru-RU" sz="2200" spc="-1" strike="noStrike" u="sng">
                <a:solidFill>
                  <a:srgbClr val="404040"/>
                </a:solidFill>
                <a:uFillTx/>
                <a:latin typeface="Trebuchet MS"/>
              </a:rPr>
              <a:t>из прочитанного текста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риводя пример, нужно не только </a:t>
            </a:r>
            <a:r>
              <a:rPr b="0" lang="ru-RU" sz="2200" spc="-1" strike="noStrike" u="sng">
                <a:solidFill>
                  <a:srgbClr val="404040"/>
                </a:solidFill>
                <a:uFillTx/>
                <a:latin typeface="Trebuchet MS"/>
              </a:rPr>
              <a:t>назвать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 языковое явление, но и </a:t>
            </a:r>
            <a:r>
              <a:rPr b="0" lang="ru-RU" sz="2200" spc="-1" strike="noStrike" u="sng">
                <a:solidFill>
                  <a:srgbClr val="404040"/>
                </a:solidFill>
                <a:uFillTx/>
                <a:latin typeface="Trebuchet MS"/>
              </a:rPr>
              <a:t>объяснить его значение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 и </a:t>
            </a:r>
            <a:r>
              <a:rPr b="0" lang="ru-RU" sz="2200" spc="-1" strike="noStrike" u="sng">
                <a:solidFill>
                  <a:srgbClr val="404040"/>
                </a:solidFill>
                <a:uFillTx/>
                <a:latin typeface="Trebuchet MS"/>
              </a:rPr>
              <a:t>указать роль в тексте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381880" cy="10414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Наш язык очень богат </a:t>
            </a: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Trebuchet MS"/>
              </a:rPr>
              <a:t>синонимами</a:t>
            </a:r>
            <a:r>
              <a:rPr b="0" lang="ru-RU" sz="2400" spc="-1" strike="noStrike">
                <a:solidFill>
                  <a:srgbClr val="0000ff"/>
                </a:solidFill>
                <a:latin typeface="Trebuchet MS"/>
              </a:rPr>
              <a:t> </a:t>
            </a:r>
            <a:r>
              <a:rPr b="0" lang="ru-RU" sz="2400" spc="-1" strike="noStrike">
                <a:solidFill>
                  <a:srgbClr val="ff3300"/>
                </a:solidFill>
                <a:latin typeface="Trebuchet MS"/>
              </a:rPr>
              <a:t>(названо языковое явление) </a:t>
            </a: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- </a:t>
            </a:r>
            <a:r>
              <a:rPr b="1" i="1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словами, имеющими общее значение и различающимися дополнительными оттенками или стилистической окраской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0" lang="ru-RU" sz="2400" spc="-1" strike="noStrike">
                <a:solidFill>
                  <a:srgbClr val="ff3300"/>
                </a:solidFill>
                <a:latin typeface="Trebuchet MS"/>
              </a:rPr>
              <a:t>(объяснено его значение).</a:t>
            </a: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 Синонимы привлекают пишущего или говорящего тем, что они позволяют с предельной точностью выразить мысль. Так, описывая чувства Анны Федотовны, автор использует синонимы "горечь и обида" (предложение 44), "разговор обеспокоил, удивил, обидел" (предложение 33)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0" lang="ru-RU" sz="2400" spc="-1" strike="noStrike">
                <a:solidFill>
                  <a:srgbClr val="ff3300"/>
                </a:solidFill>
                <a:latin typeface="Trebuchet MS"/>
              </a:rPr>
              <a:t>(приведен пример из текста)</a:t>
            </a:r>
            <a:r>
              <a:rPr b="1" i="1" lang="ru-RU" sz="2400" spc="-1" strike="noStrike">
                <a:solidFill>
                  <a:srgbClr val="ff3300"/>
                </a:solidFill>
                <a:latin typeface="Trebuchet MS"/>
              </a:rPr>
              <a:t>,</a:t>
            </a: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 которые </a:t>
            </a:r>
            <a:r>
              <a:rPr b="1" i="1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помогают писателю более полно и многогранно раскрыть душевное состояние своей героини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0" lang="ru-RU" sz="2400" spc="-1" strike="noStrike">
                <a:solidFill>
                  <a:srgbClr val="ff3300"/>
                </a:solidFill>
                <a:latin typeface="Trebuchet MS"/>
              </a:rPr>
              <a:t>(указана роль в тексте)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2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602400" cy="15001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457200" y="11430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Русский язык обладает и богатейшими словообразовательными возможностями. Способы образования слов в русском языке очень разнообразны. Один из наиболее продуктивных способов - это </a:t>
            </a:r>
            <a:r>
              <a:rPr b="1" i="1" lang="ru-RU" sz="2400" spc="-1" strike="noStrike" u="sng">
                <a:solidFill>
                  <a:srgbClr val="56c7aa"/>
                </a:solidFill>
                <a:uFillTx/>
                <a:latin typeface="Trebuchet MS"/>
              </a:rPr>
              <a:t>суффиксальный</a:t>
            </a:r>
            <a:r>
              <a:rPr b="1" i="1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 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(</a:t>
            </a:r>
            <a:r>
              <a:rPr b="0" lang="ru-RU" sz="2400" spc="-1" strike="noStrike">
                <a:solidFill>
                  <a:srgbClr val="ff3300"/>
                </a:solidFill>
                <a:latin typeface="Trebuchet MS"/>
              </a:rPr>
              <a:t>названо языковое явление),</a:t>
            </a: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 т.е. образование новых слов при помощи суффикса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(</a:t>
            </a:r>
            <a:r>
              <a:rPr b="0" lang="ru-RU" sz="2400" spc="-1" strike="noStrike">
                <a:solidFill>
                  <a:srgbClr val="ff3300"/>
                </a:solidFill>
                <a:latin typeface="Trebuchet MS"/>
              </a:rPr>
              <a:t>объяснено его значение)</a:t>
            </a:r>
            <a:r>
              <a:rPr b="1" i="1" lang="ru-RU" sz="2400" spc="-1" strike="noStrike">
                <a:solidFill>
                  <a:srgbClr val="ff3300"/>
                </a:solidFill>
                <a:latin typeface="Trebuchet MS"/>
              </a:rPr>
              <a:t>.</a:t>
            </a: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 Возьмём, к примеру, слово "Танечка" из предложения 1 </a:t>
            </a:r>
            <a:r>
              <a:rPr b="0" lang="ru-RU" sz="2400" spc="-1" strike="noStrike">
                <a:solidFill>
                  <a:srgbClr val="ff3300"/>
                </a:solidFill>
                <a:latin typeface="Trebuchet MS"/>
              </a:rPr>
              <a:t>(приведен пример из текста)</a:t>
            </a:r>
            <a:r>
              <a:rPr b="1" i="1" lang="ru-RU" sz="2400" spc="-1" strike="noStrike">
                <a:solidFill>
                  <a:srgbClr val="ff3300"/>
                </a:solidFill>
                <a:latin typeface="Trebuchet MS"/>
              </a:rPr>
              <a:t>.</a:t>
            </a: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 Оно </a:t>
            </a:r>
            <a:r>
              <a:rPr b="1" i="1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образовано с помощью уменьшительно-ласкательного суффикса -ечк-</a:t>
            </a: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, который </a:t>
            </a:r>
            <a:r>
              <a:rPr b="1" i="1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помогает автору выразить симпатию к героине своего произведения </a:t>
            </a:r>
            <a:r>
              <a:rPr b="0" lang="ru-RU" sz="2400" spc="-1" strike="noStrike">
                <a:solidFill>
                  <a:srgbClr val="ff3300"/>
                </a:solidFill>
                <a:latin typeface="Trebuchet MS"/>
              </a:rPr>
              <a:t>(указана роль в тексте)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Rectangle 2" descr=""/>
          <p:cNvPicPr/>
          <p:nvPr/>
        </p:nvPicPr>
        <p:blipFill>
          <a:blip r:embed="rId1"/>
          <a:stretch/>
        </p:blipFill>
        <p:spPr>
          <a:xfrm>
            <a:off x="1620720" y="4157640"/>
            <a:ext cx="6870960" cy="1359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В заключительной части сочинения делается </a:t>
            </a:r>
            <a:r>
              <a:rPr b="0" lang="ru-RU" sz="2200" spc="-1" strike="noStrike" u="sng">
                <a:solidFill>
                  <a:srgbClr val="404040"/>
                </a:solidFill>
                <a:uFillTx/>
                <a:latin typeface="Trebuchet MS"/>
              </a:rPr>
              <a:t>вывод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 из всего сказанного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Как правило, в заключении говорится о том же, о чём во вступлении, но другими словам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2" descr=""/>
          <p:cNvPicPr/>
          <p:nvPr/>
        </p:nvPicPr>
        <p:blipFill>
          <a:blip r:embed="rId1"/>
          <a:stretch/>
        </p:blipFill>
        <p:spPr>
          <a:xfrm>
            <a:off x="1792440" y="4206960"/>
            <a:ext cx="6761160" cy="18158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Таким образом, ...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Итак, ..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Следовательно, ..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В итоге можно прийти к такому выводу: ..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В заключение можно сказать, что ..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Обобщая сказанное, ..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Из этого следует, что ..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Rectangle 2" descr=""/>
          <p:cNvPicPr/>
          <p:nvPr/>
        </p:nvPicPr>
        <p:blipFill>
          <a:blip r:embed="rId1"/>
          <a:stretch/>
        </p:blipFill>
        <p:spPr>
          <a:xfrm>
            <a:off x="1792440" y="4157640"/>
            <a:ext cx="6699240" cy="13590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ff3300"/>
                </a:solidFill>
                <a:uFillTx/>
                <a:latin typeface="Trebuchet MS"/>
              </a:rPr>
              <a:t>Таким образом</a:t>
            </a:r>
            <a:r>
              <a:rPr b="1" i="1" lang="ru-RU" sz="2200" spc="-1" strike="noStrike">
                <a:solidFill>
                  <a:srgbClr val="ff3300"/>
                </a:solidFill>
                <a:latin typeface="Trebuchet MS"/>
              </a:rPr>
              <a:t>,</a:t>
            </a: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 приведённые примеры подтверждают мысль  К.Г.Паустовского о том, что в русском языке можно найти нужные слова для выражения самых  сложных мыслей и различных оттенков чувств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1792440" y="4071960"/>
            <a:ext cx="6791040" cy="15476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6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Как Вы понимаете значение слова </a:t>
            </a:r>
            <a:r>
              <a:rPr b="1" lang="ru-RU" sz="2600" spc="-1" strike="noStrike">
                <a:solidFill>
                  <a:srgbClr val="404040"/>
                </a:solidFill>
                <a:latin typeface="Trebuchet MS"/>
              </a:rPr>
              <a:t>ЧЕЛОВЕЧНОСТЬ?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600" spc="-1" strike="noStrike" u="sng">
                <a:solidFill>
                  <a:srgbClr val="404040"/>
                </a:solidFill>
                <a:uFillTx/>
                <a:latin typeface="Trebuchet MS"/>
              </a:rPr>
              <a:t>Сформулируйте и прокомментируйте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данное Вами определение. Напишите сочинение-рассуждение на тему: </a:t>
            </a:r>
            <a:r>
              <a:rPr b="1" lang="ru-RU" sz="2600" spc="-1" strike="noStrike">
                <a:solidFill>
                  <a:srgbClr val="404040"/>
                </a:solidFill>
                <a:latin typeface="Trebuchet MS"/>
              </a:rPr>
              <a:t>«Что такое человечность»,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взяв в качестве тезиса данное Вами определение. Аргументируя свой тезис, приведите 2 (два) примера-аргумента, подтверждающих Ваши рассуждения: </a:t>
            </a:r>
            <a:r>
              <a:rPr b="0" lang="ru-RU" sz="2600" spc="-1" strike="noStrike" u="sng">
                <a:solidFill>
                  <a:srgbClr val="404040"/>
                </a:solidFill>
                <a:uFillTx/>
                <a:latin typeface="Trebuchet MS"/>
              </a:rPr>
              <a:t>один пример-аргумент приведите из прочитанного текста, а второй – из Вашего жизненного опыта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Rectangle 2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778440" cy="1500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Формулируем  </a:t>
            </a:r>
            <a:r>
              <a:rPr b="1" lang="ru-RU" sz="2200" spc="-1" strike="noStrike" u="sng">
                <a:solidFill>
                  <a:srgbClr val="404040"/>
                </a:solidFill>
                <a:uFillTx/>
                <a:latin typeface="Trebuchet MS"/>
              </a:rPr>
              <a:t>ТЕЗИС</a:t>
            </a: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. 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1" lang="ru-RU" sz="2200" spc="-1" strike="noStrike" u="sng">
                <a:solidFill>
                  <a:srgbClr val="404040"/>
                </a:solidFill>
                <a:uFillTx/>
                <a:latin typeface="Trebuchet MS"/>
              </a:rPr>
              <a:t>Даём определение</a:t>
            </a: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 слову </a:t>
            </a:r>
            <a:r>
              <a:rPr b="1" lang="ru-RU" sz="3600" spc="-1" strike="noStrike">
                <a:solidFill>
                  <a:srgbClr val="ff3300"/>
                </a:solidFill>
                <a:latin typeface="Trebuchet MS"/>
              </a:rPr>
              <a:t>человечность</a:t>
            </a: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 и </a:t>
            </a:r>
            <a:r>
              <a:rPr b="1" lang="ru-RU" sz="2200" spc="-1" strike="noStrike" u="sng">
                <a:solidFill>
                  <a:srgbClr val="404040"/>
                </a:solidFill>
                <a:uFillTx/>
                <a:latin typeface="Trebuchet MS"/>
              </a:rPr>
              <a:t>комментируем</a:t>
            </a: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 его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440" y="1599840"/>
            <a:ext cx="807732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10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Рассуждение</a:t>
            </a: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 - это смысловой тип текста, в котором отрицается или утверждается какое-то явление, факт, понятие, говорится о причинах свойств и явлений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Человечность – это нравственное качество, которое предполагает уважение и сочувствие к людям, доброжелательность и терпимость. В современном мире и так достаточно зла, людям нужно быть внимательнее и добрее по отношению друг к другу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778440" cy="15001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риводим </a:t>
            </a:r>
            <a:r>
              <a:rPr b="1" lang="ru-RU" sz="2200" spc="-1" strike="noStrike" u="sng">
                <a:solidFill>
                  <a:srgbClr val="404040"/>
                </a:solidFill>
                <a:uFillTx/>
                <a:latin typeface="Trebuchet MS"/>
              </a:rPr>
              <a:t>АРГУМЕНТ</a:t>
            </a: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 из прочитанного текста, подтверждающий наши рассуждения. </a:t>
            </a: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Аргумент 1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Нельзя назвать человечным поведение двух девочек и мальчика из текста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Б. Васильева. Они совершили кражу, воспользовавшись слепотой старой женщины. Письма с фронта были самым дорогим для Анны Федотовны. Бесчеловечный поступок ребят привёл к тому, что душа её «ослепла и оглохла».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Rectangle 2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778440" cy="15001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риводим </a:t>
            </a:r>
            <a:r>
              <a:rPr b="1" lang="ru-RU" sz="2200" spc="-1" strike="noStrike" u="sng">
                <a:solidFill>
                  <a:srgbClr val="404040"/>
                </a:solidFill>
                <a:uFillTx/>
                <a:latin typeface="Trebuchet MS"/>
              </a:rPr>
              <a:t>АРГУМЕНТ</a:t>
            </a: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 из собственного жизненного опыта. 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Аргумент 2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А вот ученики нашей школы оказывают посильную помощь ветеранам Великой Отечественной войны и вдовам ветеранов. Я думаю, это нужно не только им, но и нам. Помогая другим, человек проявляет свои лучшие качества, а человечность – одно из них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Rectangle 2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778440" cy="15001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Формулируем </a:t>
            </a:r>
            <a:r>
              <a:rPr b="1" lang="ru-RU" sz="2200" spc="-1" strike="noStrike" u="sng">
                <a:solidFill>
                  <a:srgbClr val="404040"/>
                </a:solidFill>
                <a:uFillTx/>
                <a:latin typeface="Trebuchet MS"/>
              </a:rPr>
              <a:t>ВЫВОД</a:t>
            </a: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. 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Из этого следует, что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добрые чувства должны формироваться с  детства, усваиваться одновременно с познанием первых и важных истин. Без человечности невозможна душевная красота человека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Rectangle 2" descr=""/>
          <p:cNvPicPr/>
          <p:nvPr/>
        </p:nvPicPr>
        <p:blipFill>
          <a:blip r:embed="rId1"/>
          <a:stretch/>
        </p:blipFill>
        <p:spPr>
          <a:xfrm>
            <a:off x="1792440" y="4157640"/>
            <a:ext cx="6833880" cy="1693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3200400" y="1523880"/>
            <a:ext cx="2514600" cy="1447920"/>
          </a:xfrm>
          <a:prstGeom prst="flowChartAlternateProcess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3200400" y="3352680"/>
            <a:ext cx="2514600" cy="1447920"/>
          </a:xfrm>
          <a:prstGeom prst="flowChartAlternateProcess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0"/>
          <p:cNvSpPr/>
          <p:nvPr/>
        </p:nvSpPr>
        <p:spPr>
          <a:xfrm>
            <a:off x="3352680" y="5257800"/>
            <a:ext cx="2514600" cy="1447920"/>
          </a:xfrm>
          <a:prstGeom prst="flowChartAlternateProcess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1"/>
          <p:cNvSpPr/>
          <p:nvPr/>
        </p:nvSpPr>
        <p:spPr>
          <a:xfrm>
            <a:off x="4038480" y="2971800"/>
            <a:ext cx="304920" cy="304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4"/>
          <p:cNvSpPr/>
          <p:nvPr/>
        </p:nvSpPr>
        <p:spPr>
          <a:xfrm>
            <a:off x="4648320" y="4876920"/>
            <a:ext cx="304560" cy="304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WordArt 15"/>
          <p:cNvSpPr txBox="1"/>
          <p:nvPr/>
        </p:nvSpPr>
        <p:spPr>
          <a:xfrm>
            <a:off x="3962520" y="1905120"/>
            <a:ext cx="115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зи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WordArt 16"/>
          <p:cNvSpPr txBox="1"/>
          <p:nvPr/>
        </p:nvSpPr>
        <p:spPr>
          <a:xfrm>
            <a:off x="3352680" y="3733920"/>
            <a:ext cx="2200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ргумен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WordArt 17"/>
          <p:cNvSpPr txBox="1"/>
          <p:nvPr/>
        </p:nvSpPr>
        <p:spPr>
          <a:xfrm>
            <a:off x="3962520" y="5638680"/>
            <a:ext cx="1361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во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102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404040"/>
                </a:solidFill>
                <a:latin typeface="Trebuchet MS"/>
              </a:rPr>
              <a:t>Тезис </a:t>
            </a:r>
            <a:r>
              <a:rPr b="0" lang="ru-RU" sz="4100" spc="-1" strike="noStrike">
                <a:solidFill>
                  <a:srgbClr val="404040"/>
                </a:solidFill>
                <a:latin typeface="Trebuchet MS"/>
              </a:rPr>
              <a:t>- это то, что надо доказать, объяснить или опровергнуть.</a:t>
            </a: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102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404040"/>
                </a:solidFill>
                <a:latin typeface="Trebuchet MS"/>
              </a:rPr>
              <a:t>Аргументы </a:t>
            </a:r>
            <a:r>
              <a:rPr b="0" lang="ru-RU" sz="4100" spc="-1" strike="noStrike">
                <a:solidFill>
                  <a:srgbClr val="404040"/>
                </a:solidFill>
                <a:latin typeface="Trebuchet MS"/>
              </a:rPr>
              <a:t>- это доказательства, доводы, обоснования, объяснения. </a:t>
            </a: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102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404040"/>
                </a:solidFill>
                <a:latin typeface="Trebuchet MS"/>
              </a:rPr>
              <a:t>Вывод </a:t>
            </a:r>
            <a:r>
              <a:rPr b="0" lang="ru-RU" sz="4100" spc="-1" strike="noStrike">
                <a:solidFill>
                  <a:srgbClr val="404040"/>
                </a:solidFill>
                <a:latin typeface="Trebuchet MS"/>
              </a:rPr>
              <a:t>- это то, что доказано, объяснено или опровергнуто.</a:t>
            </a: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Тезис может формулироваться как утверждение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9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Тезис может формулироваться   в виде вопроса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752120"/>
            <a:ext cx="81532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Для перехода от тезиса к доказательствам часто используются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1. вопрос </a:t>
            </a:r>
            <a:r>
              <a:rPr b="0" i="1" lang="ru-RU" sz="3600" spc="-1" strike="noStrike">
                <a:solidFill>
                  <a:srgbClr val="404040"/>
                </a:solidFill>
                <a:latin typeface="Trebuchet MS"/>
              </a:rPr>
              <a:t>почему</a:t>
            </a: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?,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2. частица </a:t>
            </a:r>
            <a:r>
              <a:rPr b="0" i="1" lang="ru-RU" sz="3600" spc="-1" strike="noStrike">
                <a:solidFill>
                  <a:srgbClr val="404040"/>
                </a:solidFill>
                <a:latin typeface="Trebuchet MS"/>
              </a:rPr>
              <a:t>ведь</a:t>
            </a: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3. такие конструкции, как: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И вот почему;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Это можно доказать так (следующим образом);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Докажем это;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В этом легко убедиться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Это объясняется следующим и т. п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На связь и последовательность мыслей в доказательствах могут указывать вводные слова и сочетания: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04040"/>
                </a:solidFill>
                <a:latin typeface="Trebuchet MS"/>
              </a:rPr>
              <a:t>во-первых,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04040"/>
                </a:solidFill>
                <a:latin typeface="Trebuchet MS"/>
              </a:rPr>
              <a:t>во-вторых,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04040"/>
                </a:solidFill>
                <a:latin typeface="Trebuchet MS"/>
              </a:rPr>
              <a:t>наконец,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04040"/>
                </a:solidFill>
                <a:latin typeface="Trebuchet MS"/>
              </a:rPr>
              <a:t>например,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04040"/>
                </a:solidFill>
                <a:latin typeface="Trebuchet MS"/>
              </a:rPr>
              <a:t>предположим,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04040"/>
                </a:solidFill>
                <a:latin typeface="Trebuchet MS"/>
              </a:rPr>
              <a:t>допустим и др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ton</cp:lastModifiedBy>
  <dcterms:modified xsi:type="dcterms:W3CDTF">2017-02-10T18:18:28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