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F11-8807-4057-AEEB-6C008F6A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8BE-856D-4D5A-9A21-F2DE1553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A729-654E-44DC-8412-4B222E85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A68A-FCB8-4705-8BD2-78500FDF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ED32-A398-49A6-9C76-AFCDFCAF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540F-97B5-4B33-ABCF-F9C17CC7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504B-23A9-4194-8C88-73E42895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B835-CF29-46C7-A87B-2003909F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00C3-1CBA-4E92-9D5B-A29DBC4A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6AF9-65BA-4692-8153-71B8811E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ADFE-A81F-4A8D-A3E9-AAED31CF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8B93-AEE7-4DD0-9C5B-B873F6D4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E307-0BB6-474F-912E-73719AD6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7CD6-DC6E-4775-B5A3-213043E2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C6EA-7787-4C9C-A61A-E19D55EA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FA70-E7EF-403A-9D43-DD824E42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A0A5-5E5C-4EB7-A8F6-51312BF8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5AFC9-8509-4B5C-BE14-7335938F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F5375-D793-40C7-A8AB-F429C2E5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11085-4C48-4951-B760-04D709D7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D3331-E8D2-405E-8108-224AFD16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BF8EE-E97A-4637-92A1-6C264D7E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6D8-7B41-470A-A2FC-264DE20A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A98DE-7A98-4A26-9ABF-F9133C00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3C06C-84FD-4311-8741-4523C5B1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38905-CD78-41E9-BAD6-1EB2F659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AC525-70D4-4920-B26D-60446836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F7A0E-B3B2-48F2-A950-EC7F5D1F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09015-F917-40C7-9D40-2A1D63AB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8BF9E-4824-4A34-95CC-FEA4D835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950EC-4DED-4313-B99E-9682B498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595FF-8E72-4694-9263-3E3581CC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9EA0D-CD32-431D-B8FE-3C8D3BF8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0A44-5179-45BF-B6CE-AAFC299F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F0F6C-8A98-474D-BCA7-4A68B0FD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5B545-FFBD-4245-B082-4411A0FE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4A958-6899-442D-8777-079109CA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FB39A-D066-4C6D-8403-E1F58F08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9C600-98C9-4C54-A632-F7AD9901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4EF3D-0336-4926-ABF0-863B060B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07FD7-B99A-4EF0-B533-F1CDB113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5C8BF-A683-458E-B3D5-0E232E66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9CC6B-A635-4E9B-B4D7-892A80D0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330-FC1F-4545-98BF-3A2B05A1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4CC-CFB3-4388-BE4C-DCC7131F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E55D-73FA-4385-BD29-6F002B5D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47DE-BCF9-438E-8C0C-89714228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CB5D-A21D-46F1-A9BB-5F2A67EE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3E0A-E1A5-4DED-81FA-3A4A0617017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C54B-F04F-4159-8181-6483383DE47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F49E-484A-4056-BCA2-D4451B89030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83D7-E851-4C7D-856A-3EF9651D178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2" descr=""/>
          <p:cNvPicPr/>
          <p:nvPr/>
        </p:nvPicPr>
        <p:blipFill>
          <a:blip r:embed="rId1"/>
          <a:stretch/>
        </p:blipFill>
        <p:spPr>
          <a:xfrm>
            <a:off x="0" y="2840040"/>
            <a:ext cx="744372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70000"/>
              </a:lnSpc>
              <a:spcBef>
                <a:spcPts val="10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404040"/>
                </a:solidFill>
                <a:latin typeface="Trebuchet MS"/>
              </a:rPr>
              <a:t>Вывод связывается с доказательствами чаще всего посредством вводных слов и сочетаний : 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10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404040"/>
                </a:solidFill>
                <a:latin typeface="Trebuchet MS"/>
              </a:rPr>
              <a:t>итак, 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10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404040"/>
                </a:solidFill>
                <a:latin typeface="Trebuchet MS"/>
              </a:rPr>
              <a:t>таким образом, 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10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404040"/>
                </a:solidFill>
                <a:latin typeface="Trebuchet MS"/>
              </a:rPr>
              <a:t>поэтому, 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70000"/>
              </a:lnSpc>
              <a:spcBef>
                <a:spcPts val="10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404040"/>
                </a:solidFill>
                <a:latin typeface="Trebuchet MS"/>
              </a:rPr>
              <a:t>вот почему.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Части рассуждения могут быть связаны и без специальных языковых средств, только 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о смыслу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rebuchet MS"/>
              </a:rPr>
              <a:t>Практическая часть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2" descr=""/>
          <p:cNvPicPr/>
          <p:nvPr/>
        </p:nvPicPr>
        <p:blipFill>
          <a:blip r:embed="rId1"/>
          <a:stretch/>
        </p:blipFill>
        <p:spPr>
          <a:xfrm>
            <a:off x="0" y="19080"/>
            <a:ext cx="5815080" cy="27846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173040" y="4606920"/>
            <a:ext cx="59706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684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Что такое «сочинение на лингвистическую тему»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8400" indent="-547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илагательное «лингвистический» произошло от слова «лингвистика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8400" indent="-547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Лингви́стика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(языкозна́ние, языкове́дение; от лат. lingua — язык) — наука, изучающая язык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8400" indent="-547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начит, основным содержанием такого сочинения будет именно 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лингвистический материа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8400" indent="-547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ам придется рассуждать о различных 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лингвистических понятиях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, например, о знаках препинания, синонимах, антонимах, фразеологизмах, частицах, глаголах, суффиксах и т.д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4498920" y="4968720"/>
            <a:ext cx="4078440" cy="1492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%D1%81%D0%BE%D1%87"/>
          <p:cNvPicPr/>
          <p:nvPr/>
        </p:nvPicPr>
        <p:blipFill>
          <a:blip r:embed="rId2"/>
          <a:stretch/>
        </p:blipFill>
        <p:spPr>
          <a:xfrm>
            <a:off x="349200" y="685800"/>
            <a:ext cx="74232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2" descr=""/>
          <p:cNvPicPr/>
          <p:nvPr/>
        </p:nvPicPr>
        <p:blipFill>
          <a:blip r:embed="rId1"/>
          <a:stretch/>
        </p:blipFill>
        <p:spPr>
          <a:xfrm>
            <a:off x="1792440" y="4157640"/>
            <a:ext cx="6845040" cy="22431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6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Шаг 1. Знакомимся с высказыванием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6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Внимательно </a:t>
            </a:r>
            <a:r>
              <a:rPr b="0" lang="ru-RU" sz="2600" spc="-1" strike="noStrike" u="sng">
                <a:solidFill>
                  <a:srgbClr val="404040"/>
                </a:solidFill>
                <a:uFillTx/>
                <a:latin typeface="Trebuchet MS"/>
              </a:rPr>
              <a:t>прочитайте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 высказывание о языке.  </a:t>
            </a:r>
            <a:r>
              <a:rPr b="0" lang="ru-RU" sz="2600" spc="-1" strike="noStrike" u="sng">
                <a:solidFill>
                  <a:srgbClr val="404040"/>
                </a:solidFill>
                <a:uFillTx/>
                <a:latin typeface="Trebuchet MS"/>
              </a:rPr>
              <a:t>Осмыслите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 его. Выделите </a:t>
            </a:r>
            <a:r>
              <a:rPr b="0" lang="ru-RU" sz="2600" spc="-1" strike="noStrike" u="sng">
                <a:solidFill>
                  <a:srgbClr val="404040"/>
                </a:solidFill>
                <a:uFillTx/>
                <a:latin typeface="Trebuchet MS"/>
              </a:rPr>
              <a:t>ключевые слова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6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Шаг 2.  Определяем основную мысль высказывани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6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Выясните, о каких </a:t>
            </a:r>
            <a:r>
              <a:rPr b="0" lang="ru-RU" sz="2600" spc="-1" strike="noStrike" u="sng">
                <a:solidFill>
                  <a:srgbClr val="404040"/>
                </a:solidFill>
                <a:uFillTx/>
                <a:latin typeface="Trebuchet MS"/>
              </a:rPr>
              <a:t>свойствах языка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, о каких </a:t>
            </a:r>
            <a:r>
              <a:rPr b="0" lang="ru-RU" sz="2600" spc="-1" strike="noStrike" u="sng">
                <a:solidFill>
                  <a:srgbClr val="404040"/>
                </a:solidFill>
                <a:uFillTx/>
                <a:latin typeface="Trebuchet MS"/>
              </a:rPr>
              <a:t>языковых явлениях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 идёт речь в высказывании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ответы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 богатстве, выразительности, точности русской реч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 средствах выражения мыслей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 роли в русском языке эпитетов, метафор, олицетворений, сравнений, синонимов, антонимов, фразеологизмов и т.п.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 взаимосвязи лексики и грамматик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 роли синтаксиса в человеческом общени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 гибкости русской пунктуационной системы и функциях знаков препинания и т.д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1792440" y="4157640"/>
            <a:ext cx="6838920" cy="1693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lnSpc>
                <a:spcPct val="7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1. Цитируем высказывание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7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2. Объясняем смысл высказывания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7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3. Приводим 2 примера из прочитанного текста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7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4. Делаем вывод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К.Г.Паустовский 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сказал</a:t>
            </a: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: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 "Нет ничего такого в жизни и в нашем сознании,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чего нельзя было бы передать русским словом". </a:t>
            </a: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Действительно, слова наиболее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точно, ясно и образно выражают самые сложные мысли и чувства людей, всё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многообразие окружающего мира. 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Чтобы убедиться в справедливости данного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высказывания, рассмотрим конкретные пример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1792440" y="4237200"/>
            <a:ext cx="6711840" cy="12794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утвержда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ассужда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тмеча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читал и т.д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1706400" y="4102200"/>
            <a:ext cx="7010640" cy="14205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1792440" y="4157640"/>
            <a:ext cx="6838920" cy="1693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Язык – одно из чудес, с помощью которого люди передают тончайшие оттенки мыслей. Великий русский писатель К.Паустовский </a:t>
            </a:r>
            <a:r>
              <a:rPr b="1" i="1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утверждал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, что русским словом можно не только назвать предметы, явления и действия, но и выразить идеи, мысли, чувства. Убедимся в этом, обратившись к тексту Б.Васильев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1792440" y="4187880"/>
            <a:ext cx="6771960" cy="2041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имеров </a:t>
            </a:r>
            <a:r>
              <a:rPr b="0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должно быть 2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имеры должны быть </a:t>
            </a:r>
            <a:r>
              <a:rPr b="0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из прочитанного текста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иводя пример, нужно не только </a:t>
            </a:r>
            <a:r>
              <a:rPr b="0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назвать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 языковое явление, но и </a:t>
            </a:r>
            <a:r>
              <a:rPr b="0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объяснить его значение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 и </a:t>
            </a:r>
            <a:r>
              <a:rPr b="0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указать роль в тексте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0414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Наш язык очень богат 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rebuchet MS"/>
              </a:rPr>
              <a:t>синонимами</a:t>
            </a:r>
            <a:r>
              <a:rPr b="0" lang="ru-RU" sz="2400" spc="-1" strike="noStrike">
                <a:solidFill>
                  <a:srgbClr val="0000ff"/>
                </a:solidFill>
                <a:latin typeface="Trebuchet MS"/>
              </a:rPr>
              <a:t> </a:t>
            </a:r>
            <a:r>
              <a:rPr b="0" lang="ru-RU" sz="2400" spc="-1" strike="noStrike">
                <a:solidFill>
                  <a:srgbClr val="ff3300"/>
                </a:solidFill>
                <a:latin typeface="Trebuchet MS"/>
              </a:rPr>
              <a:t>(названо языковое явление) 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- </a:t>
            </a:r>
            <a:r>
              <a:rPr b="1" i="1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словами, имеющими общее значение и различающимися дополнительными оттенками или стилистической окраской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2400" spc="-1" strike="noStrike">
                <a:solidFill>
                  <a:srgbClr val="ff3300"/>
                </a:solidFill>
                <a:latin typeface="Trebuchet MS"/>
              </a:rPr>
              <a:t>(объяснено его значение).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 Синонимы привлекают пишущего или говорящего тем, что они позволяют с предельной точностью выразить мысль. Так, описывая чувства Анны Федотовны, автор использует синонимы "горечь и обида" (предложение 44), "разговор обеспокоил, удивил, обидел" (предложение 33)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2400" spc="-1" strike="noStrike">
                <a:solidFill>
                  <a:srgbClr val="ff3300"/>
                </a:solidFill>
                <a:latin typeface="Trebuchet MS"/>
              </a:rPr>
              <a:t>(приведен пример из текста)</a:t>
            </a:r>
            <a:r>
              <a:rPr b="1" i="1" lang="ru-RU" sz="2400" spc="-1" strike="noStrike">
                <a:solidFill>
                  <a:srgbClr val="ff3300"/>
                </a:solidFill>
                <a:latin typeface="Trebuchet MS"/>
              </a:rPr>
              <a:t>,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 которые </a:t>
            </a:r>
            <a:r>
              <a:rPr b="1" i="1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помогают писателю более полно и многогранно раскрыть душевное состояние своей героини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2400" spc="-1" strike="noStrike">
                <a:solidFill>
                  <a:srgbClr val="ff3300"/>
                </a:solidFill>
                <a:latin typeface="Trebuchet MS"/>
              </a:rPr>
              <a:t>(указана роль в тексте)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602400" cy="15001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1430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Русский язык обладает и богатейшими словообразовательными возможностями. Способы образования слов в русском языке очень разнообразны. Один из наиболее продуктивных способов - это </a:t>
            </a:r>
            <a:r>
              <a:rPr b="1" i="1" lang="ru-RU" sz="2400" spc="-1" strike="noStrike" u="sng">
                <a:solidFill>
                  <a:srgbClr val="56c7aa"/>
                </a:solidFill>
                <a:uFillTx/>
                <a:latin typeface="Trebuchet MS"/>
              </a:rPr>
              <a:t>суффиксальный</a:t>
            </a:r>
            <a:r>
              <a:rPr b="1" i="1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 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(</a:t>
            </a:r>
            <a:r>
              <a:rPr b="0" lang="ru-RU" sz="2400" spc="-1" strike="noStrike">
                <a:solidFill>
                  <a:srgbClr val="ff3300"/>
                </a:solidFill>
                <a:latin typeface="Trebuchet MS"/>
              </a:rPr>
              <a:t>названо языковое явление),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 т.е. образование новых слов при помощи суффикса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(</a:t>
            </a:r>
            <a:r>
              <a:rPr b="0" lang="ru-RU" sz="2400" spc="-1" strike="noStrike">
                <a:solidFill>
                  <a:srgbClr val="ff3300"/>
                </a:solidFill>
                <a:latin typeface="Trebuchet MS"/>
              </a:rPr>
              <a:t>объяснено его значение)</a:t>
            </a:r>
            <a:r>
              <a:rPr b="1" i="1" lang="ru-RU" sz="2400" spc="-1" strike="noStrike">
                <a:solidFill>
                  <a:srgbClr val="ff3300"/>
                </a:solidFill>
                <a:latin typeface="Trebuchet MS"/>
              </a:rPr>
              <a:t>.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 Возьмём, к примеру, слово "Танечка" из предложения 1 </a:t>
            </a:r>
            <a:r>
              <a:rPr b="0" lang="ru-RU" sz="2400" spc="-1" strike="noStrike">
                <a:solidFill>
                  <a:srgbClr val="ff3300"/>
                </a:solidFill>
                <a:latin typeface="Trebuchet MS"/>
              </a:rPr>
              <a:t>(приведен пример из текста)</a:t>
            </a:r>
            <a:r>
              <a:rPr b="1" i="1" lang="ru-RU" sz="2400" spc="-1" strike="noStrike">
                <a:solidFill>
                  <a:srgbClr val="ff3300"/>
                </a:solidFill>
                <a:latin typeface="Trebuchet MS"/>
              </a:rPr>
              <a:t>.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 Оно </a:t>
            </a:r>
            <a:r>
              <a:rPr b="1" i="1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образовано с помощью уменьшительно-ласкательного суффикса -ечк-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, который </a:t>
            </a:r>
            <a:r>
              <a:rPr b="1" i="1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помогает автору выразить симпатию к героине своего произведения </a:t>
            </a:r>
            <a:r>
              <a:rPr b="0" lang="ru-RU" sz="2400" spc="-1" strike="noStrike">
                <a:solidFill>
                  <a:srgbClr val="ff3300"/>
                </a:solidFill>
                <a:latin typeface="Trebuchet MS"/>
              </a:rPr>
              <a:t>(указана роль в тексте)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1620720" y="4157640"/>
            <a:ext cx="6870960" cy="1359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 заключительной части сочинения делается </a:t>
            </a:r>
            <a:r>
              <a:rPr b="0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вывод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 из всего сказанного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ак правило, в заключении говорится о том же, о чём во вступлении, но другими словам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2" descr=""/>
          <p:cNvPicPr/>
          <p:nvPr/>
        </p:nvPicPr>
        <p:blipFill>
          <a:blip r:embed="rId1"/>
          <a:stretch/>
        </p:blipFill>
        <p:spPr>
          <a:xfrm>
            <a:off x="1792440" y="4206960"/>
            <a:ext cx="6761160" cy="18158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Таким образом, ...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Итак, ..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Следовательно, ..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В итоге можно прийти к такому выводу: ..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В заключение можно сказать, что ..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Обобщая сказанное, ..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Из этого следует, что ..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2" descr=""/>
          <p:cNvPicPr/>
          <p:nvPr/>
        </p:nvPicPr>
        <p:blipFill>
          <a:blip r:embed="rId1"/>
          <a:stretch/>
        </p:blipFill>
        <p:spPr>
          <a:xfrm>
            <a:off x="1792440" y="4157640"/>
            <a:ext cx="6699240" cy="1359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3300"/>
                </a:solidFill>
                <a:uFillTx/>
                <a:latin typeface="Trebuchet MS"/>
              </a:rPr>
              <a:t>Таким образом</a:t>
            </a:r>
            <a:r>
              <a:rPr b="1" i="1" lang="ru-RU" sz="2200" spc="-1" strike="noStrike">
                <a:solidFill>
                  <a:srgbClr val="ff3300"/>
                </a:solidFill>
                <a:latin typeface="Trebuchet MS"/>
              </a:rPr>
              <a:t>,</a:t>
            </a: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 приведённые примеры подтверждают мысль  К.Г.Паустовского о том, что в русском языке можно найти нужные слова для выражения самых  сложных мыслей и различных оттенков чувст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1792440" y="4071960"/>
            <a:ext cx="6791040" cy="1547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6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Как Вы понимаете значение слова </a:t>
            </a: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ЧЕЛОВЕЧНОСТЬ?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600" spc="-1" strike="noStrike" u="sng">
                <a:solidFill>
                  <a:srgbClr val="404040"/>
                </a:solidFill>
                <a:uFillTx/>
                <a:latin typeface="Trebuchet MS"/>
              </a:rPr>
              <a:t>Сформулируйте и прокомментируйте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данное Вами определение. Напишите сочинение-рассуждение на тему: </a:t>
            </a: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«Что такое человечность»,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взяв в качестве тезиса данное Вами определение. Аргументируя свой тезис, приведите 2 (два) примера-аргумента, подтверждающих Ваши рассуждения: </a:t>
            </a:r>
            <a:r>
              <a:rPr b="0" lang="ru-RU" sz="2600" spc="-1" strike="noStrike" u="sng">
                <a:solidFill>
                  <a:srgbClr val="404040"/>
                </a:solidFill>
                <a:uFillTx/>
                <a:latin typeface="Trebuchet MS"/>
              </a:rPr>
              <a:t>один пример-аргумент приведите из прочитанного текста, а второй – из Вашего жизненного опыта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Формулируем  </a:t>
            </a:r>
            <a:r>
              <a:rPr b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ТЕЗИС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. 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Даём определение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 слову </a:t>
            </a:r>
            <a:r>
              <a:rPr b="1" lang="ru-RU" sz="3600" spc="-1" strike="noStrike">
                <a:solidFill>
                  <a:srgbClr val="ff3300"/>
                </a:solidFill>
                <a:latin typeface="Trebuchet MS"/>
              </a:rPr>
              <a:t>человечность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 и </a:t>
            </a:r>
            <a:r>
              <a:rPr b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комментируем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 его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440" y="1599840"/>
            <a:ext cx="80773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Рассуждение</a:t>
            </a: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 - это смысловой тип текста, в котором отрицается или утверждается какое-то явление, факт, понятие, говорится о причинах свойств и явлений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Человечность – это нравственное качество, которое предполагает уважение и сочувствие к людям, доброжелательность и терпимость. В современном мире и так достаточно зла, людям нужно быть внимательнее и добрее по отношению друг к другу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риводим </a:t>
            </a:r>
            <a:r>
              <a:rPr b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АРГУМЕНТ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 из прочитанного текста, подтверждающий наши рассуждения. 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Аргумент 1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ельзя назвать человечным поведение двух девочек и мальчика из текста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Б. Васильева. Они совершили кражу, воспользовавшись слепотой старой женщины. Письма с фронта были самым дорогим для Анны Федотовны. Бесчеловечный поступок ребят привёл к тому, что душа её «ослепла и оглохла».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риводим </a:t>
            </a:r>
            <a:r>
              <a:rPr b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АРГУМЕНТ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 из собственного жизненного опыта. 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Аргумент 2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А вот ученики нашей школы оказывают посильную помощь ветеранам Великой Отечественной войны и вдовам ветеранов. Я думаю, это нужно не только им, но и нам. Помогая другим, человек проявляет свои лучшие качества, а человечность – одно из них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Формулируем </a:t>
            </a:r>
            <a:r>
              <a:rPr b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ВЫВОД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. 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Из этого следует, что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добрые чувства должны формироваться с  детства, усваиваться одновременно с познанием первых и важных истин. Без человечности невозможна душевная красота человека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ctangle 2" descr=""/>
          <p:cNvPicPr/>
          <p:nvPr/>
        </p:nvPicPr>
        <p:blipFill>
          <a:blip r:embed="rId1"/>
          <a:stretch/>
        </p:blipFill>
        <p:spPr>
          <a:xfrm>
            <a:off x="1792440" y="4157640"/>
            <a:ext cx="6833880" cy="1693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3200400" y="1523880"/>
            <a:ext cx="2514600" cy="1447920"/>
          </a:xfrm>
          <a:prstGeom prst="flowChartAlternateProcess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3200400" y="3352680"/>
            <a:ext cx="2514600" cy="1447920"/>
          </a:xfrm>
          <a:prstGeom prst="flowChartAlternateProcess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3352680" y="5257800"/>
            <a:ext cx="2514600" cy="1447920"/>
          </a:xfrm>
          <a:prstGeom prst="flowChartAlternateProcess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4038480" y="2971800"/>
            <a:ext cx="30492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4"/>
          <p:cNvSpPr/>
          <p:nvPr/>
        </p:nvSpPr>
        <p:spPr>
          <a:xfrm>
            <a:off x="4648320" y="4876920"/>
            <a:ext cx="304560" cy="304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15"/>
          <p:cNvSpPr txBox="1"/>
          <p:nvPr/>
        </p:nvSpPr>
        <p:spPr>
          <a:xfrm>
            <a:off x="3962520" y="1905120"/>
            <a:ext cx="115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зи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WordArt 16"/>
          <p:cNvSpPr txBox="1"/>
          <p:nvPr/>
        </p:nvSpPr>
        <p:spPr>
          <a:xfrm>
            <a:off x="3352680" y="3733920"/>
            <a:ext cx="2200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ргумен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17"/>
          <p:cNvSpPr txBox="1"/>
          <p:nvPr/>
        </p:nvSpPr>
        <p:spPr>
          <a:xfrm>
            <a:off x="3962520" y="5638680"/>
            <a:ext cx="1361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10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Trebuchet MS"/>
              </a:rPr>
              <a:t>Тезис </a:t>
            </a:r>
            <a:r>
              <a:rPr b="0" lang="ru-RU" sz="4100" spc="-1" strike="noStrike">
                <a:solidFill>
                  <a:srgbClr val="404040"/>
                </a:solidFill>
                <a:latin typeface="Trebuchet MS"/>
              </a:rPr>
              <a:t>- это то, что надо доказать, объяснить или опровергнуть.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10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Trebuchet MS"/>
              </a:rPr>
              <a:t>Аргументы </a:t>
            </a:r>
            <a:r>
              <a:rPr b="0" lang="ru-RU" sz="4100" spc="-1" strike="noStrike">
                <a:solidFill>
                  <a:srgbClr val="404040"/>
                </a:solidFill>
                <a:latin typeface="Trebuchet MS"/>
              </a:rPr>
              <a:t>- это доказательства, доводы, обоснования, объяснения. 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10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Trebuchet MS"/>
              </a:rPr>
              <a:t>Вывод </a:t>
            </a:r>
            <a:r>
              <a:rPr b="0" lang="ru-RU" sz="4100" spc="-1" strike="noStrike">
                <a:solidFill>
                  <a:srgbClr val="404040"/>
                </a:solidFill>
                <a:latin typeface="Trebuchet MS"/>
              </a:rPr>
              <a:t>- это то, что доказано, объяснено или опровергнуто.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Тезис может формулироваться как утверждение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Тезис может формулироваться   в виде вопроса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Для перехода от тезиса к доказательствам часто используются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1. вопрос </a:t>
            </a:r>
            <a:r>
              <a:rPr b="0" i="1" lang="ru-RU" sz="3600" spc="-1" strike="noStrike">
                <a:solidFill>
                  <a:srgbClr val="404040"/>
                </a:solidFill>
                <a:latin typeface="Trebuchet MS"/>
              </a:rPr>
              <a:t>почему</a:t>
            </a: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?,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2. частица </a:t>
            </a:r>
            <a:r>
              <a:rPr b="0" i="1" lang="ru-RU" sz="3600" spc="-1" strike="noStrike">
                <a:solidFill>
                  <a:srgbClr val="404040"/>
                </a:solidFill>
                <a:latin typeface="Trebuchet MS"/>
              </a:rPr>
              <a:t>ведь</a:t>
            </a: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3. такие конструкции, как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И вот почему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Это можно доказать так (следующим образом)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Докажем это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В этом легко убедиться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Это объясняется следующим и т. п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На связь и последовательность мыслей в доказательствах могут указывать вводные слова и сочетания: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rebuchet MS"/>
              </a:rPr>
              <a:t>во-первых,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rebuchet MS"/>
              </a:rPr>
              <a:t>во-вторых,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rebuchet MS"/>
              </a:rPr>
              <a:t>наконец,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rebuchet MS"/>
              </a:rPr>
              <a:t>например,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rebuchet MS"/>
              </a:rPr>
              <a:t>предположим,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rebuchet MS"/>
              </a:rPr>
              <a:t>допустим и др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ton</cp:lastModifiedBy>
  <dcterms:modified xsi:type="dcterms:W3CDTF">2017-02-10T18:18:28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