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197-06A6-4FE3-BDC1-08A043F4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39C-1F04-4D41-A2C5-6BF9A2D0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2BF-9B4D-4584-9BE0-44F01DBD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772-C67C-4BE7-964A-0C91EC8B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E9B-A5E3-409F-8BD4-455240AD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B27-6605-4813-ADB0-EDE0BB8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462-9DCC-4765-8CCA-0E86A75C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F4F-6957-48FB-83FA-9BBEE6F1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234-CABB-4301-AC45-24698509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0C4-784A-4303-A2B7-9E2F83D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415-1D97-4ABD-B512-550C556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5A8-A897-42A0-9966-C705A0A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940-7D84-4126-89E1-8A4EB10F9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2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3" Type="http://schemas.openxmlformats.org/officeDocument/2006/relationships/hyperlink" Target="file:///C:/Users/&#1040;&#1076;&#1084;&#1080;&#1085;&#1080;&#1089;&#1090;&#1088;&#1072;&#1090;&#1086;&#1088;/Downloads/&#1058;&#1072;&#1083;&#1072;&#1085;&#1090;%20&#1054;&#1076;&#1072;&#1088;&#1077;&#1085;&#1085;&#1086;&#1089;&#1090;&#1100;/img13.jpg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19520" y="88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772640"/>
            <a:ext cx="892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нсультация для педагогов ДО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Одарённый ребёнок — какой он?»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02200" y="407484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росимова Е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740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476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тство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повторимая по своим возможностям пора развит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08360" y="62064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знаками одаренности в раннем детстве принято считать неуемное любопытство ребенка, его бесконечные вопросы, большой запас слов и развитость речи, хорошую память, доброту, открытость, острую реакцию на несправедлив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6912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620640"/>
            <a:ext cx="496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практической работе с одаренными детьми вместо понятия «одаренный ребенок» следует использовать понятие «признаки одаренности ребенк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5038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836640"/>
            <a:ext cx="86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качестве одной из причин отсутствия проявлений того или иного вида одаренности может быть недостаток (в силу условий жизни) соответствующих знаний, умений и навыков. Стоит такому ребенку их освоить, как его одаренность становится явной и очевидной для педаг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2881440"/>
            <a:ext cx="6948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75927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 успешных лидеров (по Н. А. Бурдыко, В. И. Малышенк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 выше средн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принимать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иметь дело с абстрактными понятиями, планированием будущего, временными огранич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цели, направления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, приспосабли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ответств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енность в себе и знание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йч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имость и терпение при работе с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675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.\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wnloads\Талант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Одаренность\img13.j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-468360" y="0"/>
            <a:ext cx="9864720" cy="7404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79280" y="836640"/>
            <a:ext cx="82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07:35:35Z</dcterms:created>
  <dc:creator>Света</dc:creator>
  <dc:description/>
  <dc:language>en-US</dc:language>
  <cp:lastModifiedBy>Администратор</cp:lastModifiedBy>
  <dcterms:modified xsi:type="dcterms:W3CDTF">2017-02-10T09:12:28Z</dcterms:modified>
  <cp:revision>6</cp:revision>
  <dc:subject/>
  <dc:title>Слайд 1</dc:title>
</cp:coreProperties>
</file>