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FA39-D71C-423E-8299-E4BD9163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99D5-95D2-4EE7-8545-D9791870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15D3-1305-463F-841B-2099D961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288-8C72-4402-AC3C-95D660A9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CD1E-DDA8-45CE-BD04-AEB77C52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F61-F177-4098-87CA-1846C483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F068-F296-4BD0-94D5-E98113FE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0D3E-DCE5-4F8E-A3D7-03FB9F4F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CDD-1604-42FA-89FD-059452D1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45B0-520A-402D-BC97-D8F7ABA6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9A8-B46D-44D8-9555-F9A928BC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7D8-C1AA-4386-B949-43BF67BA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556A-9BEC-462F-9674-904009187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:/Users/&#1040;&#1076;&#1084;&#1080;&#1085;&#1080;&#1089;&#1090;&#1088;&#1072;&#1090;&#1086;&#1088;/Downloads/&#1058;&#1072;&#1083;&#1072;&#1085;&#1090;%20&#1054;&#1076;&#1072;&#1088;&#1077;&#1085;&#1085;&#1086;&#1089;&#1090;&#1100;/img13.jpg" TargetMode="External"/><Relationship Id="rId2" Type="http://schemas.openxmlformats.org/officeDocument/2006/relationships/hyperlink" Target="file:///C:/Users/&#1040;&#1076;&#1084;&#1080;&#1085;&#1080;&#1089;&#1090;&#1088;&#1072;&#1090;&#1086;&#1088;/Downloads/&#1058;&#1072;&#1083;&#1072;&#1085;&#1090;%20&#1054;&#1076;&#1072;&#1088;&#1077;&#1085;&#1085;&#1086;&#1089;&#1090;&#1100;/img13.jpg" TargetMode="External"/><Relationship Id="rId3" Type="http://schemas.openxmlformats.org/officeDocument/2006/relationships/hyperlink" Target="file:///C:/Users/&#1040;&#1076;&#1084;&#1080;&#1085;&#1080;&#1089;&#1090;&#1088;&#1072;&#1090;&#1086;&#1088;/Downloads/&#1058;&#1072;&#1083;&#1072;&#1085;&#1090;%20&#1054;&#1076;&#1072;&#1088;&#1077;&#1085;&#1085;&#1086;&#1089;&#1090;&#1100;/img13.jpg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64720" cy="740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19520" y="880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772640"/>
            <a:ext cx="892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онсультация для педагогов ДО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«Одарённый ребёнок — какой он?»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02200" y="407484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дагог-псих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росимова Е.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64720" cy="740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7201080" cy="540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4762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етство 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еповторимая по своим возможностям пора развити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864720" cy="7404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08360" y="620640"/>
            <a:ext cx="9001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знаками одаренности в раннем детстве принято считать неуемное любопытство ребенка, его бесконечные вопросы, большой запас слов и развитость речи, хорошую память, доброту, открытость, острую реакцию на несправедлив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69120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864720" cy="7404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24000" y="620640"/>
            <a:ext cx="496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практической работе с одаренными детьми вместо понятия «одаренный ребенок» следует использовать понятие «признаки одаренности ребенк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211640" y="3429000"/>
            <a:ext cx="50385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864720" cy="74041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-360" y="836640"/>
            <a:ext cx="867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качестве одной из причин отсутствия проявлений того или иного вида одаренности может быть недостаток (в силу условий жизни) соответствующих знаний, умений и навыков. Стоит такому ребенку их освоить, как его одаренность становится явной и очевидной для педаго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6920" y="2881440"/>
            <a:ext cx="69487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864720" cy="740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4000" y="907920"/>
            <a:ext cx="75927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стики успешных лидеров (по Н. А. Бурдыко, В. И. Малышенко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ллект выше средне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принимать ре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иметь дело с абстрактными понятиями, планированием будущего, временными ограниче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щущение цели, направления дви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бкость, приспосабливаем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ство ответств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ренность в себе и знание себ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ойчив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пимость и терпение при работе с люд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864720" cy="7404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76360" y="54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700360" y="2637000"/>
            <a:ext cx="4675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864720" cy="74041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26920" y="692280"/>
            <a:ext cx="7272360" cy="54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..\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ownloads\Талант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Одаренность\img13.jp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-468360" y="0"/>
            <a:ext cx="9864720" cy="7404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79280" y="836640"/>
            <a:ext cx="824400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2T07:35:35Z</dcterms:created>
  <dc:creator>Света</dc:creator>
  <dc:description/>
  <dc:language>en-US</dc:language>
  <cp:lastModifiedBy>Администратор</cp:lastModifiedBy>
  <dcterms:modified xsi:type="dcterms:W3CDTF">2017-02-10T09:12:28Z</dcterms:modified>
  <cp:revision>6</cp:revision>
  <dc:subject/>
  <dc:title>Слайд 1</dc:title>
</cp:coreProperties>
</file>