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1.png" ContentType="image/png"/>
  <Override PartName="/ppt/media/image30.jpeg" ContentType="image/jpeg"/>
  <Override PartName="/ppt/media/image35.wmf" ContentType="image/x-wmf"/>
  <Override PartName="/ppt/media/image31.jpeg" ContentType="image/jpeg"/>
  <Override PartName="/ppt/media/image32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B5F-C5EC-46E7-99EF-787E6CE8C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B4EE-91A0-4DCA-A053-A45722924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C89-86A5-45AE-A562-9C8062AA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641-EA53-42B9-9564-8B61D732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3F0-7292-4FAB-9435-8DA89F41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D2B-878B-4DBF-B40B-4034BA71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C76-2394-4359-AA89-A5F0135D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60E-C259-463C-9241-700B1BD8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5CD-AB5E-4ABA-9E4C-AAD618CF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3D2-4E40-4AB4-B40D-EA6E508B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068-28B8-4798-85FA-42F313DB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FD3-84E9-4672-BF51-01BDE9EC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B8C-CCD8-4685-9685-76628EA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EBF-104C-4A6B-960D-495D501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5FF2-AA3C-47E5-BDC4-F3F5A2B98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image" Target="../media/image2.jpeg"/><Relationship Id="rId10" Type="http://schemas.openxmlformats.org/officeDocument/2006/relationships/hyperlink" Target="http://go.mail.ru/frame.html?imgurl=http://WWW.lisna.ru/ru/Catalog/BodyImage/Podushka2.jpg&amp;pageurl=http://WWW.lisna.ru%2Fru%2FMain%2FRubric%2FPostelnyePrinadlezhnosti.html&amp;id=10079853&amp;iid=8&amp;imgwidth=945&amp;imgheight=738&amp;imgsize=63332&amp;images_links=b" TargetMode="External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9640" y="260280"/>
            <a:ext cx="820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Sport in our  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4356000" y="2781360"/>
            <a:ext cx="4319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A sound mind is 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in a sound body"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       </a:t>
            </a: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ancient Greek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23640" y="1413000"/>
            <a:ext cx="39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go out cycling every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get strong and hart that 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 I play football at week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 all my other health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like to run and swim and w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t’s move around, no time to tal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 we enjoy sport any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love to do sport every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480760" y="3883680"/>
            <a:ext cx="457596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es there are sports for every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ou don’t have to stay in and wat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le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hoose a healthy hob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fun never ends when you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ith your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ith your friend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en you play with your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642200" y="1484640"/>
            <a:ext cx="437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the weather is O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can go fishing all th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can jog around the p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t’s very good for the he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, we like to swim and run and wal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t’s move around, no time to tal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 we enjoy sport any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love to do sport every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50720" y="1350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a s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11"/>
          <p:cNvSpPr txBox="1"/>
          <p:nvPr/>
        </p:nvSpPr>
        <p:spPr>
          <a:xfrm>
            <a:off x="4284720" y="333360"/>
            <a:ext cx="3876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orts for everybod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Picture 12" descr="FRDAY009"/>
          <p:cNvPicPr/>
          <p:nvPr/>
        </p:nvPicPr>
        <p:blipFill>
          <a:blip r:embed="rId1"/>
          <a:stretch/>
        </p:blipFill>
        <p:spPr>
          <a:xfrm>
            <a:off x="606600" y="4005360"/>
            <a:ext cx="1742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Bookman Old Style"/>
              </a:rPr>
              <a:t>Match the words in English and in Russ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197000"/>
          <a:ext cx="8158320" cy="5699160"/>
        </p:xfrm>
        <a:graphic>
          <a:graphicData uri="http://schemas.openxmlformats.org/drawingml/2006/table">
            <a:tbl>
              <a:tblPr/>
              <a:tblGrid>
                <a:gridCol w="3240360"/>
                <a:gridCol w="491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ller-sk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тание на ролик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ki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ла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wim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иб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лоспор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yc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тание на коньк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k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тание на лыж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urn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рный ту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ro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уску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eep 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лучш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uscles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урн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lex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ыть в хорошей фор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oup these activities into indoor and outdoor s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k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r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se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w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n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nd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rse-r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rest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ce hoc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c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1116000" y="2708280"/>
            <a:ext cx="144144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6659640" y="2708280"/>
            <a:ext cx="144144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ut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468000" y="3284640"/>
            <a:ext cx="647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H="1">
            <a:off x="826560" y="3500280"/>
            <a:ext cx="50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76364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195640" y="3573360"/>
            <a:ext cx="288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2556000" y="328464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7451640" y="3645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8101080" y="30686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 flipH="1">
            <a:off x="6516360" y="3500280"/>
            <a:ext cx="358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7885080" y="3573360"/>
            <a:ext cx="576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 flipH="1">
            <a:off x="6084720" y="3357720"/>
            <a:ext cx="648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0"/>
          <p:cNvSpPr/>
          <p:nvPr/>
        </p:nvSpPr>
        <p:spPr>
          <a:xfrm flipH="1" flipV="1">
            <a:off x="6443640" y="234936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 flipV="1">
            <a:off x="766764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2"/>
          <p:cNvSpPr/>
          <p:nvPr/>
        </p:nvSpPr>
        <p:spPr>
          <a:xfrm flipH="1" flipV="1">
            <a:off x="7164000" y="1989000"/>
            <a:ext cx="144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3"/>
          <p:cNvSpPr/>
          <p:nvPr/>
        </p:nvSpPr>
        <p:spPr>
          <a:xfrm flipV="1">
            <a:off x="8028000" y="2565000"/>
            <a:ext cx="57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1"/>
          <p:cNvSpPr/>
          <p:nvPr/>
        </p:nvSpPr>
        <p:spPr>
          <a:xfrm flipH="1" flipV="1">
            <a:off x="684360" y="249228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2" descr=""/>
          <p:cNvPicPr/>
          <p:nvPr/>
        </p:nvPicPr>
        <p:blipFill>
          <a:blip r:embed="rId1"/>
          <a:stretch/>
        </p:blipFill>
        <p:spPr>
          <a:xfrm>
            <a:off x="6948360" y="544500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3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1225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kinds of sports are popular in Russia?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808000" cy="174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2047680" cy="2592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6"/>
          <p:cNvSpPr txBox="1"/>
          <p:nvPr/>
        </p:nvSpPr>
        <p:spPr>
          <a:xfrm>
            <a:off x="539640" y="3860640"/>
            <a:ext cx="163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footb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6804000" y="3860640"/>
            <a:ext cx="163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hock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419640" y="3068640"/>
            <a:ext cx="163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ska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Answ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he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you against or for spo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you prefer going in for sports or watching it on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 sport a part of our everyday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 sport important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is your favorite kind of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 is the best sportsman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бсл"/>
          <p:cNvPicPr/>
          <p:nvPr/>
        </p:nvPicPr>
        <p:blipFill>
          <a:blip r:embed="rId1"/>
          <a:stretch/>
        </p:blipFill>
        <p:spPr>
          <a:xfrm>
            <a:off x="7308720" y="1268280"/>
            <a:ext cx="1584360" cy="155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дайвинг2"/>
          <p:cNvPicPr/>
          <p:nvPr/>
        </p:nvPicPr>
        <p:blipFill>
          <a:blip r:embed="rId2"/>
          <a:stretch/>
        </p:blipFill>
        <p:spPr>
          <a:xfrm>
            <a:off x="7308720" y="3429000"/>
            <a:ext cx="158436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do we call people who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y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ic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 swimming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mping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sur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ride a bik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00008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7451640" y="5516640"/>
            <a:ext cx="943200" cy="752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4857840" y="3286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otb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788720" y="55720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t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859280" y="421488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930560" y="14288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w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787640" y="47149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m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002560" y="24289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860000" y="3786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r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930920" y="18572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yc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te the chart by matching each sport with the place and equipment which go with it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oots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st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o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lo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k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o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ac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ad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ar r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u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o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ll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it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067280" y="1197000"/>
          <a:ext cx="1539720" cy="1173240"/>
        </p:xfrm>
        <a:graphic>
          <a:graphicData uri="http://schemas.openxmlformats.org/drawingml/2006/table">
            <a:tbl>
              <a:tblPr/>
              <a:tblGrid>
                <a:gridCol w="153972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4"/>
          <p:cNvSpPr/>
          <p:nvPr/>
        </p:nvSpPr>
        <p:spPr>
          <a:xfrm>
            <a:off x="5813640" y="1214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5"/>
          <p:cNvSpPr/>
          <p:nvPr/>
        </p:nvSpPr>
        <p:spPr>
          <a:xfrm>
            <a:off x="7167960" y="12682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7" descr="футбол2"/>
          <p:cNvPicPr/>
          <p:nvPr/>
        </p:nvPicPr>
        <p:blipFill>
          <a:blip r:embed="rId1"/>
          <a:stretch/>
        </p:blipFill>
        <p:spPr>
          <a:xfrm>
            <a:off x="1979640" y="1700280"/>
            <a:ext cx="1000080" cy="60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8" descr="рафтинг"/>
          <p:cNvPicPr/>
          <p:nvPr/>
        </p:nvPicPr>
        <p:blipFill>
          <a:blip r:embed="rId2"/>
          <a:stretch/>
        </p:blipFill>
        <p:spPr>
          <a:xfrm>
            <a:off x="3059280" y="4941720"/>
            <a:ext cx="914400" cy="60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9" descr=""/>
          <p:cNvPicPr/>
          <p:nvPr/>
        </p:nvPicPr>
        <p:blipFill>
          <a:blip r:embed="rId3"/>
          <a:stretch/>
        </p:blipFill>
        <p:spPr>
          <a:xfrm>
            <a:off x="2050920" y="27082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0" descr="катание"/>
          <p:cNvPicPr/>
          <p:nvPr/>
        </p:nvPicPr>
        <p:blipFill>
          <a:blip r:embed="rId4"/>
          <a:stretch/>
        </p:blipFill>
        <p:spPr>
          <a:xfrm>
            <a:off x="1763640" y="4149720"/>
            <a:ext cx="1067040" cy="81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1" descr=""/>
          <p:cNvPicPr/>
          <p:nvPr/>
        </p:nvPicPr>
        <p:blipFill>
          <a:blip r:embed="rId5"/>
          <a:stretch/>
        </p:blipFill>
        <p:spPr>
          <a:xfrm>
            <a:off x="3203640" y="2997360"/>
            <a:ext cx="723960" cy="942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2" descr=""/>
          <p:cNvPicPr/>
          <p:nvPr/>
        </p:nvPicPr>
        <p:blipFill>
          <a:blip r:embed="rId6"/>
          <a:stretch/>
        </p:blipFill>
        <p:spPr>
          <a:xfrm>
            <a:off x="3059280" y="407664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"/>
          <p:cNvPicPr/>
          <p:nvPr/>
        </p:nvPicPr>
        <p:blipFill>
          <a:blip r:embed="rId7"/>
          <a:stretch/>
        </p:blipFill>
        <p:spPr>
          <a:xfrm>
            <a:off x="3059280" y="2205000"/>
            <a:ext cx="998280" cy="663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4" descr=""/>
          <p:cNvPicPr/>
          <p:nvPr/>
        </p:nvPicPr>
        <p:blipFill>
          <a:blip r:embed="rId8"/>
          <a:stretch/>
        </p:blipFill>
        <p:spPr>
          <a:xfrm>
            <a:off x="1835280" y="5229360"/>
            <a:ext cx="1008000" cy="83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5" descr=""/>
          <p:cNvPicPr/>
          <p:nvPr/>
        </p:nvPicPr>
        <p:blipFill>
          <a:blip r:embed="rId9"/>
          <a:stretch/>
        </p:blipFill>
        <p:spPr>
          <a:xfrm>
            <a:off x="2916360" y="5734080"/>
            <a:ext cx="107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0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3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6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0" dur="2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5" dur="2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5" dur="2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0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0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5" dur="2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5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0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0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5" dur="2000"/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5" dur="2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0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0" dur="2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5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0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uess what kind of sports it is. Translate the sentences into Russian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game for two or four play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o hit a ball with rackets across a net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summer game played on a grass 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 two teams with a ball, bats and wick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game played by two or four pers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a small hard 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ch is struck with clubs into ho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way of traveling or going on fo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team game played with oval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game played on a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ing round wood bats and a small plastic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952560" cy="76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112392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7596360" y="5300640"/>
            <a:ext cx="952200" cy="714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7308720" y="213372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гольф"/>
          <p:cNvPicPr/>
          <p:nvPr/>
        </p:nvPicPr>
        <p:blipFill>
          <a:blip r:embed="rId5"/>
          <a:stretch/>
        </p:blipFill>
        <p:spPr>
          <a:xfrm>
            <a:off x="7524720" y="292428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6"/>
          <a:stretch/>
        </p:blipFill>
        <p:spPr>
          <a:xfrm>
            <a:off x="6227640" y="3789360"/>
            <a:ext cx="12240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rite the correct name of the day under each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сумка"/>
          <p:cNvPicPr/>
          <p:nvPr/>
        </p:nvPicPr>
        <p:blipFill>
          <a:blip r:embed="rId1"/>
          <a:stretch/>
        </p:blipFill>
        <p:spPr>
          <a:xfrm>
            <a:off x="3492360" y="2637000"/>
            <a:ext cx="1944720" cy="141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шапочка"/>
          <p:cNvPicPr/>
          <p:nvPr/>
        </p:nvPicPr>
        <p:blipFill>
          <a:blip r:embed="rId2"/>
          <a:stretch/>
        </p:blipFill>
        <p:spPr>
          <a:xfrm>
            <a:off x="7380360" y="321300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шлем2"/>
          <p:cNvPicPr/>
          <p:nvPr/>
        </p:nvPicPr>
        <p:blipFill>
          <a:blip r:embed="rId3"/>
          <a:stretch/>
        </p:blipFill>
        <p:spPr>
          <a:xfrm>
            <a:off x="324000" y="3213000"/>
            <a:ext cx="952200" cy="7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акетка"/>
          <p:cNvPicPr/>
          <p:nvPr/>
        </p:nvPicPr>
        <p:blipFill>
          <a:blip r:embed="rId4"/>
          <a:stretch/>
        </p:blipFill>
        <p:spPr>
          <a:xfrm>
            <a:off x="2484360" y="4292640"/>
            <a:ext cx="115560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плавки2"/>
          <p:cNvPicPr/>
          <p:nvPr/>
        </p:nvPicPr>
        <p:blipFill>
          <a:blip r:embed="rId5"/>
          <a:stretch/>
        </p:blipFill>
        <p:spPr>
          <a:xfrm>
            <a:off x="7020000" y="4149720"/>
            <a:ext cx="1270080" cy="10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бутсы"/>
          <p:cNvPicPr/>
          <p:nvPr/>
        </p:nvPicPr>
        <p:blipFill>
          <a:blip r:embed="rId6"/>
          <a:stretch/>
        </p:blipFill>
        <p:spPr>
          <a:xfrm>
            <a:off x="5003640" y="1197000"/>
            <a:ext cx="603360" cy="45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7"/>
          <a:stretch/>
        </p:blipFill>
        <p:spPr>
          <a:xfrm>
            <a:off x="900000" y="3933720"/>
            <a:ext cx="952560" cy="64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кеды"/>
          <p:cNvPicPr/>
          <p:nvPr/>
        </p:nvPicPr>
        <p:blipFill>
          <a:blip r:embed="rId8"/>
          <a:stretch/>
        </p:blipFill>
        <p:spPr>
          <a:xfrm>
            <a:off x="1042920" y="1268280"/>
            <a:ext cx="905040" cy="75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9"/>
          <a:stretch/>
        </p:blipFill>
        <p:spPr>
          <a:xfrm>
            <a:off x="4067280" y="1268280"/>
            <a:ext cx="952560" cy="714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3"/>
          <p:cNvSpPr/>
          <p:nvPr/>
        </p:nvSpPr>
        <p:spPr>
          <a:xfrm>
            <a:off x="971640" y="2276640"/>
            <a:ext cx="16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Mon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6948360" y="5516640"/>
            <a:ext cx="1511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n Mon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3635280" y="2205000"/>
            <a:ext cx="18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On Wednes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2195640" y="5734080"/>
            <a:ext cx="1944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On Fri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6732720" y="2060640"/>
            <a:ext cx="1871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On Satur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and Su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mo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50920" y="4797360"/>
            <a:ext cx="1439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Ever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4859280" y="5589720"/>
            <a:ext cx="144144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n Su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fter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i?id=10079853&amp;tov=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03640" y="4437000"/>
            <a:ext cx="12240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4500"/>
                            </p:stCondLst>
                            <p:childTnLst>
                              <p:par>
                                <p:cTn id="9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500"/>
                            </p:stCondLst>
                            <p:childTnLst>
                              <p:par>
                                <p:cTn id="9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9000"/>
                            </p:stCondLst>
                            <p:childTnLst>
                              <p:par>
                                <p:cTn id="9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34:34Z</dcterms:created>
  <dc:creator>Интер</dc:creator>
  <dc:description/>
  <dc:language>en-US</dc:language>
  <cp:lastModifiedBy>Интер</cp:lastModifiedBy>
  <dcterms:modified xsi:type="dcterms:W3CDTF">2017-02-09T21:33:40Z</dcterms:modified>
  <cp:revision>24</cp:revision>
  <dc:subject/>
  <dc:title>Слайд 1</dc:title>
</cp:coreProperties>
</file>