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0296-CF81-485D-A7E5-A78AECA3A4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D6D-EFD1-48D3-833A-50D8A77C0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79C-72DA-4077-9126-A09A5A46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69B-6F38-4D65-9FE2-285094BA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68A-C5D4-4C6E-9E46-3C1CA93D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75B-70ED-43F8-84B4-502BC303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F981-FB17-4632-9BE6-210A0A3E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7FE-762A-4CFA-87CE-ED20D8C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B25F-FFF0-446F-9C12-71641DF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582-0281-465F-8FF8-260C2B1A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6FDD-5E63-466D-8AE5-6E554338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E46-9A60-4156-BA3A-334A8351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B08F-9FA4-479A-8736-1201E01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728-0DE9-4288-A89E-8294EA99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FD4F-E653-498F-A9FB-699D9762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B56-70D4-4AE2-819D-36FC529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6F36-0F55-42D9-96D3-71D9228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B804-11A1-40ED-8044-C41C8921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4D92-DEB9-49BF-BDA5-CDF56047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EBC-C9A4-4C80-88EE-532B3E64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C84-842F-434A-BB8D-2D41F23A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B4F-B3BD-4AE8-8D80-22881DB0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27F-5160-4B4E-BCBE-E8C0C612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96E-D91A-4DF4-A864-78EBAB29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702-712C-4988-A047-6C6EE779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C62-157E-4A8C-AC99-0B643CD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6338-DF0A-4651-9F16-5B57B9C8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AB2-D96F-438B-9443-29825330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9880" y="2857320"/>
            <a:ext cx="5457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зитная карточка 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6 «Б» класса 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Патриоты Белгородчины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Человеку никак нельзя жить без Родины, </a:t>
            </a:r>
            <a:br>
              <a:rPr sz="2000"/>
            </a:br>
            <a:r>
              <a:rPr b="1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                       как нельзя жить без сердца»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14240" y="3714840"/>
            <a:ext cx="760104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А что такое гражданин?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Отечества достойный сын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Н.А.Некрасов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А что такое патриот?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Тот, кто без Родины не проживет!!!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6 «Б» класс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3\Рабочий стол\ПРЕЗЕНТАЦИЯ НА КОНКУРС\ФЕСТИВАЛЬ ФОТО\IMG_5926.JPG"/>
          <p:cNvPicPr/>
          <p:nvPr/>
        </p:nvPicPr>
        <p:blipFill>
          <a:blip r:embed="rId2"/>
          <a:stretch/>
        </p:blipFill>
        <p:spPr>
          <a:xfrm>
            <a:off x="357120" y="357120"/>
            <a:ext cx="5072040" cy="4233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43720" y="856800"/>
            <a:ext cx="30715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рограммы является воспитание патриотов России, граждан правового демократического государства, обладающих чувством национальной гордости, гражданского достоинства, любви к Отечеству, своему народу.</a:t>
            </a:r>
            <a:endParaRPr b="0" lang="en-US" sz="24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1439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ховно-нравственное направление: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формирование нравственно устойчивой цельной личности, обладающей такими моральными качествами, как добросовестность, честность, коллективизм, соблюдение правил поведения, уважение к старшему поколению, мужество, любовь к Родине и своему народу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оспитание уважения к семье, родителям, семейным традициям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формирование социальной активности, направленной на служение интересам своего Отечества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оспитание отношения к труду как к жизненной необходимости, главному способу достижения успеха в жизни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формирование позитивного отношения к здоровому образу жизни, воспитание активной жизненной позиции в отношении собственного здоровья, неприятие асоциальных явлений, подрывающих физическое и духовное здоровье нации.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94" name="Picture 4" descr="C:\Documents and Settings\3\Рабочий стол\ПРЕЗЕНТАЦИЯ НА КОНКУРС\IMG_7689.JPG"/>
          <p:cNvPicPr/>
          <p:nvPr/>
        </p:nvPicPr>
        <p:blipFill>
          <a:blip r:embed="rId2"/>
          <a:stretch/>
        </p:blipFill>
        <p:spPr>
          <a:xfrm>
            <a:off x="500040" y="367992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3\Рабочий стол\ПРЕЗЕНТАЦИЯ НА КОНКУРС\ФЕСТИВАЛЬ ФОТО\субботник дети\DSCN1133.jpg"/>
          <p:cNvPicPr/>
          <p:nvPr/>
        </p:nvPicPr>
        <p:blipFill>
          <a:blip r:embed="rId3"/>
          <a:stretch/>
        </p:blipFill>
        <p:spPr>
          <a:xfrm>
            <a:off x="4929120" y="3571920"/>
            <a:ext cx="36878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28760" y="500040"/>
            <a:ext cx="8286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ультурно-историческое направление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оспитание у учащихся любви к своей «малой» Родине, родному краю, её замечательным людям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овлечение учащихся в работу по сохранению культурных и исторических памятников боевой и трудовой слав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чувства национальной гордости, национального самосознания, способности жить с людьми других культур, языков и религий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97" name="Picture 2" descr="C:\Documents and Settings\3\Рабочий стол\ПРЕЗЕНТАЦИЯ НА КОНКУРС\ФЕСТИВАЛЬ ФОТО\SAM_1628.JPG"/>
          <p:cNvPicPr/>
          <p:nvPr/>
        </p:nvPicPr>
        <p:blipFill>
          <a:blip r:embed="rId2"/>
          <a:stretch/>
        </p:blipFill>
        <p:spPr>
          <a:xfrm>
            <a:off x="4381560" y="3071880"/>
            <a:ext cx="4378320" cy="3282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3\Рабочий стол\ПРЕЗЕНТАЦИЯ НА КОНКУРС\ФЕСТИВАЛЬ ФОТО\SAM_1630.JPG"/>
          <p:cNvPicPr/>
          <p:nvPr/>
        </p:nvPicPr>
        <p:blipFill>
          <a:blip r:embed="rId3"/>
          <a:stretch/>
        </p:blipFill>
        <p:spPr>
          <a:xfrm>
            <a:off x="1928880" y="292896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3\Рабочий стол\ПРЕЗЕНТАЦИЯ НА КОНКУРС\ФЕСТИВАЛЬ ФОТО\SAM_1633.JPG"/>
          <p:cNvPicPr/>
          <p:nvPr/>
        </p:nvPicPr>
        <p:blipFill>
          <a:blip r:embed="rId4"/>
          <a:stretch/>
        </p:blipFill>
        <p:spPr>
          <a:xfrm>
            <a:off x="428760" y="442908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28760" y="500040"/>
            <a:ext cx="82152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ражданско-правовое направление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изучение государственной системы РФ, значение её Конституции, гимна, государственной символики, прав и обязанностей гражданина России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глубокого понимания гражданского долга, ценностного отношения к национальным интересам России, её суверенитету, независимости и целостност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культуры правовых отношений, стремление к соблюдению законодательных норм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развитие реально действующего школьного самоуправления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1" name="Picture 2" descr="C:\Documents and Settings\3\Рабочий стол\ПРЕЗЕНТАЦИЯ НА КОНКУРС\ФЕСТИВАЛЬ ФОТО\IMG_5922.JPG"/>
          <p:cNvPicPr/>
          <p:nvPr/>
        </p:nvPicPr>
        <p:blipFill>
          <a:blip r:embed="rId2"/>
          <a:stretch/>
        </p:blipFill>
        <p:spPr>
          <a:xfrm>
            <a:off x="4357800" y="3571920"/>
            <a:ext cx="431784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3\Рабочий стол\ПРЕЗЕНТАЦИЯ НА КОНКУРС\ФЕСТИВАЛЬ ФОТО\SAM_2699.JPG"/>
          <p:cNvPicPr/>
          <p:nvPr/>
        </p:nvPicPr>
        <p:blipFill>
          <a:blip r:embed="rId3"/>
          <a:stretch/>
        </p:blipFill>
        <p:spPr>
          <a:xfrm>
            <a:off x="428760" y="358920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0840" y="428760"/>
            <a:ext cx="8223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Военно-патриотическое направление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изучение военной истории России, знание Дней воинской славы, боевых и трудовых подвигов жителей области в годы Великой Отечественной войн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сохранение воинских традиций, связи поколений защитников Родины, организация встреч учащихся с ветеранами войны и труда, участниками локальных военных конфликтов и антитеррористических операций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позитивного образа Вооруженных Сил Российской Федерации, готовности к выполнению воинского долга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4" name="Picture 2" descr="C:\Documents and Settings\3\Рабочий стол\ПРЕЗЕНТАЦИЯ НА КОНКУРС\ФЕСТИВАЛЬ ФОТО\IMG_5207.JPG"/>
          <p:cNvPicPr/>
          <p:nvPr/>
        </p:nvPicPr>
        <p:blipFill>
          <a:blip r:embed="rId2"/>
          <a:stretch/>
        </p:blipFill>
        <p:spPr>
          <a:xfrm>
            <a:off x="4178160" y="3429000"/>
            <a:ext cx="4475160" cy="298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3\Рабочий стол\ПРЕЗЕНТАЦИЯ НА КОНКУРС\ФЕСТИВАЛЬ ФОТО\субботник дети\DSCN1132.jpg"/>
          <p:cNvPicPr/>
          <p:nvPr/>
        </p:nvPicPr>
        <p:blipFill>
          <a:blip r:embed="rId3"/>
          <a:stretch/>
        </p:blipFill>
        <p:spPr>
          <a:xfrm>
            <a:off x="428760" y="3500280"/>
            <a:ext cx="3832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6760" y="356760"/>
            <a:ext cx="83581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се эти направления взаимосвязаны и дополняют друг друга. 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мплекс программных мероприятий предусматривает их воплощение в жизнь через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1. Проведение памятных дней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День Побед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День защитников Отечества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2. Проведение спортивно-массовых мероприятий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День здоровья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работа кружков 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3. Участие в акции «Вахта памяти»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стречи с ветеранами Вов и тружениками тыла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линейки, посвященные памятным датам истори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общешкольная линейка, посвященная Дню Побед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организация помощи ветеранам, вдовам ветеранов, матерям погибших воинов при исполнении служебных обязанностей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проведение часов общения, уроков памяти, уроков мужества, читательских конференций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4. Изучение родного края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экскурсии в музе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туристические поездк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экскурсии по родному краю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изучение истории родного края, народных обычаев, фольклора, связанных с природой и использованием ее богатств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благоустройство территории школ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уход за памятником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5. Организация конкурсов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чтецов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патриотической песн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сочинений «История моей семьи в истории Великой Победы»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рисунков «Защитники Отечества»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720" y="1143000"/>
            <a:ext cx="6091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ограмма патриотического   воспитания  6 «Б» класса</a:t>
            </a:r>
            <a:br>
              <a:rPr sz="2800"/>
            </a:b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Патриоты Белгородчины»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43080"/>
            <a:ext cx="6477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Ожидаемые  результаты: </a:t>
            </a:r>
            <a:endParaRPr b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вышение интереса учащихся к истории России и родного края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витие чувства любви к Родине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отовности к защите своего Отечества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оспитание чувства гордости за свою страну, свой народ; 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важение к достойным страницам прошлого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действие военно-профессиональной ориентации молодёжи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1:05:10Z</dcterms:created>
  <dc:creator>Екатерина</dc:creator>
  <dc:description/>
  <dc:language>en-US</dc:language>
  <cp:lastModifiedBy>Admin</cp:lastModifiedBy>
  <dcterms:modified xsi:type="dcterms:W3CDTF">2017-02-10T17:17:21Z</dcterms:modified>
  <cp:revision>65</cp:revision>
  <dc:subject/>
  <dc:title>little italy</dc:title>
</cp:coreProperties>
</file>