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526-15F0-4608-8A83-FEBD0A1826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387-68B9-485B-BD3D-7A1349FE3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C37-A5CE-4CEF-8F9B-F0518F6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0E9-0667-4DE6-B18B-F0B413C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5E6-C28E-4FC3-A0D6-C48C9709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127-D6CA-4B87-9A80-650281BD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EF3B-6069-4457-96D8-776B727A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19C2-F4C2-417D-9344-FF9E11AB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C9A-7F30-43A6-A19C-E1C0987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B1E8-A77C-4525-AE60-737C4D8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6561-9645-4E1F-9CD3-E21D042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C04B-152C-4396-BCE1-CFF21FDD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A21C-9EEC-4F1F-BAB9-1016F1E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D94-B4A3-4D2F-9D66-B37A8701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BEF1-8DC3-4131-B595-23AFAE9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D7A-B664-4401-9D10-2BF602C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100-A57E-4D5A-998D-2E0BB3D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193-BB2C-480A-A36F-62900250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FC08-0C06-4B2D-AE32-C9BA75CA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D3B-EC22-45FE-B6B3-58ACCCC8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797-96DD-400E-8C80-46DE2E32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715-C02E-4851-A5DA-814340C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D0D-B50A-4E23-A79F-2444558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F21-203F-44A7-AB64-0BD8F8D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67E-C716-4165-859C-E0D273F7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FA8-E345-41AC-B464-D6EF840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5B0-138A-4059-B9AE-E9ED3C08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3066-35A4-4F84-908F-8A4C417B5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9880" y="2857320"/>
            <a:ext cx="5457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зитная карточк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6 «Б» класс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«Патриоты Белгородчины»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Человеку никак нельзя жить без Родины, </a:t>
            </a:r>
            <a:br>
              <a:rPr sz="2000"/>
            </a:br>
            <a:r>
              <a:rPr b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       как нельзя жить без сердца».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4240" y="3714840"/>
            <a:ext cx="760104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А что такое гражданин?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Отечества достойный сын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Н.А.Некрасов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А что такое патриот?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Тот, кто без Родины не проживет!!!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6 «Б» класс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3\Рабочий стол\ПРЕЗЕНТАЦИЯ НА КОНКУРС\ФЕСТИВАЛЬ ФОТО\IMG_5926.JPG"/>
          <p:cNvPicPr/>
          <p:nvPr/>
        </p:nvPicPr>
        <p:blipFill>
          <a:blip r:embed="rId2"/>
          <a:stretch/>
        </p:blipFill>
        <p:spPr>
          <a:xfrm>
            <a:off x="357120" y="357120"/>
            <a:ext cx="5072040" cy="4233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43720" y="856800"/>
            <a:ext cx="30715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ограммы является воспитание патриотов России, граждан правового демократического государства, обладающих чувством национальной гордости, гражданского достоинства, любви к Отечеству, своему народу.</a:t>
            </a:r>
            <a:endParaRPr b="0" lang="en-US" sz="24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1439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ховно-нравственное направление: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нравственно устойчивой цельной личности, обладающей такими моральными качествами, как добросовестность, честность, коллективизм, соблюдение правил поведения, уважение к старшему поколению, мужество, любовь к Родине и своему народу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спитание уважения к семье, родителям, семейным традициям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социальной активности, направленной на служение интересам своего Отечества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спитание отношения к труду как к жизненной необходимости, главному способу достижения успеха в жизни;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формирование позитивного отношения к здоровому образу жизни, воспитание активной жизненной позиции в отношении собственного здоровья, неприятие асоциальных явлений, подрывающих физическое и духовное здоровье нации.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4" name="Picture 4" descr="C:\Documents and Settings\3\Рабочий стол\ПРЕЗЕНТАЦИЯ НА КОНКУРС\IMG_7689.JPG"/>
          <p:cNvPicPr/>
          <p:nvPr/>
        </p:nvPicPr>
        <p:blipFill>
          <a:blip r:embed="rId2"/>
          <a:stretch/>
        </p:blipFill>
        <p:spPr>
          <a:xfrm>
            <a:off x="500040" y="367992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3\Рабочий стол\ПРЕЗЕНТАЦИЯ НА КОНКУРС\ФЕСТИВАЛЬ ФОТО\субботник дети\DSCN1133.jpg"/>
          <p:cNvPicPr/>
          <p:nvPr/>
        </p:nvPicPr>
        <p:blipFill>
          <a:blip r:embed="rId3"/>
          <a:stretch/>
        </p:blipFill>
        <p:spPr>
          <a:xfrm>
            <a:off x="4929120" y="3571920"/>
            <a:ext cx="3687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28760" y="500040"/>
            <a:ext cx="8286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ультурно-историческ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оспитание у учащихся любви к своей «малой» Родине, родному краю, её замечательным людям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овлечение учащихся в работу по сохранению культурных и исторических памятников боевой и трудовой слав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чувства национальной гордости, национального самосознания, способности жить с людьми других культур, языков и религий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7" name="Picture 2" descr="C:\Documents and Settings\3\Рабочий стол\ПРЕЗЕНТАЦИЯ НА КОНКУРС\ФЕСТИВАЛЬ ФОТО\SAM_1628.JPG"/>
          <p:cNvPicPr/>
          <p:nvPr/>
        </p:nvPicPr>
        <p:blipFill>
          <a:blip r:embed="rId2"/>
          <a:stretch/>
        </p:blipFill>
        <p:spPr>
          <a:xfrm>
            <a:off x="4381560" y="3071880"/>
            <a:ext cx="4378320" cy="328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3\Рабочий стол\ПРЕЗЕНТАЦИЯ НА КОНКУРС\ФЕСТИВАЛЬ ФОТО\SAM_1630.JPG"/>
          <p:cNvPicPr/>
          <p:nvPr/>
        </p:nvPicPr>
        <p:blipFill>
          <a:blip r:embed="rId3"/>
          <a:stretch/>
        </p:blipFill>
        <p:spPr>
          <a:xfrm>
            <a:off x="1928880" y="292896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3\Рабочий стол\ПРЕЗЕНТАЦИЯ НА КОНКУРС\ФЕСТИВАЛЬ ФОТО\SAM_1633.JPG"/>
          <p:cNvPicPr/>
          <p:nvPr/>
        </p:nvPicPr>
        <p:blipFill>
          <a:blip r:embed="rId4"/>
          <a:stretch/>
        </p:blipFill>
        <p:spPr>
          <a:xfrm>
            <a:off x="428760" y="44290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28760" y="500040"/>
            <a:ext cx="82152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ражданско-правов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государственной системы РФ, значение её Конституции, гимна, государственной символики, прав и обязанностей гражданина России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глубокого понимания гражданского долга, ценностного отношения к национальным интересам России, её суверенитету, независимости и целостност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культуры правовых отношений, стремление к соблюдению законодательных норм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развитие реально действующего школьного самоуправления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1" name="Picture 2" descr="C:\Documents and Settings\3\Рабочий стол\ПРЕЗЕНТАЦИЯ НА КОНКУРС\ФЕСТИВАЛЬ ФОТО\IMG_5922.JPG"/>
          <p:cNvPicPr/>
          <p:nvPr/>
        </p:nvPicPr>
        <p:blipFill>
          <a:blip r:embed="rId2"/>
          <a:stretch/>
        </p:blipFill>
        <p:spPr>
          <a:xfrm>
            <a:off x="4357800" y="3571920"/>
            <a:ext cx="431784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3\Рабочий стол\ПРЕЗЕНТАЦИЯ НА КОНКУРС\ФЕСТИВАЛЬ ФОТО\SAM_2699.JPG"/>
          <p:cNvPicPr/>
          <p:nvPr/>
        </p:nvPicPr>
        <p:blipFill>
          <a:blip r:embed="rId3"/>
          <a:stretch/>
        </p:blipFill>
        <p:spPr>
          <a:xfrm>
            <a:off x="428760" y="358920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" y="428760"/>
            <a:ext cx="8223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Военно-патриотическое направление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военной истории России, знание Дней воинской славы, боевых и трудовых подвигов жителей области в годы Великой Отечественной войн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сохранение воинских традиций, связи поколений защитников Родины, организация встреч учащихся с ветеранами войны и труда, участниками локальных военных конфликтов и антитеррористических операций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формирование позитивного образа Вооруженных Сил Российской Федерации, готовности к выполнению воинского долга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4" name="Picture 2" descr="C:\Documents and Settings\3\Рабочий стол\ПРЕЗЕНТАЦИЯ НА КОНКУРС\ФЕСТИВАЛЬ ФОТО\IMG_5207.JPG"/>
          <p:cNvPicPr/>
          <p:nvPr/>
        </p:nvPicPr>
        <p:blipFill>
          <a:blip r:embed="rId2"/>
          <a:stretch/>
        </p:blipFill>
        <p:spPr>
          <a:xfrm>
            <a:off x="4178160" y="3429000"/>
            <a:ext cx="4475160" cy="298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3\Рабочий стол\ПРЕЗЕНТАЦИЯ НА КОНКУРС\ФЕСТИВАЛЬ ФОТО\субботник дети\DSCN1132.jpg"/>
          <p:cNvPicPr/>
          <p:nvPr/>
        </p:nvPicPr>
        <p:blipFill>
          <a:blip r:embed="rId3"/>
          <a:stretch/>
        </p:blipFill>
        <p:spPr>
          <a:xfrm>
            <a:off x="428760" y="3500280"/>
            <a:ext cx="3832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6760" y="356760"/>
            <a:ext cx="83581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се эти направления взаимосвязаны и дополняют друг друга.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мплекс программных мероприятий предусматривает их воплощение в жизнь через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1. Проведение памятных дней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Побед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защитников Отечества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2. Проведение спортивно-массовых мероприятий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День здоровья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работа кружков 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3. Участие в акции «Вахта памяти»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встречи с ветеранами Вов и тружениками тыла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линейки, посвященные памятным датам истори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общешкольная линейка, посвященная Дню Побед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организация помощи ветеранам, вдовам ветеранов, матерям погибших воинов при исполнении служебных обязанностей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проведение часов общения, уроков памяти, уроков мужества, читательских конференций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4. Изучение родного края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экскурсии в музе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туристические поездк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экскурсии по родному краю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изучение истории родного края, народных обычаев, фольклора, связанных с природой и использованием ее богатств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благоустройство территории школы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уход за памятником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5. Организация конкурсов: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чтецов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патриотической песни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сочинений «История моей семьи в истории Великой Победы»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 Narrow"/>
              </a:rPr>
              <a:t>конкурс рисунков «Защитники Отечества»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720" y="1143000"/>
            <a:ext cx="6091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ограмма патриотического   воспитания  6 «Б» класса</a:t>
            </a:r>
            <a:br>
              <a:rPr sz="2800"/>
            </a:b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Патриоты Белгородчины»</a:t>
            </a:r>
            <a:r>
              <a:rPr b="0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43080"/>
            <a:ext cx="6477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Ожидаемые  результаты: </a:t>
            </a:r>
            <a:endParaRPr b="1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вышение интереса учащихся к истории России и родного края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ивитие чувства любви к Родине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Готовности к защите своего Отечества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оспитание чувства гордости за свою страну, свой народ; 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Уважение к достойным страницам прошлого;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действие военно-профессиональной ориентации молодёжи.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1:05:10Z</dcterms:created>
  <dc:creator>Екатерина</dc:creator>
  <dc:description/>
  <dc:language>en-US</dc:language>
  <cp:lastModifiedBy>Admin</cp:lastModifiedBy>
  <dcterms:modified xsi:type="dcterms:W3CDTF">2017-02-10T17:17:21Z</dcterms:modified>
  <cp:revision>65</cp:revision>
  <dc:subject/>
  <dc:title>little italy</dc:title>
</cp:coreProperties>
</file>