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9.gif" ContentType="image/gi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5.gif" ContentType="image/gif"/>
  <Override PartName="/ppt/media/image10.gif" ContentType="image/gif"/>
  <Override PartName="/ppt/media/image13.wmf" ContentType="image/x-wmf"/>
  <Override PartName="/ppt/media/image2.gif" ContentType="image/gif"/>
  <Override PartName="/ppt/media/image7.gif" ContentType="image/gif"/>
  <Override PartName="/ppt/media/image8.gif" ContentType="image/gif"/>
  <Override PartName="/ppt/media/image12.wmf" ContentType="image/x-wmf"/>
  <Override PartName="/ppt/media/image4.png" ContentType="image/png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A62-CACC-4C83-96EF-C14E9BFD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36E-A079-49B7-B472-0D92616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125-CDF5-4D7C-8846-8793156D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EFB-F40C-483E-8CE8-E40DE3DD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5E3A-278D-49C4-9FC9-BA55A7B8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7CA-11CE-42DD-A8E8-F424286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7D92-28A0-4ACE-A992-40F9409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BC98-C746-4C30-8BDB-AB490364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23C-519D-468D-BDD0-2F7ED1B4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835-9838-4E2C-8C10-0012647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C3BB-25AA-43AB-9C5A-92E00D3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2A0-ED1E-45AC-BF31-8F2A6C40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8ECF-81A9-453E-92DD-A26843F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7F83-0330-47E2-BD2E-0C76B02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8246-DE65-4808-928B-09F6BEB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7F9-7375-4B21-AEAE-66252365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BC6-8753-4606-BFB4-73EFC662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B51-837B-4F6C-B970-FD9832CA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C59-5140-424C-9DB7-1E60FD47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E76-C596-45F4-AC1F-DF085DF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E42-51D6-45B7-8929-7DCD4B9C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6E9-4AC5-4E6A-9189-BFBED51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B5-7E3A-4EC8-B0F7-9A54DDD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DC1-EAE6-4DED-AD45-B23DD54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5C58-DC12-4CC1-8E08-E816F3426D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DE0-BE4E-4FFE-91DD-1EC794F504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 Black"/>
              </a:rPr>
              <a:t>МБОУ Игримская СОШ №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1371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99ff33"/>
                </a:solidFill>
                <a:latin typeface="Arial Black"/>
              </a:rPr>
              <a:t>Выбор профессии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99ff33"/>
                </a:solidFill>
                <a:latin typeface="Arial Black"/>
              </a:rPr>
              <a:t>Учитель Б.Р.Ниязов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Человек - прир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Животновод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Садов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Ферм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Геоло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етерина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Агроно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Picture 11" descr="C:\Users\English\Desktop\СТОЛ\Documents\Фотки. Времена года\Весна\наш скворечник.JPG"/>
          <p:cNvPicPr/>
          <p:nvPr/>
        </p:nvPicPr>
        <p:blipFill>
          <a:blip r:embed="rId1"/>
          <a:stretch/>
        </p:blipFill>
        <p:spPr>
          <a:xfrm>
            <a:off x="4114800" y="19810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Успешные профессионалы, т.е. люди, довольные своей профессией, сформулировали три главных требования, которым она должна удовлетворять: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3504960"/>
            <a:ext cx="8915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-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офессия должна быть интересной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- профессия должна соответствовать  собственным возможностя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- профессия должна быть такой, чтобы можно было найти работу по специальност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ыбор профессии, или профессиональное самоопределение основа самоутверждения человека в обществе, одно из главных решений в жизни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ыбор профессии определяет очень многое, а имен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: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кем быть, к какой социальной группе принадлежать, где и с кем работать, какой стиль жизни определять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281124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Профессия – род трудовой деятельности, требующий определённой подготовки и являющийся обычно источником существования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228600" y="380880"/>
            <a:ext cx="85345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офессия -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атинское </a:t>
            </a:r>
            <a:r>
              <a:rPr b="0" i="1" lang="en-US" sz="4800" spc="-1" strike="noStrike">
                <a:solidFill>
                  <a:srgbClr val="ff3300"/>
                </a:solidFill>
                <a:latin typeface="Arial"/>
              </a:rPr>
              <a:t>professio</a:t>
            </a: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- объявляю своим делом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</a:rPr>
              <a:t>Профессий и специальностей более 6000. Какую выбра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4" descr="komp"/>
          <p:cNvPicPr/>
          <p:nvPr/>
        </p:nvPicPr>
        <p:blipFill>
          <a:blip r:embed="rId1"/>
          <a:stretch/>
        </p:blipFill>
        <p:spPr>
          <a:xfrm>
            <a:off x="3852720" y="2535120"/>
            <a:ext cx="1463760" cy="117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polic"/>
          <p:cNvPicPr/>
          <p:nvPr/>
        </p:nvPicPr>
        <p:blipFill>
          <a:blip r:embed="rId2"/>
          <a:stretch/>
        </p:blipFill>
        <p:spPr>
          <a:xfrm>
            <a:off x="2133720" y="2209680"/>
            <a:ext cx="1201680" cy="13716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muz"/>
          <p:cNvPicPr/>
          <p:nvPr/>
        </p:nvPicPr>
        <p:blipFill>
          <a:blip r:embed="rId3"/>
          <a:stretch/>
        </p:blipFill>
        <p:spPr>
          <a:xfrm>
            <a:off x="228600" y="2743200"/>
            <a:ext cx="1663560" cy="175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vopr"/>
          <p:cNvPicPr/>
          <p:nvPr/>
        </p:nvPicPr>
        <p:blipFill>
          <a:blip r:embed="rId4"/>
          <a:stretch/>
        </p:blipFill>
        <p:spPr>
          <a:xfrm>
            <a:off x="3429000" y="3733920"/>
            <a:ext cx="2743200" cy="1066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uchen"/>
          <p:cNvPicPr/>
          <p:nvPr/>
        </p:nvPicPr>
        <p:blipFill>
          <a:blip r:embed="rId5"/>
          <a:stretch/>
        </p:blipFill>
        <p:spPr>
          <a:xfrm>
            <a:off x="6934320" y="4267080"/>
            <a:ext cx="1676160" cy="1752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astron"/>
          <p:cNvPicPr/>
          <p:nvPr/>
        </p:nvPicPr>
        <p:blipFill>
          <a:blip r:embed="rId6"/>
          <a:stretch/>
        </p:blipFill>
        <p:spPr>
          <a:xfrm>
            <a:off x="6858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19"/>
          <p:cNvPicPr/>
          <p:nvPr/>
        </p:nvPicPr>
        <p:blipFill>
          <a:blip r:embed="rId7"/>
          <a:stretch/>
        </p:blipFill>
        <p:spPr>
          <a:xfrm>
            <a:off x="6477120" y="205740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23"/>
          <p:cNvPicPr/>
          <p:nvPr/>
        </p:nvPicPr>
        <p:blipFill>
          <a:blip r:embed="rId8"/>
          <a:stretch/>
        </p:blipFill>
        <p:spPr>
          <a:xfrm>
            <a:off x="5334120" y="4343400"/>
            <a:ext cx="1447560" cy="2209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box"/>
          <p:cNvPicPr/>
          <p:nvPr/>
        </p:nvPicPr>
        <p:blipFill>
          <a:blip r:embed="rId9"/>
          <a:stretch/>
        </p:blipFill>
        <p:spPr>
          <a:xfrm>
            <a:off x="3276720" y="4800600"/>
            <a:ext cx="14526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3352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Чтобы определиться в мире профессий, нужно прежде всего найти своё место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Picture 4" descr="AG00011_"/>
          <p:cNvPicPr/>
          <p:nvPr/>
        </p:nvPicPr>
        <p:blipFill>
          <a:blip r:embed="rId1"/>
          <a:stretch/>
        </p:blipFill>
        <p:spPr>
          <a:xfrm>
            <a:off x="1752480" y="228600"/>
            <a:ext cx="51818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«</a:t>
            </a: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Если ты не знаешь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какую гавань держишь путь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то ни один ветер не будет для тебя попутным» Сенек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Деление профессий на психологические классы и типы условно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- челове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Врач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Психоло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Юрис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Продавец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 Black"/>
              </a:rPr>
              <a:t>Социальный работ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Picture 7" descr="J0090070"/>
          <p:cNvPicPr/>
          <p:nvPr/>
        </p:nvPicPr>
        <p:blipFill>
          <a:blip r:embed="rId1"/>
          <a:stretch/>
        </p:blipFill>
        <p:spPr>
          <a:xfrm>
            <a:off x="228600" y="1600200"/>
            <a:ext cx="325440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рограммис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Экономис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Бухгалт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борщ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ереводч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сси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– знаковая систем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Picture 10" descr="J0195384"/>
          <p:cNvPicPr/>
          <p:nvPr/>
        </p:nvPicPr>
        <p:blipFill>
          <a:blip r:embed="rId1"/>
          <a:stretch/>
        </p:blipFill>
        <p:spPr>
          <a:xfrm>
            <a:off x="728640" y="2192400"/>
            <a:ext cx="360828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еловек - техн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2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лот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лесар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карь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нтажн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Шве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варщи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нженер-конструкто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Picture 12" descr="j0240695"/>
          <p:cNvPicPr/>
          <p:nvPr/>
        </p:nvPicPr>
        <p:blipFill>
          <a:blip r:embed="rId1"/>
          <a:stretch/>
        </p:blipFill>
        <p:spPr>
          <a:xfrm>
            <a:off x="4716360" y="2747880"/>
            <a:ext cx="352584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 Black"/>
              </a:rPr>
              <a:t>Человек – художественный образ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Актё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Хореограф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Архитекто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Музыкан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арикмахер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Фотограф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Black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Picture 7" descr="J0086428"/>
          <p:cNvPicPr/>
          <p:nvPr/>
        </p:nvPicPr>
        <p:blipFill>
          <a:blip r:embed="rId1"/>
          <a:stretch/>
        </p:blipFill>
        <p:spPr>
          <a:xfrm>
            <a:off x="1606680" y="1981080"/>
            <a:ext cx="1971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glish</cp:lastModifiedBy>
  <dcterms:modified xsi:type="dcterms:W3CDTF">2017-02-10T08:27:1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