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9.gif" ContentType="image/gif"/>
  <Override PartName="/ppt/media/image6.gif" ContentType="image/gif"/>
  <Override PartName="/ppt/media/image14.wmf" ContentType="image/x-wmf"/>
  <Override PartName="/ppt/media/image3.gif" ContentType="image/gif"/>
  <Override PartName="/ppt/media/image11.wmf" ContentType="image/x-wmf"/>
  <Override PartName="/ppt/media/image5.gif" ContentType="image/gif"/>
  <Override PartName="/ppt/media/image10.gif" ContentType="image/gif"/>
  <Override PartName="/ppt/media/image13.wmf" ContentType="image/x-wmf"/>
  <Override PartName="/ppt/media/image2.gif" ContentType="image/gif"/>
  <Override PartName="/ppt/media/image7.gif" ContentType="image/gif"/>
  <Override PartName="/ppt/media/image8.gif" ContentType="image/gif"/>
  <Override PartName="/ppt/media/image12.wmf" ContentType="image/x-wmf"/>
  <Override PartName="/ppt/media/image4.png" ContentType="image/png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414-FD8A-42A5-8331-760C1A41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82D-5448-4169-98D8-43121929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2C3-723E-4FA0-B442-D95356CB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161-AD29-4FA0-B0F4-6F8F531B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6DB8-CF82-4CEA-81CB-E923C474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F205-9810-413B-9763-F97CC54F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FF81-B40E-467E-9491-3186F5C1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F6F9-EA21-4A3C-BBA6-BC903B01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84A2-1E31-47B7-8817-62281900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0CE4-64CF-43DB-897F-F4E7B1A1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C69C-C449-4527-A276-103502A2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595-7615-49C8-B179-A59728E8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86D9-26E6-4D30-8D17-36C015FE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FB85-A4E8-45D3-BC2C-44C7C1D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2BEF-E8BE-40F1-B653-9024225A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690A-B58F-48AB-805A-52AEF90C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BBBD-1768-45E1-93FD-E7FCCCD6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866-E3E0-4B72-B39D-0D76AF17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C9B-AE3B-452B-82A3-886C7239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175-377C-4444-946B-F2DB5DC2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C2F-AD60-4C38-9B9E-43CA19ED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44F-50BA-42DB-A2E2-A4F0A098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E7A-08A1-4A64-87FB-44C2F859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7E9-6ED4-43CC-875D-77C8A9DB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4724-93F3-46BA-AFEE-B17EE0C6A8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6693-4FCB-4FC3-881C-5F9CA93140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 Black"/>
              </a:rPr>
              <a:t>МБОУ Игримская СОШ №1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43000" y="13712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99ff33"/>
                </a:solidFill>
                <a:latin typeface="Arial Black"/>
              </a:rPr>
              <a:t>Выбор профессии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Arial Black"/>
              </a:rPr>
              <a:t>                        </a:t>
            </a:r>
            <a:r>
              <a:rPr b="0" lang="ru-RU" sz="2400" spc="-1" strike="noStrike">
                <a:solidFill>
                  <a:srgbClr val="99ff33"/>
                </a:solidFill>
                <a:latin typeface="Arial Black"/>
              </a:rPr>
              <a:t>Учитель Б.Р.Ниязов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Человек - приро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Животновод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Садовн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Ферме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Геолог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етерина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Агроно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3" name="Picture 11" descr="C:\Users\English\Desktop\СТОЛ\Documents\Фотки. Времена года\Весна\наш скворечник.JPG"/>
          <p:cNvPicPr/>
          <p:nvPr/>
        </p:nvPicPr>
        <p:blipFill>
          <a:blip r:embed="rId1"/>
          <a:stretch/>
        </p:blipFill>
        <p:spPr>
          <a:xfrm>
            <a:off x="4114800" y="1981080"/>
            <a:ext cx="38606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Успешные профессионалы, т.е. люди, довольные своей профессией, сформулировали три главных требования, которым она должна удовлетворять: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3504960"/>
            <a:ext cx="8915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-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офессия должна быть интересной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- профессия должна соответствовать  собственным возможностям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- профессия должна быть такой, чтобы можно было найти работу по специальност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ыбор профессии, или профессиональное самоопределение основа самоутверждения человека в обществе, одно из главных решений в жизни.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ыбор профессии определяет очень многое, а именно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: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кем быть, к какой социальной группе принадлежать, где и с кем работать, какой стиль жизни определять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2811240"/>
            <a:ext cx="914400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Black"/>
              </a:rPr>
              <a:t>Профессия – род трудовой деятельности, требующий определённой подготовки и являющийся обычно источником существования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228600" y="380880"/>
            <a:ext cx="85345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офессия -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латинское </a:t>
            </a:r>
            <a:r>
              <a:rPr b="0" i="1" lang="en-US" sz="4800" spc="-1" strike="noStrike">
                <a:solidFill>
                  <a:srgbClr val="ff3300"/>
                </a:solidFill>
                <a:latin typeface="Arial"/>
              </a:rPr>
              <a:t>professio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- объявляю своим делом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 Black"/>
              </a:rPr>
              <a:t>Профессий и специальностей более 6000. Какую выбрать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Picture 4" descr="komp"/>
          <p:cNvPicPr/>
          <p:nvPr/>
        </p:nvPicPr>
        <p:blipFill>
          <a:blip r:embed="rId1"/>
          <a:stretch/>
        </p:blipFill>
        <p:spPr>
          <a:xfrm>
            <a:off x="3852720" y="2535120"/>
            <a:ext cx="1463760" cy="1177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polic"/>
          <p:cNvPicPr/>
          <p:nvPr/>
        </p:nvPicPr>
        <p:blipFill>
          <a:blip r:embed="rId2"/>
          <a:stretch/>
        </p:blipFill>
        <p:spPr>
          <a:xfrm>
            <a:off x="2133720" y="2209680"/>
            <a:ext cx="1201680" cy="13716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muz"/>
          <p:cNvPicPr/>
          <p:nvPr/>
        </p:nvPicPr>
        <p:blipFill>
          <a:blip r:embed="rId3"/>
          <a:stretch/>
        </p:blipFill>
        <p:spPr>
          <a:xfrm>
            <a:off x="228600" y="2743200"/>
            <a:ext cx="1663560" cy="1752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vopr"/>
          <p:cNvPicPr/>
          <p:nvPr/>
        </p:nvPicPr>
        <p:blipFill>
          <a:blip r:embed="rId4"/>
          <a:stretch/>
        </p:blipFill>
        <p:spPr>
          <a:xfrm>
            <a:off x="3429000" y="3733920"/>
            <a:ext cx="2743200" cy="1066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uchen"/>
          <p:cNvPicPr/>
          <p:nvPr/>
        </p:nvPicPr>
        <p:blipFill>
          <a:blip r:embed="rId5"/>
          <a:stretch/>
        </p:blipFill>
        <p:spPr>
          <a:xfrm>
            <a:off x="6934320" y="4267080"/>
            <a:ext cx="1676160" cy="1752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astron"/>
          <p:cNvPicPr/>
          <p:nvPr/>
        </p:nvPicPr>
        <p:blipFill>
          <a:blip r:embed="rId6"/>
          <a:stretch/>
        </p:blipFill>
        <p:spPr>
          <a:xfrm>
            <a:off x="68580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19"/>
          <p:cNvPicPr/>
          <p:nvPr/>
        </p:nvPicPr>
        <p:blipFill>
          <a:blip r:embed="rId7"/>
          <a:stretch/>
        </p:blipFill>
        <p:spPr>
          <a:xfrm>
            <a:off x="6477120" y="205740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1" descr="23"/>
          <p:cNvPicPr/>
          <p:nvPr/>
        </p:nvPicPr>
        <p:blipFill>
          <a:blip r:embed="rId8"/>
          <a:stretch/>
        </p:blipFill>
        <p:spPr>
          <a:xfrm>
            <a:off x="5334120" y="4343400"/>
            <a:ext cx="1447560" cy="2209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2" descr="box"/>
          <p:cNvPicPr/>
          <p:nvPr/>
        </p:nvPicPr>
        <p:blipFill>
          <a:blip r:embed="rId9"/>
          <a:stretch/>
        </p:blipFill>
        <p:spPr>
          <a:xfrm>
            <a:off x="3276720" y="4800600"/>
            <a:ext cx="14526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2120" y="3352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Чтобы определиться в мире профессий, нужно прежде всего найти своё место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Picture 4" descr="AG00011_"/>
          <p:cNvPicPr/>
          <p:nvPr/>
        </p:nvPicPr>
        <p:blipFill>
          <a:blip r:embed="rId1"/>
          <a:stretch/>
        </p:blipFill>
        <p:spPr>
          <a:xfrm>
            <a:off x="1752480" y="228600"/>
            <a:ext cx="51818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«</a:t>
            </a: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Если ты не знаешь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какую гавань держишь путь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то ни один ветер не будет для тебя попутным» Сенек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Деление профессий на психологические классы и типы условное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еловек - челове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Врач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Учитель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Психолог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Юрис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Продавец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Социальный работн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Picture 7" descr="J0090070"/>
          <p:cNvPicPr/>
          <p:nvPr/>
        </p:nvPicPr>
        <p:blipFill>
          <a:blip r:embed="rId1"/>
          <a:stretch/>
        </p:blipFill>
        <p:spPr>
          <a:xfrm>
            <a:off x="228600" y="1600200"/>
            <a:ext cx="325440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граммист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Экономис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Бухгалте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борщ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ереводч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сси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еловек – знаковая систем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Picture 10" descr="J0195384"/>
          <p:cNvPicPr/>
          <p:nvPr/>
        </p:nvPicPr>
        <p:blipFill>
          <a:blip r:embed="rId1"/>
          <a:stretch/>
        </p:blipFill>
        <p:spPr>
          <a:xfrm>
            <a:off x="728640" y="2192400"/>
            <a:ext cx="3608280" cy="29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еловек - техни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2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лотн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лесарь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карь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нтажн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Шве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варщ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нженер-конструкто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7" name="Picture 12" descr="j0240695"/>
          <p:cNvPicPr/>
          <p:nvPr/>
        </p:nvPicPr>
        <p:blipFill>
          <a:blip r:embed="rId1"/>
          <a:stretch/>
        </p:blipFill>
        <p:spPr>
          <a:xfrm>
            <a:off x="4716360" y="2747880"/>
            <a:ext cx="3525840" cy="33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 Black"/>
              </a:rPr>
              <a:t>Человек – художественный образ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Актё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Хореограф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Архитекто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Музыкан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Парикмахе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Фотограф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Picture 7" descr="J0086428"/>
          <p:cNvPicPr/>
          <p:nvPr/>
        </p:nvPicPr>
        <p:blipFill>
          <a:blip r:embed="rId1"/>
          <a:stretch/>
        </p:blipFill>
        <p:spPr>
          <a:xfrm>
            <a:off x="1606680" y="1981080"/>
            <a:ext cx="19717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glish</cp:lastModifiedBy>
  <dcterms:modified xsi:type="dcterms:W3CDTF">2017-02-10T08:27:1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