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14.png" ContentType="image/png"/>
  <Override PartName="/ppt/media/image9.wmf" ContentType="image/x-wmf"/>
  <Override PartName="/ppt/media/image5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30.gif" ContentType="image/gif"/>
  <Override PartName="/ppt/media/image23.png" ContentType="image/png"/>
  <Override PartName="/ppt/media/image13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6.png" ContentType="image/png"/>
  <Override PartName="/ppt/media/image27.png" ContentType="image/png"/>
  <Override PartName="/ppt/media/image1.wmf" ContentType="image/x-wmf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B3B-846D-4DD2-8CEA-5633A6C3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32F-C349-4015-A402-0611926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42B-BFCE-431C-9F90-C0C908D6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89A-350D-4313-9FC3-B9CC8798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2F3-7768-4AED-B8AC-D9C33DE9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5EB-3739-45DB-9B1D-3CA43F26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8AD-F228-439C-ABA6-3BF2F0EC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60B-15BF-41F3-801E-7D31113A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13760" cy="66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35B-687F-41B9-82E6-8E29A18E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0D2-DEC7-47F3-9555-9F2C19EC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9F8-069B-4B2D-980B-8703FC54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43B-318B-4A38-9D29-56A0CEE6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0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42CF4-9D86-4A97-8622-0DD1E786C29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5.png"/><Relationship Id="rId7" Type="http://schemas.openxmlformats.org/officeDocument/2006/relationships/image" Target="../media/image28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5.png"/><Relationship Id="rId7" Type="http://schemas.openxmlformats.org/officeDocument/2006/relationships/image" Target="../media/image28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2936880"/>
            <a:ext cx="64008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0000" y="539640"/>
            <a:ext cx="6769080" cy="63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«ПУТЕШЕ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ЗИМНЕМУ ЛЕС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УРОК РЕФЛЕК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Закрепление изученного в пределах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Козоногина Еле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ерхнесусканского филиала ГБОУ СОШ с.Таш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2065320" cy="170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75284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24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оставьте задачу  со словами: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) «на 3 меньше»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) «на 3 больше»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545080" cy="318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165744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12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338800" cy="52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3843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92360" y="692280"/>
            <a:ext cx="5546520" cy="5949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152360" y="863640"/>
            <a:ext cx="669636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 И З К У Л Ь Т М И Н У Т К А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3843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79640" y="431640"/>
            <a:ext cx="7632720" cy="644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8000" y="1700280"/>
            <a:ext cx="6072480" cy="432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285840"/>
            <a:ext cx="7000920" cy="13572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cap="sq" w="1908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00680" y="500040"/>
            <a:ext cx="2071440" cy="1000080"/>
          </a:xfrm>
          <a:prstGeom prst="ellipse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33cc"/>
                </a:solidFill>
                <a:latin typeface="Arial Black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2133720"/>
            <a:ext cx="1071720" cy="78552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Impact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360" y="2133720"/>
            <a:ext cx="1143000" cy="78552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Impact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3429000"/>
            <a:ext cx="107172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Impact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429000"/>
            <a:ext cx="114300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Impact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4581360"/>
            <a:ext cx="107172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Impact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4581360"/>
            <a:ext cx="114300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Impact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200" y="142920"/>
            <a:ext cx="857520" cy="857160"/>
          </a:xfrm>
          <a:prstGeom prst="ellipse">
            <a:avLst/>
          </a:prstGeom>
          <a:solidFill>
            <a:srgbClr val="ffff00"/>
          </a:solidFill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1720" y="571680"/>
            <a:ext cx="857160" cy="2854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6080" y="874800"/>
            <a:ext cx="554040" cy="62532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2960" y="1000080"/>
            <a:ext cx="357120" cy="10000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-16200" y="555120"/>
            <a:ext cx="245880" cy="334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26720" y="-16200"/>
            <a:ext cx="228600" cy="2998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2960" y="-16200"/>
            <a:ext cx="1440" cy="33480"/>
          </a:xfrm>
          <a:prstGeom prst="line">
            <a:avLst/>
          </a:prstGeom>
          <a:ln cap="sq"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41520" y="-14760"/>
            <a:ext cx="1440" cy="17316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46080" y="127080"/>
            <a:ext cx="839880" cy="15696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-15840" y="874800"/>
            <a:ext cx="371520" cy="76824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630600"/>
            <a:ext cx="2771640" cy="322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79640" y="1268280"/>
            <a:ext cx="6143760" cy="528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9360">
            <a:solidFill>
              <a:srgbClr val="33339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220500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d5a50"/>
                </a:solidFill>
                <a:latin typeface="Impact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205000"/>
            <a:ext cx="130680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Impact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3716280"/>
            <a:ext cx="122400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d5a50"/>
                </a:solidFill>
                <a:latin typeface="Impact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716280"/>
            <a:ext cx="1295640" cy="78732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Impact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5084640"/>
            <a:ext cx="122400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84640"/>
            <a:ext cx="129564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Impact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494172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d5a50"/>
                </a:solidFill>
                <a:latin typeface="Impact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57240" y="0"/>
            <a:ext cx="6286680" cy="128592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9040" y="214200"/>
            <a:ext cx="2214720" cy="1000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Impact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42920"/>
            <a:ext cx="857520" cy="857160"/>
          </a:xfrm>
          <a:prstGeom prst="ellipse">
            <a:avLst/>
          </a:prstGeom>
          <a:solidFill>
            <a:srgbClr val="ffff00"/>
          </a:solidFill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71720" y="571680"/>
            <a:ext cx="857160" cy="2854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874800"/>
            <a:ext cx="554040" cy="62532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2960" y="1000080"/>
            <a:ext cx="357120" cy="10000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-15840" y="874800"/>
            <a:ext cx="371520" cy="12682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-16200" y="555120"/>
            <a:ext cx="245880" cy="334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6720" y="-16200"/>
            <a:ext cx="228600" cy="2998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42960" y="-16200"/>
            <a:ext cx="1440" cy="33480"/>
          </a:xfrm>
          <a:prstGeom prst="line">
            <a:avLst/>
          </a:prstGeom>
          <a:ln cap="sq"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1520" y="-14760"/>
            <a:ext cx="1440" cy="17316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46080" y="127080"/>
            <a:ext cx="839880" cy="15696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630600"/>
            <a:ext cx="2771640" cy="322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0000" y="1628640"/>
            <a:ext cx="2422440" cy="381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2867040" cy="3240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БОТА В ПА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8360" y="1628280"/>
            <a:ext cx="698328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2924280"/>
            <a:ext cx="1214280" cy="863640"/>
          </a:xfrm>
          <a:prstGeom prst="rect">
            <a:avLst/>
          </a:prstGeom>
          <a:solidFill>
            <a:srgbClr val="00cc99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5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55736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429264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292428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155736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429264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29264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429264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155736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155736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58920" y="2409840"/>
            <a:ext cx="1440" cy="525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989000"/>
            <a:ext cx="936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989000"/>
            <a:ext cx="93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1989000"/>
            <a:ext cx="863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0720" y="242100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0720" y="3789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16480" y="4653000"/>
            <a:ext cx="9590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28840" y="4724280"/>
            <a:ext cx="9586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97200" y="4724280"/>
            <a:ext cx="10303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58920" y="3849480"/>
            <a:ext cx="1440" cy="453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2924280"/>
            <a:ext cx="1214280" cy="863640"/>
          </a:xfrm>
          <a:prstGeom prst="rect">
            <a:avLst/>
          </a:prstGeom>
          <a:solidFill>
            <a:srgbClr val="00cc99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5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155736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429264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292428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155736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6360" y="429264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429264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7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360" y="429264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155736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155736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58920" y="2409840"/>
            <a:ext cx="1440" cy="525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1989000"/>
            <a:ext cx="936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1989000"/>
            <a:ext cx="93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00720" y="1989000"/>
            <a:ext cx="863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0720" y="242100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40720" y="3789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16480" y="4653000"/>
            <a:ext cx="9590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128840" y="4724280"/>
            <a:ext cx="9586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97200" y="4724280"/>
            <a:ext cx="10303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58920" y="3849480"/>
            <a:ext cx="1440" cy="453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1428480" cy="1728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1357560" cy="1297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771640" y="299736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157176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8366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0 – 3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98900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 + 3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76500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184464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306864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 –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2997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429264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 –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4221000"/>
            <a:ext cx="4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760" y="54291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88272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 + 3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840360" y="660240"/>
            <a:ext cx="1440000" cy="1679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881600" y="1963800"/>
            <a:ext cx="24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 -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018200" y="202896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230960" y="1963800"/>
            <a:ext cx="19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3060720"/>
            <a:ext cx="30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 +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7091280" y="306072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9640" y="3060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84840" y="430380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 +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7020000" y="43196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164360" y="43038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99320" y="900000"/>
            <a:ext cx="18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73840" y="648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ш урок сей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уке посвящ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то математикой у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 любовью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79640" y="1655640"/>
            <a:ext cx="662436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1428480" cy="1728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1357560" cy="1297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771640" y="299736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1571760" cy="1513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8366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3 – 3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97964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0 + 7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720720"/>
            <a:ext cx="12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9640" y="196380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60720"/>
            <a:ext cx="30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8 – 1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3640" y="2997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429264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4 –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2600" y="4319640"/>
            <a:ext cx="106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760" y="54291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88272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5 + 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840360" y="660240"/>
            <a:ext cx="1440000" cy="167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00720" y="196380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7 -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7018200" y="202896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020000" y="1979640"/>
            <a:ext cx="19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3060720"/>
            <a:ext cx="33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 +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091280" y="306072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380360" y="3060720"/>
            <a:ext cx="147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43038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0 -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4360" y="4319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8240" y="882720"/>
            <a:ext cx="18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1440" y="4202280"/>
            <a:ext cx="1619280" cy="1557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512640"/>
            <a:ext cx="608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ови ошиб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162864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+1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1341360"/>
            <a:ext cx="251928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+1=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285264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7-1=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56000" y="278136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9+1=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429264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6+1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414972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8-1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5516640"/>
            <a:ext cx="302436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5516640"/>
            <a:ext cx="302436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9+1=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84796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3571920" cy="3265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76360" y="105264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eea"/>
                </a:solidFill>
                <a:latin typeface="Pushkin"/>
              </a:rPr>
              <a:t>Спасибо за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eea"/>
                </a:solidFill>
                <a:latin typeface="Pushkin"/>
              </a:rPr>
              <a:t>рабо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82472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572000" cy="344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696360" cy="408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1378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2060640"/>
            <a:ext cx="64944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060640"/>
            <a:ext cx="64944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2060640"/>
            <a:ext cx="64908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2060640"/>
            <a:ext cx="64908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67640" y="2060640"/>
            <a:ext cx="64944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2060640"/>
            <a:ext cx="64908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2060640"/>
            <a:ext cx="64944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060640"/>
            <a:ext cx="64944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2060640"/>
            <a:ext cx="64944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2060640"/>
            <a:ext cx="64944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16000" y="3024360"/>
            <a:ext cx="6121440" cy="344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ить число 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ить число 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а при сложении называются: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сумму чисе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2384280" cy="246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561080" cy="5718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92720" y="2492280"/>
            <a:ext cx="259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   ДЕДА   МО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5:51:01Z</dcterms:created>
  <dc:creator>мои документы</dc:creator>
  <dc:description/>
  <dc:language>en-US</dc:language>
  <cp:lastModifiedBy>мои документы</cp:lastModifiedBy>
  <dcterms:modified xsi:type="dcterms:W3CDTF">2013-04-26T15:52:28Z</dcterms:modified>
  <cp:revision>27</cp:revision>
  <dc:subject/>
  <dc:title>1 класс МАТЕМАТИКА  </dc:title>
</cp:coreProperties>
</file>