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A44-111E-4C4D-A005-E5C5FB2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7AA-A9EE-42CB-96EE-C5A6597C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8EA-4A27-4918-87E8-3A973EC5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691-CEA8-43A3-B8F3-F2C459D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855F-77B4-4440-9298-3D265EAE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BEE-BFE9-45AC-9D2B-0C84B68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42C9-53D0-41B4-B01A-2117DB0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AFD-4E19-4A27-8E7F-1367A093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464-EF56-45C2-AC68-D398DD6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42B-3A61-469A-83FA-0ACCC29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494-7117-4214-83E9-F697B1A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A21-C069-4FFD-84BC-7A10D49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1B4E-9E78-4119-B624-F531B3A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060A-C7B8-4B9A-92B6-7229689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245E-F469-460D-9B8E-E7E9BC1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97DA-5B94-43E8-B86D-A7EB49D6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884A-72C6-40ED-831B-E96ABFEE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B04-C28B-4803-A8CA-1284F29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57F-936F-4387-9EBF-A1FF597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DE7-56F0-49AE-B031-3CC65A8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DD5-2F3A-4B4B-B5E1-C67652A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E29-A18D-4FA7-93AA-A2AC75D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65E-A094-4F58-864A-433E7DB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FE5-0A61-4729-87E4-3EA6840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34C3-F730-4DD4-B668-F3234E22D19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77D-0534-4CC4-BE47-E0A9B667A0A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00"/>
                </a:solidFill>
                <a:latin typeface="Times New Roman"/>
              </a:rPr>
              <a:t>Выполнил : Волков Иван</a:t>
            </a:r>
            <a:br>
              <a:rPr sz="2800"/>
            </a:br>
            <a:r>
              <a:rPr b="0" i="1" lang="ru-RU" sz="2800" spc="-1" strike="noStrike">
                <a:solidFill>
                  <a:srgbClr val="cccc00"/>
                </a:solidFill>
                <a:latin typeface="Times New Roman"/>
              </a:rPr>
              <a:t>Руководитель: Гарипов Х.М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cc00"/>
                </a:solidFill>
                <a:latin typeface="Times New Roman"/>
              </a:rPr>
              <a:t>Тема: </a:t>
            </a:r>
            <a:br>
              <a:rPr sz="7200"/>
            </a:br>
            <a:r>
              <a:rPr b="1" i="1" lang="ru-RU" sz="7200" spc="-1" strike="noStrike">
                <a:solidFill>
                  <a:srgbClr val="cccc00"/>
                </a:solidFill>
                <a:latin typeface="Times New Roman"/>
              </a:rPr>
              <a:t>памятники Лянтор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DSC00929"/>
          <p:cNvPicPr/>
          <p:nvPr/>
        </p:nvPicPr>
        <p:blipFill>
          <a:blip r:embed="rId1"/>
          <a:stretch/>
        </p:blipFill>
        <p:spPr>
          <a:xfrm>
            <a:off x="792000" y="858960"/>
            <a:ext cx="1360800" cy="148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00923"/>
          <p:cNvPicPr/>
          <p:nvPr/>
        </p:nvPicPr>
        <p:blipFill>
          <a:blip r:embed="rId2"/>
          <a:stretch/>
        </p:blipFill>
        <p:spPr>
          <a:xfrm>
            <a:off x="396720" y="3035160"/>
            <a:ext cx="1724040" cy="191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G_4391"/>
          <p:cNvPicPr/>
          <p:nvPr/>
        </p:nvPicPr>
        <p:blipFill>
          <a:blip r:embed="rId3"/>
          <a:stretch/>
        </p:blipFill>
        <p:spPr>
          <a:xfrm>
            <a:off x="6980400" y="2541600"/>
            <a:ext cx="167004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G_927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17672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мориальные доски на зданиях шко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и жилого дома № 29 в 4 микрорайо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янтора напоминают лянторцам име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ев первой Чеченской воен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мпании. При исполнении воинск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га на территории Кавказа погиб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хаил Засыпкин и Анатолий Кузнец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1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240912"/>
          <p:cNvPicPr/>
          <p:nvPr/>
        </p:nvPicPr>
        <p:blipFill>
          <a:blip r:embed="rId2"/>
          <a:stretch/>
        </p:blipFill>
        <p:spPr>
          <a:xfrm>
            <a:off x="4932360" y="1197000"/>
            <a:ext cx="2735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историческим событи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территории Хантыйск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нографического музея под открыт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бом установлена стела Аллеи Боев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вы. На гранитной плите высеч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на 18 пимских солдат, 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нувшихся с фронта в годы Вели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ечественной войны (1941 – 1945). АвторЗакиров Азат Асхато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MG_4390"/>
          <p:cNvPicPr/>
          <p:nvPr/>
        </p:nvPicPr>
        <p:blipFill>
          <a:blip r:embed="rId1"/>
          <a:stretch/>
        </p:blipFill>
        <p:spPr>
          <a:xfrm>
            <a:off x="2195640" y="1197000"/>
            <a:ext cx="4824360" cy="410364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историческим событи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1 сентября 2012 г. в Лянторе переверн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е одну страницу истории: в торжеств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тановке презентовали долгожда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 воинской славы. На поста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двигли ветерана – 122 миллиметров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убицу М-30, образца 1938 года – лучш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ец советской ствольной артилл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иода Второй мировой вой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IMG_4371"/>
          <p:cNvPicPr/>
          <p:nvPr/>
        </p:nvPicPr>
        <p:blipFill>
          <a:blip r:embed="rId1"/>
          <a:stretch/>
        </p:blipFill>
        <p:spPr>
          <a:xfrm>
            <a:off x="826920" y="620640"/>
            <a:ext cx="2449800" cy="309564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  <p:pic>
        <p:nvPicPr>
          <p:cNvPr id="162" name="Picture 6" descr="IMG_4369"/>
          <p:cNvPicPr/>
          <p:nvPr/>
        </p:nvPicPr>
        <p:blipFill>
          <a:blip r:embed="rId2"/>
          <a:stretch/>
        </p:blipFill>
        <p:spPr>
          <a:xfrm>
            <a:off x="2771640" y="3738600"/>
            <a:ext cx="2305080" cy="249876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  <p:pic>
        <p:nvPicPr>
          <p:cNvPr id="163" name="Picture 7" descr="IMG_4328"/>
          <p:cNvPicPr/>
          <p:nvPr/>
        </p:nvPicPr>
        <p:blipFill>
          <a:blip r:embed="rId3"/>
          <a:stretch/>
        </p:blipFill>
        <p:spPr>
          <a:xfrm>
            <a:off x="4427640" y="549360"/>
            <a:ext cx="3600360" cy="307476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истории нашего город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е впечатление о Лянторе м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ить еще не достигнув его границ.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ъезде в город нас встречает величестве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ла из белого камня. Ее венчает гер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один из ярких символов наш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а. В день свадьбы сюда с буке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езжают молодож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SC00929"/>
          <p:cNvPicPr/>
          <p:nvPr/>
        </p:nvPicPr>
        <p:blipFill>
          <a:blip r:embed="rId1"/>
          <a:stretch/>
        </p:blipFill>
        <p:spPr>
          <a:xfrm>
            <a:off x="3203640" y="1125360"/>
            <a:ext cx="3240000" cy="4607280"/>
          </a:xfrm>
          <a:prstGeom prst="rect">
            <a:avLst/>
          </a:prstGeom>
          <a:ln w="1080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истории нашего город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естиметровая памятная стела на город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щади была установлена 13 лет назад. Д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31 г., отлитая на бронзовой доске сте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ает год возникновения Лянтора, к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еленного пунк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того, на барельефе отл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ы нефтяников – покорителей Север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йги. Стела привязана к историческ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шлому города, объединяющему в себе е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ническую историю и вехи нефтя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660066"/>
                </a:solidFill>
                <a:uFillTx/>
                <a:latin typeface="Comic Sans MS"/>
              </a:rPr>
              <a:t>Цель исследования: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знакомиться с памятниками  родного гор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знать о каких людях, событиях рассказывают лянторские памятн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ставрация стелы на городской площади, лето 2011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52269390c46f911951f0454e8ca6d6ec"/>
          <p:cNvPicPr/>
          <p:nvPr/>
        </p:nvPicPr>
        <p:blipFill>
          <a:blip r:embed="rId1"/>
          <a:stretch/>
        </p:blipFill>
        <p:spPr>
          <a:xfrm>
            <a:off x="2843280" y="1628640"/>
            <a:ext cx="3241440" cy="331308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IMG_3855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424836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трудовому подвиг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ство  скульптурной  композиции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ьцевой развязке  по ул. Магистраль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адлежит творческому союзу художников  Андр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евича Комфа и Владимира Ивановича  Юмат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собственноручно варили металлические труб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ытаясь воссоздать задумку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нтан нефти, расширяющийся вверх по спир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жняя часть фонтана обрамлена 12угольником,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м размещены информационные щиты (эмблем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то, флаги и т. 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ла смонтирована в 1997 году, к 5-летию гор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00925"/>
          <p:cNvPicPr/>
          <p:nvPr/>
        </p:nvPicPr>
        <p:blipFill>
          <a:blip r:embed="rId1"/>
          <a:stretch/>
        </p:blipFill>
        <p:spPr>
          <a:xfrm>
            <a:off x="2340000" y="260280"/>
            <a:ext cx="4699080" cy="626436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трудовому подвиг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 – город, рожденный неф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ая часть населения, наши мамы и пап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ют на нефтепромысле. Поэт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удивительно, что в центре города сто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 лянторской нефти. Это макет станции – качалки нефтя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-то добывала «черное золото» из не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емли, а сегодня украшает кольцевую развяз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иц Назаргалеева и Солгасия. Установлен в 2005г., к 25-летию НГДУ «Л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IMG_4897"/>
          <p:cNvPicPr/>
          <p:nvPr/>
        </p:nvPicPr>
        <p:blipFill>
          <a:blip r:embed="rId1"/>
          <a:stretch/>
        </p:blipFill>
        <p:spPr>
          <a:xfrm>
            <a:off x="2916360" y="1773360"/>
            <a:ext cx="3095640" cy="3671640"/>
          </a:xfrm>
          <a:prstGeom prst="rect">
            <a:avLst/>
          </a:prstGeom>
          <a:ln w="1080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4" descr="карта Лянтора (вся финал 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8000"/>
                </a:solidFill>
                <a:uFillTx/>
                <a:latin typeface="Comic Sans MS"/>
              </a:rPr>
              <a:t>Вывод: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ив прогулку по городу Лянтор, 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читал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амятник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вященных выдающимся людя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жным историческим событиям, ист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его населенного пункта, трудов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вигу нефтяни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небольшого молодого города – нема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на что посмотреть, есть куда сводить мо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ороднюю бабуш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 город – с историе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8000"/>
                </a:solidFill>
                <a:uFillTx/>
                <a:latin typeface="Comic Sans MS"/>
              </a:rPr>
              <a:t>Литература: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амятные даты города Лянтор. 2012 год». Календарь, МУК «ЛЦБС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женедельник «Лянторская газета», №№30, 37 за 2011 г.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8 за 2012 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нет источ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008000"/>
                </a:solidFill>
                <a:uFillTx/>
                <a:latin typeface="Comic Sans MS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1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1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Объект исследования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: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НИ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А ЛЯНТ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IMG_4369"/>
          <p:cNvPicPr/>
          <p:nvPr/>
        </p:nvPicPr>
        <p:blipFill>
          <a:blip r:embed="rId1"/>
          <a:stretch/>
        </p:blipFill>
        <p:spPr>
          <a:xfrm>
            <a:off x="5508720" y="3645000"/>
            <a:ext cx="23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4897"/>
          <p:cNvPicPr/>
          <p:nvPr/>
        </p:nvPicPr>
        <p:blipFill>
          <a:blip r:embed="rId2"/>
          <a:stretch/>
        </p:blipFill>
        <p:spPr>
          <a:xfrm>
            <a:off x="1332000" y="364500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Задачи исслед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йти и прочитать публикации о памятниках и памятных местах города Лянтор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бобщить материал,собранный при проведении исследован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ить пеший   маршрут для моей иногородней бабушки Людмилы Николаевны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АМЯТНИК 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) скульптурное и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хитектурное сооружение в памя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о-либо или чего-либо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) сохранившийся предмет культур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шл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из словаря С. И. Ожегов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2050920" y="0"/>
            <a:ext cx="4826160" cy="1773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мятники Лянто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свяще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0" y="4581360"/>
            <a:ext cx="3995640" cy="151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рудовому подвиг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фтя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265000" y="2631240"/>
            <a:ext cx="3005640" cy="101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Unicode MS"/>
              </a:rPr>
              <a:t>важным историческим событи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0" y="2276640"/>
            <a:ext cx="3995640" cy="143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Unicode MS"/>
              </a:rPr>
              <a:t>выдающимся люд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788000" y="4581360"/>
            <a:ext cx="3960720" cy="151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стории нашего гор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2555640" y="1628640"/>
            <a:ext cx="647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5364000" y="1773360"/>
            <a:ext cx="64800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7"/>
          <p:cNvSpPr/>
          <p:nvPr/>
        </p:nvSpPr>
        <p:spPr>
          <a:xfrm flipH="1">
            <a:off x="2842920" y="1844640"/>
            <a:ext cx="165564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643280" y="1773360"/>
            <a:ext cx="1081080" cy="29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октября 2007 года на площади пер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анием НГДУ «Лянторнефть» состояло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ие мемориальной доски памя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хтара Бахтиганеевича Назаргале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го начальника НГДУ «Лянторнефть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_DSC0062"/>
          <p:cNvPicPr/>
          <p:nvPr/>
        </p:nvPicPr>
        <p:blipFill>
          <a:blip r:embed="rId1"/>
          <a:stretch/>
        </p:blipFill>
        <p:spPr>
          <a:xfrm>
            <a:off x="2843280" y="4869000"/>
            <a:ext cx="2233440" cy="1636560"/>
          </a:xfrm>
          <a:prstGeom prst="rect">
            <a:avLst/>
          </a:prstGeom>
          <a:ln w="1080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_DSC0062"/>
          <p:cNvPicPr/>
          <p:nvPr/>
        </p:nvPicPr>
        <p:blipFill>
          <a:blip r:embed="rId1"/>
          <a:stretch/>
        </p:blipFill>
        <p:spPr>
          <a:xfrm>
            <a:off x="1258920" y="620640"/>
            <a:ext cx="7200720" cy="5775480"/>
          </a:xfrm>
          <a:prstGeom prst="rect">
            <a:avLst/>
          </a:prstGeom>
          <a:ln w="1080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ские нефтяники свято чт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ессионалов с большой букв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лектив НГДУ «Лянторнефть» возд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ое заслугам Аркадия 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ножк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местителя начальника ЦИТС НГ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неф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о не стало в сентябре 2010-го, годом позже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е №2 4-го микрорайона, где до последн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ня с семьей проживал Аркадий Григорьеви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а установлена мемориальная дос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44:45Z</dcterms:created>
  <dc:creator>п</dc:creator>
  <dc:description/>
  <dc:language>en-US</dc:language>
  <cp:lastModifiedBy>k209</cp:lastModifiedBy>
  <dcterms:modified xsi:type="dcterms:W3CDTF">2017-02-10T06:51:14Z</dcterms:modified>
  <cp:revision>42</cp:revision>
  <dc:subject/>
  <dc:title>Тема:  памятники Лянтора</dc:title>
</cp:coreProperties>
</file>