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6234-5A43-497D-BD39-ADB8F356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BF94-4586-47F2-9222-9A5AEE24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33D5-1D85-4321-9A99-6F95EFB4B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ED8E-B822-489C-9A2D-9F5D73A1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33D9-F2BB-4569-921E-9BA53A0F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BAD4-5D6A-452C-A330-0238022C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9471-EB6F-4742-AB4D-003B5114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7D47-3B96-46AF-8D6B-98FB91DB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F65B-EB0B-45A3-AF21-D110A15E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0ECE-3260-47C9-80E8-B337B066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78C3-2A66-4DBF-A71D-EC19CFA0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C1ED-ED03-494F-AF61-3C4A6934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B2B5-6498-4AAB-9686-27AA71E8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BBD3-FC53-499D-8C04-EA048AA2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1777-FDDB-49A4-890E-0FBC15AA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BAFA-65AF-4B5A-B717-C371D7D7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CB0A-220E-498C-A62B-FE4C3ED92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3213-BF66-4553-9655-97446F24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28EF-088D-46CF-B1C0-B33BC430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C05A-2FF7-436F-86FE-4506CFE6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E98F-CD40-48DE-82F4-0FE67275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79D4-1417-4129-A603-1A20C078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D23A-CFE0-4D5E-A467-6EADFD14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14B3-5351-4827-8B77-D6F98291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F3D1-276B-4AAE-9814-56F55525C44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9204-BBEE-436A-9534-A82EB8DFBDD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5589360"/>
            <a:ext cx="77724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cc00"/>
                </a:solidFill>
                <a:latin typeface="Times New Roman"/>
              </a:rPr>
              <a:t>Выполнил : Волков Иван</a:t>
            </a:r>
            <a:br>
              <a:rPr sz="2800"/>
            </a:br>
            <a:r>
              <a:rPr b="0" i="1" lang="ru-RU" sz="2800" spc="-1" strike="noStrike">
                <a:solidFill>
                  <a:srgbClr val="cccc00"/>
                </a:solidFill>
                <a:latin typeface="Times New Roman"/>
              </a:rPr>
              <a:t>Руководитель: Гарипов Х.М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619280" y="189000"/>
            <a:ext cx="64008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ccc00"/>
                </a:solidFill>
                <a:latin typeface="Times New Roman"/>
              </a:rPr>
              <a:t>Тема: </a:t>
            </a:r>
            <a:br>
              <a:rPr sz="7200"/>
            </a:br>
            <a:r>
              <a:rPr b="1" i="1" lang="ru-RU" sz="7200" spc="-1" strike="noStrike">
                <a:solidFill>
                  <a:srgbClr val="cccc00"/>
                </a:solidFill>
                <a:latin typeface="Times New Roman"/>
              </a:rPr>
              <a:t>памятники Лянтора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4" descr="DSC00929"/>
          <p:cNvPicPr/>
          <p:nvPr/>
        </p:nvPicPr>
        <p:blipFill>
          <a:blip r:embed="rId1"/>
          <a:stretch/>
        </p:blipFill>
        <p:spPr>
          <a:xfrm>
            <a:off x="792000" y="858960"/>
            <a:ext cx="1360800" cy="1487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DSC00923"/>
          <p:cNvPicPr/>
          <p:nvPr/>
        </p:nvPicPr>
        <p:blipFill>
          <a:blip r:embed="rId2"/>
          <a:stretch/>
        </p:blipFill>
        <p:spPr>
          <a:xfrm>
            <a:off x="396720" y="3035160"/>
            <a:ext cx="1724040" cy="1914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IMG_4391"/>
          <p:cNvPicPr/>
          <p:nvPr/>
        </p:nvPicPr>
        <p:blipFill>
          <a:blip r:embed="rId3"/>
          <a:stretch/>
        </p:blipFill>
        <p:spPr>
          <a:xfrm>
            <a:off x="6980400" y="2541600"/>
            <a:ext cx="167004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IMG_9278"/>
          <p:cNvPicPr/>
          <p:nvPr/>
        </p:nvPicPr>
        <p:blipFill>
          <a:blip r:embed="rId1"/>
          <a:stretch/>
        </p:blipFill>
        <p:spPr>
          <a:xfrm>
            <a:off x="1979640" y="1557360"/>
            <a:ext cx="4824360" cy="4176720"/>
          </a:xfrm>
          <a:prstGeom prst="rect">
            <a:avLst/>
          </a:prstGeom>
          <a:ln w="10800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8000"/>
                </a:solidFill>
                <a:uFillTx/>
                <a:latin typeface="Arial"/>
              </a:rPr>
              <a:t>Памятники выдающимся людям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емориальные доски на зданиях школ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 и жилого дома № 29 в 4 микрорайон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янтора напоминают лянторцам име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ероев первой Чеченской военн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мпании. При исполнении воинског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лга на территории Кавказа погибл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ихаил Засыпкин и Анатолий Кузнецов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2159280" cy="4680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240912"/>
          <p:cNvPicPr/>
          <p:nvPr/>
        </p:nvPicPr>
        <p:blipFill>
          <a:blip r:embed="rId2"/>
          <a:stretch/>
        </p:blipFill>
        <p:spPr>
          <a:xfrm>
            <a:off x="4932360" y="1197000"/>
            <a:ext cx="27352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8000"/>
                </a:solidFill>
                <a:uFillTx/>
                <a:latin typeface="Arial"/>
              </a:rPr>
              <a:t>Памятники историческим событиям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территории Хантыйског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нографического музея под открыты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бом установлена стела Аллеи Боев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лавы. На гранитной плите высечен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мена 18 пимских солдат, н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рнувшихся с фронта в годы Велик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ечественной войны (1941 – 1945). АвторЗакиров Азат Асхатови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IMG_4390"/>
          <p:cNvPicPr/>
          <p:nvPr/>
        </p:nvPicPr>
        <p:blipFill>
          <a:blip r:embed="rId1"/>
          <a:stretch/>
        </p:blipFill>
        <p:spPr>
          <a:xfrm>
            <a:off x="2195640" y="1197000"/>
            <a:ext cx="4824360" cy="4103640"/>
          </a:xfrm>
          <a:prstGeom prst="rect">
            <a:avLst/>
          </a:prstGeom>
          <a:ln w="10800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8000"/>
                </a:solidFill>
                <a:uFillTx/>
                <a:latin typeface="Arial"/>
              </a:rPr>
              <a:t>Памятники историческим событиям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1 сентября 2012 г. в Лянторе перевернул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ще одну страницу истории: в торжеств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становке презентовали долгождан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мятник воинской славы. На постамен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двигли ветерана – 122 миллиметрову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аубицу М-30, образца 1938 года – лучш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разец советской ствольной артиллер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иода Второй мировой войн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IMG_4371"/>
          <p:cNvPicPr/>
          <p:nvPr/>
        </p:nvPicPr>
        <p:blipFill>
          <a:blip r:embed="rId1"/>
          <a:stretch/>
        </p:blipFill>
        <p:spPr>
          <a:xfrm>
            <a:off x="826920" y="620640"/>
            <a:ext cx="2449800" cy="3095640"/>
          </a:xfrm>
          <a:prstGeom prst="rect">
            <a:avLst/>
          </a:prstGeom>
          <a:ln w="108000">
            <a:solidFill>
              <a:srgbClr val="ff0000"/>
            </a:solidFill>
            <a:miter/>
          </a:ln>
        </p:spPr>
      </p:pic>
      <p:pic>
        <p:nvPicPr>
          <p:cNvPr id="162" name="Picture 6" descr="IMG_4369"/>
          <p:cNvPicPr/>
          <p:nvPr/>
        </p:nvPicPr>
        <p:blipFill>
          <a:blip r:embed="rId2"/>
          <a:stretch/>
        </p:blipFill>
        <p:spPr>
          <a:xfrm>
            <a:off x="2771640" y="3738600"/>
            <a:ext cx="2305080" cy="2498760"/>
          </a:xfrm>
          <a:prstGeom prst="rect">
            <a:avLst/>
          </a:prstGeom>
          <a:ln w="108000">
            <a:solidFill>
              <a:srgbClr val="ff0000"/>
            </a:solidFill>
            <a:miter/>
          </a:ln>
        </p:spPr>
      </p:pic>
      <p:pic>
        <p:nvPicPr>
          <p:cNvPr id="163" name="Picture 7" descr="IMG_4328"/>
          <p:cNvPicPr/>
          <p:nvPr/>
        </p:nvPicPr>
        <p:blipFill>
          <a:blip r:embed="rId3"/>
          <a:stretch/>
        </p:blipFill>
        <p:spPr>
          <a:xfrm>
            <a:off x="4427640" y="549360"/>
            <a:ext cx="3600360" cy="3074760"/>
          </a:xfrm>
          <a:prstGeom prst="rect">
            <a:avLst/>
          </a:prstGeom>
          <a:ln w="10800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8000"/>
                </a:solidFill>
                <a:uFillTx/>
                <a:latin typeface="Arial"/>
              </a:rPr>
              <a:t>Памятники, посвященные истории нашего города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вое впечатление о Лянторе мож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ожить еще не достигнув его границ. 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ъезде в город нас встречает величественн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ела из белого камня. Ее венчает гер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янтор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 один из ярких символов нашег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рода. В день свадьбы сюда с букет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езжают молодоже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DSC00929"/>
          <p:cNvPicPr/>
          <p:nvPr/>
        </p:nvPicPr>
        <p:blipFill>
          <a:blip r:embed="rId1"/>
          <a:stretch/>
        </p:blipFill>
        <p:spPr>
          <a:xfrm>
            <a:off x="3203640" y="1125360"/>
            <a:ext cx="3240000" cy="4607280"/>
          </a:xfrm>
          <a:prstGeom prst="rect">
            <a:avLst/>
          </a:prstGeom>
          <a:ln w="10800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8000"/>
                </a:solidFill>
                <a:uFillTx/>
                <a:latin typeface="Arial"/>
              </a:rPr>
              <a:t>Памятники, посвященные истории нашего города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Шестиметровая памятная стела на городск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ощади была установлена 13 лет назад. Да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931 г., отлитая на бронзовой доске сте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означает год возникновения Лянтора, ка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селенного пункт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роме того, на барельефе отли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разы нефтяников – покорителей Северн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йги. Стела привязана к историческом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шлому города, объединяющему в себе е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ническую историю и вехи нефтян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воен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500" spc="-1" strike="noStrike" u="sng">
                <a:solidFill>
                  <a:srgbClr val="660066"/>
                </a:solidFill>
                <a:uFillTx/>
                <a:latin typeface="Comic Sans MS"/>
              </a:rPr>
              <a:t>Цель исследования:</a:t>
            </a:r>
            <a:endParaRPr b="1" lang="en-US" sz="55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знакомиться с памятниками  родного город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знать о каких людях, событиях рассказывают лянторские памятник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Реставрация стелы на городской площади, лето 2011 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4" descr="52269390c46f911951f0454e8ca6d6ec"/>
          <p:cNvPicPr/>
          <p:nvPr/>
        </p:nvPicPr>
        <p:blipFill>
          <a:blip r:embed="rId1"/>
          <a:stretch/>
        </p:blipFill>
        <p:spPr>
          <a:xfrm>
            <a:off x="2843280" y="1628640"/>
            <a:ext cx="3241440" cy="3313080"/>
          </a:xfrm>
          <a:prstGeom prst="rect">
            <a:avLst/>
          </a:prstGeom>
          <a:ln w="10800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IMG_3855"/>
          <p:cNvPicPr/>
          <p:nvPr/>
        </p:nvPicPr>
        <p:blipFill>
          <a:blip r:embed="rId1"/>
          <a:stretch/>
        </p:blipFill>
        <p:spPr>
          <a:xfrm>
            <a:off x="3419640" y="1125360"/>
            <a:ext cx="2304720" cy="4248360"/>
          </a:xfrm>
          <a:prstGeom prst="rect">
            <a:avLst/>
          </a:prstGeom>
          <a:ln w="10800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8000"/>
                </a:solidFill>
                <a:uFillTx/>
                <a:latin typeface="Arial"/>
              </a:rPr>
              <a:t>Памятники, посвященные трудовому подвигу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вторство  скульптурной  композиции 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ьцевой развязке  по ул. Магистральн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надлежит творческому союзу художников  Андре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ндреевича Комфа и Владимира Ивановича  Юматов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ни собственноручно варили металлические трубы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ытаясь воссоздать задумку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онтан нефти, расширяющийся вверх по спирал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ижняя часть фонтана обрамлена 12угольником, 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тором размещены информационные щиты (эмблемы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ото, флаги и т. д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ела смонтирована в 1997 году, к 5-летию горо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DSC00925"/>
          <p:cNvPicPr/>
          <p:nvPr/>
        </p:nvPicPr>
        <p:blipFill>
          <a:blip r:embed="rId1"/>
          <a:stretch/>
        </p:blipFill>
        <p:spPr>
          <a:xfrm>
            <a:off x="2340000" y="260280"/>
            <a:ext cx="4699080" cy="6264360"/>
          </a:xfrm>
          <a:prstGeom prst="rect">
            <a:avLst/>
          </a:prstGeom>
          <a:ln w="10800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8000"/>
                </a:solidFill>
                <a:uFillTx/>
                <a:latin typeface="Arial"/>
              </a:rPr>
              <a:t>Памятники, посвященные трудовому подвигу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янтор – город, рожденный нефть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ольшая часть населения, наши мамы и папы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ботают на нефтепромысле. Поэтом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удивительно, что в центре города стои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мятник лянторской нефти. Это макет станции – качалки нефтян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гда-то добывала «черное золото» из нед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емли, а сегодня украшает кольцевую развязк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лиц Назаргалеева и Солгасия. Установлен в 2005г., к 25-летию НГДУ «ЛН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IMG_4897"/>
          <p:cNvPicPr/>
          <p:nvPr/>
        </p:nvPicPr>
        <p:blipFill>
          <a:blip r:embed="rId1"/>
          <a:stretch/>
        </p:blipFill>
        <p:spPr>
          <a:xfrm>
            <a:off x="2916360" y="1773360"/>
            <a:ext cx="3095640" cy="3671640"/>
          </a:xfrm>
          <a:prstGeom prst="rect">
            <a:avLst/>
          </a:prstGeom>
          <a:ln w="10800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9" name="Picture 4" descr="карта Лянтора (вся финал 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 u="sng">
                <a:solidFill>
                  <a:srgbClr val="008000"/>
                </a:solidFill>
                <a:uFillTx/>
                <a:latin typeface="Comic Sans MS"/>
              </a:rPr>
              <a:t>Вывод:</a:t>
            </a:r>
            <a:endParaRPr b="1" lang="en-US" sz="5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вершив прогулку по городу Лянтор, 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считал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памятников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вященных выдающимся людям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ажным историческим событиям, истор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шего населенного пункта, трудовом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вигу нефтяник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ля небольшого молодого города – немал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ть на что посмотреть, есть куда сводить мо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огороднюю бабушку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ш город – с историей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 u="sng">
                <a:solidFill>
                  <a:srgbClr val="008000"/>
                </a:solidFill>
                <a:uFillTx/>
                <a:latin typeface="Comic Sans MS"/>
              </a:rPr>
              <a:t>Литература:</a:t>
            </a:r>
            <a:endParaRPr b="1" lang="en-US" sz="5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Памятные даты города Лянтор. 2012 год». Календарь, МУК «ЛЦБС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женедельник «Лянторская газета», №№30, 37 за 2011 г.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№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8 за 2012 г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нтернет источни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 u="sng">
                <a:solidFill>
                  <a:srgbClr val="008000"/>
                </a:solidFill>
                <a:uFillTx/>
                <a:latin typeface="Comic Sans MS"/>
              </a:rPr>
              <a:t>Спасибо за внимание!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2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1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1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32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8000"/>
                </a:solidFill>
                <a:uFillTx/>
                <a:latin typeface="Comic Sans MS"/>
              </a:rPr>
              <a:t>Объект исследования</a:t>
            </a:r>
            <a:r>
              <a:rPr b="1" lang="ru-RU" sz="4400" spc="-1" strike="noStrike" u="sng">
                <a:solidFill>
                  <a:srgbClr val="008000"/>
                </a:solidFill>
                <a:uFillTx/>
                <a:latin typeface="Arial"/>
              </a:rPr>
              <a:t>:</a:t>
            </a:r>
            <a:r>
              <a:rPr b="1" lang="ru-RU" sz="4400" spc="-1" strike="noStrike" u="sng">
                <a:solidFill>
                  <a:srgbClr val="008000"/>
                </a:solidFill>
                <a:uFillTx/>
                <a:latin typeface="Comic Sans MS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МЯТНИКИ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ОРОДА ЛЯНТО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5" descr="IMG_4369"/>
          <p:cNvPicPr/>
          <p:nvPr/>
        </p:nvPicPr>
        <p:blipFill>
          <a:blip r:embed="rId1"/>
          <a:stretch/>
        </p:blipFill>
        <p:spPr>
          <a:xfrm>
            <a:off x="5508720" y="3645000"/>
            <a:ext cx="2303280" cy="1944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IMG_4897"/>
          <p:cNvPicPr/>
          <p:nvPr/>
        </p:nvPicPr>
        <p:blipFill>
          <a:blip r:embed="rId2"/>
          <a:stretch/>
        </p:blipFill>
        <p:spPr>
          <a:xfrm>
            <a:off x="1332000" y="3645000"/>
            <a:ext cx="2376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8000"/>
                </a:solidFill>
                <a:uFillTx/>
                <a:latin typeface="Comic Sans MS"/>
              </a:rPr>
              <a:t>Задачи исследования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йти и прочитать публикации о памятниках и памятных местах города Лянтора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Обобщить материал,собранный при проведении исследования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оставить пеший   маршрут для моей иногородней бабушки Людмилы Николаевны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333000"/>
            <a:ext cx="8362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АМЯТНИК  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1) скульптурное ил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архитектурное сооружение в памят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ого-либо или чего-либо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2) сохранившийся предмет культур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рошлого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(из словаря С. И. Ожегова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2050920" y="0"/>
            <a:ext cx="4826160" cy="1773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амятники Лянтор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освящен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Oval 5"/>
          <p:cNvSpPr/>
          <p:nvPr/>
        </p:nvSpPr>
        <p:spPr>
          <a:xfrm>
            <a:off x="0" y="4581360"/>
            <a:ext cx="3995640" cy="1511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трудовому подвиг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ефтяни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265000" y="2631240"/>
            <a:ext cx="3005640" cy="10184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txBody>
          <a:bodyPr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Unicode MS"/>
              </a:rPr>
              <a:t>важным историческим события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Oval 7"/>
          <p:cNvSpPr/>
          <p:nvPr/>
        </p:nvSpPr>
        <p:spPr>
          <a:xfrm>
            <a:off x="0" y="2276640"/>
            <a:ext cx="3995640" cy="1439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Unicode MS"/>
              </a:rPr>
              <a:t>выдающимся людя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Oval 8"/>
          <p:cNvSpPr/>
          <p:nvPr/>
        </p:nvSpPr>
        <p:spPr>
          <a:xfrm>
            <a:off x="4788000" y="4581360"/>
            <a:ext cx="3960720" cy="1511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истории нашего горо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15"/>
          <p:cNvSpPr/>
          <p:nvPr/>
        </p:nvSpPr>
        <p:spPr>
          <a:xfrm flipH="1">
            <a:off x="2555640" y="1628640"/>
            <a:ext cx="64764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16"/>
          <p:cNvSpPr/>
          <p:nvPr/>
        </p:nvSpPr>
        <p:spPr>
          <a:xfrm>
            <a:off x="5364000" y="1773360"/>
            <a:ext cx="64800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17"/>
          <p:cNvSpPr/>
          <p:nvPr/>
        </p:nvSpPr>
        <p:spPr>
          <a:xfrm flipH="1">
            <a:off x="2842920" y="1844640"/>
            <a:ext cx="165564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18"/>
          <p:cNvSpPr/>
          <p:nvPr/>
        </p:nvSpPr>
        <p:spPr>
          <a:xfrm>
            <a:off x="4643280" y="1773360"/>
            <a:ext cx="1081080" cy="29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8000"/>
                </a:solidFill>
                <a:uFillTx/>
                <a:latin typeface="Arial"/>
              </a:rPr>
              <a:t>Памятники выдающимся людям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 октября 2007 года на площади пере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данием НГДУ «Лянторнефть» состоялос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крытие мемориальной доски памя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ухтара Бахтиганеевича Назаргалее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вого начальника НГДУ «Лянторнефть»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4" descr="_DSC0062"/>
          <p:cNvPicPr/>
          <p:nvPr/>
        </p:nvPicPr>
        <p:blipFill>
          <a:blip r:embed="rId1"/>
          <a:stretch/>
        </p:blipFill>
        <p:spPr>
          <a:xfrm>
            <a:off x="2843280" y="4869000"/>
            <a:ext cx="2233440" cy="1636560"/>
          </a:xfrm>
          <a:prstGeom prst="rect">
            <a:avLst/>
          </a:prstGeom>
          <a:ln w="10800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_DSC0062"/>
          <p:cNvPicPr/>
          <p:nvPr/>
        </p:nvPicPr>
        <p:blipFill>
          <a:blip r:embed="rId1"/>
          <a:stretch/>
        </p:blipFill>
        <p:spPr>
          <a:xfrm>
            <a:off x="1258920" y="620640"/>
            <a:ext cx="7200720" cy="5775480"/>
          </a:xfrm>
          <a:prstGeom prst="rect">
            <a:avLst/>
          </a:prstGeom>
          <a:ln w="10800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8000"/>
                </a:solidFill>
                <a:uFillTx/>
                <a:latin typeface="Arial"/>
              </a:rPr>
              <a:t>Памятники выдающимся людям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янторские нефтяники свято чту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фессионалов с большой букв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ллектив НГДУ «Лянторнефть» возда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лжное заслугам Аркадия Б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оножки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местителя начальника ЦИТС НГД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янторнеф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го не стало в сентябре 2010-го, годом позже 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ме №2 4-го микрорайона, где до последнег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ня с семьей проживал Аркадий Григорьевич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ыла установлена мемориальная доск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5:44:45Z</dcterms:created>
  <dc:creator>п</dc:creator>
  <dc:description/>
  <dc:language>en-US</dc:language>
  <cp:lastModifiedBy>k209</cp:lastModifiedBy>
  <dcterms:modified xsi:type="dcterms:W3CDTF">2017-02-10T06:51:14Z</dcterms:modified>
  <cp:revision>42</cp:revision>
  <dc:subject/>
  <dc:title>Тема:  памятники Лянтора</dc:title>
</cp:coreProperties>
</file>