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48F-DB7B-41E7-AEEA-933F70B3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C28-26B7-4B20-891C-CBC9F4C2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9BE-ECC0-405D-98FD-9AAB7F91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175-45FF-47D7-B6CB-77BE6EBA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DE88-540A-44BA-8D65-F84E9243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E769-453E-4F33-926E-AE4156ED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2736-275F-45B5-9EC0-DD19A786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E58E-5B1C-4856-9F56-4428C55D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8915-14A9-4B9A-A176-CFF63218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2CEB-6184-4991-8895-575AE4D9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5B9D-D975-480C-B22D-496EF757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0E5-3D91-46FE-8228-5B01C8E5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5A15-028D-44C7-BD47-C841F72B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17AA-8DE5-44DF-8FFB-1A2337B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AFA8-4217-4C4A-B47F-276717B0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000E-0934-4F92-992A-1F81B71D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9656-4A18-4191-8B8A-BC92D0DD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532-DFEC-4E5B-AEB8-4EDE7D60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DA5-EBCD-4DA5-8C30-E85E2771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6BF-BDF1-4628-8A66-AA44D46E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C8A-DBE3-4156-8931-78F44B41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1B8-0B08-46A9-806E-96EE9238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1C5-D19A-4F59-8E52-CD2329F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5B3-9A16-47F9-A818-4B79ACC0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89D4-945C-42B3-9936-3315EDB4C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94DA-C7F6-4BEF-A4CD-104E0DD8FA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image" Target="../media/image5.png"/><Relationship Id="rId4" Type="http://schemas.openxmlformats.org/officeDocument/2006/relationships/slide" Target="slide6.xml"/><Relationship Id="rId5" Type="http://schemas.openxmlformats.org/officeDocument/2006/relationships/image" Target="../media/image5.png"/><Relationship Id="rId6" Type="http://schemas.openxmlformats.org/officeDocument/2006/relationships/slide" Target="slide8.xml"/><Relationship Id="rId7" Type="http://schemas.openxmlformats.org/officeDocument/2006/relationships/image" Target="../media/image5.png"/><Relationship Id="rId8" Type="http://schemas.openxmlformats.org/officeDocument/2006/relationships/slide" Target="slide10.xml"/><Relationship Id="rId9" Type="http://schemas.openxmlformats.org/officeDocument/2006/relationships/image" Target="../media/image5.png"/><Relationship Id="rId10" Type="http://schemas.openxmlformats.org/officeDocument/2006/relationships/slide" Target="slide12.xml"/><Relationship Id="rId11" Type="http://schemas.openxmlformats.org/officeDocument/2006/relationships/image" Target="../media/image5.png"/><Relationship Id="rId12" Type="http://schemas.openxmlformats.org/officeDocument/2006/relationships/slide" Target="slide14.xml"/><Relationship Id="rId13" Type="http://schemas.openxmlformats.org/officeDocument/2006/relationships/image" Target="../media/image5.png"/><Relationship Id="rId14" Type="http://schemas.openxmlformats.org/officeDocument/2006/relationships/slide" Target="slide16.xml"/><Relationship Id="rId15" Type="http://schemas.openxmlformats.org/officeDocument/2006/relationships/image" Target="../media/image5.png"/><Relationship Id="rId16" Type="http://schemas.openxmlformats.org/officeDocument/2006/relationships/slide" Target="slide18.xml"/><Relationship Id="rId17" Type="http://schemas.openxmlformats.org/officeDocument/2006/relationships/image" Target="../media/image5.png"/><Relationship Id="rId18" Type="http://schemas.openxmlformats.org/officeDocument/2006/relationships/slide" Target="slide20.xml"/><Relationship Id="rId19" Type="http://schemas.openxmlformats.org/officeDocument/2006/relationships/image" Target="../media/image5.png"/><Relationship Id="rId20" Type="http://schemas.openxmlformats.org/officeDocument/2006/relationships/slide" Target="slide22.xml"/><Relationship Id="rId21" Type="http://schemas.openxmlformats.org/officeDocument/2006/relationships/image" Target="../media/image5.png"/><Relationship Id="rId22" Type="http://schemas.openxmlformats.org/officeDocument/2006/relationships/slide" Target="slide27.xml"/><Relationship Id="rId23" Type="http://schemas.openxmlformats.org/officeDocument/2006/relationships/image" Target="../media/image5.png"/><Relationship Id="rId24" Type="http://schemas.openxmlformats.org/officeDocument/2006/relationships/slide" Target="slide24.xml"/><Relationship Id="rId25" Type="http://schemas.openxmlformats.org/officeDocument/2006/relationships/image" Target="../media/image5.png"/><Relationship Id="rId26" Type="http://schemas.openxmlformats.org/officeDocument/2006/relationships/slide" Target="slide32.xml"/><Relationship Id="rId27" Type="http://schemas.openxmlformats.org/officeDocument/2006/relationships/image" Target="../media/image5.png"/><Relationship Id="rId28" Type="http://schemas.openxmlformats.org/officeDocument/2006/relationships/slide" Target="slide34.xml"/><Relationship Id="rId29" Type="http://schemas.openxmlformats.org/officeDocument/2006/relationships/image" Target="../media/image5.png"/><Relationship Id="rId30" Type="http://schemas.openxmlformats.org/officeDocument/2006/relationships/slide" Target="slide36.xml"/><Relationship Id="rId31" Type="http://schemas.openxmlformats.org/officeDocument/2006/relationships/image" Target="../media/image5.png"/><Relationship Id="rId32" Type="http://schemas.openxmlformats.org/officeDocument/2006/relationships/slide" Target="slide38.xml"/><Relationship Id="rId33" Type="http://schemas.openxmlformats.org/officeDocument/2006/relationships/image" Target="../media/image5.png"/><Relationship Id="rId34" Type="http://schemas.openxmlformats.org/officeDocument/2006/relationships/slide" Target="slide40.xml"/><Relationship Id="rId35" Type="http://schemas.openxmlformats.org/officeDocument/2006/relationships/image" Target="../media/image5.png"/><Relationship Id="rId36" Type="http://schemas.openxmlformats.org/officeDocument/2006/relationships/slide" Target="slide42.xml"/><Relationship Id="rId37" Type="http://schemas.openxmlformats.org/officeDocument/2006/relationships/image" Target="../media/image5.png"/><Relationship Id="rId38" Type="http://schemas.openxmlformats.org/officeDocument/2006/relationships/slide" Target="slide29.xml"/><Relationship Id="rId39" Type="http://schemas.openxmlformats.org/officeDocument/2006/relationships/image" Target="../media/image5.png"/><Relationship Id="rId40" Type="http://schemas.openxmlformats.org/officeDocument/2006/relationships/slide" Target="slide31.xml"/><Relationship Id="rId4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"/>
              </a:rPr>
              <a:t>Башни Московского Кремля</a:t>
            </a:r>
            <a:endParaRPr b="0" lang="en-US" sz="88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63" name="ALBINONI.MID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1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довзводн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Водовозная баш"/>
          <p:cNvPicPr/>
          <p:nvPr/>
        </p:nvPicPr>
        <p:blipFill>
          <a:blip r:embed="rId1"/>
          <a:stretch/>
        </p:blipFill>
        <p:spPr>
          <a:xfrm>
            <a:off x="2411280" y="981000"/>
            <a:ext cx="4608720" cy="532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ОВЗВОДНАЯ. В этой башне находилась водоподъемная машина для подачи воды в кремлевские дворцы и са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4">
            <a:hlinkClick r:id="rId2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мендант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Комендантская"/>
          <p:cNvPicPr/>
          <p:nvPr/>
        </p:nvPicPr>
        <p:blipFill>
          <a:blip r:embed="rId1"/>
          <a:stretch/>
        </p:blipFill>
        <p:spPr>
          <a:xfrm>
            <a:off x="2556000" y="1268280"/>
            <a:ext cx="41036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ЕНДАНТСКАЯ башня получила свое название в XIX веке, поскольку в здании рядом располагался комендант Москв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4">
            <a:hlinkClick r:id="rId2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стантино-Еленин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Константино-елен"/>
          <p:cNvPicPr/>
          <p:nvPr/>
        </p:nvPicPr>
        <p:blipFill>
          <a:blip r:embed="rId1"/>
          <a:stretch/>
        </p:blipFill>
        <p:spPr>
          <a:xfrm>
            <a:off x="2268360" y="1052640"/>
            <a:ext cx="4680000" cy="511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ТАНТИНОВО-ЕЛЕНИНСКАЯ башня своим названием обязана стоявшей здесь в древности церкви Константина и Еле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утафь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Кутафья"/>
          <p:cNvPicPr/>
          <p:nvPr/>
        </p:nvPicPr>
        <p:blipFill>
          <a:blip r:embed="rId1"/>
          <a:stretch/>
        </p:blipFill>
        <p:spPr>
          <a:xfrm>
            <a:off x="1692360" y="981000"/>
            <a:ext cx="583236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УТАФЬЯ башня (связана мостом с Троицкой). Ее название связывают вот с чем: кутафьей называли в старину небрежно одетую, неповоротливую женщину. Действительно, Кутафья башня - невысокая, как остальные, а приземистая, широк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батн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Набатная"/>
          <p:cNvPicPr/>
          <p:nvPr/>
        </p:nvPicPr>
        <p:blipFill>
          <a:blip r:embed="rId1"/>
          <a:stretch/>
        </p:blipFill>
        <p:spPr>
          <a:xfrm>
            <a:off x="2627280" y="1052640"/>
            <a:ext cx="396072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БАТНАЯ башня получила свое имя по большому колоколу - набату, висевшему над н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ройка стен и башен Московского Кремля из красного кирпича была начата при Иване III. По его указу разрушается деревянные постройки и возводятся каменные. Каждая Кремлевская башня имеет свое название и истор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иколь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Никольская"/>
          <p:cNvPicPr/>
          <p:nvPr/>
        </p:nvPicPr>
        <p:blipFill>
          <a:blip r:embed="rId1"/>
          <a:stretch/>
        </p:blipFill>
        <p:spPr>
          <a:xfrm>
            <a:off x="2484360" y="1052640"/>
            <a:ext cx="4248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ЛЬСКАЯ башня расположена в начале Красной площади. В древности поблизости был монастырь Николы Старого, а над воротами башни помещалась икона Николая Чудотворц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ужейн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Оружейная"/>
          <p:cNvPicPr/>
          <p:nvPr/>
        </p:nvPicPr>
        <p:blipFill>
          <a:blip r:embed="rId1"/>
          <a:stretch/>
        </p:blipFill>
        <p:spPr>
          <a:xfrm>
            <a:off x="1908000" y="1052640"/>
            <a:ext cx="5261040" cy="547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УЖЕЙНАЯ башня, стоявшая когда-то на берегу речки Неглинной, теперь заключенной в подземную трубу, получила название по находящейся рядом Оружейной пала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ас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Спасская башня1"/>
          <p:cNvPicPr/>
          <p:nvPr/>
        </p:nvPicPr>
        <p:blipFill>
          <a:blip r:embed="rId1"/>
          <a:stretch/>
        </p:blipFill>
        <p:spPr>
          <a:xfrm>
            <a:off x="395280" y="3141720"/>
            <a:ext cx="2200320" cy="3314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Спасск2"/>
          <p:cNvPicPr/>
          <p:nvPr/>
        </p:nvPicPr>
        <p:blipFill>
          <a:blip r:embed="rId2"/>
          <a:stretch/>
        </p:blipFill>
        <p:spPr>
          <a:xfrm>
            <a:off x="3059280" y="981000"/>
            <a:ext cx="2876400" cy="4048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Сп"/>
          <p:cNvPicPr/>
          <p:nvPr/>
        </p:nvPicPr>
        <p:blipFill>
          <a:blip r:embed="rId3"/>
          <a:stretch/>
        </p:blipFill>
        <p:spPr>
          <a:xfrm>
            <a:off x="6443640" y="3141720"/>
            <a:ext cx="2212920" cy="3166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убиновая звезда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Рубиновая звезда"/>
          <p:cNvPicPr/>
          <p:nvPr/>
        </p:nvPicPr>
        <p:blipFill>
          <a:blip r:embed="rId1"/>
          <a:stretch/>
        </p:blipFill>
        <p:spPr>
          <a:xfrm>
            <a:off x="2268360" y="1052640"/>
            <a:ext cx="4608720" cy="511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АССКАЯ башня. Это название идет с XVII века, когда над воротами этой башни повесили икону Спа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нат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Сенатская"/>
          <p:cNvPicPr/>
          <p:nvPr/>
        </p:nvPicPr>
        <p:blipFill>
          <a:blip r:embed="rId1"/>
          <a:stretch/>
        </p:blipFill>
        <p:spPr>
          <a:xfrm>
            <a:off x="2627280" y="1052640"/>
            <a:ext cx="4032360" cy="511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НАТСКАЯ башня возвышается позади Мавзолея В.И.Ленина и названа по названию Сената, чей зеленый купол поднимается над крепостной стен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977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ая</a:t>
            </a:r>
            <a:r>
              <a:rPr b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зымянная</a:t>
            </a:r>
            <a:r>
              <a:rPr b="0" lang="ru-RU" sz="4400" spc="-1" strike="noStrike">
                <a:solidFill>
                  <a:srgbClr val="cebd4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1-я без"/>
          <p:cNvPicPr/>
          <p:nvPr/>
        </p:nvPicPr>
        <p:blipFill>
          <a:blip r:embed="rId1"/>
          <a:stretch/>
        </p:blipFill>
        <p:spPr>
          <a:xfrm>
            <a:off x="2484360" y="981000"/>
            <a:ext cx="4608720" cy="5400720"/>
          </a:xfrm>
          <a:prstGeom prst="rect">
            <a:avLst/>
          </a:prstGeom>
          <a:ln w="9360">
            <a:solidFill>
              <a:srgbClr val="cebd40"/>
            </a:solidFill>
            <a:miter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" action="ppaction://hlinksldjump"/>
              </a:rPr>
              <a:t>Боровиц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4" action="ppaction://hlinksldjump"/>
              </a:rPr>
              <a:t>Беклемише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6" action="ppaction://hlinksldjump"/>
              </a:rPr>
              <a:t>Благовеще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8" action="ppaction://hlinksldjump"/>
              </a:rPr>
              <a:t>Водовзво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10" action="ppaction://hlinksldjump"/>
              </a:rPr>
              <a:t>Комендант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12" action="ppaction://hlinksldjump"/>
              </a:rPr>
              <a:t>Константино-Елени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14" action="ppaction://hlinksldjump"/>
              </a:rPr>
              <a:t>Кутаф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16" action="ppaction://hlinksldjump"/>
              </a:rPr>
              <a:t>Набат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18" action="ppaction://hlinksldjump"/>
              </a:rPr>
              <a:t>Николь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0" action="ppaction://hlinksldjump"/>
              </a:rPr>
              <a:t>Оружей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2" action="ppaction://hlinksldjump"/>
              </a:rPr>
              <a:t>Сенат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4" action="ppaction://hlinksldjump"/>
              </a:rPr>
              <a:t>Спас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6" action="ppaction://hlinksldjump"/>
              </a:rPr>
              <a:t>Петро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28" action="ppaction://hlinksldjump"/>
              </a:rPr>
              <a:t>Средняя Арсен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30" action="ppaction://hlinksldjump"/>
              </a:rPr>
              <a:t>Угловая Арсен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32" action="ppaction://hlinksldjump"/>
              </a:rPr>
              <a:t>Тайниц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34" action="ppaction://hlinksldjump"/>
              </a:rPr>
              <a:t>Троиц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36" action="ppaction://hlinksldjump"/>
              </a:rPr>
              <a:t>Цар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38" action="ppaction://hlinksldjump"/>
              </a:rPr>
              <a:t>1-я Безымя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00"/>
                </a:solidFill>
                <a:uFillTx/>
                <a:latin typeface="Arial"/>
                <a:hlinkClick r:id="rId40" action="ppaction://hlinksldjump"/>
              </a:rPr>
              <a:t>2-я Безымя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вая безымянная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1-я безым"/>
          <p:cNvPicPr/>
          <p:nvPr/>
        </p:nvPicPr>
        <p:blipFill>
          <a:blip r:embed="rId1"/>
          <a:stretch/>
        </p:blipFill>
        <p:spPr>
          <a:xfrm>
            <a:off x="1763640" y="1341360"/>
            <a:ext cx="554508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5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торая Безымянн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Вторая без"/>
          <p:cNvPicPr/>
          <p:nvPr/>
        </p:nvPicPr>
        <p:blipFill>
          <a:blip r:embed="rId1"/>
          <a:stretch/>
        </p:blipFill>
        <p:spPr>
          <a:xfrm>
            <a:off x="2627280" y="1052640"/>
            <a:ext cx="4105440" cy="53290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5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тров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Петровская"/>
          <p:cNvPicPr/>
          <p:nvPr/>
        </p:nvPicPr>
        <p:blipFill>
          <a:blip r:embed="rId1"/>
          <a:stretch/>
        </p:blipFill>
        <p:spPr>
          <a:xfrm>
            <a:off x="2484360" y="1125360"/>
            <a:ext cx="446400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тровская. Угрешская, или 3-я Безымян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редняя Арсенальная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Средняя Арсенальная"/>
          <p:cNvPicPr/>
          <p:nvPr/>
        </p:nvPicPr>
        <p:blipFill>
          <a:blip r:embed="rId1"/>
          <a:stretch/>
        </p:blipFill>
        <p:spPr>
          <a:xfrm>
            <a:off x="2556000" y="1484280"/>
            <a:ext cx="417672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ЯЯ АРСЕНАЛЬНАЯ башня возвышается со стороны Александровского сада и называется так, поскольку прямо за ней находился склад оруж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гловая Арсенальн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Угловая арсенальная"/>
          <p:cNvPicPr/>
          <p:nvPr/>
        </p:nvPicPr>
        <p:blipFill>
          <a:blip r:embed="rId1"/>
          <a:stretch/>
        </p:blipFill>
        <p:spPr>
          <a:xfrm>
            <a:off x="2195640" y="836640"/>
            <a:ext cx="482436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ЛОВАЯ АРСЕНАЛЬНАЯ башня расположена подальше, в углу Крем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айниц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Тайницкая б"/>
          <p:cNvPicPr/>
          <p:nvPr/>
        </p:nvPicPr>
        <p:blipFill>
          <a:blip r:embed="rId1"/>
          <a:stretch/>
        </p:blipFill>
        <p:spPr>
          <a:xfrm>
            <a:off x="2843280" y="1125360"/>
            <a:ext cx="3889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ЙНИЦКАЯ башня названа так потому, что в древности в башне был устроен потайной выход из крепости на случай вражеской осады, а также находился тайник-колодец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оровицкая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70" name="Picture 4" descr="Боровицкая"/>
          <p:cNvPicPr/>
          <p:nvPr/>
        </p:nvPicPr>
        <p:blipFill>
          <a:blip r:embed="rId1"/>
          <a:stretch/>
        </p:blipFill>
        <p:spPr>
          <a:xfrm>
            <a:off x="2484360" y="1484280"/>
            <a:ext cx="4319640" cy="504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оиц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Троицкая"/>
          <p:cNvPicPr/>
          <p:nvPr/>
        </p:nvPicPr>
        <p:blipFill>
          <a:blip r:embed="rId1"/>
          <a:stretch/>
        </p:blipFill>
        <p:spPr>
          <a:xfrm>
            <a:off x="2411280" y="1052640"/>
            <a:ext cx="439272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ОИЦКАЯ башня называется по церкви и Троицкому подворью, находившихся некогда поблизости на территории Крем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ар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4" descr="Царская б"/>
          <p:cNvPicPr/>
          <p:nvPr/>
        </p:nvPicPr>
        <p:blipFill>
          <a:blip r:embed="rId1"/>
          <a:stretch/>
        </p:blipFill>
        <p:spPr>
          <a:xfrm>
            <a:off x="2411280" y="907920"/>
            <a:ext cx="4465800" cy="554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АРСКАЯ башня. По преданию, царь Иван Грозный любил наблюдать с нее за событиями, происходившими на Красной площад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ровицкие ворота и башня находятся  на холме, откуда и пошла вся Москва.     Слово «боровица» означает  сосновый б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0">
            <a:hlinkClick r:id="rId2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7800" y="277920"/>
            <a:ext cx="6191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клемишевска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СКВОРЕЦ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pic>
        <p:nvPicPr>
          <p:cNvPr id="176" name="Picture 4" descr="Беклем"/>
          <p:cNvPicPr/>
          <p:nvPr/>
        </p:nvPicPr>
        <p:blipFill>
          <a:blip r:embed="rId1"/>
          <a:stretch/>
        </p:blipFill>
        <p:spPr>
          <a:xfrm>
            <a:off x="2700360" y="1413000"/>
            <a:ext cx="37432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КЛЕМИШЕВСКАЯ башня получила имя боярина Беклемишева, чей двор находился в Кремле в XV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4">
            <a:hlinkClick r:id="rId2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0360" y="336240"/>
            <a:ext cx="6623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вещенская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Благовещ"/>
          <p:cNvPicPr/>
          <p:nvPr/>
        </p:nvPicPr>
        <p:blipFill>
          <a:blip r:embed="rId1"/>
          <a:stretch/>
        </p:blipFill>
        <p:spPr>
          <a:xfrm>
            <a:off x="2411280" y="1341360"/>
            <a:ext cx="4464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ОВЕЩЕНСКАЯ башня получила свое название по находившейся в ней ико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4">
            <a:hlinkClick r:id="rId2" action="ppaction://hlinksldjump"/>
          </p:cNvPr>
          <p:cNvSpPr/>
          <p:nvPr/>
        </p:nvSpPr>
        <p:spPr>
          <a:xfrm>
            <a:off x="7885080" y="5950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1:32:41Z</dcterms:created>
  <dc:creator>mmc3</dc:creator>
  <dc:description/>
  <dc:language>en-US</dc:language>
  <cp:lastModifiedBy>PopovaNS</cp:lastModifiedBy>
  <dcterms:modified xsi:type="dcterms:W3CDTF">2011-05-19T05:29:35Z</dcterms:modified>
  <cp:revision>13</cp:revision>
  <dc:subject/>
  <dc:title>Первая безымянная </dc:title>
</cp:coreProperties>
</file>