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4844-D83B-456A-88D3-41612C48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7FD4-F30C-45AD-BC52-C2FEE150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A0FB-1A05-4716-9772-DB01FC76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951-9BAB-4C85-AB7C-EACCF40E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618F-E75C-456E-B6BA-45FDC862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8863-7F43-4B37-B482-EA124E51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8CE5-1066-4839-B1AF-973D9C2E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4B4C-DCBD-46F1-A866-87BF0E30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59AE-B666-4475-81CF-C8B375A0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4BFD-B6DF-489A-AA12-9EB107C6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23F0-88F4-4C9C-913F-51EDE376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18A-D444-4F24-AAA5-95F24352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202C-2656-4AB5-8B89-FD22C3D3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7F0F-863D-4CE7-B4C6-46B27841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EEBC-A533-46AC-9A3C-7DAE92DE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5868-38A8-4AA6-A7CF-F9D1ABE5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2B09-97C2-4EED-AAFC-E195C0B8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EE3-13F5-4283-B205-88C350A4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FFC-F242-4822-B3B4-D212E123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A65-1867-4631-9538-568639A4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7EBB-7A9F-4DC5-932C-636199F6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FB2-2C55-471B-8A79-6AD92032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1C8-E74D-4DA6-B891-3CB50281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EA0-8498-4141-B674-0434C2C7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8C7C-5584-4D2E-98D5-EBA3393FE8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EC04-737E-489F-BF16-6D559BBDFB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image" Target="../media/image5.png"/><Relationship Id="rId4" Type="http://schemas.openxmlformats.org/officeDocument/2006/relationships/slide" Target="slide6.xml"/><Relationship Id="rId5" Type="http://schemas.openxmlformats.org/officeDocument/2006/relationships/image" Target="../media/image5.png"/><Relationship Id="rId6" Type="http://schemas.openxmlformats.org/officeDocument/2006/relationships/slide" Target="slide8.xml"/><Relationship Id="rId7" Type="http://schemas.openxmlformats.org/officeDocument/2006/relationships/image" Target="../media/image5.png"/><Relationship Id="rId8" Type="http://schemas.openxmlformats.org/officeDocument/2006/relationships/slide" Target="slide10.xml"/><Relationship Id="rId9" Type="http://schemas.openxmlformats.org/officeDocument/2006/relationships/image" Target="../media/image5.png"/><Relationship Id="rId10" Type="http://schemas.openxmlformats.org/officeDocument/2006/relationships/slide" Target="slide12.xml"/><Relationship Id="rId11" Type="http://schemas.openxmlformats.org/officeDocument/2006/relationships/image" Target="../media/image5.png"/><Relationship Id="rId12" Type="http://schemas.openxmlformats.org/officeDocument/2006/relationships/slide" Target="slide14.xml"/><Relationship Id="rId13" Type="http://schemas.openxmlformats.org/officeDocument/2006/relationships/image" Target="../media/image5.png"/><Relationship Id="rId14" Type="http://schemas.openxmlformats.org/officeDocument/2006/relationships/slide" Target="slide16.xml"/><Relationship Id="rId15" Type="http://schemas.openxmlformats.org/officeDocument/2006/relationships/image" Target="../media/image5.png"/><Relationship Id="rId16" Type="http://schemas.openxmlformats.org/officeDocument/2006/relationships/slide" Target="slide18.xml"/><Relationship Id="rId17" Type="http://schemas.openxmlformats.org/officeDocument/2006/relationships/image" Target="../media/image5.png"/><Relationship Id="rId18" Type="http://schemas.openxmlformats.org/officeDocument/2006/relationships/slide" Target="slide20.xml"/><Relationship Id="rId19" Type="http://schemas.openxmlformats.org/officeDocument/2006/relationships/image" Target="../media/image5.png"/><Relationship Id="rId20" Type="http://schemas.openxmlformats.org/officeDocument/2006/relationships/slide" Target="slide22.xml"/><Relationship Id="rId21" Type="http://schemas.openxmlformats.org/officeDocument/2006/relationships/image" Target="../media/image5.png"/><Relationship Id="rId22" Type="http://schemas.openxmlformats.org/officeDocument/2006/relationships/slide" Target="slide27.xml"/><Relationship Id="rId23" Type="http://schemas.openxmlformats.org/officeDocument/2006/relationships/image" Target="../media/image5.png"/><Relationship Id="rId24" Type="http://schemas.openxmlformats.org/officeDocument/2006/relationships/slide" Target="slide24.xml"/><Relationship Id="rId25" Type="http://schemas.openxmlformats.org/officeDocument/2006/relationships/image" Target="../media/image5.png"/><Relationship Id="rId26" Type="http://schemas.openxmlformats.org/officeDocument/2006/relationships/slide" Target="slide32.xml"/><Relationship Id="rId27" Type="http://schemas.openxmlformats.org/officeDocument/2006/relationships/image" Target="../media/image5.png"/><Relationship Id="rId28" Type="http://schemas.openxmlformats.org/officeDocument/2006/relationships/slide" Target="slide34.xml"/><Relationship Id="rId29" Type="http://schemas.openxmlformats.org/officeDocument/2006/relationships/image" Target="../media/image5.png"/><Relationship Id="rId30" Type="http://schemas.openxmlformats.org/officeDocument/2006/relationships/slide" Target="slide36.xml"/><Relationship Id="rId31" Type="http://schemas.openxmlformats.org/officeDocument/2006/relationships/image" Target="../media/image5.png"/><Relationship Id="rId32" Type="http://schemas.openxmlformats.org/officeDocument/2006/relationships/slide" Target="slide38.xml"/><Relationship Id="rId33" Type="http://schemas.openxmlformats.org/officeDocument/2006/relationships/image" Target="../media/image5.png"/><Relationship Id="rId34" Type="http://schemas.openxmlformats.org/officeDocument/2006/relationships/slide" Target="slide40.xml"/><Relationship Id="rId35" Type="http://schemas.openxmlformats.org/officeDocument/2006/relationships/image" Target="../media/image5.png"/><Relationship Id="rId36" Type="http://schemas.openxmlformats.org/officeDocument/2006/relationships/slide" Target="slide42.xml"/><Relationship Id="rId37" Type="http://schemas.openxmlformats.org/officeDocument/2006/relationships/image" Target="../media/image5.png"/><Relationship Id="rId38" Type="http://schemas.openxmlformats.org/officeDocument/2006/relationships/slide" Target="slide29.xml"/><Relationship Id="rId39" Type="http://schemas.openxmlformats.org/officeDocument/2006/relationships/image" Target="../media/image5.png"/><Relationship Id="rId40" Type="http://schemas.openxmlformats.org/officeDocument/2006/relationships/slide" Target="slide31.xml"/><Relationship Id="rId4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"/>
              </a:rPr>
              <a:t>Башни Московского Кремля</a:t>
            </a:r>
            <a:endParaRPr b="0" lang="en-US" sz="8800" spc="-1" strike="noStrike">
              <a:solidFill>
                <a:srgbClr val="cebd40"/>
              </a:solidFill>
              <a:latin typeface="Arial"/>
            </a:endParaRPr>
          </a:p>
        </p:txBody>
      </p:sp>
      <p:pic>
        <p:nvPicPr>
          <p:cNvPr id="163" name="ALBINONI.MID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5113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довзводн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Водовозная баш"/>
          <p:cNvPicPr/>
          <p:nvPr/>
        </p:nvPicPr>
        <p:blipFill>
          <a:blip r:embed="rId1"/>
          <a:stretch/>
        </p:blipFill>
        <p:spPr>
          <a:xfrm>
            <a:off x="2411280" y="981000"/>
            <a:ext cx="4608720" cy="5329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ДОВЗВОДНАЯ. В этой башне находилась водоподъемная машина для подачи воды в кремлевские дворцы и са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4">
            <a:hlinkClick r:id="rId2" action="ppaction://hlinksldjump"/>
          </p:cNvPr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мендантск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Комендантская"/>
          <p:cNvPicPr/>
          <p:nvPr/>
        </p:nvPicPr>
        <p:blipFill>
          <a:blip r:embed="rId1"/>
          <a:stretch/>
        </p:blipFill>
        <p:spPr>
          <a:xfrm>
            <a:off x="2556000" y="1268280"/>
            <a:ext cx="410364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ЕНДАНТСКАЯ башня получила свое название в XIX веке, поскольку в здании рядом располагался комендант Москв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4">
            <a:hlinkClick r:id="rId2" action="ppaction://hlinksldjump"/>
          </p:cNvPr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нстантино-Еленинск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Константино-елен"/>
          <p:cNvPicPr/>
          <p:nvPr/>
        </p:nvPicPr>
        <p:blipFill>
          <a:blip r:embed="rId1"/>
          <a:stretch/>
        </p:blipFill>
        <p:spPr>
          <a:xfrm>
            <a:off x="2268360" y="1052640"/>
            <a:ext cx="4680000" cy="5113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СТАНТИНОВО-ЕЛЕНИНСКАЯ башня своим названием обязана стоявшей здесь в древности церкви Константина и Елен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утафь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Кутафья"/>
          <p:cNvPicPr/>
          <p:nvPr/>
        </p:nvPicPr>
        <p:blipFill>
          <a:blip r:embed="rId1"/>
          <a:stretch/>
        </p:blipFill>
        <p:spPr>
          <a:xfrm>
            <a:off x="1692360" y="981000"/>
            <a:ext cx="583236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УТАФЬЯ башня (связана мостом с Троицкой). Ее название связывают вот с чем: кутафьей называли в старину небрежно одетую, неповоротливую женщину. Действительно, Кутафья башня - невысокая, как остальные, а приземистая, широк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батн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Набатная"/>
          <p:cNvPicPr/>
          <p:nvPr/>
        </p:nvPicPr>
        <p:blipFill>
          <a:blip r:embed="rId1"/>
          <a:stretch/>
        </p:blipFill>
        <p:spPr>
          <a:xfrm>
            <a:off x="2627280" y="1052640"/>
            <a:ext cx="3960720" cy="496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БАТНАЯ башня получила свое имя по большому колоколу - набату, висевшему над н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ройка стен и башен Московского Кремля из красного кирпича была начата при Иване III. По его указу разрушается деревянные постройки и возводятся каменные. Каждая Кремлевская башня имеет свое название и истор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икольск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Никольская"/>
          <p:cNvPicPr/>
          <p:nvPr/>
        </p:nvPicPr>
        <p:blipFill>
          <a:blip r:embed="rId1"/>
          <a:stretch/>
        </p:blipFill>
        <p:spPr>
          <a:xfrm>
            <a:off x="2484360" y="1052640"/>
            <a:ext cx="42483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ИКОЛЬСКАЯ башня расположена в начале Красной площади. В древности поблизости был монастырь Николы Старого, а над воротами башни помещалась икона Николая Чудотворц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ружейн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Оружейная"/>
          <p:cNvPicPr/>
          <p:nvPr/>
        </p:nvPicPr>
        <p:blipFill>
          <a:blip r:embed="rId1"/>
          <a:stretch/>
        </p:blipFill>
        <p:spPr>
          <a:xfrm>
            <a:off x="1908000" y="1052640"/>
            <a:ext cx="5261040" cy="547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УЖЕЙНАЯ башня, стоявшая когда-то на берегу речки Неглинной, теперь заключенной в подземную трубу, получила название по находящейся рядом Оружейной пала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пасск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4" descr="Спасская башня1"/>
          <p:cNvPicPr/>
          <p:nvPr/>
        </p:nvPicPr>
        <p:blipFill>
          <a:blip r:embed="rId1"/>
          <a:stretch/>
        </p:blipFill>
        <p:spPr>
          <a:xfrm>
            <a:off x="395280" y="3141720"/>
            <a:ext cx="2200320" cy="3314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Спасск2"/>
          <p:cNvPicPr/>
          <p:nvPr/>
        </p:nvPicPr>
        <p:blipFill>
          <a:blip r:embed="rId2"/>
          <a:stretch/>
        </p:blipFill>
        <p:spPr>
          <a:xfrm>
            <a:off x="3059280" y="981000"/>
            <a:ext cx="2876400" cy="4048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Сп"/>
          <p:cNvPicPr/>
          <p:nvPr/>
        </p:nvPicPr>
        <p:blipFill>
          <a:blip r:embed="rId3"/>
          <a:stretch/>
        </p:blipFill>
        <p:spPr>
          <a:xfrm>
            <a:off x="6443640" y="3141720"/>
            <a:ext cx="2212920" cy="3166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убиновая звезда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Рубиновая звезда"/>
          <p:cNvPicPr/>
          <p:nvPr/>
        </p:nvPicPr>
        <p:blipFill>
          <a:blip r:embed="rId1"/>
          <a:stretch/>
        </p:blipFill>
        <p:spPr>
          <a:xfrm>
            <a:off x="2268360" y="1052640"/>
            <a:ext cx="4608720" cy="5113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АССКАЯ башня. Это название идет с XVII века, когда над воротами этой башни повесили икону Спас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енатск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Сенатская"/>
          <p:cNvPicPr/>
          <p:nvPr/>
        </p:nvPicPr>
        <p:blipFill>
          <a:blip r:embed="rId1"/>
          <a:stretch/>
        </p:blipFill>
        <p:spPr>
          <a:xfrm>
            <a:off x="2627280" y="1052640"/>
            <a:ext cx="4032360" cy="5113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НАТСКАЯ башня возвышается позади Мавзолея В.И.Ленина и названа по названию Сената, чей зеленый купол поднимается над крепостной стен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5977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ая</a:t>
            </a:r>
            <a:r>
              <a:rPr b="1" lang="ru-RU" sz="40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езымянная</a:t>
            </a:r>
            <a:r>
              <a:rPr b="0" lang="ru-RU" sz="4400" spc="-1" strike="noStrike">
                <a:solidFill>
                  <a:srgbClr val="cebd4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1-я без"/>
          <p:cNvPicPr/>
          <p:nvPr/>
        </p:nvPicPr>
        <p:blipFill>
          <a:blip r:embed="rId1"/>
          <a:stretch/>
        </p:blipFill>
        <p:spPr>
          <a:xfrm>
            <a:off x="2484360" y="981000"/>
            <a:ext cx="4608720" cy="5400720"/>
          </a:xfrm>
          <a:prstGeom prst="rect">
            <a:avLst/>
          </a:prstGeom>
          <a:ln w="9360">
            <a:solidFill>
              <a:srgbClr val="cebd40"/>
            </a:solidFill>
            <a:miter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2" action="ppaction://hlinksldjump"/>
              </a:rPr>
              <a:t>Боровиц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4" action="ppaction://hlinksldjump"/>
              </a:rPr>
              <a:t>Беклемишев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6" action="ppaction://hlinksldjump"/>
              </a:rPr>
              <a:t>Благовещен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8" action="ppaction://hlinksldjump"/>
              </a:rPr>
              <a:t>Водовзвод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10" action="ppaction://hlinksldjump"/>
              </a:rPr>
              <a:t>Комендант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12" action="ppaction://hlinksldjump"/>
              </a:rPr>
              <a:t>Константино-Еленин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14" action="ppaction://hlinksldjump"/>
              </a:rPr>
              <a:t>Кутаф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16" action="ppaction://hlinksldjump"/>
              </a:rPr>
              <a:t>Набат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18" action="ppaction://hlinksldjump"/>
              </a:rPr>
              <a:t>Николь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20" action="ppaction://hlinksldjump"/>
              </a:rPr>
              <a:t>Оружей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22" action="ppaction://hlinksldjump"/>
              </a:rPr>
              <a:t>Сенат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24" action="ppaction://hlinksldjump"/>
              </a:rPr>
              <a:t>Спас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26" action="ppaction://hlinksldjump"/>
              </a:rPr>
              <a:t>Петров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28" action="ppaction://hlinksldjump"/>
              </a:rPr>
              <a:t>Средняя Арсена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30" action="ppaction://hlinksldjump"/>
              </a:rPr>
              <a:t>Угловая Арсена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32" action="ppaction://hlinksldjump"/>
              </a:rPr>
              <a:t>Тайниц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34" action="ppaction://hlinksldjump"/>
              </a:rPr>
              <a:t>Троиц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36" action="ppaction://hlinksldjump"/>
              </a:rPr>
              <a:t>Цар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38" action="ppaction://hlinksldjump"/>
              </a:rPr>
              <a:t>1-я Безымя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40" action="ppaction://hlinksldjump"/>
              </a:rPr>
              <a:t>2-я Безымя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ервая безымянная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1-я безым"/>
          <p:cNvPicPr/>
          <p:nvPr/>
        </p:nvPicPr>
        <p:blipFill>
          <a:blip r:embed="rId1"/>
          <a:stretch/>
        </p:blipFill>
        <p:spPr>
          <a:xfrm>
            <a:off x="1763640" y="1341360"/>
            <a:ext cx="5545080" cy="48960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5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торая Безымянн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4" descr="Вторая без"/>
          <p:cNvPicPr/>
          <p:nvPr/>
        </p:nvPicPr>
        <p:blipFill>
          <a:blip r:embed="rId1"/>
          <a:stretch/>
        </p:blipFill>
        <p:spPr>
          <a:xfrm>
            <a:off x="2627280" y="1052640"/>
            <a:ext cx="4105440" cy="532908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5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тровск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Петровская"/>
          <p:cNvPicPr/>
          <p:nvPr/>
        </p:nvPicPr>
        <p:blipFill>
          <a:blip r:embed="rId1"/>
          <a:stretch/>
        </p:blipFill>
        <p:spPr>
          <a:xfrm>
            <a:off x="2484360" y="1125360"/>
            <a:ext cx="446400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тровская. Угрешская, или 3-я Безымянн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редняя Арсенальная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4" descr="Средняя Арсенальная"/>
          <p:cNvPicPr/>
          <p:nvPr/>
        </p:nvPicPr>
        <p:blipFill>
          <a:blip r:embed="rId1"/>
          <a:stretch/>
        </p:blipFill>
        <p:spPr>
          <a:xfrm>
            <a:off x="2556000" y="1484280"/>
            <a:ext cx="417672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ЯЯ АРСЕНАЛЬНАЯ башня возвышается со стороны Александровского сада и называется так, поскольку прямо за ней находился склад оруж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гловая Арсенальн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Угловая арсенальная"/>
          <p:cNvPicPr/>
          <p:nvPr/>
        </p:nvPicPr>
        <p:blipFill>
          <a:blip r:embed="rId1"/>
          <a:stretch/>
        </p:blipFill>
        <p:spPr>
          <a:xfrm>
            <a:off x="2195640" y="836640"/>
            <a:ext cx="482436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ГЛОВАЯ АРСЕНАЛЬНАЯ башня расположена подальше, в углу Кремл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айницк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4" descr="Тайницкая б"/>
          <p:cNvPicPr/>
          <p:nvPr/>
        </p:nvPicPr>
        <p:blipFill>
          <a:blip r:embed="rId1"/>
          <a:stretch/>
        </p:blipFill>
        <p:spPr>
          <a:xfrm>
            <a:off x="2843280" y="1125360"/>
            <a:ext cx="388944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ЙНИЦКАЯ башня названа так потому, что в древности в башне был устроен потайной выход из крепости на случай вражеской осады, а также находился тайник-колодец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оровицкая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pic>
        <p:nvPicPr>
          <p:cNvPr id="170" name="Picture 4" descr="Боровицкая"/>
          <p:cNvPicPr/>
          <p:nvPr/>
        </p:nvPicPr>
        <p:blipFill>
          <a:blip r:embed="rId1"/>
          <a:stretch/>
        </p:blipFill>
        <p:spPr>
          <a:xfrm>
            <a:off x="2484360" y="1484280"/>
            <a:ext cx="4319640" cy="5040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роицк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4" descr="Троицкая"/>
          <p:cNvPicPr/>
          <p:nvPr/>
        </p:nvPicPr>
        <p:blipFill>
          <a:blip r:embed="rId1"/>
          <a:stretch/>
        </p:blipFill>
        <p:spPr>
          <a:xfrm>
            <a:off x="2411280" y="1052640"/>
            <a:ext cx="439272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ОИЦКАЯ башня называется по церкви и Троицкому подворью, находившихся некогда поблизости на территории Кремл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Царск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4" descr="Царская б"/>
          <p:cNvPicPr/>
          <p:nvPr/>
        </p:nvPicPr>
        <p:blipFill>
          <a:blip r:embed="rId1"/>
          <a:stretch/>
        </p:blipFill>
        <p:spPr>
          <a:xfrm>
            <a:off x="2411280" y="907920"/>
            <a:ext cx="4465800" cy="5545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АРСКАЯ башня. По преданию, царь Иван Грозный любил наблюдать с нее за событиями, происходившими на Красной площад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ровицкие ворота и башня находятся  на холме, откуда и пошла вся Москва.     Слово «боровица» означает  сосновый б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10">
            <a:hlinkClick r:id="rId2" action="ppaction://hlinksldjump"/>
          </p:cNvPr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77800" y="277920"/>
            <a:ext cx="6191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еклемишевска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ОСКВОРЕЦК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pic>
        <p:nvPicPr>
          <p:cNvPr id="176" name="Picture 4" descr="Беклем"/>
          <p:cNvPicPr/>
          <p:nvPr/>
        </p:nvPicPr>
        <p:blipFill>
          <a:blip r:embed="rId1"/>
          <a:stretch/>
        </p:blipFill>
        <p:spPr>
          <a:xfrm>
            <a:off x="2700360" y="1413000"/>
            <a:ext cx="3743280" cy="4535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КЛЕМИШЕВСКАЯ башня получила имя боярина Беклемишева, чей двор находился в Кремле в XV ве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4">
            <a:hlinkClick r:id="rId2" action="ppaction://hlinksldjump"/>
          </p:cNvPr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0360" y="336240"/>
            <a:ext cx="6623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лаговещенск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4" descr="Благовещ"/>
          <p:cNvPicPr/>
          <p:nvPr/>
        </p:nvPicPr>
        <p:blipFill>
          <a:blip r:embed="rId1"/>
          <a:stretch/>
        </p:blipFill>
        <p:spPr>
          <a:xfrm>
            <a:off x="2411280" y="1341360"/>
            <a:ext cx="446436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ЛАГОВЕЩЕНСКАЯ башня получила свое название по находившейся в ней икон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4">
            <a:hlinkClick r:id="rId2" action="ppaction://hlinksldjump"/>
          </p:cNvPr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1:32:41Z</dcterms:created>
  <dc:creator>mmc3</dc:creator>
  <dc:description/>
  <dc:language>en-US</dc:language>
  <cp:lastModifiedBy>PopovaNS</cp:lastModifiedBy>
  <dcterms:modified xsi:type="dcterms:W3CDTF">2011-05-19T05:29:35Z</dcterms:modified>
  <cp:revision>13</cp:revision>
  <dc:subject/>
  <dc:title>Первая безымянная </dc:title>
</cp:coreProperties>
</file>