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D5D-D183-4670-B170-E205AD12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80C-ECDB-4E58-A83B-BD15B577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F45-A0C5-44A8-88C0-14689A25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39F-20B6-4CA5-8AA4-F70CEF63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384D-74FA-4F67-B3C8-F72A8CC6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0F79-F483-477C-B3D0-97ADD1A8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A24A-6ED5-4A18-8C48-0480C980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F826-C1AA-46BF-A3EA-3F5601E8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2732-51F7-4257-9DC3-BD545122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B0A0-922D-4265-A3D7-B3555D5A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AB5A-2CF5-4846-A3B9-7B2F451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30C-87CD-4C84-9902-583AD105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47EC-A69E-4F77-97B2-AC3B704E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9C8D-93E1-429D-8051-FF6DD053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4908-FEB8-4806-9940-BB839B8D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C9E5-F23A-488C-9F72-276B523B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AF31-8D5F-41D7-AD4E-6E9F7F8A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3463-DE8C-4BFF-A87A-3A7E4223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64F3-E37C-453A-AC44-1184E280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83E5-6CBD-44FD-A26B-792EEF9D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F3CF-38AE-4887-9ADF-AC663333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9D22-1E89-4701-B976-158F4BDD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C96-4189-4463-A4C9-BB078DF2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85ED-26F7-49E7-9427-2FF80F22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57519-0134-49B0-8323-B7564776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D63B1-2DF9-4674-A88E-FAA40D23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A977B-0901-4EF3-A9D2-0D32FB10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574A-F80E-4B24-A37E-D5994058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20AA0-0A47-44DF-B653-7BDB5995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8B93-061F-48A3-8E42-0F319242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68EA2-BFA8-4657-8891-C3A6B733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D255-C465-48A0-9F24-B0C18131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1A30A-71B5-44B8-91F4-151442DE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3E5-B975-458C-B534-089BC507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6D896-591B-4CAD-AB10-E600A0EF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12C3-3242-4E14-B699-4A0E12D8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4FA9D-E8F1-4ACE-B06B-1A7FB57A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27C8-6293-42CF-8330-03C764F0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988B-747B-4579-BC67-5D96402C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9C7F0-6471-416A-8476-29C67FAD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6F0B-6FD5-4D03-90F0-B7573C7D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7C784-7CB2-4EC8-BBD2-5A5C2DC3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CF00B-83F9-4576-A8FD-001A792D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9B7F9-E44E-4574-85D5-E691FD54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B2D-4E98-402B-B773-C1001A29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9E88A-79BF-4B7D-B39A-C9F657C1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0ABE8-5F04-40E8-AC52-34F839CF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E8B58-28C6-4A56-BD4F-055F4107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EEA59-338E-4CC3-AC69-AFACC2CF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9D633-6DD4-417C-A325-47FE3B6C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674CE-23F9-49F5-9700-4BFF4F90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479CD-8E2D-4AFF-9134-264B34C4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88D6E-FC6B-442C-86A4-589A3DBD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4A0E2-8684-4AE9-A741-2AF9E2A0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EA59C-23A0-4B7D-AE9D-2729131C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2BF-E675-41D7-9F5F-34D84E5D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6036D-76CD-4360-AE45-6BB31E0B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EEA46-4F04-4D11-BBB5-E0455838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F9377-6C23-46C1-99B9-8BDF4808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B0CAE-8D8C-4C03-B3EE-8F9B57B7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1AC68-9317-4115-8195-FF7A1FA8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19CEB-9D86-4A76-8A5D-AC14F9CE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8AAD4-1C57-44A6-A7AD-3D2DC39B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E9B74-4708-4843-AACB-9845A1A4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A2580-0D0F-4A0A-B7A3-B834D31F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F619C-8D75-4C87-9299-956C1858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640-1704-4D1C-926B-2494674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56D1B-8D78-4AD5-9E43-208D4C47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F5B45-7A5A-43CD-9E08-D3A7AD1B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D4267-F323-4684-9EA0-401A829F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82036-159F-4E0E-8BA1-8FE40684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4A803-0035-4232-A21B-684965F7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1564F-55AD-45EB-8797-A9FA8938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4A762-59D9-42A6-BDDB-DC07346A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4280A-AD67-4E35-9A0F-E7B1D632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F4FA9-B8D9-4EDC-A51C-07AD12F8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42661-956E-4D0D-9B42-519A84D7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08D-F93D-4956-AAC0-36ACBBBC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B1DF1-DFAC-4C03-AE9C-2DCA2F33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BA55F-35D6-412F-808D-7455FC02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CA53A-96CF-4D83-81E1-10E1005A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07AB3-E0B6-49F5-B772-F9C25ED0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7D5CC-6FC6-4E72-880D-E1D0180C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C33-11BC-4B63-B96D-427755DA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0890-CF0D-45C9-930D-D86AACE0CC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AA5F-0104-42E8-83B7-128EEA1299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5F47-784E-4326-BF06-0148F2DBB4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E4C2-0380-4573-9513-93F027D1D4E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D986-D8A5-442C-8A77-F066FFAE58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1102-0AAE-4E1A-8109-D0D2C1F122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BFA8-0881-4369-B10D-1F85216A798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1640" y="620640"/>
            <a:ext cx="74055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99640" y="1849320"/>
            <a:ext cx="7939080" cy="28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Экспериментирование, как составная часть системы развития познавательной активности обучающихся  в объединении  дополнительного образования Дома детского творче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(из опыта работы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4661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Если на "мыльное кольцо" поместить нитку или другой легкий предмет, то он "прилипнет" к поверхности и будет перемещаться по ней, словно по льду. Это объясняется силой поверхностного натяжения мыльной пленки.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2" descr="http://i.ytimg.com/vi/DK_enIfVn8w/sddefault.jpg"/>
          <p:cNvPicPr/>
          <p:nvPr/>
        </p:nvPicPr>
        <p:blipFill>
          <a:blip r:embed="rId1"/>
          <a:stretch/>
        </p:blipFill>
        <p:spPr>
          <a:xfrm>
            <a:off x="1692360" y="1916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татическое электричес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3" descr=""/>
          <p:cNvPicPr/>
          <p:nvPr/>
        </p:nvPicPr>
        <p:blipFill>
          <a:blip r:embed="rId1"/>
          <a:stretch/>
        </p:blipFill>
        <p:spPr>
          <a:xfrm>
            <a:off x="3635280" y="1341360"/>
            <a:ext cx="2200320" cy="28576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2408400" cy="28591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5" descr="Хищная актиния и Синяя борода"/>
          <p:cNvPicPr/>
          <p:nvPr/>
        </p:nvPicPr>
        <p:blipFill>
          <a:blip r:embed="rId3"/>
          <a:stretch/>
        </p:blipFill>
        <p:spPr>
          <a:xfrm>
            <a:off x="6012000" y="1197000"/>
            <a:ext cx="2485800" cy="285912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6" descr="Палочка отклоняет воду"/>
          <p:cNvPicPr/>
          <p:nvPr/>
        </p:nvPicPr>
        <p:blipFill>
          <a:blip r:embed="rId4"/>
          <a:stretch/>
        </p:blipFill>
        <p:spPr>
          <a:xfrm>
            <a:off x="1116000" y="4000680"/>
            <a:ext cx="2324160" cy="285732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7" descr="Пляшущие человечки"/>
          <p:cNvPicPr/>
          <p:nvPr/>
        </p:nvPicPr>
        <p:blipFill>
          <a:blip r:embed="rId5"/>
          <a:stretch/>
        </p:blipFill>
        <p:spPr>
          <a:xfrm>
            <a:off x="4284720" y="3789360"/>
            <a:ext cx="2276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3" descr="http://festival.1september.ru/articles/596569/img1.gif"/>
          <p:cNvPicPr/>
          <p:nvPr/>
        </p:nvPicPr>
        <p:blipFill>
          <a:blip r:embed="rId1"/>
          <a:stretch/>
        </p:blipFill>
        <p:spPr>
          <a:xfrm>
            <a:off x="1908000" y="333360"/>
            <a:ext cx="6120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042560" y="620280"/>
            <a:ext cx="810108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Script"/>
                <a:ea typeface="Dotum"/>
              </a:rPr>
              <a:t>«Мы рано перестаем удивляться, рано утрачиваем драгоценную способность, которая побуждает интересоваться вещами, не затрагивающими непосредственно нашего существования. Чтобы привлечь внимание к чересчур знакомым предметам, надо показать их в новом свете, раскрыть незнакомые их стороны... Подобный подход составляет значительную особенность того направления в популяризации знаний, которое носит название занимательной науки»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egoe Script"/>
                <a:ea typeface="Dotum"/>
              </a:rPr>
              <a:t>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Segoe Script"/>
                <a:ea typeface="Dotum"/>
              </a:rPr>
              <a:t>Яков Исидорович Перельман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116000" y="549000"/>
            <a:ext cx="7632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знавательная деятельность необходима человеку, чтобы он смог познать себя, раскрыть заложенные в себе способности, найти своё место в жизни. Каждый ребенок талантлив, но талантлив по-своему. Общеизвестно, что 9-12 лет – это возраст, когда дети не только активны и любознательны, это пора, когда они начинают искать своё место в жизн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2" descr="http://pochit.ru/pars_docs/refs/29/28969/28969_html_m6c4489d2.jpg"/>
          <p:cNvPicPr/>
          <p:nvPr/>
        </p:nvPicPr>
        <p:blipFill>
          <a:blip r:embed="rId1"/>
          <a:stretch/>
        </p:blipFill>
        <p:spPr>
          <a:xfrm>
            <a:off x="1547640" y="3789360"/>
            <a:ext cx="2592720" cy="2735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http://workingmama.ru/pictures/large/59216"/>
          <p:cNvPicPr/>
          <p:nvPr/>
        </p:nvPicPr>
        <p:blipFill>
          <a:blip r:embed="rId2"/>
          <a:stretch/>
        </p:blipFill>
        <p:spPr>
          <a:xfrm>
            <a:off x="4643280" y="3716280"/>
            <a:ext cx="4032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2775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я в объединении «Юные исследователи природы» - это Клуб научных приключений – это цикл познавательных развивающих занятий для детей в возрасте от 8 до 12 лет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23950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рабо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азвитие системы представлений учащихся   об окружающем мире природы и методах его исследования как важного компонента формирования     личности и развитие познавательного интереса и любознательности детей в процессе    практического экспериментир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755640" y="203400"/>
            <a:ext cx="74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ременный образованный человек должен владеть методами научного познания в особенности с  эмперическими методами (наблюдение, опыт, измерение, эксперимент) что формирует целостность представления о мире, способность объяснить природу физических явлений, открывая для них интереснейший мир природных явлени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3" descr="http://sibmama.ru/images/2040/8e3396971152e8ebc167d05ed75e9213db7a0b8d.jpg"/>
          <p:cNvPicPr/>
          <p:nvPr/>
        </p:nvPicPr>
        <p:blipFill>
          <a:blip r:embed="rId1"/>
          <a:stretch/>
        </p:blipFill>
        <p:spPr>
          <a:xfrm>
            <a:off x="826920" y="3429000"/>
            <a:ext cx="3810240" cy="3429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http://i3.imgbb.ru/img9/a/3/f/a3f585089c65094ee01153a7ef6ee58f.jpg"/>
          <p:cNvPicPr/>
          <p:nvPr/>
        </p:nvPicPr>
        <p:blipFill>
          <a:blip r:embed="rId2"/>
          <a:stretch/>
        </p:blipFill>
        <p:spPr>
          <a:xfrm>
            <a:off x="5076720" y="3357720"/>
            <a:ext cx="3538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971640" y="669240"/>
            <a:ext cx="7561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зна и оригинальн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истеме образования детей  отсутствуют аналоги данной деятельности.  Здесь,  стремление к тому, чтобы знания приходили и через руки, через деятельность — а  это радостное удивление, пытливый анализ, первый окрыляющий успех естествоиспытател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826920" y="3573360"/>
          <a:ext cx="7777440" cy="2592360"/>
        </p:xfrm>
        <a:graphic>
          <a:graphicData uri="http://schemas.openxmlformats.org/drawingml/2006/table">
            <a:tbl>
              <a:tblPr/>
              <a:tblGrid>
                <a:gridCol w="777744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учающие  приемы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экспериментирование. 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ксперимент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(лат. experimentum - проба, опыт)  - опыт, воспроизведение объекта познания, проверка гипоте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324000" y="790560"/>
            <a:ext cx="806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и любая деятельность, экспериментально - исследовательская имеет свои этап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8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влю перед детьми проблему, которую необходимо реши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8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м вместе тему и цель или задачу, что нужно сделать для решения проблем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8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вигаем гипотезы, определяем методы исслед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8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лее с детьми проверяем выдвинутую гипотезу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8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ем анализ полученного результата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88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ируем вывод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95280" y="260280"/>
          <a:ext cx="8353440" cy="10969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ксперимен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охож на чудо, которое может сделать каждый ребен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3217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к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енный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крываем листом бумаги и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рачиваем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2" descr="http://ds308.ru/files/image/2015/august/perevernutij_stakan.jpg"/>
          <p:cNvPicPr/>
          <p:nvPr/>
        </p:nvPicPr>
        <p:blipFill>
          <a:blip r:embed="rId1"/>
          <a:stretch/>
        </p:blipFill>
        <p:spPr>
          <a:xfrm>
            <a:off x="2195640" y="1773360"/>
            <a:ext cx="5976720" cy="324000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4"/>
          <p:cNvSpPr/>
          <p:nvPr/>
        </p:nvSpPr>
        <p:spPr>
          <a:xfrm>
            <a:off x="1692360" y="26028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еревернутый стака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324000" y="57319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1116000" y="5300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да удерживается атмосферным давлением, т. е. атмосферное давление больше давления, производимого водо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" descr="http://n3.cdn.familyboom.ru/uploads/photo/file/22/22be/main_post_22be1206-da99-41d9-b278-dea49382fee6.jpg"/>
          <p:cNvPicPr/>
          <p:nvPr/>
        </p:nvPicPr>
        <p:blipFill>
          <a:blip r:embed="rId1"/>
          <a:stretch/>
        </p:blipFill>
        <p:spPr>
          <a:xfrm>
            <a:off x="5148360" y="198900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Как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 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достать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 со дна наполненной водой тарелки 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монету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, 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не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 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замочив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 пальцев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4" descr="http://rubooks.org/pic/769/Autogen_eBook_id41"/>
          <p:cNvPicPr/>
          <p:nvPr/>
        </p:nvPicPr>
        <p:blipFill>
          <a:blip r:embed="rId2"/>
          <a:stretch/>
        </p:blipFill>
        <p:spPr>
          <a:xfrm>
            <a:off x="1187280" y="2565360"/>
            <a:ext cx="36039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9T07:11:38Z</dcterms:created>
  <dc:creator>Катюша</dc:creator>
  <dc:description/>
  <dc:language>en-US</dc:language>
  <cp:lastModifiedBy>Катюша</cp:lastModifiedBy>
  <dcterms:modified xsi:type="dcterms:W3CDTF">2015-11-05T15:40:52Z</dcterms:modified>
  <cp:revision>28</cp:revision>
  <dc:subject/>
  <dc:title>Слайд 1</dc:title>
</cp:coreProperties>
</file>