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FE4-4C6B-4AC4-BE0E-B39E34A9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4D4-A7DB-4134-86DE-17929B3F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28F-99B6-4793-B0DD-1EFDDD79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C2D-5DDE-418E-BD49-254E26E5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301A-8177-4F5A-86EE-5A4F8AF2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FAFF-FA9E-4E50-B3C4-6179015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56A9-FA42-4BE6-9E40-18BE95A1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B280-A5A3-44B4-A421-C6E79CE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C84F-9CE4-40ED-8C8F-DA48FBB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BA8B-DFCD-4E7E-BCA6-AEDBB7A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497-B510-41CF-AAD4-3EC2389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244-D603-4C0A-BCCE-38A0982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00B7-6C30-4819-945B-B9125B2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B1E2-A88E-44DE-AD63-B00A90D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148F-07B5-4A56-861C-EFB3268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9436-2787-4127-921C-D4BC3E5C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BCDF-D679-425E-88FC-C167527B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0201-F996-47F6-920A-1B2F81DC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4C14-ADBB-4E4D-8994-65FA641C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8E78-527F-4337-A363-910BBAEE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A2AD-CBD3-4BB0-9B98-EDBF970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F60F-F69B-4F27-9067-8EAFF2F0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7CA-F3BC-45C0-AA18-7137216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F3A4-2FBB-4058-A1EE-127EE0F7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99D6-FD50-4FCF-A309-CA9467B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0E2E-4D03-4400-9ABD-53ADB40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8D3B-391E-4DA0-A975-BCF9CC3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5FE3-8C2A-4D00-863B-58579DE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0486-EFBA-416C-890C-AB05BD56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53F2-5DD9-410E-98BA-0A330D7A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57B8-2039-4225-A0E7-BA4C632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3077-8BF7-41B5-BE7C-313DD306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17F1-6B38-4690-A5B5-41CD2C5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1BA-9DF9-4B15-8AFB-DC814CF9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8E85-9867-41C0-9A72-8E9108F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2DBB-F07E-4246-9EA7-F999FDD3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E2E2-0C16-447D-8928-58661ED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BC14-59D5-4FAD-989E-4F642E70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90A4-8CCD-475B-BF7F-06D157C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B5BE-C4C6-468F-80A4-DFD38D8C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DFD6-2AB6-48BF-846B-BCD87177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7364-1830-4047-B254-E661B244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98B9-0F2C-4C86-9786-C1CE01F4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CD922-DD60-43B1-8D4C-6C239966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956-496E-4CA4-B63A-5CBFF99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0A90-0BDB-4173-8A9E-EE484DB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6530E-F459-43A7-B526-4C38235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BA70-CF01-4F6F-9E1A-2F6E620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D6AC-8B53-4A84-A12D-65B3E360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D0DA-198D-49A1-92A3-F381A1C0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4E13-C728-4BE2-8A15-8B65D0D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89FA-1231-4971-85E4-7036E760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DC2A-B08D-4112-B66A-4AABA5B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302F-E079-4F9D-947A-629DC9D8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B6B2-300F-4AE6-B806-823CD55D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F95-0C52-472C-8C4C-0C242172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FF12-81E0-4FF9-8929-FFF27681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5EF9-9A9C-48AF-B5B8-B11A93C5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1158-7683-455A-A059-8D09CBC2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F92F9-367D-400F-99B1-F3C61071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1332D-29BE-459C-9618-D3428755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63E1-BDE9-40D5-8482-B76E7C22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741AA-99E1-4622-B1C0-963D9E02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82A66-CB01-4D5E-A904-36520C3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5785-D823-40E7-B9E9-404FFC4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24665-7F32-4964-B8C8-20498C31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D2E-C4D7-407A-8DBD-878382E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E19F-9BB7-4844-9D33-A38044FF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00F7-9399-450C-B055-7C569555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44EE9-2B81-4F06-98AD-1329BDE3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04A11-F87D-49AE-A68B-3F6AA69B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7741-C7BF-484A-AF0D-2CD53D1D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7E5F-F32C-4CCD-B6FF-AF38BF6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CACD3-6456-4ECB-A997-82BB755A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24B0F-4B08-4863-BC83-4091807B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5E09-B441-4081-BDAD-597407FC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C47E-16B5-4627-A850-3F25DF4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71E-DBBB-4E69-8549-E806902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40D7-AC97-4E2E-B7B1-539B1A9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1510-99FE-4915-A956-CE71B69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24E1-AFB5-44A7-8FCF-9BB320FA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0ABA-E0E6-4ED7-AFE1-27DDA504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1F8F-88E7-4AC4-8C75-AAFA5829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2C1-0DC7-4CE3-9AF8-AB065EA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41AE-B38D-4775-A72E-EABBC68EC2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93C-9285-4900-BE07-ED4151142D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5470-9A14-4B44-90ED-D7CD6BC4A6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A6A4-7E53-459B-AF07-1CB92B6FDB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368-14F8-4D1E-A1A7-3759F2E0AB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EEB1-415E-4291-9CBD-62B4F6E552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A938-ACA1-414A-BC1D-409C332ADA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740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99640" y="1849320"/>
            <a:ext cx="793908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Экспериментирование, как составная часть системы развития познавательной активности обучающихся  в объединении  дополнительного образования Дома детского творче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(из опыта работы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4661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Если на "мыльное кольцо" поместить нитку или другой легкий предмет, то он "прилипнет" к поверхности и будет перемещаться по ней, словно по льду. Это объясняется силой поверхностного натяжения мыльной пленки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http://i.ytimg.com/vi/DK_enIfVn8w/sddefault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атическое электриче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"/>
          <p:cNvPicPr/>
          <p:nvPr/>
        </p:nvPicPr>
        <p:blipFill>
          <a:blip r:embed="rId1"/>
          <a:stretch/>
        </p:blipFill>
        <p:spPr>
          <a:xfrm>
            <a:off x="3635280" y="1341360"/>
            <a:ext cx="2200320" cy="28576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408400" cy="28591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Хищная актиния и Синяя борода"/>
          <p:cNvPicPr/>
          <p:nvPr/>
        </p:nvPicPr>
        <p:blipFill>
          <a:blip r:embed="rId3"/>
          <a:stretch/>
        </p:blipFill>
        <p:spPr>
          <a:xfrm>
            <a:off x="6012000" y="1197000"/>
            <a:ext cx="2485800" cy="28591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Палочка отклоняет воду"/>
          <p:cNvPicPr/>
          <p:nvPr/>
        </p:nvPicPr>
        <p:blipFill>
          <a:blip r:embed="rId4"/>
          <a:stretch/>
        </p:blipFill>
        <p:spPr>
          <a:xfrm>
            <a:off x="1116000" y="4000680"/>
            <a:ext cx="2324160" cy="28573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Пляшущие человечки"/>
          <p:cNvPicPr/>
          <p:nvPr/>
        </p:nvPicPr>
        <p:blipFill>
          <a:blip r:embed="rId5"/>
          <a:stretch/>
        </p:blipFill>
        <p:spPr>
          <a:xfrm>
            <a:off x="4284720" y="3789360"/>
            <a:ext cx="2276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http://festival.1september.ru/articles/596569/img1.gif"/>
          <p:cNvPicPr/>
          <p:nvPr/>
        </p:nvPicPr>
        <p:blipFill>
          <a:blip r:embed="rId1"/>
          <a:stretch/>
        </p:blipFill>
        <p:spPr>
          <a:xfrm>
            <a:off x="1908000" y="333360"/>
            <a:ext cx="6120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42560" y="620280"/>
            <a:ext cx="81010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Script"/>
                <a:ea typeface="Dotum"/>
              </a:rPr>
              <a:t>«Мы рано перестаем удивляться, рано утрачиваем драгоценную способность, которая побуждает интересоваться вещами, не затрагивающими непосредственно нашего существования. Чтобы привлечь внимание к чересчур знакомым предметам, надо показать их в новом свете, раскрыть незнакомые их стороны... Подобный подход составляет значительную особенность того направления в популяризации знаний, которое носит название занимательной науки»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Script"/>
                <a:ea typeface="Dotum"/>
              </a:rPr>
              <a:t>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Segoe Script"/>
                <a:ea typeface="Dotum"/>
              </a:rPr>
              <a:t>Яков Исидорович Перельман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16000" y="549000"/>
            <a:ext cx="7632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знавательная деятельность необходима человеку, чтобы он смог познать себя, раскрыть заложенные в себе способности, найти своё место в жизни. Каждый ребенок талантлив, но талантлив по-своему. Общеизвестно, что 9-12 лет – это возраст, когда дети не только активны и любознательны, это пора, когда они начинают искать своё место в жизн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http://pochit.ru/pars_docs/refs/29/28969/28969_html_m6c4489d2.jpg"/>
          <p:cNvPicPr/>
          <p:nvPr/>
        </p:nvPicPr>
        <p:blipFill>
          <a:blip r:embed="rId1"/>
          <a:stretch/>
        </p:blipFill>
        <p:spPr>
          <a:xfrm>
            <a:off x="1547640" y="3789360"/>
            <a:ext cx="2592720" cy="2735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workingmama.ru/pictures/large/59216"/>
          <p:cNvPicPr/>
          <p:nvPr/>
        </p:nvPicPr>
        <p:blipFill>
          <a:blip r:embed="rId2"/>
          <a:stretch/>
        </p:blipFill>
        <p:spPr>
          <a:xfrm>
            <a:off x="4643280" y="3716280"/>
            <a:ext cx="403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2775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в объединении «Юные исследователи природы» - это Клуб научных приключений – это цикл познавательных развивающих занятий для детей в возрасте от 8 до 12 ле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2395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рабо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азвитие системы представлений учащихся   об окружающем мире природы и методах его исследования как важного компонента формирования     личности и развитие познавательного интереса и любознательности детей в процессе    практического экспериментир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755640" y="2034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ый образованный человек должен владеть методами научного познания в особенности с  эмперическими методами (наблюдение, опыт, измерение, эксперимент) что формирует целостность представления о мире, способность объяснить природу физических явлений, открывая для них интереснейший мир природных явлен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http://sibmama.ru/images/2040/8e3396971152e8ebc167d05ed75e9213db7a0b8d.jpg"/>
          <p:cNvPicPr/>
          <p:nvPr/>
        </p:nvPicPr>
        <p:blipFill>
          <a:blip r:embed="rId1"/>
          <a:stretch/>
        </p:blipFill>
        <p:spPr>
          <a:xfrm>
            <a:off x="826920" y="3429000"/>
            <a:ext cx="3810240" cy="3429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http://i3.imgbb.ru/img9/a/3/f/a3f585089c65094ee01153a7ef6ee58f.jpg"/>
          <p:cNvPicPr/>
          <p:nvPr/>
        </p:nvPicPr>
        <p:blipFill>
          <a:blip r:embed="rId2"/>
          <a:stretch/>
        </p:blipFill>
        <p:spPr>
          <a:xfrm>
            <a:off x="5076720" y="3357720"/>
            <a:ext cx="3538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971640" y="669240"/>
            <a:ext cx="756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 и оригиналь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стеме образования детей  отсутствуют аналоги данной деятельности.  Здесь,  стремление к тому, чтобы знания приходили и через руки, через деятельность — а  это радостное удивление, пытливый анализ, первый окрыляющий успех естествоиспытате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826920" y="3573360"/>
          <a:ext cx="7777440" cy="2592360"/>
        </p:xfrm>
        <a:graphic>
          <a:graphicData uri="http://schemas.openxmlformats.org/drawingml/2006/table">
            <a:tbl>
              <a:tblPr/>
              <a:tblGrid>
                <a:gridCol w="777744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е  приемы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ериментирование. 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перимен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(лат. experimentum - проба, опыт)  - опыт, воспроизведение объекта познания, проверка гипоте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324000" y="79056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и любая деятельность, экспериментально - исследовательская имеет свои этап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лю перед детьми проблему, которую необходимо реш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м вместе тему и цель или задачу, что нужно сделать для решения проблем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вигаем гипотезы, определяем методы иссл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лее с детьми проверяем выдвинутую гипотезу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ем анализ полученного результата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уем вывод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95280" y="260280"/>
          <a:ext cx="8353440" cy="10969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перимен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хож на чудо, которое может сделать каждый ребен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3217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енный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крываем листом бумаги 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рачивае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http://ds308.ru/files/image/2015/august/perevernutij_stakan.jpg"/>
          <p:cNvPicPr/>
          <p:nvPr/>
        </p:nvPicPr>
        <p:blipFill>
          <a:blip r:embed="rId1"/>
          <a:stretch/>
        </p:blipFill>
        <p:spPr>
          <a:xfrm>
            <a:off x="2195640" y="1773360"/>
            <a:ext cx="5976720" cy="32400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4"/>
          <p:cNvSpPr/>
          <p:nvPr/>
        </p:nvSpPr>
        <p:spPr>
          <a:xfrm>
            <a:off x="1692360" y="260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еревернутый стак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324000" y="57319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1116000" y="530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да удерживается атмосферным давлением, т. е. атмосферное давление больше давления, производимого вод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http://n3.cdn.familyboom.ru/uploads/photo/file/22/22be/main_post_22be1206-da99-41d9-b278-dea49382fee6.jpg"/>
          <p:cNvPicPr/>
          <p:nvPr/>
        </p:nvPicPr>
        <p:blipFill>
          <a:blip r:embed="rId1"/>
          <a:stretch/>
        </p:blipFill>
        <p:spPr>
          <a:xfrm>
            <a:off x="5148360" y="198900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Как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достать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со дна наполненной водой тарелки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монету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,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не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замочив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пальцев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4" descr="http://rubooks.org/pic/769/Autogen_eBook_id41"/>
          <p:cNvPicPr/>
          <p:nvPr/>
        </p:nvPicPr>
        <p:blipFill>
          <a:blip r:embed="rId2"/>
          <a:stretch/>
        </p:blipFill>
        <p:spPr>
          <a:xfrm>
            <a:off x="1187280" y="2565360"/>
            <a:ext cx="36039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7:11:38Z</dcterms:created>
  <dc:creator>Катюша</dc:creator>
  <dc:description/>
  <dc:language>en-US</dc:language>
  <cp:lastModifiedBy>Катюша</cp:lastModifiedBy>
  <dcterms:modified xsi:type="dcterms:W3CDTF">2015-11-05T15:40:52Z</dcterms:modified>
  <cp:revision>28</cp:revision>
  <dc:subject/>
  <dc:title>Слайд 1</dc:title>
</cp:coreProperties>
</file>