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E45F-BF72-410B-98CC-E87C10E7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95AB-70AA-40D7-B089-1EC81786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21DD-2845-460D-9748-90FEB163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EB1C-3E90-4A2F-B745-C2987CAF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BC04-3E4B-498E-A0C5-76FF2652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4866-EC9A-4609-B324-1F80DEDF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3E8D-0694-48A4-9034-07DC5CE4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ACE4-8486-4EF0-B26A-9D9A836F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71FA-C6F1-4D2E-9936-89201F36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0672-6F6E-4B8D-BA8E-8086CA1D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13B3-A45D-46D0-A08C-EB3FAC2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65C6-5044-4340-91CE-5188494B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2156-5632-41A5-B641-5017A95C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996C-E630-4B34-A7EA-5DCB71FA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6B6-C9E4-4A8E-8A47-97FF2F86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9661-84A0-4123-9DF3-22E4E975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2656-C1DD-4CFE-80E9-52445AC6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6431-4BFA-4D8D-9B96-BB68202D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7016-81C4-4278-A716-4E20CEDB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EE0F-F274-405E-BBAF-94639A1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8670-3E0A-4ECE-AD27-5E247AD8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123C-5CC4-4270-96D8-91B85501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28E5-7D13-438C-BD5F-A95A031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4B3B-803C-4F05-ADD9-EF454292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53BB-2702-4DAF-BCE1-33D9DC40A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D202-ABBD-4E01-852E-9C8F254D09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324000" y="189000"/>
            <a:ext cx="8637480" cy="495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0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естивал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дагогического мастер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ных руководителе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6113520" y="528624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готовила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еститель директор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БОУ «СОШ № 3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. БРАТС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80866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Vivaldi"/>
              </a:rPr>
              <a:t>«Роль КТД </a:t>
            </a:r>
            <a:br>
              <a:rPr sz="5400"/>
            </a:br>
            <a:r>
              <a:rPr b="1" i="1" lang="ru-RU" sz="5400" spc="-1" strike="noStrike">
                <a:solidFill>
                  <a:srgbClr val="ffff00"/>
                </a:solidFill>
                <a:latin typeface="Vivaldi"/>
              </a:rPr>
              <a:t>в системе воспитательной работы</a:t>
            </a:r>
            <a:br>
              <a:rPr sz="5400"/>
            </a:br>
            <a:r>
              <a:rPr b="1" i="1" lang="ru-RU" sz="5400" spc="-1" strike="noStrike">
                <a:solidFill>
                  <a:srgbClr val="ffff00"/>
                </a:solidFill>
                <a:latin typeface="Vivaldi"/>
              </a:rPr>
              <a:t>школы».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Vivaldi"/>
              </a:rPr>
              <a:t>ВОСПИТ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2843280" y="1341360"/>
            <a:ext cx="792000" cy="136836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219640" y="1341360"/>
            <a:ext cx="720720" cy="1368360"/>
          </a:xfrm>
          <a:prstGeom prst="line">
            <a:avLst/>
          </a:prstGeom>
          <a:ln w="4428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640" y="2565360"/>
            <a:ext cx="379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Формирующий              подх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995640" y="2492280"/>
            <a:ext cx="4537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Развивающи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Garamond"/>
              </a:rPr>
              <a:t>подх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9" descr="j0299125"/>
          <p:cNvPicPr/>
          <p:nvPr/>
        </p:nvPicPr>
        <p:blipFill>
          <a:blip r:embed="rId1"/>
          <a:stretch/>
        </p:blipFill>
        <p:spPr>
          <a:xfrm>
            <a:off x="900000" y="3645000"/>
            <a:ext cx="2448000" cy="2886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j0233018"/>
          <p:cNvPicPr/>
          <p:nvPr/>
        </p:nvPicPr>
        <p:blipFill>
          <a:blip r:embed="rId2"/>
          <a:stretch/>
        </p:blipFill>
        <p:spPr>
          <a:xfrm>
            <a:off x="5651640" y="3716280"/>
            <a:ext cx="2808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-31680" y="476280"/>
            <a:ext cx="976932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ПРИНЦИПЫ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РАЗВИВАЮЩЕГО ПОДХОДА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7a20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Сотворчество воспитателей 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воспитанников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Совместное планирование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Организация и анализ общих дел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Значимость деятельности для ребят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Взаимодействие старших и младших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АЛГОРИТМ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Garamond"/>
              </a:rPr>
              <a:t>организации КТД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50920" y="162864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Предварительная работа педагог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Общий сбор класс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                       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- определение дел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                       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- выбор ВИГ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                       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- формирование микрогрупп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Подготовка творческого дел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Проведение КТД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Garamond"/>
              </a:rPr>
              <a:t>Подведение итогов, анализ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8:48:36Z</dcterms:created>
  <dc:creator>oleg</dc:creator>
  <dc:description/>
  <dc:language>en-US</dc:language>
  <cp:lastModifiedBy>Admin</cp:lastModifiedBy>
  <dcterms:modified xsi:type="dcterms:W3CDTF">2017-02-07T14:18:52Z</dcterms:modified>
  <cp:revision>5</cp:revision>
  <dc:subject/>
  <dc:title>  Фестиваль    педагогического мастерства  классных руководителей</dc:title>
</cp:coreProperties>
</file>