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1FFB-E74F-4D13-BE68-564F620EC6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70E7-B481-447C-B982-69E82747B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AC3-F3E4-433E-859D-3C8A6DD8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D5C-CEEE-42EC-AB62-4E28ABAE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B0D-F931-42DF-A119-98663B23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9C7-FE78-4A3B-9E3C-E219B41C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6E27-6216-41BC-933E-6380C185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70C7-7B0D-4156-A846-6310D4DA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8832-271D-45DC-940D-03C8210F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CD6-428E-4338-9C8B-72251B36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58B6-8511-42EE-804A-FB077984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D842-0D46-41AE-9D1F-4C0D442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BED4-C13F-43D6-B1A8-43CE37C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E73-4D2B-45DE-80D0-A49C804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6EA5-2E25-498D-A77F-8969E1F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41B0-13E9-4F35-B11D-DB3F077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E9AE-7ED8-4CFA-93C7-439475EB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CDE-77F5-4DE4-B185-9854E108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7488-CDAA-4BA5-993A-CD7D412A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723E-2F98-4CFB-830E-3F8F48A5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525B-29FD-4FB7-B579-B53EB8ED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5C56-E618-4CFD-AD53-4651BA0C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81FE-643E-4122-AA4F-E1D7ED77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F713-D9E0-4CEA-94F9-663A32E1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B6E-93F3-46EE-ADC5-DD811FCC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D076C-D01F-4347-BC75-620FF2D8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0A3F-7948-4C15-8611-61AA962B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BDCE-6B85-4C73-8BBB-D24E5A8C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8629-6851-454C-885E-CDEA1CA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B1BF-7CF7-436F-BDE9-4B04A0E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9CC2-1B90-4DEA-992D-15571428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5A1D-4E69-432F-A17E-F33BAF01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2B9F5-8688-41B5-A585-FC1E67ED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8573-4745-4979-A7CD-64F72C8F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89631-B47B-422F-9FEF-D59E7456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B92-A703-4A6A-804C-D17F50EA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5A58D-9D37-4EDB-8818-0154007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F159-55EE-4864-8574-E85D15FE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1D481-559F-4E6A-963A-008A3E34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EC63-6958-4F7C-BEB8-F3D9C39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1D2E-3A34-4791-9A37-C54CD41E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F137-7D6E-4041-9671-67896CCC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4F2F2-77FB-4DBA-9212-3A4A2027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5D46-7EC7-4D02-95A1-D4F62F7E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2FA5-2A24-4D74-BDA1-CBEE1EBB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EEDFD-8D5E-49C7-8979-18EF636C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26D-FA4F-4E4B-A38D-B47FBE8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2E79-E599-4D68-8048-BD2C9AA1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1165-5673-4E22-AE34-79709898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3E23-CFE2-48D3-8216-ABD3DFB0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4E277-82A5-4EE7-8EB7-BBB00E5D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14EB-B654-4960-98DE-9ABD7F1E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9B7D0-09AE-4F87-BFF2-72A8DA0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1B5B-3196-474C-BA03-96D2F99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20705-44D3-47D3-A1E8-258968E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67D8B-9D35-40C7-851C-1B666609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88E29-8D95-4DC9-A7A1-74B06758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8E5-E951-49C1-B5BB-AEFC9410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8EA0A-025B-418A-81D0-C628A7D3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E0724-39CB-4482-A4B6-8386F338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F0BEB-EF69-4846-B8EF-A80E625A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66DA4-2646-4C6B-944C-86ACF43C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CFD82-9A7D-4F07-897A-37737D9D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B67CE-67DD-4DAD-A95D-E9171240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752FF-0E8B-43F7-9065-5B4A4B90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44B51-2CF7-43AD-836B-1177F3B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D0266-5E1C-4547-88BA-DF13A6B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179E9-CABF-4D6E-B560-27E21B25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3DF-7199-43F4-9F13-83AC911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167A2-65F4-4462-8363-438F3AB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92824-6553-4210-B7F8-CF467189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DDF22-8C87-4935-AB83-B75942BE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24D-DCDB-4BF7-AD8F-5306BF3F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162-42C0-440F-ADEF-4F8E8FAF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6F17-D410-4353-95F3-C3D99767311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94D-2099-43C7-A96F-D36638A4E11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B3C6-3407-4679-AF68-F0DF76C1763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A128-6179-415A-922E-1608EDD4491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DF45-221D-4886-A6F6-B81F0DD208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7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FFE3-2013-412F-A22C-6902D3A47B7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9"/>
          <p:cNvSpPr/>
          <p:nvPr/>
        </p:nvSpPr>
        <p:spPr>
          <a:xfrm>
            <a:off x="468360" y="333360"/>
            <a:ext cx="8207280" cy="53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ибка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сарная операция, с  помощью которой заготовке придается необходимая фор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1" descr="Рисунок6"/>
          <p:cNvPicPr/>
          <p:nvPr/>
        </p:nvPicPr>
        <p:blipFill>
          <a:blip r:embed="rId1"/>
          <a:stretch/>
        </p:blipFill>
        <p:spPr>
          <a:xfrm>
            <a:off x="5143680" y="428760"/>
            <a:ext cx="2962080" cy="2962080"/>
          </a:xfrm>
          <a:prstGeom prst="rect">
            <a:avLst/>
          </a:prstGeom>
          <a:ln w="0">
            <a:noFill/>
          </a:ln>
        </p:spPr>
      </p:pic>
      <p:sp>
        <p:nvSpPr>
          <p:cNvPr id="280" name="Oval 12"/>
          <p:cNvSpPr/>
          <p:nvPr/>
        </p:nvSpPr>
        <p:spPr>
          <a:xfrm>
            <a:off x="2771640" y="6308640"/>
            <a:ext cx="64800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ПИЧНЫЕ ДЕФЕКТЫ ПРИ ГИБКЕ,  ПРИЧИНЫ ИХ ПОЯВЛЕНИЯ И СПОСОБЫ ПРЕДУПРЕЖДЕНИЯ</a:t>
            </a: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79280" y="907920"/>
          <a:ext cx="8785440" cy="5708880"/>
        </p:xfrm>
        <a:graphic>
          <a:graphicData uri="http://schemas.openxmlformats.org/drawingml/2006/table">
            <a:tbl>
              <a:tblPr/>
              <a:tblGrid>
                <a:gridCol w="2305080"/>
                <a:gridCol w="2592360"/>
                <a:gridCol w="3888000"/>
              </a:tblGrid>
              <a:tr h="631080">
                <a:tc>
                  <a:txBody>
                    <a:bodyPr lIns="25560" rIns="25560" tIns="0" bIns="0" anchor="t">
                      <a:noAutofit/>
                    </a:bodyPr>
                    <a:p>
                      <a:pPr marL="216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предуп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7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3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гибании уголка из полосы он получился перекоше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закрепление заготовки в тис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полосу так, чтобы риска разметки точно располагалась по уровню губок тисков. Перпендикулярность полосы губкам тисков проверять угольни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749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изогнутой детали не соответствуют зада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чный расчет развертки, неправильно выбрана опр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 развертки детали производить с учетом припуска на загиб и последующую обработку. Точно производить разметку мест изгиба. Применять оправки, точно соответствующие заданным размерам де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90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ятины' (трещины) при изгибании трубы с наполни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ба недостаточно плотно набита наполни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бу при заполнении наполнителем (сухим песком) располагать вертикально. Постукивать по трубе со всех сторон молот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900000" y="1484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по отработке приёмов гиб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684360" y="105120"/>
            <a:ext cx="7684920" cy="91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ое задание 1.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бка двойного угольника из полосы в тисках.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179280" y="3429000"/>
            <a:ext cx="89647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Определяем длину заготовки согласно чертеж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= 20 + 60 + 15 + 2 × 0,5 ×  3 = 98 мм,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где   2 -  два изгиба;  0,5 ×  3 - припуск на изги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79280" y="4941720"/>
            <a:ext cx="8964720" cy="211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ибавим к расчетной длине припуск на дополнительную обработку торцов после рубки - 1 мм на каждую сторону. Таким образом, общая длина заготовки состави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98 + 2 = 100  мм.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Рисунок5"/>
          <p:cNvPicPr/>
          <p:nvPr/>
        </p:nvPicPr>
        <p:blipFill>
          <a:blip r:embed="rId1"/>
          <a:stretch/>
        </p:blipFill>
        <p:spPr>
          <a:xfrm>
            <a:off x="900000" y="1052640"/>
            <a:ext cx="6840720" cy="2406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179280" y="69228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в заданную длину на полосе, проводят риску. Полосу укладывают на правильную плиту и навесным ударом отрубают размеченную заготовку. При необходимости заготовку прав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50920" y="242100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в торцы заготовки и получив расчетную длину, приступаем к гиб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79280" y="350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чаем заготовку, причем к размеру полки каждого изгиба прибавляют 1,5 мм, т. е. на полосе проводим риски на расстоянии 21,5 и 16,5 мм от каждого то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324000" y="501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маем заготовку в тиски таким образом, чтобы риска линии изгиба совпадала с верхней поверхностью губок т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9" descr="Рисунок6"/>
          <p:cNvPicPr/>
          <p:nvPr/>
        </p:nvPicPr>
        <p:blipFill>
          <a:blip r:embed="rId1"/>
          <a:stretch/>
        </p:blipFill>
        <p:spPr>
          <a:xfrm>
            <a:off x="1692360" y="2421000"/>
            <a:ext cx="4886280" cy="41497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0"/>
          <p:cNvSpPr/>
          <p:nvPr/>
        </p:nvSpPr>
        <p:spPr>
          <a:xfrm>
            <a:off x="395280" y="40464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сим удары молотком по выступающей части полосы, загибаем первую полку угольник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заготовку переворачиваем, устанавливаем ее по второй линии изгиба и зажимаем в ти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27280" y="6021360"/>
            <a:ext cx="72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агибаем вторую полку 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39640" y="573408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гибки проверяют на глаз, углы — слесарным угольником, линейные размеры — линей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Рисунок6"/>
          <p:cNvPicPr/>
          <p:nvPr/>
        </p:nvPicPr>
        <p:blipFill>
          <a:blip r:embed="rId1"/>
          <a:stretch/>
        </p:blipFill>
        <p:spPr>
          <a:xfrm>
            <a:off x="2916360" y="981000"/>
            <a:ext cx="4408200" cy="44085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7"/>
          <p:cNvSpPr/>
          <p:nvPr/>
        </p:nvSpPr>
        <p:spPr>
          <a:xfrm>
            <a:off x="3924360" y="479736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971640" y="18900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чебное задание 2.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бка металла круглого сечения с применением приспособ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Рисунок10"/>
          <p:cNvPicPr/>
          <p:nvPr/>
        </p:nvPicPr>
        <p:blipFill>
          <a:blip r:embed="rId1"/>
          <a:stretch/>
        </p:blipFill>
        <p:spPr>
          <a:xfrm>
            <a:off x="539640" y="1557360"/>
            <a:ext cx="8113680" cy="4129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1042920" y="5516640"/>
            <a:ext cx="3529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 черти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7"/>
          <p:cNvSpPr/>
          <p:nvPr/>
        </p:nvSpPr>
        <p:spPr>
          <a:xfrm>
            <a:off x="250920" y="620640"/>
            <a:ext cx="86421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 общую длину заготовки согласно чертеж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жня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ца = 120 + 3.14 ∙ 30 = 214.2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30 мм – диаметр кольц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езаем от прутка 215 мм;  0,8 мм оставляют на окончательную обработку, при необходимости пруток прави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рив от конца прутка половину длины окружности кольца (47 мм), зажимаем заготовку вместе с оправкой в ти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ами молотка загибаем полукольцо 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Рисунок11"/>
          <p:cNvPicPr/>
          <p:nvPr/>
        </p:nvPicPr>
        <p:blipFill>
          <a:blip r:embed="rId1"/>
          <a:stretch/>
        </p:blipFill>
        <p:spPr>
          <a:xfrm>
            <a:off x="324000" y="2565360"/>
            <a:ext cx="8227800" cy="37371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324000" y="404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вернув заготовку на 180° вместе с оправкой, загибаем вторую часть кольца (б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7"/>
          <p:cNvSpPr/>
          <p:nvPr/>
        </p:nvSpPr>
        <p:spPr>
          <a:xfrm>
            <a:off x="395280" y="4046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 вынимая оправки из кольца, заготовку переставляем в тисках и ударом молотка по стержню подгибаем его, придавая ему правильное положение относительно оси кольца; оси кольца и стержня должны совп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Рисунок11"/>
          <p:cNvPicPr/>
          <p:nvPr/>
        </p:nvPicPr>
        <p:blipFill>
          <a:blip r:embed="rId1"/>
          <a:stretch/>
        </p:blipFill>
        <p:spPr>
          <a:xfrm>
            <a:off x="2627280" y="1989000"/>
            <a:ext cx="4657680" cy="3372120"/>
          </a:xfrm>
          <a:prstGeom prst="rect">
            <a:avLst/>
          </a:prstGeom>
          <a:ln w="0">
            <a:noFill/>
          </a:ln>
        </p:spPr>
      </p:pic>
      <p:sp>
        <p:nvSpPr>
          <p:cNvPr id="338" name="Oval 9"/>
          <p:cNvSpPr/>
          <p:nvPr/>
        </p:nvSpPr>
        <p:spPr>
          <a:xfrm>
            <a:off x="4788000" y="4365720"/>
            <a:ext cx="57456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324000" y="4941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и проверке качества гибки основное внимание уделяем симметричности расположения кольца по отношению к стержню. Линейные размеры проверяем линейкой, качество гибки – внешним осмо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250920" y="1353600"/>
            <a:ext cx="85359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кажи мне и я забуду.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Покажи мне и я запом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й мне действовать самому,             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и я научусь.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тайская мудрость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7"/>
          <p:cNvSpPr/>
          <p:nvPr/>
        </p:nvSpPr>
        <p:spPr>
          <a:xfrm>
            <a:off x="250920" y="549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у кольца можно производить и в приспособлении, для чего один конец заготовки устанавливаем в зазор между штифтом и оправкой, а свободный конец заготовки берем руками и изгибаем пруток вокруг опра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8" descr="Рисунок12"/>
          <p:cNvPicPr/>
          <p:nvPr/>
        </p:nvPicPr>
        <p:blipFill>
          <a:blip r:embed="rId1"/>
          <a:stretch/>
        </p:blipFill>
        <p:spPr>
          <a:xfrm>
            <a:off x="1332000" y="2421000"/>
            <a:ext cx="6983280" cy="3727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7"/>
          <p:cNvSpPr/>
          <p:nvPr/>
        </p:nvSpPr>
        <p:spPr>
          <a:xfrm flipV="1" rot="10800000">
            <a:off x="2771280" y="1773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971640" y="3213000"/>
            <a:ext cx="6985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значение для тебя лично имеют знания и умения, полученные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могал другим или тебе помог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звало наибольшие затруд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качества ты развивал в себ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539640" y="1704600"/>
            <a:ext cx="806472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способы выполнения трудовых операций: гибки листового металла, круглого металла в тисках с помощью различных приспособ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ботать по технологической кар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способы контроля и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2268360" y="428760"/>
            <a:ext cx="41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итогам урока вы долж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нарушения Техники безопасности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Picture 2" descr="J:\нарушения ТБ в картинках\plakat08.jpg"/>
          <p:cNvPicPr/>
          <p:nvPr/>
        </p:nvPicPr>
        <p:blipFill>
          <a:blip r:embed="rId1"/>
          <a:srcRect l="0" t="11310" r="4218" b="27302"/>
          <a:stretch/>
        </p:blipFill>
        <p:spPr>
          <a:xfrm>
            <a:off x="285840" y="1357200"/>
            <a:ext cx="2639880" cy="2428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J:\нарушения ТБ в картинках\safety_14.jpg"/>
          <p:cNvPicPr/>
          <p:nvPr/>
        </p:nvPicPr>
        <p:blipFill>
          <a:blip r:embed="rId2"/>
          <a:stretch/>
        </p:blipFill>
        <p:spPr>
          <a:xfrm>
            <a:off x="3000240" y="1214280"/>
            <a:ext cx="304956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8" name="Picture 2" descr="J:\нарушения ТБ в картинках\plakat11.jpg"/>
          <p:cNvPicPr/>
          <p:nvPr/>
        </p:nvPicPr>
        <p:blipFill>
          <a:blip r:embed="rId1"/>
          <a:srcRect l="0" t="12019" r="0" b="18250"/>
          <a:stretch/>
        </p:blipFill>
        <p:spPr>
          <a:xfrm>
            <a:off x="500040" y="428760"/>
            <a:ext cx="5497560" cy="5502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295200" y="1341360"/>
            <a:ext cx="8848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7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1214280" y="6429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ма : ГИБКА МЕТ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3"/>
          <p:cNvSpPr/>
          <p:nvPr/>
        </p:nvSpPr>
        <p:spPr>
          <a:xfrm>
            <a:off x="714240" y="1643040"/>
            <a:ext cx="8072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щность и виды ги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 Инструменты, приспособления и материалы, применяемые при гиб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 Механизация при гиб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 Правила выполнения работ при ручной гибке метал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 Типичные дефекты при гибке, причины  их появления и способыпредуп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J:\Плакт.слайд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642960" y="281880"/>
            <a:ext cx="764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57120" y="256680"/>
            <a:ext cx="835812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риально-техническое и учебно-методическое оснащение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и оборудова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отки слесарные массой 500 грамм; линейка измерительная; разметочный инструмент   (чертилка, циркуль разметочный); пресс винтовой или гидравл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я и материал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ски; оправки разные; гибочные штампы разные; гибочное приспособление для чертилок; масло машинное; песок речной мелкий; сталь листовая и круглый про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средства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чие тетради; технологические карты; критерии оценивания; алгоритм действий; экранные пособия (мультипроектор, слайдовый материа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7" descr="Рисунок3"/>
          <p:cNvPicPr/>
          <p:nvPr/>
        </p:nvPicPr>
        <p:blipFill>
          <a:blip r:embed="rId1"/>
          <a:stretch/>
        </p:blipFill>
        <p:spPr>
          <a:xfrm>
            <a:off x="3643200" y="4214880"/>
            <a:ext cx="3627720" cy="22892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0"/>
          <p:cNvSpPr/>
          <p:nvPr/>
        </p:nvSpPr>
        <p:spPr>
          <a:xfrm>
            <a:off x="250920" y="476280"/>
            <a:ext cx="54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гибание заготовок из тонколистового металла в тис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Рисунок1"/>
          <p:cNvPicPr/>
          <p:nvPr/>
        </p:nvPicPr>
        <p:blipFill>
          <a:blip r:embed="rId2"/>
          <a:stretch/>
        </p:blipFill>
        <p:spPr>
          <a:xfrm>
            <a:off x="142920" y="1143000"/>
            <a:ext cx="2211480" cy="19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Рисунок1"/>
          <p:cNvPicPr/>
          <p:nvPr/>
        </p:nvPicPr>
        <p:blipFill>
          <a:blip r:embed="rId3"/>
          <a:stretch/>
        </p:blipFill>
        <p:spPr>
          <a:xfrm>
            <a:off x="2357280" y="1143000"/>
            <a:ext cx="2573640" cy="1836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9"/>
          <p:cNvSpPr/>
          <p:nvPr/>
        </p:nvSpPr>
        <p:spPr>
          <a:xfrm>
            <a:off x="179280" y="30002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иян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2357280" y="3000240"/>
            <a:ext cx="26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помощью слесарного молотка и деревянного бр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5286240" y="78588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Гибка тонколистового металла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помощью оправок: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Рисунок2"/>
          <p:cNvPicPr/>
          <p:nvPr/>
        </p:nvPicPr>
        <p:blipFill>
          <a:blip r:embed="rId4"/>
          <a:stretch/>
        </p:blipFill>
        <p:spPr>
          <a:xfrm>
            <a:off x="5143680" y="1928880"/>
            <a:ext cx="2214360" cy="1538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Рисунок2"/>
          <p:cNvPicPr/>
          <p:nvPr/>
        </p:nvPicPr>
        <p:blipFill>
          <a:blip r:embed="rId5"/>
          <a:stretch/>
        </p:blipFill>
        <p:spPr>
          <a:xfrm>
            <a:off x="7215120" y="3071880"/>
            <a:ext cx="1795680" cy="131436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9"/>
          <p:cNvSpPr/>
          <p:nvPr/>
        </p:nvSpPr>
        <p:spPr>
          <a:xfrm>
            <a:off x="357120" y="4429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ибка в гибочном штамп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1"/>
          <p:cNvSpPr/>
          <p:nvPr/>
        </p:nvSpPr>
        <p:spPr>
          <a:xfrm flipH="1">
            <a:off x="5214240" y="4071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ан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5643720" y="4572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де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3"/>
          <p:cNvSpPr/>
          <p:nvPr/>
        </p:nvSpPr>
        <p:spPr>
          <a:xfrm>
            <a:off x="5072040" y="4786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6072120" y="60721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Копия Рисунок15"/>
          <p:cNvPicPr/>
          <p:nvPr/>
        </p:nvPicPr>
        <p:blipFill>
          <a:blip r:embed="rId6"/>
          <a:stretch/>
        </p:blipFill>
        <p:spPr>
          <a:xfrm>
            <a:off x="285840" y="5000760"/>
            <a:ext cx="1785960" cy="12078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16"/>
          <p:cNvSpPr/>
          <p:nvPr/>
        </p:nvSpPr>
        <p:spPr>
          <a:xfrm>
            <a:off x="571680" y="6215040"/>
            <a:ext cx="21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ибка провол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397440"/>
            <a:ext cx="7602480" cy="6001560"/>
          </a:xfrm>
          <a:prstGeom prst="rect">
            <a:avLst/>
          </a:prstGeom>
          <a:noFill/>
          <a:ln w="9360">
            <a:solidFill>
              <a:srgbClr val="af340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выполнения работ при ручной гибке мет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ибании листового и полосового материала в тисках разметочную риску необходимо располагать то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бке из полос и прутков деталей типа уголков, скоб разной конфигурации, крючков, колец следует рассчитывать длину элементов и общую длину развертки детали, размечая при этом места изги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бке листового и полосового металла в приспособлениях необходимо строго придерживаться прилагаемых к ним инстру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бке газовых или водопроводных труб любым методом шов должен располагаться внутри изги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07:58:01Z</dcterms:created>
  <dc:creator>Admin</dc:creator>
  <dc:description/>
  <dc:language>en-US</dc:language>
  <cp:lastModifiedBy>ZamPOA</cp:lastModifiedBy>
  <dcterms:modified xsi:type="dcterms:W3CDTF">2013-09-19T03:48:18Z</dcterms:modified>
  <cp:revision>27</cp:revision>
  <dc:subject/>
  <dc:title>Слайд 1</dc:title>
</cp:coreProperties>
</file>