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5CF-C614-4923-A7CF-34596860D1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E254-887A-4F8A-9D0F-C6EF5DF72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E4C-FA0C-476C-A97C-D5921AD1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51E-1A06-4135-B562-4A9AA701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973-4A3C-4E97-AEE3-874340CE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648-051E-407C-AF49-B58DE35E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9BE0-9A1C-43EE-92F4-BA36D95A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DD16-81CF-4B22-8071-40B3EF9A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B538-AC91-409B-A8F6-672F47BE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079B-9F3B-45B8-BC9B-700101F9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F865-566D-4B4A-BE30-2CFA49C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B995-6EAA-4666-9294-DE5DA50B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531-1ECB-4206-88F5-74B351AB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1F6-43A3-4F7F-A78B-A7B26B47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CAB2-7578-4F0F-A54C-AE14818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D969-4E85-434D-8F6F-C2C4EE6B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3A77-922F-4909-A6D4-06F1CCA5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BC8B-C926-4D2E-A592-48DD5CB2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98E-B0AF-4EFA-9288-E1A6B667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A646-567D-4C6B-AF7B-BCE639AB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EC73-371E-44A8-8179-52EBBF9A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75A0-7A32-4B87-B308-37D15379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3B1C-8CC6-4928-8221-772374B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C571-C0F3-4F52-A4FB-4361E0B0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01B-F11C-437A-A7D8-E98726B5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1316-E24A-4037-8D4E-E28A383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4D2A-36AE-45BF-84AC-8471198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5C13-A550-4F68-998F-BAF6175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50B0-DCF5-4FC2-916D-D103B47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98A2-E885-46A0-9B7F-6A1BB177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9A26-1F11-4EBC-83B3-8E5392F6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4B1D-4609-4496-BB6E-211A06D9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40EB-29EC-483A-A1DE-269F1D85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B3B2-D237-42FA-A4A0-3578E47A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0872A-2B86-4128-B36C-C84BB15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581-2A73-4D84-BBE1-C2962A27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0A1B-ACD3-4A08-B088-B6316C23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8E551-834F-4B98-A0E9-EAB952AA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6BFC1-0E1B-4981-AD42-AB861E65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3771-3D6D-4F70-BB55-87F3AD42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FD2B-8DC9-42C2-8A3D-30FA176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3159-BEA0-41EF-95E4-3225442E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3BE7-77DC-4CE6-8F37-FA37EBBE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8E66-F241-4652-8472-6230DDB4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9262-E61E-4B05-8614-D0F82845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DD5A-82F2-410D-B431-DE9DE512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473-7E80-4229-8C83-C66C853E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15459-8C01-4453-87A2-C60BC71C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044A2-9153-4451-9350-8F718DB6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A00FB-AD9D-489D-A182-F0568FAE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636E0-7C97-45C9-8382-70B87948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F6A52-80F0-463F-8671-26CA271F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8241-3813-4337-AF35-DD89832B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1317-3E1C-4105-B155-8E04D1CE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1D33-2EB0-481F-8A34-1C0ADF88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60063-2710-4385-B94C-4620964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6046-C4ED-49A2-816C-1A666AB7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88D-6467-4E89-9649-8F8B27D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872B-DC68-4271-AE72-A1BD0ECA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9B3F1-5782-47C6-A0B5-D57BBD08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33127-7A7F-464E-A9D1-E631A6D2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F071F-B78B-40EB-BE42-C757B815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2D96F-AC1D-4086-90B6-4B18F949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A7884-CEE7-479B-8540-2AC0888D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F64F3-3423-455A-B65D-3736403A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8067E-127B-488A-9136-68607E79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DC4C2-569E-4595-800B-8DC9E9F8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6E5FF-BE31-4F17-B4A5-E490771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326-E40B-41DF-8232-51CBD60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37B0A-769C-4A79-B54E-CC7BE68B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548D3-188E-45BD-9B39-89AB3562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3818B-2EDF-45AC-8AA9-60371A0D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BD2-D3B6-4B77-8BAB-A64CC25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CAE-552A-48CF-B7EA-B3ED18F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1673-A8CD-4D76-BAE0-CB88A1A5F5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F86D-137F-4843-9DC0-9D5D45C93C8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A59-BB0C-4B2A-95EA-C644802B80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CCF4-A9BA-4E62-B948-0D18050B9E4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5A32-709E-477C-ABAC-8B71317CE4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7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03C-02DC-4725-B94E-8CFF1223EA1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9"/>
          <p:cNvSpPr/>
          <p:nvPr/>
        </p:nvSpPr>
        <p:spPr>
          <a:xfrm>
            <a:off x="468360" y="333360"/>
            <a:ext cx="8207280" cy="53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ибка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сарная операция, с  помощью которой заготовке придается необходимая фор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1" descr="Рисунок6"/>
          <p:cNvPicPr/>
          <p:nvPr/>
        </p:nvPicPr>
        <p:blipFill>
          <a:blip r:embed="rId1"/>
          <a:stretch/>
        </p:blipFill>
        <p:spPr>
          <a:xfrm>
            <a:off x="5143680" y="428760"/>
            <a:ext cx="2962080" cy="2962080"/>
          </a:xfrm>
          <a:prstGeom prst="rect">
            <a:avLst/>
          </a:prstGeom>
          <a:ln w="0">
            <a:noFill/>
          </a:ln>
        </p:spPr>
      </p:pic>
      <p:sp>
        <p:nvSpPr>
          <p:cNvPr id="280" name="Oval 12"/>
          <p:cNvSpPr/>
          <p:nvPr/>
        </p:nvSpPr>
        <p:spPr>
          <a:xfrm>
            <a:off x="2771640" y="6308640"/>
            <a:ext cx="64800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ПИЧНЫЕ ДЕФЕКТЫ ПРИ ГИБКЕ,  ПРИЧИНЫ ИХ ПОЯВЛЕНИЯ И СПОСОБЫ ПРЕДУПРЕЖДЕНИЯ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79280" y="907920"/>
          <a:ext cx="8785440" cy="5708880"/>
        </p:xfrm>
        <a:graphic>
          <a:graphicData uri="http://schemas.openxmlformats.org/drawingml/2006/table">
            <a:tbl>
              <a:tblPr/>
              <a:tblGrid>
                <a:gridCol w="2305080"/>
                <a:gridCol w="2592360"/>
                <a:gridCol w="3888000"/>
              </a:tblGrid>
              <a:tr h="631080">
                <a:tc>
                  <a:txBody>
                    <a:bodyPr lIns="25560" rIns="25560" tIns="0" bIns="0" anchor="t">
                      <a:noAutofit/>
                    </a:bodyPr>
                    <a:p>
                      <a:pPr marL="216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предуп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3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гибании уголка из полосы он получился перекоше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закрепление заготовки в тис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полосу так, чтобы риска разметки точно располагалась по уровню губок тисков. Перпендикулярность полосы губкам тисков проверять угольни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49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изогнутой детали не соответствуют зада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чный расчет развертки, неправильно выбрана опр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 развертки детали производить с учетом припуска на загиб и последующую обработку. Точно производить разметку мест изгиба. Применять оправки, точно соответствующие заданным размерам де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90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ятины' (трещины) при изгибании трубы с наполни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ба недостаточно плотно набита наполни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бу при заполнении наполнителем (сухим песком) располагать вертикально. Постукивать по трубе со всех сторон молот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900000" y="1484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по отработке приёмов гиб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684360" y="105120"/>
            <a:ext cx="7684920" cy="91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ое задание 1.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бка двойного угольника из полосы в тисках.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179280" y="3429000"/>
            <a:ext cx="89647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Определяем длину заготовки согласно чертеж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= 20 + 60 + 15 + 2 × 0,5 ×  3 = 98 мм,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где   2 -  два изгиба;  0,5 ×  3 - припуск на изги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79280" y="4941720"/>
            <a:ext cx="8964720" cy="211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ибавим к расчетной длине припуск на дополнительную обработку торцов после рубки - 1 мм на каждую сторону. Таким образом, общая длина заготовки состави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98 + 2 = 100  мм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Рисунок5"/>
          <p:cNvPicPr/>
          <p:nvPr/>
        </p:nvPicPr>
        <p:blipFill>
          <a:blip r:embed="rId1"/>
          <a:stretch/>
        </p:blipFill>
        <p:spPr>
          <a:xfrm>
            <a:off x="900000" y="1052640"/>
            <a:ext cx="6840720" cy="2406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179280" y="69228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в заданную длину на полосе, проводят риску. Полосу укладывают на правильную плиту и навесным ударом отрубают размеченную заготовку. При необходимости заготовку прав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50920" y="242100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в торцы заготовки и получив расчетную длину, приступаем к гиб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79280" y="350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чаем заготовку, причем к размеру полки каждого изгиба прибавляют 1,5 мм, т. е. на полосе проводим риски на расстоянии 21,5 и 16,5 мм от каждого то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324000" y="501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маем заготовку в тиски таким образом, чтобы риска линии изгиба совпадала с верхней поверхностью губок т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9" descr="Рисунок6"/>
          <p:cNvPicPr/>
          <p:nvPr/>
        </p:nvPicPr>
        <p:blipFill>
          <a:blip r:embed="rId1"/>
          <a:stretch/>
        </p:blipFill>
        <p:spPr>
          <a:xfrm>
            <a:off x="1692360" y="2421000"/>
            <a:ext cx="4886280" cy="41497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0"/>
          <p:cNvSpPr/>
          <p:nvPr/>
        </p:nvSpPr>
        <p:spPr>
          <a:xfrm>
            <a:off x="395280" y="40464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сим удары молотком по выступающей части полосы, загибаем первую полку уголь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заготовку переворачиваем, устанавливаем ее по второй линии изгиба и зажимаем в ти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27280" y="6021360"/>
            <a:ext cx="72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агибаем вторую полку 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39640" y="573408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гибки проверяют на глаз, углы — слесарным угольником, линейные размеры — линей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Рисунок6"/>
          <p:cNvPicPr/>
          <p:nvPr/>
        </p:nvPicPr>
        <p:blipFill>
          <a:blip r:embed="rId1"/>
          <a:stretch/>
        </p:blipFill>
        <p:spPr>
          <a:xfrm>
            <a:off x="2916360" y="981000"/>
            <a:ext cx="4408200" cy="44085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7"/>
          <p:cNvSpPr/>
          <p:nvPr/>
        </p:nvSpPr>
        <p:spPr>
          <a:xfrm>
            <a:off x="3924360" y="479736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971640" y="18900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ое задание 2.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бка металла круглого сечения с применением приспособ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Рисунок10"/>
          <p:cNvPicPr/>
          <p:nvPr/>
        </p:nvPicPr>
        <p:blipFill>
          <a:blip r:embed="rId1"/>
          <a:stretch/>
        </p:blipFill>
        <p:spPr>
          <a:xfrm>
            <a:off x="539640" y="1557360"/>
            <a:ext cx="8113680" cy="4129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1042920" y="5516640"/>
            <a:ext cx="3529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 черти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7"/>
          <p:cNvSpPr/>
          <p:nvPr/>
        </p:nvSpPr>
        <p:spPr>
          <a:xfrm>
            <a:off x="250920" y="620640"/>
            <a:ext cx="86421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 общую длину заготовки согласно чертеж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жня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ца = 120 + 3.14 ∙ 30 = 214.2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30 мм – диаметр кольц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езаем от прутка 215 мм;  0,8 мм оставляют на окончательную обработку, при необходимости пруток прави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рив от конца прутка половину длины окружности кольца (47 мм), зажимаем заготовку вместе с оправкой в ти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ами молотка загибаем полукольцо 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Рисунок11"/>
          <p:cNvPicPr/>
          <p:nvPr/>
        </p:nvPicPr>
        <p:blipFill>
          <a:blip r:embed="rId1"/>
          <a:stretch/>
        </p:blipFill>
        <p:spPr>
          <a:xfrm>
            <a:off x="324000" y="2565360"/>
            <a:ext cx="8227800" cy="37371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324000" y="404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вернув заготовку на 180° вместе с оправкой, загибаем вторую часть кольца (б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7"/>
          <p:cNvSpPr/>
          <p:nvPr/>
        </p:nvSpPr>
        <p:spPr>
          <a:xfrm>
            <a:off x="395280" y="4046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 вынимая оправки из кольца, заготовку переставляем в тисках и ударом молотка по стержню подгибаем его, придавая ему правильное положение относительно оси кольца; оси кольца и стержня должны совп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Рисунок11"/>
          <p:cNvPicPr/>
          <p:nvPr/>
        </p:nvPicPr>
        <p:blipFill>
          <a:blip r:embed="rId1"/>
          <a:stretch/>
        </p:blipFill>
        <p:spPr>
          <a:xfrm>
            <a:off x="2627280" y="1989000"/>
            <a:ext cx="4657680" cy="3372120"/>
          </a:xfrm>
          <a:prstGeom prst="rect">
            <a:avLst/>
          </a:prstGeom>
          <a:ln w="0">
            <a:noFill/>
          </a:ln>
        </p:spPr>
      </p:pic>
      <p:sp>
        <p:nvSpPr>
          <p:cNvPr id="338" name="Oval 9"/>
          <p:cNvSpPr/>
          <p:nvPr/>
        </p:nvSpPr>
        <p:spPr>
          <a:xfrm>
            <a:off x="4788000" y="4365720"/>
            <a:ext cx="57456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324000" y="4941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и проверке качества гибки основное внимание уделяем симметричности расположения кольца по отношению к стержню. Линейные размеры проверяем линейкой, качество гибки – внешним осмо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250920" y="1353600"/>
            <a:ext cx="85359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кажи мне и я забуду.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Покажи мне и я запом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й мне действовать самому,             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и я научусь.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тайская мудрость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7"/>
          <p:cNvSpPr/>
          <p:nvPr/>
        </p:nvSpPr>
        <p:spPr>
          <a:xfrm>
            <a:off x="250920" y="549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у кольца можно производить и в приспособлении, для чего один конец заготовки устанавливаем в зазор между штифтом и оправкой, а свободный конец заготовки берем руками и изгибаем пруток вокруг опра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8" descr="Рисунок12"/>
          <p:cNvPicPr/>
          <p:nvPr/>
        </p:nvPicPr>
        <p:blipFill>
          <a:blip r:embed="rId1"/>
          <a:stretch/>
        </p:blipFill>
        <p:spPr>
          <a:xfrm>
            <a:off x="1332000" y="2421000"/>
            <a:ext cx="6983280" cy="372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7"/>
          <p:cNvSpPr/>
          <p:nvPr/>
        </p:nvSpPr>
        <p:spPr>
          <a:xfrm flipV="1" rot="10800000">
            <a:off x="2771280" y="1773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971640" y="3213000"/>
            <a:ext cx="6985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значение для тебя лично имеют знания и умения, полученные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могал другим или тебе помог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звало наибольшие затруд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качества ты развивал в себ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539640" y="1704600"/>
            <a:ext cx="806472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способы выполнения трудовых операций: гибки листового металла, круглого металла в тисках с помощью различных приспособ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ботать по технологической кар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способы контроля и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2268360" y="428760"/>
            <a:ext cx="41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итогам урока вы долж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нарушения Техники безопас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Picture 2" descr="J:\нарушения ТБ в картинках\plakat08.jpg"/>
          <p:cNvPicPr/>
          <p:nvPr/>
        </p:nvPicPr>
        <p:blipFill>
          <a:blip r:embed="rId1"/>
          <a:srcRect l="0" t="11310" r="4218" b="27302"/>
          <a:stretch/>
        </p:blipFill>
        <p:spPr>
          <a:xfrm>
            <a:off x="285840" y="1357200"/>
            <a:ext cx="2639880" cy="2428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J:\нарушения ТБ в картинках\safety_14.jpg"/>
          <p:cNvPicPr/>
          <p:nvPr/>
        </p:nvPicPr>
        <p:blipFill>
          <a:blip r:embed="rId2"/>
          <a:stretch/>
        </p:blipFill>
        <p:spPr>
          <a:xfrm>
            <a:off x="3000240" y="1214280"/>
            <a:ext cx="304956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8" name="Picture 2" descr="J:\нарушения ТБ в картинках\plakat11.jpg"/>
          <p:cNvPicPr/>
          <p:nvPr/>
        </p:nvPicPr>
        <p:blipFill>
          <a:blip r:embed="rId1"/>
          <a:srcRect l="0" t="12019" r="0" b="18250"/>
          <a:stretch/>
        </p:blipFill>
        <p:spPr>
          <a:xfrm>
            <a:off x="500040" y="428760"/>
            <a:ext cx="5497560" cy="5502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295200" y="1341360"/>
            <a:ext cx="8848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7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1214280" y="6429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ма : ГИБКА МЕТ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3"/>
          <p:cNvSpPr/>
          <p:nvPr/>
        </p:nvSpPr>
        <p:spPr>
          <a:xfrm>
            <a:off x="714240" y="1643040"/>
            <a:ext cx="8072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щность и виды ги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 Инструменты, приспособления и материалы, применяемые при гиб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 Механизация при гиб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 Правила выполнения работ при ручной гибке метал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 Типичные дефекты при гибке, причины  их появления и способыпредуп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J:\Плакт.слайд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642960" y="281880"/>
            <a:ext cx="764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57120" y="256680"/>
            <a:ext cx="835812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риально-техническое и учебно-методическое оснащение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и 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отки слесарные массой 500 грамм; линейка измерительная; разметочный инструмент   (чертилка, циркуль разметочный); пресс винтовой или гидравл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я и материал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ски; оправки разные; гибочные штампы разные; гибочное приспособление для чертилок; масло машинное; песок речной мелкий; сталь листовая и круглый про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средства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чие тетради; технологические карты; критерии оценивания; алгоритм действий; экранные пособия (мультипроектор, слайдовый материа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7" descr="Рисунок3"/>
          <p:cNvPicPr/>
          <p:nvPr/>
        </p:nvPicPr>
        <p:blipFill>
          <a:blip r:embed="rId1"/>
          <a:stretch/>
        </p:blipFill>
        <p:spPr>
          <a:xfrm>
            <a:off x="3643200" y="4214880"/>
            <a:ext cx="3627720" cy="22892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0"/>
          <p:cNvSpPr/>
          <p:nvPr/>
        </p:nvSpPr>
        <p:spPr>
          <a:xfrm>
            <a:off x="250920" y="476280"/>
            <a:ext cx="54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гибание заготовок из тонколистового металла в тис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Рисунок1"/>
          <p:cNvPicPr/>
          <p:nvPr/>
        </p:nvPicPr>
        <p:blipFill>
          <a:blip r:embed="rId2"/>
          <a:stretch/>
        </p:blipFill>
        <p:spPr>
          <a:xfrm>
            <a:off x="142920" y="1143000"/>
            <a:ext cx="2211480" cy="19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Рисунок1"/>
          <p:cNvPicPr/>
          <p:nvPr/>
        </p:nvPicPr>
        <p:blipFill>
          <a:blip r:embed="rId3"/>
          <a:stretch/>
        </p:blipFill>
        <p:spPr>
          <a:xfrm>
            <a:off x="2357280" y="1143000"/>
            <a:ext cx="2573640" cy="1836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9"/>
          <p:cNvSpPr/>
          <p:nvPr/>
        </p:nvSpPr>
        <p:spPr>
          <a:xfrm>
            <a:off x="179280" y="30002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иян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2357280" y="3000240"/>
            <a:ext cx="26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помощью слесарного молотка и деревянного бр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5286240" y="78588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Гибка тонколистового металла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помощью оправок: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Рисунок2"/>
          <p:cNvPicPr/>
          <p:nvPr/>
        </p:nvPicPr>
        <p:blipFill>
          <a:blip r:embed="rId4"/>
          <a:stretch/>
        </p:blipFill>
        <p:spPr>
          <a:xfrm>
            <a:off x="5143680" y="1928880"/>
            <a:ext cx="2214360" cy="1538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Рисунок2"/>
          <p:cNvPicPr/>
          <p:nvPr/>
        </p:nvPicPr>
        <p:blipFill>
          <a:blip r:embed="rId5"/>
          <a:stretch/>
        </p:blipFill>
        <p:spPr>
          <a:xfrm>
            <a:off x="7215120" y="3071880"/>
            <a:ext cx="1795680" cy="131436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9"/>
          <p:cNvSpPr/>
          <p:nvPr/>
        </p:nvSpPr>
        <p:spPr>
          <a:xfrm>
            <a:off x="357120" y="4429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ибка в гибочном штамп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1"/>
          <p:cNvSpPr/>
          <p:nvPr/>
        </p:nvSpPr>
        <p:spPr>
          <a:xfrm flipH="1">
            <a:off x="5214240" y="4071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ан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5643720" y="4572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де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3"/>
          <p:cNvSpPr/>
          <p:nvPr/>
        </p:nvSpPr>
        <p:spPr>
          <a:xfrm>
            <a:off x="5072040" y="4786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6072120" y="60721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Копия Рисунок15"/>
          <p:cNvPicPr/>
          <p:nvPr/>
        </p:nvPicPr>
        <p:blipFill>
          <a:blip r:embed="rId6"/>
          <a:stretch/>
        </p:blipFill>
        <p:spPr>
          <a:xfrm>
            <a:off x="285840" y="5000760"/>
            <a:ext cx="1785960" cy="12078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16"/>
          <p:cNvSpPr/>
          <p:nvPr/>
        </p:nvSpPr>
        <p:spPr>
          <a:xfrm>
            <a:off x="571680" y="6215040"/>
            <a:ext cx="21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ибка прово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397440"/>
            <a:ext cx="7602480" cy="6001560"/>
          </a:xfrm>
          <a:prstGeom prst="rect">
            <a:avLst/>
          </a:prstGeom>
          <a:noFill/>
          <a:ln w="9360">
            <a:solidFill>
              <a:srgbClr val="af340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выполнения работ при ручной гибке мет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ибании листового и полосового материала в тисках разметочную риску необходимо располагать то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бке из полос и прутков деталей типа уголков, скоб разной конфигурации, крючков, колец следует рассчитывать длину элементов и общую длину развертки детали, размечая при этом места изги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бке листового и полосового металла в приспособлениях необходимо строго придерживаться прилагаемых к ним инстру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бке газовых или водопроводных труб любым методом шов должен располагаться внутри изги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7:58:01Z</dcterms:created>
  <dc:creator>Admin</dc:creator>
  <dc:description/>
  <dc:language>en-US</dc:language>
  <cp:lastModifiedBy>ZamPOA</cp:lastModifiedBy>
  <dcterms:modified xsi:type="dcterms:W3CDTF">2013-09-19T03:48:18Z</dcterms:modified>
  <cp:revision>27</cp:revision>
  <dc:subject/>
  <dc:title>Слайд 1</dc:title>
</cp:coreProperties>
</file>