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4.png" ContentType="image/png"/>
  <Override PartName="/ppt/media/image1.gif" ContentType="image/gif"/>
  <Override PartName="/ppt/media/image23.jpeg" ContentType="image/jpeg"/>
  <Override PartName="/ppt/media/image21.png" ContentType="image/png"/>
  <Override PartName="/ppt/media/image20.jpeg" ContentType="image/jpeg"/>
  <Override PartName="/ppt/media/image18.png" ContentType="image/png"/>
  <Override PartName="/ppt/media/image19.gif" ContentType="image/gif"/>
  <Override PartName="/ppt/media/image10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2.gif" ContentType="image/gi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444A-7FC9-4E18-972C-36D747F0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A10A-7F04-43A5-AF14-D092AD61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C2A4-E96F-4314-A7CA-C62347F7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B3E5-6C18-4A52-A2B5-2DFFE09D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8B22-250F-47A4-AD9F-6DF0F2EE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F7A5-909E-40A2-B17C-1B50597C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533F-C3DC-4BAC-A49A-F66593F9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8119-DE77-4D51-A16D-D6705743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B4E5-B0A0-4CDD-BF66-F9B78F5F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DC99-8165-4301-B168-3F25E97C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309D-B1D2-4C36-B6B5-7E1A2459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E274-E31F-4E67-8D2C-26931E64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F60C-2C4C-4EC0-9FC2-A1FB85E44C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4698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MERRY CHRISTMA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305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Готовимся к Рождеств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Users\user\Desktop\0_c3235_77d568ef_XL.gif"/>
          <p:cNvPicPr/>
          <p:nvPr/>
        </p:nvPicPr>
        <p:blipFill>
          <a:blip r:embed="rId1"/>
          <a:stretch/>
        </p:blipFill>
        <p:spPr>
          <a:xfrm>
            <a:off x="5724360" y="2133720"/>
            <a:ext cx="318312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5184720" cy="6332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Crosses and Zeroes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125360"/>
          <a:ext cx="8291520" cy="5543640"/>
        </p:xfrm>
        <a:graphic>
          <a:graphicData uri="http://schemas.openxmlformats.org/drawingml/2006/table">
            <a:tbl>
              <a:tblPr/>
              <a:tblGrid>
                <a:gridCol w="2073240"/>
                <a:gridCol w="2071800"/>
                <a:gridCol w="2073240"/>
                <a:gridCol w="2073240"/>
              </a:tblGrid>
              <a:tr h="138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38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38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38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46" name="Picture 6" descr="http://smayls.ru/data/smiles/animashki-prazdniki-2267.gif"/>
          <p:cNvPicPr/>
          <p:nvPr/>
        </p:nvPicPr>
        <p:blipFill>
          <a:blip r:embed="rId1"/>
          <a:stretch/>
        </p:blipFill>
        <p:spPr>
          <a:xfrm>
            <a:off x="971640" y="1189080"/>
            <a:ext cx="1163520" cy="1303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http://aldryngton.wokingham.sch.uk/wp-content/uploads/2014/11/Santa.jpg"/>
          <p:cNvPicPr/>
          <p:nvPr/>
        </p:nvPicPr>
        <p:blipFill>
          <a:blip r:embed="rId2"/>
          <a:stretch/>
        </p:blipFill>
        <p:spPr>
          <a:xfrm>
            <a:off x="5003640" y="5257800"/>
            <a:ext cx="1532160" cy="1411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ttp://myfluffy.ru/image/data/gift.jpg"/>
          <p:cNvPicPr/>
          <p:nvPr/>
        </p:nvPicPr>
        <p:blipFill>
          <a:blip r:embed="rId3"/>
          <a:stretch/>
        </p:blipFill>
        <p:spPr>
          <a:xfrm>
            <a:off x="2987640" y="38894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http://www.exclusive-ufo.ru/upload/iblock/bc8/bc83fa0cbb8b0dd272fc9621ad74fb2b.jpg"/>
          <p:cNvPicPr/>
          <p:nvPr/>
        </p:nvPicPr>
        <p:blipFill>
          <a:blip r:embed="rId4"/>
          <a:stretch/>
        </p:blipFill>
        <p:spPr>
          <a:xfrm>
            <a:off x="826920" y="3913200"/>
            <a:ext cx="1346400" cy="134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http://www.breyerhorses.ru/upload/iblock/e92/e928066efb6ebe4c32656027da8da0f3.jpeg"/>
          <p:cNvPicPr/>
          <p:nvPr/>
        </p:nvPicPr>
        <p:blipFill>
          <a:blip r:embed="rId5"/>
          <a:stretch/>
        </p:blipFill>
        <p:spPr>
          <a:xfrm>
            <a:off x="4753080" y="2492280"/>
            <a:ext cx="1663560" cy="1397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http://www.coollady.ru/pic/0001/019/2011-03.jpg"/>
          <p:cNvPicPr/>
          <p:nvPr/>
        </p:nvPicPr>
        <p:blipFill>
          <a:blip r:embed="rId6"/>
          <a:stretch/>
        </p:blipFill>
        <p:spPr>
          <a:xfrm>
            <a:off x="1027080" y="2492280"/>
            <a:ext cx="946080" cy="1420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http://mywishlist.ru/pic/i/wish/orig/006/603/427.jpeg"/>
          <p:cNvPicPr/>
          <p:nvPr/>
        </p:nvPicPr>
        <p:blipFill>
          <a:blip r:embed="rId7"/>
          <a:stretch/>
        </p:blipFill>
        <p:spPr>
          <a:xfrm>
            <a:off x="2825640" y="1197000"/>
            <a:ext cx="1530360" cy="125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http://www.zwalls.ru/pic/201309/1920x1080/zwalls.ru-16414.jpg"/>
          <p:cNvPicPr/>
          <p:nvPr/>
        </p:nvPicPr>
        <p:blipFill>
          <a:blip r:embed="rId8"/>
          <a:stretch/>
        </p:blipFill>
        <p:spPr>
          <a:xfrm>
            <a:off x="669960" y="5492880"/>
            <a:ext cx="2016000" cy="1135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2" descr="http://avrorabtl.ru/wp-content/uploads/2016/08/Art.V001-Petushok-zolotoi%CC%86-grebeshok.jpg"/>
          <p:cNvPicPr/>
          <p:nvPr/>
        </p:nvPicPr>
        <p:blipFill>
          <a:blip r:embed="rId9"/>
          <a:stretch/>
        </p:blipFill>
        <p:spPr>
          <a:xfrm>
            <a:off x="7308720" y="3933720"/>
            <a:ext cx="1295640" cy="1324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http://friends.kz/uploads/posts/2009-12/1261071629_80.jpg"/>
          <p:cNvPicPr/>
          <p:nvPr/>
        </p:nvPicPr>
        <p:blipFill>
          <a:blip r:embed="rId10"/>
          <a:srcRect l="5731" t="24720" r="19936" b="11332"/>
          <a:stretch/>
        </p:blipFill>
        <p:spPr>
          <a:xfrm>
            <a:off x="4859280" y="1197000"/>
            <a:ext cx="1855800" cy="1276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6" descr="http://s39.radikal.ru/i085/1012/be/05900ce45220.jpg"/>
          <p:cNvPicPr/>
          <p:nvPr/>
        </p:nvPicPr>
        <p:blipFill>
          <a:blip r:embed="rId11"/>
          <a:srcRect l="4294" t="0" r="8993" b="0"/>
          <a:stretch/>
        </p:blipFill>
        <p:spPr>
          <a:xfrm>
            <a:off x="2768760" y="2616120"/>
            <a:ext cx="1731960" cy="1244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8" descr="http://img.xcitefun.net/users/2012/12/310748,xcitefun-new-year-greeting-cards-2013-2.jpg"/>
          <p:cNvPicPr/>
          <p:nvPr/>
        </p:nvPicPr>
        <p:blipFill>
          <a:blip r:embed="rId12"/>
          <a:stretch/>
        </p:blipFill>
        <p:spPr>
          <a:xfrm>
            <a:off x="2340000" y="5321160"/>
            <a:ext cx="2316240" cy="152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0" descr="http://www.freenewimages.com/wp-content/uploads/2015/12/merry-christmas-banners-2015.jpg"/>
          <p:cNvPicPr/>
          <p:nvPr/>
        </p:nvPicPr>
        <p:blipFill>
          <a:blip r:embed="rId13"/>
          <a:stretch/>
        </p:blipFill>
        <p:spPr>
          <a:xfrm>
            <a:off x="6588000" y="2813040"/>
            <a:ext cx="2232000" cy="90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2" descr="http://www.detimag.ru/out/pictures/generated/product/1/800_600_90/145431v9089628_1.jpg"/>
          <p:cNvPicPr/>
          <p:nvPr/>
        </p:nvPicPr>
        <p:blipFill>
          <a:blip r:embed="rId14"/>
          <a:stretch/>
        </p:blipFill>
        <p:spPr>
          <a:xfrm>
            <a:off x="6715080" y="928800"/>
            <a:ext cx="1787400" cy="178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4" descr="http://static.diary.ru/userdir/3/2/9/5/3295421/82381712.jpg"/>
          <p:cNvPicPr/>
          <p:nvPr/>
        </p:nvPicPr>
        <p:blipFill>
          <a:blip r:embed="rId15"/>
          <a:stretch/>
        </p:blipFill>
        <p:spPr>
          <a:xfrm>
            <a:off x="6948360" y="5321160"/>
            <a:ext cx="1305000" cy="1306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6" descr="http://www.nordbike.ru/NB_WP/wp-content/uploads/2015/12/bike_gift.jpg"/>
          <p:cNvPicPr/>
          <p:nvPr/>
        </p:nvPicPr>
        <p:blipFill>
          <a:blip r:embed="rId16"/>
          <a:srcRect l="7767" t="4798" r="10952" b="0"/>
          <a:stretch/>
        </p:blipFill>
        <p:spPr>
          <a:xfrm>
            <a:off x="5003640" y="3933720"/>
            <a:ext cx="1573200" cy="1324080"/>
          </a:xfrm>
          <a:prstGeom prst="rect">
            <a:avLst/>
          </a:prstGeom>
          <a:ln w="0">
            <a:noFill/>
          </a:ln>
        </p:spPr>
      </p:pic>
      <p:sp>
        <p:nvSpPr>
          <p:cNvPr id="62" name="Заголовок 1"/>
          <p:cNvSpPr/>
          <p:nvPr/>
        </p:nvSpPr>
        <p:spPr>
          <a:xfrm>
            <a:off x="536400" y="1197000"/>
            <a:ext cx="435240" cy="284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2608200" y="1197000"/>
            <a:ext cx="434880" cy="284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4657680" y="1189080"/>
            <a:ext cx="436680" cy="284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6730920" y="1189080"/>
            <a:ext cx="434880" cy="284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536400" y="2573280"/>
            <a:ext cx="435240" cy="284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2608200" y="2573280"/>
            <a:ext cx="434880" cy="284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4657680" y="2567160"/>
            <a:ext cx="436680" cy="2822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6730920" y="2567160"/>
            <a:ext cx="434880" cy="2822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536400" y="3983040"/>
            <a:ext cx="435240" cy="2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Заголовок 1"/>
          <p:cNvSpPr/>
          <p:nvPr/>
        </p:nvSpPr>
        <p:spPr>
          <a:xfrm>
            <a:off x="2608200" y="3983040"/>
            <a:ext cx="434880" cy="2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Заголовок 1"/>
          <p:cNvSpPr/>
          <p:nvPr/>
        </p:nvSpPr>
        <p:spPr>
          <a:xfrm>
            <a:off x="4657680" y="3975120"/>
            <a:ext cx="436680" cy="2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Заголовок 1"/>
          <p:cNvSpPr/>
          <p:nvPr/>
        </p:nvSpPr>
        <p:spPr>
          <a:xfrm>
            <a:off x="6730920" y="3975120"/>
            <a:ext cx="434880" cy="2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Заголовок 1"/>
          <p:cNvSpPr/>
          <p:nvPr/>
        </p:nvSpPr>
        <p:spPr>
          <a:xfrm>
            <a:off x="536400" y="5321160"/>
            <a:ext cx="435240" cy="284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2608200" y="5321160"/>
            <a:ext cx="434880" cy="284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657680" y="5313240"/>
            <a:ext cx="436680" cy="284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6730920" y="5313240"/>
            <a:ext cx="434880" cy="284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http://3.bp.blogspot.com/-lxLR1vme6x8/VItTJy4GbsI/AAAAAAAALHk/OXXqQa2Cgm4/s1600/%D0%97%D0%98%D0%9C%D0%903gif.gif"/>
          <p:cNvPicPr/>
          <p:nvPr/>
        </p:nvPicPr>
        <p:blipFill>
          <a:blip r:embed="rId2"/>
          <a:stretch/>
        </p:blipFill>
        <p:spPr>
          <a:xfrm>
            <a:off x="-10800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1.bp.blogspot.com/-hqDcpL4aVew/UIMC5JBNQiI/AAAAAAAACdQ/dfare-NF4Pg/s1600/Santa_-reindeer.jpg"/>
          <p:cNvPicPr/>
          <p:nvPr/>
        </p:nvPicPr>
        <p:blipFill>
          <a:blip r:embed="rId2"/>
          <a:stretch/>
        </p:blipFill>
        <p:spPr>
          <a:xfrm>
            <a:off x="-324000" y="-4572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we wish you a merry christmas.mp4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584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3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homewor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http://www.nikvery.mobi/slaydy/raspisani.jpg"/>
          <p:cNvPicPr/>
          <p:nvPr/>
        </p:nvPicPr>
        <p:blipFill>
          <a:blip r:embed="rId1"/>
          <a:srcRect l="2180" t="9266" r="2791" b="13033"/>
          <a:stretch/>
        </p:blipFill>
        <p:spPr>
          <a:xfrm>
            <a:off x="6084720" y="4543560"/>
            <a:ext cx="2791080" cy="2280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тетрадь с.33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ся к контрольной работ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ь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ы с 3 лицом ед.ч.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.число существительных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/Muc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ции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..?, Do you/we/they..?, Does he/she…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ы связки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/is/are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Thanks for a lesson</a:t>
            </a:r>
            <a:r>
              <a:rPr b="1" i="1" lang="ru-RU" sz="7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6" descr="http://previews.123rf.com/images/dazdraperma/dazdraperma1011/dazdraperma101100067/8339600-Cartoon-illustration-of-Santa-Claus-in-his-sleigh-Stock-Photo.jpg"/>
          <p:cNvPicPr/>
          <p:nvPr/>
        </p:nvPicPr>
        <p:blipFill>
          <a:blip r:embed="rId1"/>
          <a:stretch/>
        </p:blipFill>
        <p:spPr>
          <a:xfrm>
            <a:off x="20520" y="2962440"/>
            <a:ext cx="9123480" cy="3895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3059280" y="1989000"/>
            <a:ext cx="25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Forte"/>
              </a:rPr>
              <a:t>Goodby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16:47:50Z</dcterms:created>
  <dc:creator>Администратор</dc:creator>
  <dc:description/>
  <dc:language>en-US</dc:language>
  <cp:lastModifiedBy>user</cp:lastModifiedBy>
  <dcterms:modified xsi:type="dcterms:W3CDTF">2016-12-11T14:06:59Z</dcterms:modified>
  <cp:revision>30</cp:revision>
  <dc:subject/>
  <dc:title>Слайд 1</dc:title>
</cp:coreProperties>
</file>