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4.png" ContentType="image/png"/>
  <Override PartName="/ppt/media/image1.gif" ContentType="image/gif"/>
  <Override PartName="/ppt/media/image23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9.gif" ContentType="image/gif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6FC-CFD3-4456-88EC-335FFD94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125-2C0A-45CE-AF15-D8AD74A5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324-A3BF-4F9E-A9A4-CA2A7DE1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6EF-BFB7-407E-804A-CA2E686D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4C4-9F00-4776-82D0-FB3449F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EA7-E977-4C15-BF64-9A06F4B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763-AEE8-405C-BDE5-210E0EA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292-465E-43E6-8A0A-E4A2D043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D2B-0416-45F6-AEE3-6F6F1F1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114-8180-4161-BFA5-1037A35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DD2-2962-46A6-A77A-297E18D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3CC-2E86-4B89-AF8D-B3C9155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508B-867C-41C4-93F1-A4DAB9A66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05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отовимся к Рожде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user\Desktop\0_c3235_77d568ef_XL.gif"/>
          <p:cNvPicPr/>
          <p:nvPr/>
        </p:nvPicPr>
        <p:blipFill>
          <a:blip r:embed="rId1"/>
          <a:stretch/>
        </p:blipFill>
        <p:spPr>
          <a:xfrm>
            <a:off x="5724360" y="2133720"/>
            <a:ext cx="31831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5184720" cy="633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Crosses and Zeroes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125360"/>
          <a:ext cx="8291520" cy="554364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6" descr="http://smayls.ru/data/smiles/animashki-prazdniki-2267.gif"/>
          <p:cNvPicPr/>
          <p:nvPr/>
        </p:nvPicPr>
        <p:blipFill>
          <a:blip r:embed="rId1"/>
          <a:stretch/>
        </p:blipFill>
        <p:spPr>
          <a:xfrm>
            <a:off x="971640" y="1189080"/>
            <a:ext cx="11635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aldryngton.wokingham.sch.uk/wp-content/uploads/2014/11/Santa.jpg"/>
          <p:cNvPicPr/>
          <p:nvPr/>
        </p:nvPicPr>
        <p:blipFill>
          <a:blip r:embed="rId2"/>
          <a:stretch/>
        </p:blipFill>
        <p:spPr>
          <a:xfrm>
            <a:off x="5003640" y="5257800"/>
            <a:ext cx="153216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myfluffy.ru/image/data/gift.jpg"/>
          <p:cNvPicPr/>
          <p:nvPr/>
        </p:nvPicPr>
        <p:blipFill>
          <a:blip r:embed="rId3"/>
          <a:stretch/>
        </p:blipFill>
        <p:spPr>
          <a:xfrm>
            <a:off x="2987640" y="38894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www.exclusive-ufo.ru/upload/iblock/bc8/bc83fa0cbb8b0dd272fc9621ad74fb2b.jpg"/>
          <p:cNvPicPr/>
          <p:nvPr/>
        </p:nvPicPr>
        <p:blipFill>
          <a:blip r:embed="rId4"/>
          <a:stretch/>
        </p:blipFill>
        <p:spPr>
          <a:xfrm>
            <a:off x="826920" y="3913200"/>
            <a:ext cx="1346400" cy="134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http://www.breyerhorses.ru/upload/iblock/e92/e928066efb6ebe4c32656027da8da0f3.jpeg"/>
          <p:cNvPicPr/>
          <p:nvPr/>
        </p:nvPicPr>
        <p:blipFill>
          <a:blip r:embed="rId5"/>
          <a:stretch/>
        </p:blipFill>
        <p:spPr>
          <a:xfrm>
            <a:off x="4753080" y="2492280"/>
            <a:ext cx="1663560" cy="139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www.coollady.ru/pic/0001/019/2011-03.jpg"/>
          <p:cNvPicPr/>
          <p:nvPr/>
        </p:nvPicPr>
        <p:blipFill>
          <a:blip r:embed="rId6"/>
          <a:stretch/>
        </p:blipFill>
        <p:spPr>
          <a:xfrm>
            <a:off x="1027080" y="2492280"/>
            <a:ext cx="946080" cy="14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://mywishlist.ru/pic/i/wish/orig/006/603/427.jpeg"/>
          <p:cNvPicPr/>
          <p:nvPr/>
        </p:nvPicPr>
        <p:blipFill>
          <a:blip r:embed="rId7"/>
          <a:stretch/>
        </p:blipFill>
        <p:spPr>
          <a:xfrm>
            <a:off x="2825640" y="1197000"/>
            <a:ext cx="1530360" cy="125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://www.zwalls.ru/pic/201309/1920x1080/zwalls.ru-16414.jpg"/>
          <p:cNvPicPr/>
          <p:nvPr/>
        </p:nvPicPr>
        <p:blipFill>
          <a:blip r:embed="rId8"/>
          <a:stretch/>
        </p:blipFill>
        <p:spPr>
          <a:xfrm>
            <a:off x="669960" y="5492880"/>
            <a:ext cx="2016000" cy="113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avrorabtl.ru/wp-content/uploads/2016/08/Art.V001-Petushok-zolotoi%CC%86-grebeshok.jpg"/>
          <p:cNvPicPr/>
          <p:nvPr/>
        </p:nvPicPr>
        <p:blipFill>
          <a:blip r:embed="rId9"/>
          <a:stretch/>
        </p:blipFill>
        <p:spPr>
          <a:xfrm>
            <a:off x="7308720" y="3933720"/>
            <a:ext cx="1295640" cy="13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http://friends.kz/uploads/posts/2009-12/1261071629_80.jpg"/>
          <p:cNvPicPr/>
          <p:nvPr/>
        </p:nvPicPr>
        <p:blipFill>
          <a:blip r:embed="rId10"/>
          <a:srcRect l="5731" t="24720" r="19936" b="11332"/>
          <a:stretch/>
        </p:blipFill>
        <p:spPr>
          <a:xfrm>
            <a:off x="4859280" y="1197000"/>
            <a:ext cx="1855800" cy="127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http://s39.radikal.ru/i085/1012/be/05900ce45220.jpg"/>
          <p:cNvPicPr/>
          <p:nvPr/>
        </p:nvPicPr>
        <p:blipFill>
          <a:blip r:embed="rId11"/>
          <a:srcRect l="4294" t="0" r="8993" b="0"/>
          <a:stretch/>
        </p:blipFill>
        <p:spPr>
          <a:xfrm>
            <a:off x="2768760" y="2616120"/>
            <a:ext cx="173196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http://img.xcitefun.net/users/2012/12/310748,xcitefun-new-year-greeting-cards-2013-2.jpg"/>
          <p:cNvPicPr/>
          <p:nvPr/>
        </p:nvPicPr>
        <p:blipFill>
          <a:blip r:embed="rId12"/>
          <a:stretch/>
        </p:blipFill>
        <p:spPr>
          <a:xfrm>
            <a:off x="2340000" y="5321160"/>
            <a:ext cx="231624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http://www.freenewimages.com/wp-content/uploads/2015/12/merry-christmas-banners-2015.jpg"/>
          <p:cNvPicPr/>
          <p:nvPr/>
        </p:nvPicPr>
        <p:blipFill>
          <a:blip r:embed="rId13"/>
          <a:stretch/>
        </p:blipFill>
        <p:spPr>
          <a:xfrm>
            <a:off x="6588000" y="2813040"/>
            <a:ext cx="223200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http://www.detimag.ru/out/pictures/generated/product/1/800_600_90/145431v9089628_1.jpg"/>
          <p:cNvPicPr/>
          <p:nvPr/>
        </p:nvPicPr>
        <p:blipFill>
          <a:blip r:embed="rId14"/>
          <a:stretch/>
        </p:blipFill>
        <p:spPr>
          <a:xfrm>
            <a:off x="6715080" y="928800"/>
            <a:ext cx="1787400" cy="17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http://static.diary.ru/userdir/3/2/9/5/3295421/82381712.jpg"/>
          <p:cNvPicPr/>
          <p:nvPr/>
        </p:nvPicPr>
        <p:blipFill>
          <a:blip r:embed="rId15"/>
          <a:stretch/>
        </p:blipFill>
        <p:spPr>
          <a:xfrm>
            <a:off x="6948360" y="5321160"/>
            <a:ext cx="1305000" cy="130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http://www.nordbike.ru/NB_WP/wp-content/uploads/2015/12/bike_gift.jpg"/>
          <p:cNvPicPr/>
          <p:nvPr/>
        </p:nvPicPr>
        <p:blipFill>
          <a:blip r:embed="rId16"/>
          <a:srcRect l="7767" t="4798" r="10952" b="0"/>
          <a:stretch/>
        </p:blipFill>
        <p:spPr>
          <a:xfrm>
            <a:off x="5003640" y="3933720"/>
            <a:ext cx="1573200" cy="132408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536400" y="1197000"/>
            <a:ext cx="43524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608200" y="1197000"/>
            <a:ext cx="4348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4657680" y="1189080"/>
            <a:ext cx="4366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6730920" y="1189080"/>
            <a:ext cx="4348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536400" y="2573280"/>
            <a:ext cx="43524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608200" y="257328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657680" y="2567160"/>
            <a:ext cx="436680" cy="282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730920" y="2567160"/>
            <a:ext cx="434880" cy="282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36400" y="3983040"/>
            <a:ext cx="43524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2608200" y="3983040"/>
            <a:ext cx="4348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4657680" y="3975120"/>
            <a:ext cx="4366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6730920" y="3975120"/>
            <a:ext cx="4348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36400" y="5321160"/>
            <a:ext cx="43524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2608200" y="532116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657680" y="5313240"/>
            <a:ext cx="4366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6730920" y="531324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3.bp.blogspot.com/-lxLR1vme6x8/VItTJy4GbsI/AAAAAAAALHk/OXXqQa2Cgm4/s1600/%D0%97%D0%98%D0%9C%D0%903gif.gif"/>
          <p:cNvPicPr/>
          <p:nvPr/>
        </p:nvPicPr>
        <p:blipFill>
          <a:blip r:embed="rId2"/>
          <a:stretch/>
        </p:blipFill>
        <p:spPr>
          <a:xfrm>
            <a:off x="-1080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1.bp.blogspot.com/-hqDcpL4aVew/UIMC5JBNQiI/AAAAAAAACdQ/dfare-NF4Pg/s1600/Santa_-reindeer.jpg"/>
          <p:cNvPicPr/>
          <p:nvPr/>
        </p:nvPicPr>
        <p:blipFill>
          <a:blip r:embed="rId2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e wish you a merry christmas.mp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5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nikvery.mobi/slaydy/raspisani.jpg"/>
          <p:cNvPicPr/>
          <p:nvPr/>
        </p:nvPicPr>
        <p:blipFill>
          <a:blip r:embed="rId1"/>
          <a:srcRect l="2180" t="9266" r="2791" b="13033"/>
          <a:stretch/>
        </p:blipFill>
        <p:spPr>
          <a:xfrm>
            <a:off x="6084720" y="4543560"/>
            <a:ext cx="2791080" cy="228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с.3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контрольно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 3 лицом ед.ч.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.число существительных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/Mu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..?, Do you/we/they..?, Does he/she…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вязк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/is/ar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Thanks for a lesson</a:t>
            </a:r>
            <a:r>
              <a:rPr b="1" i="1" lang="ru-RU" sz="7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http://previews.123rf.com/images/dazdraperma/dazdraperma1011/dazdraperma101100067/8339600-Cartoon-illustration-of-Santa-Claus-in-his-sleigh-Stock-Photo.jpg"/>
          <p:cNvPicPr/>
          <p:nvPr/>
        </p:nvPicPr>
        <p:blipFill>
          <a:blip r:embed="rId1"/>
          <a:stretch/>
        </p:blipFill>
        <p:spPr>
          <a:xfrm>
            <a:off x="20520" y="2962440"/>
            <a:ext cx="9123480" cy="3895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059280" y="198900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Forte"/>
              </a:rPr>
              <a:t>Good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6:47:50Z</dcterms:created>
  <dc:creator>Администратор</dc:creator>
  <dc:description/>
  <dc:language>en-US</dc:language>
  <cp:lastModifiedBy>user</cp:lastModifiedBy>
  <dcterms:modified xsi:type="dcterms:W3CDTF">2016-12-11T14:06:59Z</dcterms:modified>
  <cp:revision>30</cp:revision>
  <dc:subject/>
  <dc:title>Слайд 1</dc:title>
</cp:coreProperties>
</file>