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269E-57A9-45EC-905C-3C58BE95F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66FE-4E14-46BF-A102-15BCF8268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E09C-56ED-4809-ABFC-722E2205B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7D95-0C48-4976-927B-D4A4CF549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F33A-B160-4BEE-8CF6-AFB93597F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DB5B-45E1-4823-9702-4B0C47ED6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378A-046E-4ACD-9615-BA42AE28E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0DFB-4D67-4245-A2D8-F4DBFFCAF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A3B0-59CA-4436-8A4C-884FA203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7234-E229-4F12-B62C-93392818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5F3E-1B15-42C4-A331-1A80772A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57D8-C696-453D-8694-FBBEBE21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© Vasilyeva E.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E2D12-751B-4BCF-AC85-3246B49D21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539640" y="549360"/>
            <a:ext cx="7848720" cy="145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Химическая,  лесная  и лёгка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1116000" y="2637000"/>
            <a:ext cx="640872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мышленность   мир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© Vasilyeva E.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5619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Лёгкая промышлен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3959280" cy="2376360"/>
          </a:xfrm>
          <a:prstGeom prst="rect">
            <a:avLst/>
          </a:prstGeom>
          <a:ln w="38160">
            <a:solidFill>
              <a:srgbClr val="99ccff"/>
            </a:solidFill>
            <a:miter/>
          </a:ln>
        </p:spPr>
      </p:pic>
      <p:pic>
        <p:nvPicPr>
          <p:cNvPr id="73" name="Picture 7" descr=""/>
          <p:cNvPicPr/>
          <p:nvPr/>
        </p:nvPicPr>
        <p:blipFill>
          <a:blip r:embed="rId2"/>
          <a:srcRect l="0" t="0" r="1701" b="0"/>
          <a:stretch/>
        </p:blipFill>
        <p:spPr>
          <a:xfrm>
            <a:off x="457200" y="3716280"/>
            <a:ext cx="3970440" cy="2409840"/>
          </a:xfrm>
          <a:prstGeom prst="rect">
            <a:avLst/>
          </a:prstGeom>
          <a:ln w="38160">
            <a:solidFill>
              <a:srgbClr val="99ccff"/>
            </a:solidFill>
            <a:miter/>
          </a:ln>
        </p:spPr>
      </p:pic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0734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ёгкая промышленность - совокупность специализированных отраслей промышленности, производящих главным образом предметы массового потребления из различных видов сырь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ёгкая промышленность осуществляет как первичную обработку сырья, так и выпуск готовой продукции. Предприятия лёгкой промышленности производят также продукцию производственно-технического и специального назначения, которая используется в мебельной, авиационной, автомобильной, химической, электротехнической, пищевой и других отраслях промышленности, в сельском хозяйстве, в силовых ведомствах, на транспорте и в здравоохране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© Vasilyeva E.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23640" y="404280"/>
            <a:ext cx="4392360" cy="56883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едущей отраслью лёгкой промышленности мира является текстильное производств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мировой текстильной промышленности сложились пять главных региона 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Восточная Азия, Южная Азия, СНГ, Зарубежная Европа и СШ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каждом регионе преобладает производство хлопчатобумажных тканей и тканей из химических волоко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чиная с 50-х гг. доля экономически развитых стран Запада в мировом производстве тканей и одежды уменьшается. Многие старопромышленные районы приходят в упадок, например Великобрит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кстильное производство развивающегося мира, ориентирующееся на дешёвую рабочую силу, переживает бум развития: 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Китай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(1 место по выпуску хлопчатобумажных тканей), 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Индия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(2 место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кани и одежда, производимые в странах Юга экспортируются в страны Запа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США, западной Европе, Японии продаётся дешёвая одежда, трикотаж, получаемые из 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Тайваня, Индии, Китая, Сянгана, Тайланда, Колумбии, Мексики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и других развивающихся стра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1"/>
          <a:stretch/>
        </p:blipFill>
        <p:spPr>
          <a:xfrm>
            <a:off x="5003640" y="476280"/>
            <a:ext cx="3754440" cy="2521080"/>
          </a:xfrm>
          <a:prstGeom prst="rect">
            <a:avLst/>
          </a:prstGeom>
          <a:ln w="38160">
            <a:solidFill>
              <a:srgbClr val="ffcccc"/>
            </a:solidFill>
            <a:miter/>
          </a:ln>
        </p:spPr>
      </p:pic>
      <p:pic>
        <p:nvPicPr>
          <p:cNvPr id="78" name="Picture 8" descr=""/>
          <p:cNvPicPr/>
          <p:nvPr/>
        </p:nvPicPr>
        <p:blipFill>
          <a:blip r:embed="rId2"/>
          <a:stretch/>
        </p:blipFill>
        <p:spPr>
          <a:xfrm>
            <a:off x="5003640" y="3573360"/>
            <a:ext cx="3754440" cy="2475000"/>
          </a:xfrm>
          <a:prstGeom prst="rect">
            <a:avLst/>
          </a:prstGeom>
          <a:ln w="38160">
            <a:solidFill>
              <a:srgbClr val="ffcc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© Vasilyeva E.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Закреп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5145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каком регионе и когда возникли первые химические производств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ая страна занимает 1 место в мире по производству химической продукц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зовите четыре главных региона мировой химической промышлен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я каких стран лесная и деревообрабатывающая промышленность является важной отраслью международной специализац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ие страны являются крупнейшими заготовителями древесин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зовите главные страны-производители бума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ая страна лидирует по производству бумаги на долю населе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зовите пять главных регионов мировой текстильной промышлен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ие страны мира являются лидерами по производству хлопчатобумажных ткане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© Vasilyeva E.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2376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ма 5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 (п.9-1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и ответе уметь показывать по карте регионы и страны мира, названные в данной те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© Vasilyeva E.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Химическая промышлен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имическая промышленность — отрасль промышленности, включающая производство продукции из углеводородного, минерального и другого сырья путём его химической переработ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ловой объём производства химической промышленности в мире составляет около 2 трлн. дол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© Vasilyeva E.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39640" y="260280"/>
            <a:ext cx="8229600" cy="5865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имическая промышленность выделилась в отдельную отрасль с началом промышленного переворота. Первые заводы по производству серной кислоты — важнейшей из минеральных кислот, применяемых человеком, были построены в 1740г в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Великобритан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в 1766г. во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Франц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в 1805г. в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Росс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в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181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 Герма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обеспечения потребностей развивающихся текстильной и стекольной промышленности возникло производство кальцинированной соды во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Франц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1793г.), в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Великобритан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1823г.) в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Герман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1843г.), в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Росс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1864г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 развитием в середине XIX в. сельского хозяйства появились заводы минеральных удобрений: в 1842 в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Великобритан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в 1867 в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Герман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в 1892 в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Росс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ырьевые связи, раннее возникновение индустрии способствовали становлению Великобритании, как мирового лидера в химическом производстве, на протяжении трёх четвертей XIX 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 конца XIX в. с ростом потребности экономик в органических веществах лидером в химической промышленности становится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Герман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Благодаря быстрому процессу концентрации производств, высокому уровню научно-технического развития, активной торговой политике Германия к началу XX в. завоёвывает мировой рынок химической проду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СШ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химическая промышленность начала развиваться позже, чем в Европе, но уже </a:t>
            </a:r>
            <a:r>
              <a:rPr b="0" lang="ru-RU" sz="1600" spc="-1" strike="noStrike">
                <a:solidFill>
                  <a:srgbClr val="009999"/>
                </a:solidFill>
                <a:latin typeface="Arial"/>
              </a:rPr>
              <a:t>к 1913 по объёму производства химической продукции США заняли и с тех пор удерживают 1-е место в мире среди государств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Этому способствуют богатейшие запасы полезных ископаемых, развитая транспортная сеть, мощный внутренний рыно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ишь к концу 80-х годов химическая индустрия стран ЕС в общем исчислении превысила объёмы производства в СШ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© Vasilyeva E.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50920" y="764640"/>
            <a:ext cx="4038480" cy="5185080"/>
          </a:xfrm>
          <a:prstGeom prst="rect">
            <a:avLst/>
          </a:prstGeom>
          <a:gradFill rotWithShape="0">
            <a:gsLst>
              <a:gs pos="0">
                <a:srgbClr val="765e5e"/>
              </a:gs>
              <a:gs pos="50000">
                <a:srgbClr val="ffcccc"/>
              </a:gs>
              <a:gs pos="100000">
                <a:srgbClr val="765e5e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концу 20 века в мировой химической промышленности сложились четыре главных региона: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ША, Зарубежная Европа, СНГ, Япо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аждом из них получили развитие горно-химическая промышленность, производство минеральных удобрений, основной химической продукции, но в особенности органического синтеза и полимерных материа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00720" y="1268280"/>
          <a:ext cx="4392360" cy="4608720"/>
        </p:xfrm>
        <a:graphic>
          <a:graphicData uri="http://schemas.openxmlformats.org/drawingml/2006/table">
            <a:tbl>
              <a:tblPr/>
              <a:tblGrid>
                <a:gridCol w="1463400"/>
                <a:gridCol w="1465560"/>
                <a:gridCol w="1463400"/>
              </a:tblGrid>
              <a:tr h="76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ания, штаб-кварти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ём продаж в 2005г.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лрд. дол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т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F AG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юдвигсхафен Герм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w Chemical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дланд, СШ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6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ll Chemicals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дерланды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ликобрит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6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yer AG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веркузен, Герм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6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EOS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ндхёрст, Великобрит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52" name="Text Box 37"/>
          <p:cNvSpPr/>
          <p:nvPr/>
        </p:nvSpPr>
        <p:spPr>
          <a:xfrm>
            <a:off x="4428360" y="620640"/>
            <a:ext cx="448452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пнейшие химические компании м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© Vasilyeva E.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"/>
          <p:cNvPicPr/>
          <p:nvPr/>
        </p:nvPicPr>
        <p:blipFill>
          <a:blip r:embed="rId1"/>
          <a:stretch/>
        </p:blipFill>
        <p:spPr>
          <a:xfrm>
            <a:off x="611280" y="3213000"/>
            <a:ext cx="4038480" cy="2913120"/>
          </a:xfrm>
          <a:prstGeom prst="rect">
            <a:avLst/>
          </a:prstGeom>
          <a:ln w="28440">
            <a:solidFill>
              <a:srgbClr val="bbe0e3"/>
            </a:solidFill>
            <a:miter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932360" y="1125000"/>
            <a:ext cx="4038480" cy="4526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азвивающихся странах химическая промышленность стала активно развиваться после энергетического кризиса 1970-х годов. Особенно в тех странах Азии, Африки и Латинской Америки, которые богаты ресурсами нефти и природного га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упные нефтехимические комплексы вошли в строй в странах Персидского залива, Северной Африки, в Мексике и в Венесуэ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"/>
          <p:cNvPicPr/>
          <p:nvPr/>
        </p:nvPicPr>
        <p:blipFill>
          <a:blip r:embed="rId2"/>
          <a:srcRect l="4887" t="10646" r="7202" b="3671"/>
          <a:stretch/>
        </p:blipFill>
        <p:spPr>
          <a:xfrm>
            <a:off x="611280" y="549360"/>
            <a:ext cx="3960720" cy="2303280"/>
          </a:xfrm>
          <a:prstGeom prst="rect">
            <a:avLst/>
          </a:prstGeom>
          <a:ln w="28440">
            <a:solidFill>
              <a:srgbClr val="99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© Vasilyeva E.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ЛЕСНАЯ И ДЕРЕВООБРАБАТЫВАЮЩАЯ ПРОМЫШЛЕН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38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сная промышленность — старейшая среди отраслей, производящих конструкционные материалы. Она объединяет предприятия лесозаготовительной, деревообрабатывающей, целлюлозно- бумажной и лесохимической промышленности. Она производит круглый лес, доски, изделия из дерева, бумагу и лесохимические продук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© Vasilyeva E.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57927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ография лесной и деревообрабатывающей промышленности мира во многом определяется размещением лесных ресурсов. На Земле сложились два пояс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еверный лесной поя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охватывает в основном таежные районы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Евразии и Северной Амери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Здесь заготавливается хвойная древесина, которая потом перерабатывается в пиловочник, древесные плиты, целлюлозу, бумагу, картон. Для некоторых стран (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Россия, Канада, Швеция, Финлянд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лесная и деревообрабатывающая промышленность — важные отрасли международной специализа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южный лесной поя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заготавливается лиственная древесина. Здесь сложились три главных района лесной промышленности: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Бразилия, Тропическая Африка, Юго-Восточная Аз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Самыми разнообразными и богатыми запасами древесины пояса обладает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Южная Амер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Заготавливаемая в вышеперечисленных районах древесина в основном вывозится морским путем в Японию, Западную Европу, а также идет на др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оме того, в странах южного пояса активно используется недревесное сырье, на изготовление бумаги идет бамбук (Индия), богасса (Перу), сизаль (Бразилия, Танзания), джут (Бангладеш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© Vasilyeva E.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География лесной промышлен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последние десятилетия в географии лесной промышленности стали ощущаться значительные изменения, связанные с соотношением северного и южного лесных поясов. В целом, заготовка древесины растет. Но если в середине XX века страны I пояса намного опережали страны II пояса, то теперь этот отрыв сокращается. Крупнейшими заготовителями древесины являются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США, Россия, Канада, Индия, Бразилия, Индонезия, Нигерия, Украина, Китай, Швец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з всей заготавливаемой древесины на деловую древесину приходится: в странах северного пояса —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80-100%,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а в странах южного пояса —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10-20%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еханическая переработка древесины представляет из себя прежде всего производство пиломатериалов; крупнейшие производители: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США. Россия, Канада, Япония. Бразилия, Индия, ФРГ, Франция, Швеция, Финлянд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химической переработке древесины (основная подотрасль — производство целлюлозы) лидируют: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СШ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Канада, Япония, Швеция, Финлянди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Из стран южного пояса только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Бразили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вносит заметный вклад в мировое производство целлюлозы — 4%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зводство бумаги также увеличивается. Главные страны-производители бумаги —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США, Япония, Канад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© Vasilyeva E.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4038480" cy="5832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среднем, в мире из расчета на душу населения производится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45 кг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бумаги. I место занимает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Финлянд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1400 кг), также высоки показатели в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Швец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670 кг).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Канад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530 кг),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Норвег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400 кг); в Европе показатели выше среднемировых, а в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Росс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— ниже (35 кг). Очень низок уровень душевого показателя в развивающихся странах (например, в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Инд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— 1,7 кг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лавными экспортерами и импортерами лесной и лесобумажной продукции были и остаются экономически развитые страны. Основные экспортеры —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Канада, США, Россия, Скандинавские страны, Япония, отчасти СШ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Но в последнее время увеличивается доля экспорта круглого леса и переработанной древесины из развивающихся стран (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Малайзия. Бразилия, Индонезия, Филиппины, Папуа-Новая Гвинея, Кот-д'Ивуар, Габон, Камеру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"/>
          <p:cNvPicPr/>
          <p:nvPr/>
        </p:nvPicPr>
        <p:blipFill>
          <a:blip r:embed="rId1"/>
          <a:stretch/>
        </p:blipFill>
        <p:spPr>
          <a:xfrm>
            <a:off x="4788000" y="260280"/>
            <a:ext cx="4038480" cy="2952720"/>
          </a:xfrm>
          <a:prstGeom prst="rect">
            <a:avLst/>
          </a:prstGeom>
          <a:ln w="28440">
            <a:solidFill>
              <a:srgbClr val="99cc00"/>
            </a:solidFill>
            <a:miter/>
          </a:ln>
        </p:spPr>
      </p:pic>
      <p:pic>
        <p:nvPicPr>
          <p:cNvPr id="69" name="Picture 8" descr=""/>
          <p:cNvPicPr/>
          <p:nvPr/>
        </p:nvPicPr>
        <p:blipFill>
          <a:blip r:embed="rId2"/>
          <a:stretch/>
        </p:blipFill>
        <p:spPr>
          <a:xfrm>
            <a:off x="4788000" y="3429000"/>
            <a:ext cx="4038480" cy="2697120"/>
          </a:xfrm>
          <a:prstGeom prst="rect">
            <a:avLst/>
          </a:prstGeom>
          <a:ln w="28440">
            <a:solidFill>
              <a:srgbClr val="99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9:02:57Z</dcterms:created>
  <dc:creator>User</dc:creator>
  <dc:description/>
  <dc:language>en-US</dc:language>
  <cp:lastModifiedBy>Позитроника</cp:lastModifiedBy>
  <dcterms:modified xsi:type="dcterms:W3CDTF">2017-02-10T07:47:17Z</dcterms:modified>
  <cp:revision>4</cp:revision>
  <dc:subject/>
  <dc:title>Слайд 1</dc:title>
</cp:coreProperties>
</file>