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7B9-93BA-4F04-A6E3-C84C6E8C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A34-319E-4779-B8DA-E88AE0E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094-B24E-49D6-8447-2AC48F19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52B-BE3D-4F50-9FDF-F1E3A798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3FF-5A48-4DD6-BFAC-5E9EFA0A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DDE-E830-4B20-B418-7E4873A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EAE-8D51-4DBD-B41C-7056061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BD7-868F-40D3-BE59-9148A3D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A61-EE3D-4F5F-93FF-68F28170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7FD-C4CB-4079-8D43-349B6BD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CA3-A670-497C-992E-F001E4CA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560-ABEB-4A29-9DD6-993EFCC5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2D6E-E4A2-4435-A72E-76D6A5B2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пект на тему «Организация игры-квеста «День Вежливости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старшая групп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Чурсина Ю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Фини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нозиру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нстрирует умение вести себя в различных жизненных ситу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назвать и проиграть разные социальные р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ет эмоциональной отзывчив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ет договариваться, распределять роли, согласовывать игровы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 словарный запас для игры, общения,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являет интерес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ждение ребенка в социальный «взрослый» мир невозможно без освоения им первоначальных представлений социального характера. Данный проект позволит ребенку понять нормы положительного поведения и совершать поступки в соответствии с ними. Так же у ребенка развивается и эмоциональная сф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умений вести себя в соответствии с нравственными норм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умение следовать положительному примеру в своих поступ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умение договариваться, вести диалогическую речь, уметь слушать и слышать собесед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внимания и координ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воображения,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оектная подгот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ть и обсудить с детьми рассказ В. Осеевой «Волшебное слово». Поговорить о словах вежливости, расспросить детей в каких ситуациях и когда они применяют вежливые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254400">
            <a:off x="5651640" y="2060280"/>
            <a:ext cx="2449440" cy="32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о-побуд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ом Зага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и профессор Невежин подходят к первому испытанию. Чтобы его пройти и получить часть ключа, нужно разгадать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44640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олшебное дере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шебное дерево профессора. Оно растет, цветет и хорошеет от добрых и приветлив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3210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изкульт минут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анном этапе дети, под песню «Добрый Жук», либо делают разминку, либо просто танцу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1716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южетно-ролевая игр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Театр Вежлив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14280" y="1787400"/>
            <a:ext cx="2524320" cy="180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48360" y="1773360"/>
            <a:ext cx="309564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16000" y="4108320"/>
            <a:ext cx="2664000" cy="1913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148360" y="4160880"/>
            <a:ext cx="3095640" cy="193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16:02:37Z</dcterms:created>
  <dc:creator>aleksey</dc:creator>
  <dc:description/>
  <dc:language>en-US</dc:language>
  <cp:lastModifiedBy>aleksey</cp:lastModifiedBy>
  <dcterms:modified xsi:type="dcterms:W3CDTF">2015-12-10T19:22:40Z</dcterms:modified>
  <cp:revision>11</cp:revision>
  <dc:subject/>
  <dc:title>Конспект на  </dc:title>
</cp:coreProperties>
</file>