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12F-48ED-48C0-9B3D-FA05076D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6AC-19DC-43A2-9DCC-3F00FDB7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FA3-0B81-4584-89C9-55CAC959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698-F2B2-4FE5-8920-15E5EC86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61A-8418-4A9C-97BC-2360D9F2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C9A-24A3-43AC-AE1A-F196B06A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7DF-CDB1-45CE-AE1F-9D261053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CE6-5C8E-4828-8679-0E5CCC2D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6AA-90AD-4ABD-8EDD-2D275D22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52E-D75E-402E-85FE-F7BC9F5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30A-A0CE-4D88-A7C6-497FFE76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488-B821-410C-B11E-67138AF9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993B-9309-4611-8002-917F20209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спект на тему «Организация игры-квеста «День Вежливости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старшая групп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 Чурсина Ю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Фини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нозируем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монстрирует умение вести себя в различных жизненных ситуац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т назвать и проиграть разные социальные ро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дает эмоциональной отзывчив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ет договариваться, распределять роли, согласовывать игровые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ет словарный запас для игры, общения, взаимо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являет интерес к окружающему м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хождение ребенка в социальный «взрослый» мир невозможно без освоения им первоначальных представлений социального характера. Данный проект позволит ребенку понять нормы положительного поведения и совершать поступки в соответствии с ними. Так же у ребенка развивается и эмоциональная сф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умений вести себя в соответствии с нравственными норм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ть умение следовать положительному примеру в своих поступ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умение договариваться, вести диалогическую речь, уметь слушать и слышать собесед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внимания и координ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воображения,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оектная подгот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читать и обсудить с детьми рассказ В. Осеевой «Волшебное слово». Поговорить о словах вежливости, расспросить детей в каких ситуациях и когда они применяют вежливые с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1254400">
            <a:off x="5651640" y="2060280"/>
            <a:ext cx="2449440" cy="32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тивационно-побуд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Дом Загад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и профессор Невежин подходят к первому испытанию. Чтобы его пройти и получить часть ключа, нужно разгадать за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00720" y="2133720"/>
            <a:ext cx="446400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олшебное дере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лшебное дерево профессора. Оно растет, цветет и хорошеет от добрых и приветливых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32108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Физкульт минут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данном этапе дети, под песню «Добрый Жук», либо делают разминку, либо просто танцу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1557360"/>
            <a:ext cx="417168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южетно-ролевая игра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Театр Вежлив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4280" y="1787400"/>
            <a:ext cx="2524320" cy="1809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48360" y="1773360"/>
            <a:ext cx="309564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16000" y="4108320"/>
            <a:ext cx="2664000" cy="1913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148360" y="4160880"/>
            <a:ext cx="3095640" cy="193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0T16:02:37Z</dcterms:created>
  <dc:creator>aleksey</dc:creator>
  <dc:description/>
  <dc:language>en-US</dc:language>
  <cp:lastModifiedBy>aleksey</cp:lastModifiedBy>
  <dcterms:modified xsi:type="dcterms:W3CDTF">2015-12-10T19:22:40Z</dcterms:modified>
  <cp:revision>11</cp:revision>
  <dc:subject/>
  <dc:title>Конспект на  </dc:title>
</cp:coreProperties>
</file>