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3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8.png" ContentType="image/png"/>
  <Override PartName="/ppt/media/image1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11.jpeg" ContentType="image/jpeg"/>
  <Override PartName="/ppt/media/image1.gif" ContentType="image/gif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gif" ContentType="image/gif"/>
  <Override PartName="/ppt/media/image17.wmf" ContentType="image/x-wmf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9D8B-1FAE-4072-B3AB-16C9517DDF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7EAE-68E0-497D-9EB7-9E85B36BAC1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44FC-1228-41F9-A398-C0F48A03386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BFD5-BC30-4B29-A84E-988A73DCD66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1580-6AF1-4C29-8142-645A19905E6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87D-1D49-4A6C-B049-29B722C0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A40-1656-4CA5-B7D6-7D940463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C08-F9C1-4157-A9E1-603A21B2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9D7-E08A-4D45-B301-706E4514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2F5A-BBCA-4F5E-A97F-AC12065A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7B16-F96F-4AF7-A172-BCD45772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3FE6-7534-46E8-BCFA-2B9D9293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6FA3-09D3-4D82-AAEA-857C4723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CF7C-100A-4A5D-A62A-D16EA762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3D1D-311F-4F88-B42E-D399C347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13CF-093F-4D31-8F22-049DFB81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8C1-D010-41BE-9D2C-979F389D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453B-F81B-4337-893C-BE0C6D97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1557-2B73-4C4E-B542-F1491197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CCC1-02F9-4E82-9D40-0260AA67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454B-55B8-47CB-B5EC-64153542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7656-160F-4AF5-ADAC-B5522116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CA8-9556-44E9-B49C-272A3216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10B-50AC-43BC-9D1A-C5FE1E43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DD2-22FB-44FF-BE70-87E687F4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152-7686-4EF2-8873-26C7EEC0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FB0-9596-4D75-ADF2-91FFE5F6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3F6-8DD4-41E6-84BD-8A29132D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AD0-8820-4F98-818E-B92D6F16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C47A-7B0F-4141-9F23-40AAE5A8DB4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3B7A-330E-43EB-B6F1-FDDDEC5FF6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Из чего сделана музыка?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Picture 4" descr="роза"/>
          <p:cNvPicPr/>
          <p:nvPr/>
        </p:nvPicPr>
        <p:blipFill>
          <a:blip r:embed="rId1"/>
          <a:stretch/>
        </p:blipFill>
        <p:spPr>
          <a:xfrm rot="18066000">
            <a:off x="5837040" y="3270240"/>
            <a:ext cx="2765520" cy="39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228600" y="22860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кст песни принадлежит перу берлинского поэта и музыкального критика Людвига Рельштаб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Рисунок 2" descr="rellstab.jpg"/>
          <p:cNvPicPr/>
          <p:nvPr/>
        </p:nvPicPr>
        <p:blipFill>
          <a:blip r:embed="rId1"/>
          <a:stretch/>
        </p:blipFill>
        <p:spPr>
          <a:xfrm rot="21247200">
            <a:off x="533160" y="1904760"/>
            <a:ext cx="3216240" cy="472428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" descr="m_29664.jpg"/>
          <p:cNvPicPr/>
          <p:nvPr/>
        </p:nvPicPr>
        <p:blipFill>
          <a:blip r:embed="rId2"/>
          <a:stretch/>
        </p:blipFill>
        <p:spPr>
          <a:xfrm rot="435000">
            <a:off x="4876920" y="1904760"/>
            <a:ext cx="2906640" cy="46479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4648320" y="22860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рический поэт Николай Платонович Огарёв перевел это стихотворение на русский язы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serenada_main"/>
          <p:cNvPicPr/>
          <p:nvPr/>
        </p:nvPicPr>
        <p:blipFill>
          <a:blip r:embed="rId1"/>
          <a:stretch/>
        </p:blipFill>
        <p:spPr>
          <a:xfrm rot="208800">
            <a:off x="761760" y="1143000"/>
            <a:ext cx="776124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2. Ритм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ства ритма –порядок, симметр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5" descr="бабочка"/>
          <p:cNvPicPr/>
          <p:nvPr/>
        </p:nvPicPr>
        <p:blipFill>
          <a:blip r:embed="rId1"/>
          <a:stretch/>
        </p:blipFill>
        <p:spPr>
          <a:xfrm>
            <a:off x="5562720" y="3505320"/>
            <a:ext cx="2716200" cy="2743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j0157763"/>
          <p:cNvPicPr/>
          <p:nvPr/>
        </p:nvPicPr>
        <p:blipFill>
          <a:blip r:embed="rId2"/>
          <a:stretch/>
        </p:blipFill>
        <p:spPr>
          <a:xfrm>
            <a:off x="457200" y="2362320"/>
            <a:ext cx="40194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Picture 4" descr="parthenon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.Хачатурян «Танец с саблями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Picture 4" descr="kazaki_of_russia_43"/>
          <p:cNvPicPr/>
          <p:nvPr/>
        </p:nvPicPr>
        <p:blipFill>
          <a:blip r:embed="rId1"/>
          <a:stretch/>
        </p:blipFill>
        <p:spPr>
          <a:xfrm>
            <a:off x="1295280" y="1617840"/>
            <a:ext cx="7848720" cy="5240160"/>
          </a:xfrm>
          <a:prstGeom prst="rect">
            <a:avLst/>
          </a:prstGeom>
          <a:ln w="0">
            <a:noFill/>
          </a:ln>
        </p:spPr>
      </p:pic>
      <p:pic>
        <p:nvPicPr>
          <p:cNvPr id="200" name="019 Хачатурян - Танец с саблями.mp3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9186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оссини«Тарантелла»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Picture 4" descr="0000007"/>
          <p:cNvPicPr/>
          <p:nvPr/>
        </p:nvPicPr>
        <p:blipFill>
          <a:blip r:embed="rId1"/>
          <a:stretch/>
        </p:blipFill>
        <p:spPr>
          <a:xfrm>
            <a:off x="0" y="11430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0_20309_1f61bcfb_XL"/>
          <p:cNvPicPr/>
          <p:nvPr/>
        </p:nvPicPr>
        <p:blipFill>
          <a:blip r:embed="rId2"/>
          <a:stretch/>
        </p:blipFill>
        <p:spPr>
          <a:xfrm>
            <a:off x="4317840" y="3238560"/>
            <a:ext cx="4826160" cy="3619440"/>
          </a:xfrm>
          <a:prstGeom prst="rect">
            <a:avLst/>
          </a:prstGeom>
          <a:ln w="0">
            <a:noFill/>
          </a:ln>
        </p:spPr>
      </p:pic>
      <p:pic>
        <p:nvPicPr>
          <p:cNvPr id="204" name="тарантелла 2.mp3" descr=""/>
          <p:cNvPicPr/>
          <p:nvPr/>
        </p:nvPicPr>
        <p:blipFill>
          <a:blip r:embed="rId3"/>
          <a:stretch/>
        </p:blipFill>
        <p:spPr>
          <a:xfrm>
            <a:off x="5715000" y="13716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3. Лад-настроение в музы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ажор (радостно, весело)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инор (грустно, печально)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4.Темп –скорость звуч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ыстро –аллегро, вив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9" descr="0_3bb4_923b4ed4_XL"/>
          <p:cNvPicPr/>
          <p:nvPr/>
        </p:nvPicPr>
        <p:blipFill>
          <a:blip r:embed="rId1"/>
          <a:stretch/>
        </p:blipFill>
        <p:spPr>
          <a:xfrm rot="21418800">
            <a:off x="2819160" y="1981080"/>
            <a:ext cx="60958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-228960" y="1828440"/>
            <a:ext cx="4800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Умеренно –состенут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263880" indent="-2638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263880" indent="-2638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едленно –адажи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2638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6" descr="4a3edb62b705a4b811c1a9283cf763d8"/>
          <p:cNvPicPr/>
          <p:nvPr/>
        </p:nvPicPr>
        <p:blipFill>
          <a:blip r:embed="rId1"/>
          <a:stretch/>
        </p:blipFill>
        <p:spPr>
          <a:xfrm rot="21475800">
            <a:off x="4252680" y="685440"/>
            <a:ext cx="4890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543800" cy="117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5. Регист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изк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Средн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Высок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5" descr="he_pingping_sultan_kosen03"/>
          <p:cNvPicPr/>
          <p:nvPr/>
        </p:nvPicPr>
        <p:blipFill>
          <a:blip r:embed="rId1"/>
          <a:stretch/>
        </p:blipFill>
        <p:spPr>
          <a:xfrm rot="21423000">
            <a:off x="5257800" y="1371600"/>
            <a:ext cx="3495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69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Выразительные средства музыки: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1.мелодия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2.ритм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3.лад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4.темп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5.тембр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7.динамика…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6. Динамика – сила зву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Picture 4" descr="1267278157_018"/>
          <p:cNvPicPr/>
          <p:nvPr/>
        </p:nvPicPr>
        <p:blipFill>
          <a:blip r:embed="rId1"/>
          <a:stretch/>
        </p:blipFill>
        <p:spPr>
          <a:xfrm rot="211200">
            <a:off x="1142640" y="152352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362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Крещендо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–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постепенное усиление зву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36120" y="609480"/>
            <a:ext cx="6363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Диминуэндо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постепенно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ослабление зву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40600" y="2743200"/>
            <a:ext cx="29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Пиано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тих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28600" y="3200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Форте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громк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7.Тембр –окраска зву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5867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Какой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узыкальный инструмент исполняет это произведени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5" descr="C:\Documents and Settings\Admin\Рабочий стол\Горожанцева\картинки\анимашки\анимация\арфа.gif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C:\Documents and Settings\Admin\Рабочий стол\Горожанцева\картинки\анимашки\анимация\блестит.gif"/>
          <p:cNvPicPr/>
          <p:nvPr/>
        </p:nvPicPr>
        <p:blipFill>
          <a:blip r:embed="rId2"/>
          <a:stretch/>
        </p:blipFill>
        <p:spPr>
          <a:xfrm>
            <a:off x="2362320" y="1523880"/>
            <a:ext cx="3492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28240" y="457200"/>
            <a:ext cx="84582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Какой певческий голос исполняет это музыкальное произведение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Picture 2" descr="C:\Documents and Settings\Татьяна Геннадьевна\Рабочий стол\7 кл\tecora at uc4.jpg"/>
          <p:cNvPicPr/>
          <p:nvPr/>
        </p:nvPicPr>
        <p:blipFill>
          <a:blip r:embed="rId1"/>
          <a:stretch/>
        </p:blipFill>
        <p:spPr>
          <a:xfrm>
            <a:off x="0" y="1450800"/>
            <a:ext cx="2822400" cy="43405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9" descr="Визбор.jpg"/>
          <p:cNvPicPr/>
          <p:nvPr/>
        </p:nvPicPr>
        <p:blipFill>
          <a:blip r:embed="rId2"/>
          <a:stretch/>
        </p:blipFill>
        <p:spPr>
          <a:xfrm>
            <a:off x="563868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Admin\Рабочий стол\Горожанцева\картинки\анимашки\анимация\гитарист.jpg"/>
          <p:cNvPicPr/>
          <p:nvPr/>
        </p:nvPicPr>
        <p:blipFill>
          <a:blip r:embed="rId3"/>
          <a:stretch/>
        </p:blipFill>
        <p:spPr>
          <a:xfrm>
            <a:off x="2895480" y="3809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онтрольн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1.Какое выразительное средство музыки П.И.Чайковский называл «душой музыки»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.ритм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Б.мелодию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инамику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2.Какое музыкальное произведение звучит?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«Мелодия»Х.В.Глю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 «Серенада» Ф.Шуберт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 «Турецкий марш» В.А.Моцар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серенада.mp3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26825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-516456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971440" y="609120"/>
            <a:ext cx="57150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3.Какое музыкальное произведение исполнялось под балконом                       возлюбленной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тарантелла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серенада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гимн любв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5" descr="img_bg_01_2"/>
          <p:cNvPicPr/>
          <p:nvPr/>
        </p:nvPicPr>
        <p:blipFill>
          <a:blip r:embed="rId1"/>
          <a:stretch/>
        </p:blipFill>
        <p:spPr>
          <a:xfrm>
            <a:off x="0" y="0"/>
            <a:ext cx="272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В каком выразительном средстве музыки самым главным качеством являются порядок и симметрия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Picture 5" descr="parthenon"/>
          <p:cNvPicPr/>
          <p:nvPr/>
        </p:nvPicPr>
        <p:blipFill>
          <a:blip r:embed="rId1"/>
          <a:stretch/>
        </p:blipFill>
        <p:spPr>
          <a:xfrm>
            <a:off x="0" y="2286000"/>
            <a:ext cx="5715000" cy="41180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6"/>
          <p:cNvSpPr/>
          <p:nvPr/>
        </p:nvSpPr>
        <p:spPr>
          <a:xfrm>
            <a:off x="5638680" y="2819520"/>
            <a:ext cx="35053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лад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темп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рит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914400" y="8380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5.Назови музыкальный темп произведе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990720" y="3276720"/>
            <a:ext cx="734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 быстро(аллегро, виво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медленно (адажио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умеренно (состенуто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019 Хачатурян - Танец с саблями.mp3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838440" cy="8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49186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6.Как называется самый медленный темп в музыке?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аллегро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адажио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состенут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Печальна и чист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ак жизнь, людьми любимая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ак жизнь, ты не проста,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ак жизнь, непостижимая,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МУЗЫКА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1447920" y="7621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dd5f1"/>
                </a:solidFill>
                <a:latin typeface="Verdana"/>
              </a:rPr>
              <a:t>1.Мелоди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акой танец врачи рекомендовали танцевать при укусе тарантула?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81120" y="2666880"/>
            <a:ext cx="350532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.вальс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танго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 тарантелл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7" name="Picture 4" descr="0_20309_1f61bcfb_XL"/>
          <p:cNvPicPr/>
          <p:nvPr/>
        </p:nvPicPr>
        <p:blipFill>
          <a:blip r:embed="rId1"/>
          <a:stretch/>
        </p:blipFill>
        <p:spPr>
          <a:xfrm>
            <a:off x="0" y="21337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8. Определи по картинке, какой звучит танец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90960" y="274284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.лезгинк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 "Танец с саблями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тарантел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Picture 4" descr="kazaki_of_russia_43"/>
          <p:cNvPicPr/>
          <p:nvPr/>
        </p:nvPicPr>
        <p:blipFill>
          <a:blip r:embed="rId1"/>
          <a:stretch/>
        </p:blipFill>
        <p:spPr>
          <a:xfrm>
            <a:off x="0" y="2057400"/>
            <a:ext cx="5791320" cy="3867120"/>
          </a:xfrm>
          <a:prstGeom prst="rect">
            <a:avLst/>
          </a:prstGeom>
          <a:ln w="0">
            <a:noFill/>
          </a:ln>
        </p:spPr>
      </p:pic>
      <p:pic>
        <p:nvPicPr>
          <p:cNvPr id="251" name="019 Хачатурян - Танец с саблями.mp3" descr=""/>
          <p:cNvPicPr/>
          <p:nvPr/>
        </p:nvPicPr>
        <p:blipFill>
          <a:blip r:embed="rId2"/>
          <a:stretch/>
        </p:blipFill>
        <p:spPr>
          <a:xfrm>
            <a:off x="7010280" y="1905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49186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9. Какое выразительное средство музыки обозначает силу звука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ритм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темп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динами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0.Какой музыкальный термин обозначает окраску звука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.мелодия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.лад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.тембр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лючи к ответ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1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c000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Список ресурсов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internet-vip.ru/web-master/fony_sayta/index.ht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fantasyflash.r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fonegallery.narod.r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http://images.google.r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:/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usicteach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coz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ru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09680"/>
            <a:ext cx="3352680" cy="16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e067"/>
                </a:solidFill>
                <a:latin typeface="Arial"/>
              </a:rPr>
              <a:t>«Мелодия»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Х.В.Глюк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Picture 5" descr="Frederic_Leighton-Orfeo_ed_Euridice-1864"/>
          <p:cNvPicPr/>
          <p:nvPr/>
        </p:nvPicPr>
        <p:blipFill>
          <a:blip r:embed="rId1"/>
          <a:stretch/>
        </p:blipFill>
        <p:spPr>
          <a:xfrm rot="21469800">
            <a:off x="3581280" y="533160"/>
            <a:ext cx="5370480" cy="5790960"/>
          </a:xfrm>
          <a:prstGeom prst="rect">
            <a:avLst/>
          </a:prstGeom>
          <a:ln w="0">
            <a:noFill/>
          </a:ln>
        </p:spPr>
      </p:pic>
      <p:pic>
        <p:nvPicPr>
          <p:cNvPr id="170" name="Глюк. Мелодия.wm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1" name="Глюк. Мелодия.wmv" descr=""/>
          <p:cNvPicPr/>
          <p:nvPr/>
        </p:nvPicPr>
        <p:blipFill>
          <a:blip r:embed="rId3"/>
          <a:stretch/>
        </p:blipFill>
        <p:spPr>
          <a:xfrm>
            <a:off x="3429000" y="141120"/>
            <a:ext cx="5715000" cy="651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5432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5432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55432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602780580_tonnel"/>
          <p:cNvPicPr/>
          <p:nvPr/>
        </p:nvPicPr>
        <p:blipFill>
          <a:blip r:embed="rId1"/>
          <a:stretch/>
        </p:blipFill>
        <p:spPr>
          <a:xfrm>
            <a:off x="304920" y="685800"/>
            <a:ext cx="4248000" cy="5664240"/>
          </a:xfrm>
          <a:prstGeom prst="rect">
            <a:avLst/>
          </a:prstGeom>
          <a:ln w="0">
            <a:noFill/>
          </a:ln>
        </p:spPr>
      </p:pic>
      <p:sp>
        <p:nvSpPr>
          <p:cNvPr id="173" name="WordArt 5"/>
          <p:cNvSpPr txBox="1"/>
          <p:nvPr/>
        </p:nvSpPr>
        <p:spPr>
          <a:xfrm>
            <a:off x="4716360" y="220500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.И. Чайковский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724280" y="335268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лодия -душа музыки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04920" y="1828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(фр. serenade, от итал. serenata, sera — вечер) — музыкальная композиция, исполняемая в                                                                           чью-то честь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Рисунок 3" descr="d181d0b5d180d0b5d0bdd0b0d0b4d0b0.png"/>
          <p:cNvPicPr/>
          <p:nvPr/>
        </p:nvPicPr>
        <p:blipFill>
          <a:blip r:embed="rId1"/>
          <a:stretch/>
        </p:blipFill>
        <p:spPr>
          <a:xfrm rot="474600">
            <a:off x="4419360" y="2209680"/>
            <a:ext cx="4419360" cy="3735360"/>
          </a:xfrm>
          <a:prstGeom prst="rect">
            <a:avLst/>
          </a:prstGeom>
          <a:ln w="0">
            <a:noFill/>
          </a:ln>
        </p:spPr>
      </p:pic>
      <p:sp>
        <p:nvSpPr>
          <p:cNvPr id="177" name="WordArt 5"/>
          <p:cNvSpPr txBox="1"/>
          <p:nvPr/>
        </p:nvSpPr>
        <p:spPr>
          <a:xfrm>
            <a:off x="2971800" y="533520"/>
            <a:ext cx="3429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d7f01"/>
                    </a:gs>
                    <a:gs pos="50000">
                      <a:srgbClr val="fde067"/>
                    </a:gs>
                    <a:gs pos="100000">
                      <a:srgbClr val="fd7f01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еренад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d7f01"/>
                  </a:gs>
                  <a:gs pos="50000">
                    <a:srgbClr val="fde067"/>
                  </a:gs>
                  <a:gs pos="100000">
                    <a:srgbClr val="fd7f01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78" name="серенада.mp3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img_bg_01_2"/>
          <p:cNvPicPr/>
          <p:nvPr/>
        </p:nvPicPr>
        <p:blipFill>
          <a:blip r:embed="rId1"/>
          <a:stretch/>
        </p:blipFill>
        <p:spPr>
          <a:xfrm>
            <a:off x="0" y="0"/>
            <a:ext cx="27241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3809880" y="1523880"/>
            <a:ext cx="480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067"/>
                </a:solidFill>
                <a:latin typeface="Arial"/>
              </a:rPr>
              <a:t>Серенад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— песня, исполненная для возлюбленной, обычно в вечернее или ночное время и часто под её окном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395280" y="33336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Ж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анр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серенады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 был распространён в Средневековье и эпоху ренессанс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Истоком такой серенады является вечерняя песня трубадуров (serena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Певец обычно сам аккомпанировал себе на лютне, мандолине или гитар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Рисунок 2" descr="ReinassanceLute.jpg"/>
          <p:cNvPicPr/>
          <p:nvPr/>
        </p:nvPicPr>
        <p:blipFill>
          <a:blip r:embed="rId1"/>
          <a:stretch/>
        </p:blipFill>
        <p:spPr>
          <a:xfrm rot="331800">
            <a:off x="533520" y="3276360"/>
            <a:ext cx="4465440" cy="32572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3" descr="1768396.jpg"/>
          <p:cNvPicPr/>
          <p:nvPr/>
        </p:nvPicPr>
        <p:blipFill>
          <a:blip r:embed="rId2"/>
          <a:stretch/>
        </p:blipFill>
        <p:spPr>
          <a:xfrm rot="20904600">
            <a:off x="6095520" y="2971440"/>
            <a:ext cx="2379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4" descr="schubert.jpg"/>
          <p:cNvPicPr/>
          <p:nvPr/>
        </p:nvPicPr>
        <p:blipFill>
          <a:blip r:embed="rId1"/>
          <a:stretch/>
        </p:blipFill>
        <p:spPr>
          <a:xfrm>
            <a:off x="3924360" y="333360"/>
            <a:ext cx="4808520" cy="6120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533520" y="1828800"/>
            <a:ext cx="326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Вечерняя Серенада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.Шуберт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серенада.mp3" descr=""/>
          <p:cNvPicPr/>
          <p:nvPr/>
        </p:nvPicPr>
        <p:blipFill>
          <a:blip r:embed="rId2"/>
          <a:stretch/>
        </p:blipFill>
        <p:spPr>
          <a:xfrm>
            <a:off x="1447920" y="5105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10-14T14:23:10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