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gif" ContentType="image/gif"/>
  <Override PartName="/ppt/media/image17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91C-090E-4CB6-8543-D9E285B106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306-31E2-4A10-812B-DDC92E51B7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12E-250D-4CA1-BAC3-C6DB12E71A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295-5819-48F6-AD7C-9A89DE2CBD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2A4-EBFA-49B2-A1B0-AC09DDB809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395-3C1F-4CC7-81DB-7ACEBC97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451-FEA5-4BD8-94D6-ECF990E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D34-BE91-4A10-B275-49EF1596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8AD-7BC0-4CBB-A33F-9FE06980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A4A0-43EC-483D-B41C-5D4A72C6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7EC-5B8E-4114-BCD1-F065A91F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EE8-2F52-4D0B-9A51-20DADDA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77B-5A94-4CF9-83AA-B9E5B62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A7F-075E-4835-9B35-E1E295AC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817B-6F98-4CF2-A86F-8925337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530-E300-45C2-B2BD-4A31DD7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DE7-1CC8-48F4-A64F-762DBDFA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F96-48B4-4AA2-8727-1F83E25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EE8B-8FB0-4FB6-A0FA-08A0980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74B3-392D-437A-A910-E8B0FA5D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6022-0ED2-4922-B161-472A864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7445-7BE2-41F7-BEB3-B3720413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DFE-6D9D-4B2D-8D82-80B4770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55-7FAC-45A1-9CCD-6C26EEB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B44-776D-4C9C-8BAB-69044B6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5D8-7AA1-4B38-AB40-CA5DC00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752-13F8-4E0F-9B5B-7E7F4E1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E32-89C0-4CCE-8200-44ECFA5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471-ED21-4ED2-AEEC-9498F67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87A-2246-489D-83E7-54E3DD5E6F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C63C-502D-4E8E-8934-47F38B5C6F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Из чего сделана музыка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роза"/>
          <p:cNvPicPr/>
          <p:nvPr/>
        </p:nvPicPr>
        <p:blipFill>
          <a:blip r:embed="rId1"/>
          <a:stretch/>
        </p:blipFill>
        <p:spPr>
          <a:xfrm rot="18066000">
            <a:off x="5837040" y="3270240"/>
            <a:ext cx="2765520" cy="39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228600" y="228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кст песни принадлежит перу берлинского поэта и музыкального критика Людвига Рельшта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Рисунок 2" descr="rellstab.jpg"/>
          <p:cNvPicPr/>
          <p:nvPr/>
        </p:nvPicPr>
        <p:blipFill>
          <a:blip r:embed="rId1"/>
          <a:stretch/>
        </p:blipFill>
        <p:spPr>
          <a:xfrm rot="21247200">
            <a:off x="533160" y="1904760"/>
            <a:ext cx="3216240" cy="4724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m_29664.jpg"/>
          <p:cNvPicPr/>
          <p:nvPr/>
        </p:nvPicPr>
        <p:blipFill>
          <a:blip r:embed="rId2"/>
          <a:stretch/>
        </p:blipFill>
        <p:spPr>
          <a:xfrm rot="435000">
            <a:off x="4876920" y="1904760"/>
            <a:ext cx="2906640" cy="4647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464832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рический поэт Николай Платонович Огарёв перевел это стихотворение на русский язы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serenada_main"/>
          <p:cNvPicPr/>
          <p:nvPr/>
        </p:nvPicPr>
        <p:blipFill>
          <a:blip r:embed="rId1"/>
          <a:stretch/>
        </p:blipFill>
        <p:spPr>
          <a:xfrm rot="208800">
            <a:off x="761760" y="1143000"/>
            <a:ext cx="7761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2. Ритм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ства ритма –порядок, симмет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бабочка"/>
          <p:cNvPicPr/>
          <p:nvPr/>
        </p:nvPicPr>
        <p:blipFill>
          <a:blip r:embed="rId1"/>
          <a:stretch/>
        </p:blipFill>
        <p:spPr>
          <a:xfrm>
            <a:off x="5562720" y="3505320"/>
            <a:ext cx="271620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j0157763"/>
          <p:cNvPicPr/>
          <p:nvPr/>
        </p:nvPicPr>
        <p:blipFill>
          <a:blip r:embed="rId2"/>
          <a:stretch/>
        </p:blipFill>
        <p:spPr>
          <a:xfrm>
            <a:off x="457200" y="2362320"/>
            <a:ext cx="401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4" descr="partheno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Хачатурян «Танец с саблям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4" descr="kazaki_of_russia_43"/>
          <p:cNvPicPr/>
          <p:nvPr/>
        </p:nvPicPr>
        <p:blipFill>
          <a:blip r:embed="rId1"/>
          <a:stretch/>
        </p:blipFill>
        <p:spPr>
          <a:xfrm>
            <a:off x="1295280" y="1617840"/>
            <a:ext cx="7848720" cy="5240160"/>
          </a:xfrm>
          <a:prstGeom prst="rect">
            <a:avLst/>
          </a:prstGeom>
          <a:ln w="0">
            <a:noFill/>
          </a:ln>
        </p:spPr>
      </p:pic>
      <p:pic>
        <p:nvPicPr>
          <p:cNvPr id="200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18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ни«Тарантелла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4" descr="0000007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0_20309_1f61bcfb_XL"/>
          <p:cNvPicPr/>
          <p:nvPr/>
        </p:nvPicPr>
        <p:blipFill>
          <a:blip r:embed="rId2"/>
          <a:stretch/>
        </p:blipFill>
        <p:spPr>
          <a:xfrm>
            <a:off x="4317840" y="323856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204" name="тарантелла 2.mp3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. Лад-настроение в музы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жор (радостно, весел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инор (грустно, печальн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.Темп –скорость звуч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о –аллегро, ви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9" descr="0_3bb4_923b4ed4_XL"/>
          <p:cNvPicPr/>
          <p:nvPr/>
        </p:nvPicPr>
        <p:blipFill>
          <a:blip r:embed="rId1"/>
          <a:stretch/>
        </p:blipFill>
        <p:spPr>
          <a:xfrm rot="21418800">
            <a:off x="2819160" y="1981080"/>
            <a:ext cx="6095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228960" y="18284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меренно –состенут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дленно –адажи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6" descr="4a3edb62b705a4b811c1a9283cf763d8"/>
          <p:cNvPicPr/>
          <p:nvPr/>
        </p:nvPicPr>
        <p:blipFill>
          <a:blip r:embed="rId1"/>
          <a:stretch/>
        </p:blipFill>
        <p:spPr>
          <a:xfrm rot="21475800">
            <a:off x="4252680" y="685440"/>
            <a:ext cx="48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5438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. Регис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из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н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со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5" descr="he_pingping_sultan_kosen03"/>
          <p:cNvPicPr/>
          <p:nvPr/>
        </p:nvPicPr>
        <p:blipFill>
          <a:blip r:embed="rId1"/>
          <a:stretch/>
        </p:blipFill>
        <p:spPr>
          <a:xfrm rot="21423000">
            <a:off x="5257800" y="1371600"/>
            <a:ext cx="349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ыразительные средства музыки: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1.мелодия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2.ритм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3.лад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4.темп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5.тембр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7.динамика…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. Динамика – сил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1267278157_018"/>
          <p:cNvPicPr/>
          <p:nvPr/>
        </p:nvPicPr>
        <p:blipFill>
          <a:blip r:embed="rId1"/>
          <a:stretch/>
        </p:blipFill>
        <p:spPr>
          <a:xfrm rot="211200">
            <a:off x="1142640" y="15235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Креще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 уси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36120" y="609480"/>
            <a:ext cx="6363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иминуэ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ослаб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40600" y="274320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Пиан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тих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2860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Форт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ромк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.Тембр –окраск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узыкальный инструмент исполняет это произвед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5" descr="C:\Documents and Settings\Admin\Рабочий стол\Горожанцева\картинки\анимашки\анимация\арфа.gif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Documents and Settings\Admin\Рабочий стол\Горожанцева\картинки\анимашки\анимация\блестит.gif"/>
          <p:cNvPicPr/>
          <p:nvPr/>
        </p:nvPicPr>
        <p:blipFill>
          <a:blip r:embed="rId2"/>
          <a:stretch/>
        </p:blipFill>
        <p:spPr>
          <a:xfrm>
            <a:off x="2362320" y="152388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певческий голос исполняет это музыкальное произведени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2" descr="C:\Documents and Settings\Татьяна Геннадьевна\Рабочий стол\7 кл\tecora at uc4.jpg"/>
          <p:cNvPicPr/>
          <p:nvPr/>
        </p:nvPicPr>
        <p:blipFill>
          <a:blip r:embed="rId1"/>
          <a:stretch/>
        </p:blipFill>
        <p:spPr>
          <a:xfrm>
            <a:off x="0" y="1450800"/>
            <a:ext cx="2822400" cy="4340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Визбор.jpg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\Рабочий стол\Горожанцева\картинки\анимашки\анимация\гитарист.jpg"/>
          <p:cNvPicPr/>
          <p:nvPr/>
        </p:nvPicPr>
        <p:blipFill>
          <a:blip r:embed="rId3"/>
          <a:stretch/>
        </p:blipFill>
        <p:spPr>
          <a:xfrm>
            <a:off x="28954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.Какое выразительное средство музыки П.И.Чайковский называл «душой музыки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.мелоди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инамик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2.Какое музыкальное произведение звучит?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«Мелодия»Х.В.Глю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«Серенада» Ф.Шубер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«Турецкий марш» В.А.Моцар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серенада.mp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6825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-51645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71440" y="609120"/>
            <a:ext cx="5715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Какое музыкальное произведение исполнялось под балконом                       возлюбленной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тарантелл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серена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гимн люб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5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 каком выразительном средстве музыки самым главным качеством являются порядок и симметр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parthenon"/>
          <p:cNvPicPr/>
          <p:nvPr/>
        </p:nvPicPr>
        <p:blipFill>
          <a:blip r:embed="rId1"/>
          <a:stretch/>
        </p:blipFill>
        <p:spPr>
          <a:xfrm>
            <a:off x="0" y="2286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5638680" y="2819520"/>
            <a:ext cx="3505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лад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рит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914400" y="8380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5.Назови музыкальный темп произвед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90720" y="3276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 быстро(аллегро, вив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медленно (адажи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умеренно (состенуто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019 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9186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Как называется самый медленный темп в музыке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аллегр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адажи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состенут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чальна и чис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людьми любима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ты не проста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непостижимая,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ЗЫКА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1447920" y="762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d5f1"/>
                </a:solidFill>
                <a:latin typeface="Verdana"/>
              </a:rPr>
              <a:t>1.Мелод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ой танец врачи рекомендовали танцевать при укусе тарантула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81120" y="2666880"/>
            <a:ext cx="35053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валь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тан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тарантелл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4" descr="0_20309_1f61bcfb_XL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Определи по картинке, какой звучит танец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90960" y="274284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лезгинк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"Танец с саблями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тарантел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4" descr="kazaki_of_russia_43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3867120"/>
          </a:xfrm>
          <a:prstGeom prst="rect">
            <a:avLst/>
          </a:prstGeom>
          <a:ln w="0">
            <a:noFill/>
          </a:ln>
        </p:spPr>
      </p:pic>
      <p:pic>
        <p:nvPicPr>
          <p:cNvPr id="251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9186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9. Какое выразительное средство музыки обозначает силу зву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динам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Какой музыкальный термин обозначает окраску зву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мелодия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лад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.темб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и к отве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писок ресур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internet-vip.ru/web-master/fony_sayta/index.ht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antasyflash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onegallery.narod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http://images.google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/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icteach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coz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ru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3352680" cy="16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e067"/>
                </a:solidFill>
                <a:latin typeface="Arial"/>
              </a:rPr>
              <a:t>«Мелодия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Х.В.Глю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5" descr="Frederic_Leighton-Orfeo_ed_Euridice-1864"/>
          <p:cNvPicPr/>
          <p:nvPr/>
        </p:nvPicPr>
        <p:blipFill>
          <a:blip r:embed="rId1"/>
          <a:stretch/>
        </p:blipFill>
        <p:spPr>
          <a:xfrm rot="21469800">
            <a:off x="3581280" y="533160"/>
            <a:ext cx="5370480" cy="5790960"/>
          </a:xfrm>
          <a:prstGeom prst="rect">
            <a:avLst/>
          </a:prstGeom>
          <a:ln w="0">
            <a:noFill/>
          </a:ln>
        </p:spPr>
      </p:pic>
      <p:pic>
        <p:nvPicPr>
          <p:cNvPr id="170" name="Глюк. Мелодия.wm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Глюк. Мелодия.wmv" descr=""/>
          <p:cNvPicPr/>
          <p:nvPr/>
        </p:nvPicPr>
        <p:blipFill>
          <a:blip r:embed="rId3"/>
          <a:stretch/>
        </p:blipFill>
        <p:spPr>
          <a:xfrm>
            <a:off x="3429000" y="141120"/>
            <a:ext cx="5715000" cy="651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43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5432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543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602780580_tonnel"/>
          <p:cNvPicPr/>
          <p:nvPr/>
        </p:nvPicPr>
        <p:blipFill>
          <a:blip r:embed="rId1"/>
          <a:stretch/>
        </p:blipFill>
        <p:spPr>
          <a:xfrm>
            <a:off x="304920" y="685800"/>
            <a:ext cx="4248000" cy="56642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4716360" y="2205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И. Чайковский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724280" y="3352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одия -душа музыки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(фр. serenade, от итал. serenata, sera — вечер) — музыкальная композиция, исполняемая в                                                                           чью-то честь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Рисунок 3" descr="d181d0b5d180d0b5d0bdd0b0d0b4d0b0.png"/>
          <p:cNvPicPr/>
          <p:nvPr/>
        </p:nvPicPr>
        <p:blipFill>
          <a:blip r:embed="rId1"/>
          <a:stretch/>
        </p:blipFill>
        <p:spPr>
          <a:xfrm rot="474600">
            <a:off x="4419360" y="2209680"/>
            <a:ext cx="4419360" cy="373536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2971800" y="53352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7f01"/>
                    </a:gs>
                    <a:gs pos="50000">
                      <a:srgbClr val="fde067"/>
                    </a:gs>
                    <a:gs pos="100000">
                      <a:srgbClr val="fd7f01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ерена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7f01"/>
                  </a:gs>
                  <a:gs pos="50000">
                    <a:srgbClr val="fde067"/>
                  </a:gs>
                  <a:gs pos="100000">
                    <a:srgbClr val="fd7f01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78" name="серенада.mp3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3809880" y="1523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067"/>
                </a:solidFill>
                <a:latin typeface="Arial"/>
              </a:rPr>
              <a:t>Серенад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— песня, исполненная для возлюбленной, обычно в вечернее или ночное время и часто под её окн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95280" y="333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ан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еренады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был распространён в Средневековье и эпоху ренессан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Истоком такой серенады является вечерняя песня трубадуров (seren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Певец обычно сам аккомпанировал себе на лютне, мандолине или гита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2" descr="ReinassanceLute.jpg"/>
          <p:cNvPicPr/>
          <p:nvPr/>
        </p:nvPicPr>
        <p:blipFill>
          <a:blip r:embed="rId1"/>
          <a:stretch/>
        </p:blipFill>
        <p:spPr>
          <a:xfrm rot="331800">
            <a:off x="533520" y="3276360"/>
            <a:ext cx="4465440" cy="32572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1768396.jpg"/>
          <p:cNvPicPr/>
          <p:nvPr/>
        </p:nvPicPr>
        <p:blipFill>
          <a:blip r:embed="rId2"/>
          <a:stretch/>
        </p:blipFill>
        <p:spPr>
          <a:xfrm rot="20904600">
            <a:off x="6095520" y="2971440"/>
            <a:ext cx="237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4" descr="schubert.jpg"/>
          <p:cNvPicPr/>
          <p:nvPr/>
        </p:nvPicPr>
        <p:blipFill>
          <a:blip r:embed="rId1"/>
          <a:stretch/>
        </p:blipFill>
        <p:spPr>
          <a:xfrm>
            <a:off x="3924360" y="333360"/>
            <a:ext cx="4808520" cy="6120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533520" y="1828800"/>
            <a:ext cx="32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ечерняя Серенад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.Шубе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серенада.mp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10-14T14:23:1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