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6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2CFE-BDD0-4B5F-8F5A-B5E8C8FBC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17DA-5F05-4B0D-B8CE-BA1D7B3F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4529-A9D6-4A36-9553-7DD67C592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F5BF-CE78-47D4-8BC2-BD5B25C52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4BF8-C2B7-4B13-A8FC-878ADA1F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07F1-2D60-4D9B-B599-189CC8EC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002F-114F-4B1F-AAF8-9EE5E7A6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523F-F49B-49FF-A609-2921AFE2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71B0-E298-4D17-BA07-FC391D97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1DA9-F0EB-4F5B-8CED-19D5ACD6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4DE2-608B-4634-BDAB-BE6A4FD6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7E69-0080-4340-86D1-955BB3A3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5B5D-CA10-474B-B53B-D27E0723B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ozvezdieoriona.ru/" TargetMode="External"/><Relationship Id="rId3" Type="http://schemas.openxmlformats.org/officeDocument/2006/relationships/hyperlink" Target="http://sozvezdieoriona.ru/" TargetMode="External"/><Relationship Id="rId4" Type="http://schemas.openxmlformats.org/officeDocument/2006/relationships/hyperlink" Target="http://sozvezdieoriona.ru/" TargetMode="External"/><Relationship Id="rId5" Type="http://schemas.openxmlformats.org/officeDocument/2006/relationships/hyperlink" Target="http://sozvezdieoriona.ru/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1403280" y="333360"/>
            <a:ext cx="6705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Вечные темы в искусстве».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youngbeethoven"/>
          <p:cNvPicPr/>
          <p:nvPr/>
        </p:nvPicPr>
        <p:blipFill>
          <a:blip r:embed="rId2"/>
          <a:stretch/>
        </p:blipFill>
        <p:spPr>
          <a:xfrm>
            <a:off x="3527280" y="2238480"/>
            <a:ext cx="2090880" cy="2382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youngbeethoven"/>
          <p:cNvPicPr/>
          <p:nvPr/>
        </p:nvPicPr>
        <p:blipFill>
          <a:blip r:embed="rId3"/>
          <a:stretch/>
        </p:blipFill>
        <p:spPr>
          <a:xfrm>
            <a:off x="2195640" y="620640"/>
            <a:ext cx="4678200" cy="5332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Бетховен1"/>
          <p:cNvPicPr/>
          <p:nvPr/>
        </p:nvPicPr>
        <p:blipFill>
          <a:blip r:embed="rId2"/>
          <a:stretch/>
        </p:blipFill>
        <p:spPr>
          <a:xfrm>
            <a:off x="2752560" y="1076400"/>
            <a:ext cx="3638880" cy="4705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Tereza_Brunsvik"/>
          <p:cNvPicPr/>
          <p:nvPr/>
        </p:nvPicPr>
        <p:blipFill>
          <a:blip r:embed="rId2"/>
          <a:stretch/>
        </p:blipFill>
        <p:spPr>
          <a:xfrm>
            <a:off x="468360" y="333360"/>
            <a:ext cx="2062080" cy="2774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замок Брунсвик"/>
          <p:cNvPicPr/>
          <p:nvPr/>
        </p:nvPicPr>
        <p:blipFill>
          <a:blip r:embed="rId3"/>
          <a:stretch/>
        </p:blipFill>
        <p:spPr>
          <a:xfrm>
            <a:off x="2916360" y="2492280"/>
            <a:ext cx="5638680" cy="37562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393840" y="3212280"/>
            <a:ext cx="245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реза Брунсви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2886480" y="679680"/>
            <a:ext cx="622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мок «Орфен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довое поместье семейства Брунсв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Австрия_14_-_18_09_08г__187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62" name="4.БЕТХОВЕН - К ЭЛИЗЕ.mp3" descr=""/>
          <p:cNvPicPr/>
          <p:nvPr/>
        </p:nvPicPr>
        <p:blipFill>
          <a:blip r:embed="rId3"/>
          <a:stretch/>
        </p:blipFill>
        <p:spPr>
          <a:xfrm>
            <a:off x="8572680" y="6286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Гвичарди"/>
          <p:cNvPicPr/>
          <p:nvPr/>
        </p:nvPicPr>
        <p:blipFill>
          <a:blip r:embed="rId2"/>
          <a:stretch/>
        </p:blipFill>
        <p:spPr>
          <a:xfrm>
            <a:off x="3419640" y="1700280"/>
            <a:ext cx="2763720" cy="3287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LiebigItalie_03Recto"/>
          <p:cNvPicPr/>
          <p:nvPr/>
        </p:nvPicPr>
        <p:blipFill>
          <a:blip r:embed="rId3"/>
          <a:stretch/>
        </p:blipFill>
        <p:spPr>
          <a:xfrm>
            <a:off x="4284720" y="260280"/>
            <a:ext cx="4070160" cy="6257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91 -0.17639 L -0.05642 -0.0294 E">
                                      <p:cBhvr>
                                        <p:cTn id="12" dur="3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портрнет Бетховена"/>
          <p:cNvPicPr/>
          <p:nvPr/>
        </p:nvPicPr>
        <p:blipFill>
          <a:blip r:embed="rId2"/>
          <a:stretch/>
        </p:blipFill>
        <p:spPr>
          <a:xfrm>
            <a:off x="684360" y="404640"/>
            <a:ext cx="4240080" cy="61135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4932360" y="1395360"/>
            <a:ext cx="3816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перь я чаще бываю в обществе, и потому жизнь моя стала веселее. Эту перемену произвела во мне милая, очаровательная девушка, которая меня любит, и которую я люблю. У меня снова бывают светлые минуты, и я прихожу к убеждению, что женитьба может осчастливить человек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Ludvig van Beethoven Moonlight Sonata_WMV V9.wmv" descr=""/>
          <p:cNvPicPr/>
          <p:nvPr/>
        </p:nvPicPr>
        <p:blipFill>
          <a:blip r:embed="rId2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68" name="01.mp3" descr=""/>
          <p:cNvPicPr/>
          <p:nvPr/>
        </p:nvPicPr>
        <p:blipFill>
          <a:blip r:embed="rId3"/>
          <a:stretch/>
        </p:blipFill>
        <p:spPr>
          <a:xfrm>
            <a:off x="8572680" y="6286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311426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82518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портрнет Бетховена"/>
          <p:cNvPicPr/>
          <p:nvPr/>
        </p:nvPicPr>
        <p:blipFill>
          <a:blip r:embed="rId2"/>
          <a:stretch/>
        </p:blipFill>
        <p:spPr>
          <a:xfrm>
            <a:off x="684360" y="404640"/>
            <a:ext cx="4240080" cy="6113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i?id=73849124&amp;tov=8"/>
          <p:cNvPicPr/>
          <p:nvPr/>
        </p:nvPicPr>
        <p:blipFill>
          <a:blip r:embed="rId2"/>
          <a:stretch/>
        </p:blipFill>
        <p:spPr>
          <a:xfrm>
            <a:off x="4788000" y="1268280"/>
            <a:ext cx="2327040" cy="174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i?id=11211888&amp;tov=3"/>
          <p:cNvPicPr/>
          <p:nvPr/>
        </p:nvPicPr>
        <p:blipFill>
          <a:blip r:embed="rId3"/>
          <a:stretch/>
        </p:blipFill>
        <p:spPr>
          <a:xfrm>
            <a:off x="4788000" y="1484280"/>
            <a:ext cx="2347920" cy="24973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24360" y="189000"/>
            <a:ext cx="288144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тхов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250920" y="182520"/>
            <a:ext cx="4248000" cy="62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тот самый день, когда твои созвучья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еодолели сложный мир труда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вет пересилил свет, прошла сквозь тучу туча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ром двинулся на гром, в звезду вошла звезда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яростным охвачен вдохновеньем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оркестрах гроз и трепете громов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днялся ты по облачным ступеням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прикоснулся к музыке миров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убравой труб и озером мелодий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ы превозмог нестройный ураган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крикнул ты в лицо самой природе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вой львиный лик просунув сквозь орган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пред лицом пространства мирового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кую мысль вложил ты в этот крик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то слово с воплем вырвалось из слова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стало музыкой, венчая львиный лик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рогах быка опять запела лира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астушьей флейтой стала кость орла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понял ты живую прелесть мира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отделил добро его от зла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сквозь покой пространства мирового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о самых звезд прошел девятый вал..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кройся, мысль! Стань музыкою, слово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дарь в сердца, чтоб мир торжествовал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1187280" y="64911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икола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болоц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i?id=69044714&amp;tov=5"/>
          <p:cNvPicPr/>
          <p:nvPr/>
        </p:nvPicPr>
        <p:blipFill>
          <a:blip r:embed="rId4"/>
          <a:stretch/>
        </p:blipFill>
        <p:spPr>
          <a:xfrm>
            <a:off x="4500720" y="1844640"/>
            <a:ext cx="3600360" cy="2693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i?id=8942997&amp;tov=2"/>
          <p:cNvPicPr/>
          <p:nvPr/>
        </p:nvPicPr>
        <p:blipFill>
          <a:blip r:embed="rId5"/>
          <a:stretch/>
        </p:blipFill>
        <p:spPr>
          <a:xfrm>
            <a:off x="5292720" y="1628640"/>
            <a:ext cx="2225520" cy="3384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beetoven"/>
          <p:cNvPicPr/>
          <p:nvPr/>
        </p:nvPicPr>
        <p:blipFill>
          <a:blip r:embed="rId6"/>
          <a:stretch/>
        </p:blipFill>
        <p:spPr>
          <a:xfrm>
            <a:off x="5651640" y="2276640"/>
            <a:ext cx="2788920" cy="3528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3" presetSubtype="16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0">
                                  <p:stCondLst>
                                    <p:cond delay="2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3" presetSubtype="16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4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3" presetSubtype="16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5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3" presetSubtype="16">
                                  <p:stCondLst>
                                    <p:cond delay="60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DSC00236"/>
          <p:cNvPicPr/>
          <p:nvPr/>
        </p:nvPicPr>
        <p:blipFill>
          <a:blip r:embed="rId2"/>
          <a:stretch/>
        </p:blipFill>
        <p:spPr>
          <a:xfrm>
            <a:off x="395280" y="333360"/>
            <a:ext cx="7947000" cy="5959440"/>
          </a:xfrm>
          <a:prstGeom prst="rect">
            <a:avLst/>
          </a:prstGeom>
          <a:ln w="0">
            <a:noFill/>
          </a:ln>
        </p:spPr>
      </p:pic>
      <p:pic>
        <p:nvPicPr>
          <p:cNvPr id="79" name="Bethoven_Symphony_N9.wma" descr=""/>
          <p:cNvPicPr/>
          <p:nvPr/>
        </p:nvPicPr>
        <p:blipFill>
          <a:blip r:embed="rId3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5"/>
          <p:cNvSpPr/>
          <p:nvPr/>
        </p:nvSpPr>
        <p:spPr>
          <a:xfrm>
            <a:off x="0" y="1252800"/>
            <a:ext cx="914400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огатство вместе с вла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льно ходят,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ступая в океан добра и зла,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гда они из наших рук уходят;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юбовь же, пусть неправильной была, -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ессмертная, в бессмертии пребудет,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се превзойдет, что было и что будет.”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ерси Биш Шел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английский поэт XVIII – XIX вв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file"/>
          <p:cNvPicPr/>
          <p:nvPr/>
        </p:nvPicPr>
        <p:blipFill>
          <a:blip r:embed="rId2"/>
          <a:stretch/>
        </p:blipFill>
        <p:spPr>
          <a:xfrm>
            <a:off x="1908000" y="692280"/>
            <a:ext cx="4762800" cy="35719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826920" y="4555440"/>
            <a:ext cx="698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Мужественный человек умеет переплавить свою любовь в деяния для    людей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мен Рола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2843280" y="1268280"/>
            <a:ext cx="360036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Интернет-страницы: dassic-music.ru, kinoekran.c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ozvezdieoriona.ru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Кабалевский Д.Б. Как рассказывать детям о музыке? – М., 198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 Кабалевский Д.Б. Воспитание ума и сердца. М., Просвещение 198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. http://violinconcert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103608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олько через любовь можно найт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ебя самого как личность, и только личность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ожно войти в мир любви человеческой”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.М.Пришв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комната Б"/>
          <p:cNvPicPr/>
          <p:nvPr/>
        </p:nvPicPr>
        <p:blipFill>
          <a:blip r:embed="rId2"/>
          <a:stretch/>
        </p:blipFill>
        <p:spPr>
          <a:xfrm>
            <a:off x="2268360" y="692280"/>
            <a:ext cx="4559400" cy="5075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Бетховен1"/>
          <p:cNvPicPr/>
          <p:nvPr/>
        </p:nvPicPr>
        <p:blipFill>
          <a:blip r:embed="rId2"/>
          <a:stretch/>
        </p:blipFill>
        <p:spPr>
          <a:xfrm>
            <a:off x="1187280" y="907920"/>
            <a:ext cx="3638880" cy="4705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006"/>
          <p:cNvPicPr/>
          <p:nvPr/>
        </p:nvPicPr>
        <p:blipFill>
          <a:blip r:embed="rId2"/>
          <a:stretch/>
        </p:blipFill>
        <p:spPr>
          <a:xfrm>
            <a:off x="324000" y="907920"/>
            <a:ext cx="4825800" cy="48513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5580000" y="620640"/>
            <a:ext cx="3240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ы устроим с тобой жизнь неразлучную. Какую жизнь! Да!! Я плачу при мысли, что ты, вероятно, только в субботу получишь мою первую весточку…. Как бы ты ни любила меня, все же я люблю тебя сильнее. Лишь проснусь, мысли мои уже стремятся к тебе, моя бессмертная возлюбленная, в каком настроении и где бы я ни был, постоянно жду решения судьбы. Или мы должны быть неразлучны, или я готов умереть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Генриетта Зонтаг"/>
          <p:cNvPicPr/>
          <p:nvPr/>
        </p:nvPicPr>
        <p:blipFill>
          <a:blip r:embed="rId2"/>
          <a:stretch/>
        </p:blipFill>
        <p:spPr>
          <a:xfrm>
            <a:off x="2340000" y="549360"/>
            <a:ext cx="4429080" cy="54766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3205800" y="6120360"/>
            <a:ext cx="28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нриетта Зонта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Королина Унгер"/>
          <p:cNvPicPr/>
          <p:nvPr/>
        </p:nvPicPr>
        <p:blipFill>
          <a:blip r:embed="rId2"/>
          <a:stretch/>
        </p:blipFill>
        <p:spPr>
          <a:xfrm>
            <a:off x="2484360" y="404640"/>
            <a:ext cx="3670200" cy="54198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2917440" y="6020280"/>
            <a:ext cx="26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ролина Унг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Джульетта Гвичарди"/>
          <p:cNvPicPr/>
          <p:nvPr/>
        </p:nvPicPr>
        <p:blipFill>
          <a:blip r:embed="rId2"/>
          <a:stretch/>
        </p:blipFill>
        <p:spPr>
          <a:xfrm>
            <a:off x="755640" y="333360"/>
            <a:ext cx="4543560" cy="61246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5554800" y="619560"/>
            <a:ext cx="35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жульетта Гвиччард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4T22:06:57Z</dcterms:created>
  <dc:creator>SamLab.ws</dc:creator>
  <dc:description/>
  <dc:language>en-US</dc:language>
  <cp:lastModifiedBy>Наталья</cp:lastModifiedBy>
  <dcterms:modified xsi:type="dcterms:W3CDTF">2010-09-11T19:27:39Z</dcterms:modified>
  <cp:revision>16</cp:revision>
  <dc:subject/>
  <dc:title>Слайд 1</dc:title>
</cp:coreProperties>
</file>