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14E-F560-439A-9643-EF87248B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E9B-B771-423A-BE75-E92D0B1F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51A-0C02-4D84-8012-D7A139BB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3F7-E315-48C7-9250-19CF4511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31F9-F7A5-4A5A-9631-EFD58437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E713-CAF2-4053-AA1F-7F422FF2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1AE7-2E02-4237-8E50-685A4139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F7EB-8C98-4B5A-8CBF-DCA0BAC9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196D-3EC5-42EB-9677-EA0CFE9B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1B59-1C1F-4C5F-80BC-F7BEC115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597C-756F-4A4E-B034-D554077F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A5F-6B7A-4D64-B8BE-6FDA18F2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630A-43A3-4536-A97A-682A1521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6935-C07A-467B-A3EF-8EEF980F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0A43-5068-494A-AB49-FB34B98F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A565-DBE0-42F8-B604-F28AA66F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E8FF-CAE7-415D-8015-75D11607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D8456-91C2-4BF5-959D-77451569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DA46-E289-48EB-8FCE-53C8F2A1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CA61-47A8-45A9-A1AE-4B0B3F64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8446C-8E67-49DC-A094-442BA7E9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22B1-AE4D-4259-AC91-F94C9E07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CD3-C76B-4E43-9A45-C0CDE2CA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15548-BF8B-4CD1-915F-9C1BCCB1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BCCC-5F3C-43D9-A488-41098CD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7BFE9-E965-484B-8552-F516A3ED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51A4-18C0-46F9-9F44-72B2563D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1D214-806E-4327-8C63-2859C425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45531-A84C-4DAA-AA60-39079B73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5467A-CD4F-4117-B571-56992B34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1DE-84B2-4ECC-BC08-872F7857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C23-55F1-4D70-9A31-CD4F3213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795-A5AC-461F-967A-52EF33B9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E3B-35D3-47FD-8AEC-03DA79FF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5AC-8254-42F2-A21B-EC2D4912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FFF-5C8C-4E26-9D7A-186FD707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EA23-18BA-4987-A46C-7DF842AB6A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B81C-BAAB-44C9-84B9-F9EB8F29DC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8EC1-B864-4E4B-B4A2-01614AAC4D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43828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гушева М.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228600" y="914400"/>
            <a:ext cx="89154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ПОЗНАВАТЕЛЬНЫЙ ПРОЕ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«Домашние  животны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для детей 3 – 4 лет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2"/>
          <p:cNvSpPr/>
          <p:nvPr/>
        </p:nvSpPr>
        <p:spPr>
          <a:xfrm>
            <a:off x="152280" y="533520"/>
            <a:ext cx="883944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ечь и речевое общение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ение произведений художественной литератур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ошкин дом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Репка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Волк и семеро козлят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Бычок – смоляной бочо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380880" y="304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Чтение энциклопедическ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тературы о домашних живот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568440" y="106668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Рассматривание карти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домашними животны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Загадывание загадок о живот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Разучивание потешек: «Кисонька-Мурысонька», «Ты собачка не лай», «Идет коза рогатая», «Как у нашего кота», «Рева-Коров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Разучивание стихов «Агнии Барт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Лошадка», «Бычок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Составление рассказов по схеме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5"/>
          <p:cNvSpPr/>
          <p:nvPr/>
        </p:nvSpPr>
        <p:spPr>
          <a:xfrm>
            <a:off x="457200" y="625320"/>
            <a:ext cx="836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родуктивная деятельность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(коллективная и индивидуальная)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ование «Бусы для котя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Рисунок 6" descr=""/>
          <p:cNvPicPr/>
          <p:nvPr/>
        </p:nvPicPr>
        <p:blipFill>
          <a:blip r:embed="rId1"/>
          <a:stretch/>
        </p:blipFill>
        <p:spPr>
          <a:xfrm>
            <a:off x="228600" y="2341440"/>
            <a:ext cx="4038480" cy="33530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7" descr=""/>
          <p:cNvPicPr/>
          <p:nvPr/>
        </p:nvPicPr>
        <p:blipFill>
          <a:blip r:embed="rId2"/>
          <a:stretch/>
        </p:blipFill>
        <p:spPr>
          <a:xfrm>
            <a:off x="4638600" y="2895480"/>
            <a:ext cx="427680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5"/>
          <p:cNvSpPr/>
          <p:nvPr/>
        </p:nvSpPr>
        <p:spPr>
          <a:xfrm>
            <a:off x="27000" y="681120"/>
            <a:ext cx="90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ОВАНИЕ ДОМАШНИХ ЖИВОТНЫХПО ТРАФАР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91800" y="609480"/>
            <a:ext cx="82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КРАШИВАНИЕ ДОМАШНИХ ЖИВОТ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Рисунок 1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5"/>
          <p:cNvSpPr/>
          <p:nvPr/>
        </p:nvSpPr>
        <p:spPr>
          <a:xfrm>
            <a:off x="609480" y="588960"/>
            <a:ext cx="83059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Аппликация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Домик для собачк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Рисунок 7" descr=""/>
          <p:cNvPicPr/>
          <p:nvPr/>
        </p:nvPicPr>
        <p:blipFill>
          <a:blip r:embed="rId1"/>
          <a:stretch/>
        </p:blipFill>
        <p:spPr>
          <a:xfrm>
            <a:off x="4762440" y="2590920"/>
            <a:ext cx="4152960" cy="41907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9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97720" y="558720"/>
            <a:ext cx="73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ыкально – театрализован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ятельнос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Рисунок 1" descr=""/>
          <p:cNvPicPr/>
          <p:nvPr/>
        </p:nvPicPr>
        <p:blipFill>
          <a:blip r:embed="rId1"/>
          <a:stretch/>
        </p:blipFill>
        <p:spPr>
          <a:xfrm>
            <a:off x="-34920" y="2438280"/>
            <a:ext cx="4419720" cy="41911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2" descr=""/>
          <p:cNvPicPr/>
          <p:nvPr/>
        </p:nvPicPr>
        <p:blipFill>
          <a:blip r:embed="rId2"/>
          <a:stretch/>
        </p:blipFill>
        <p:spPr>
          <a:xfrm>
            <a:off x="4384800" y="1828800"/>
            <a:ext cx="47592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5"/>
          <p:cNvSpPr/>
          <p:nvPr/>
        </p:nvSpPr>
        <p:spPr>
          <a:xfrm>
            <a:off x="228600" y="398520"/>
            <a:ext cx="883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движные игры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Кот и мыши», «Лохматый пес»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Воробышки и кот», «Котята и щенята»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Кролики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Рисунок 6" descr=""/>
          <p:cNvPicPr/>
          <p:nvPr/>
        </p:nvPicPr>
        <p:blipFill>
          <a:blip r:embed="rId1"/>
          <a:stretch/>
        </p:blipFill>
        <p:spPr>
          <a:xfrm>
            <a:off x="206280" y="2706840"/>
            <a:ext cx="4213440" cy="41875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7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190760" cy="41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152280" y="331920"/>
            <a:ext cx="899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бота с родителям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пки – передвижки для родителей: «Животные – терапевты для вас и для ваших детей»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ультация: «Если Вы решили завести питомца – советы по выбору домашнего животного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и выставка книжек-малышек про домашних животных и домашних обитател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готовление макета «В деревне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олнение развив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5" descr=""/>
          <p:cNvPicPr/>
          <p:nvPr/>
        </p:nvPicPr>
        <p:blipFill>
          <a:blip r:embed="rId1"/>
          <a:stretch/>
        </p:blipFill>
        <p:spPr>
          <a:xfrm>
            <a:off x="380880" y="138240"/>
            <a:ext cx="8610840" cy="64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2"/>
          <p:cNvSpPr/>
          <p:nvPr/>
        </p:nvSpPr>
        <p:spPr>
          <a:xfrm>
            <a:off x="457200" y="12193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ahoma"/>
              </a:rPr>
              <a:t>Проблема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то они – эти домашние животные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4"/>
          <p:cNvSpPr/>
          <p:nvPr/>
        </p:nvSpPr>
        <p:spPr>
          <a:xfrm>
            <a:off x="380880" y="838080"/>
            <a:ext cx="84582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вод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процессе реализации данного проекта можно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делать следующие выв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сился уровень знаний детей по данной тем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группе создана необходимая развивающая сре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родителей сформировалась активная позиция по решению заданных проблем, совместно с дет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5"/>
          <p:cNvSpPr/>
          <p:nvPr/>
        </p:nvSpPr>
        <p:spPr>
          <a:xfrm>
            <a:off x="304920" y="136836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рактическая значимость проек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ект является эффективным. Собранный материал может быть использован для дальнейшей работы с детьми по ознакомлению окружающим мир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2" descr=""/>
          <p:cNvPicPr/>
          <p:nvPr/>
        </p:nvPicPr>
        <p:blipFill>
          <a:blip r:embed="rId1"/>
          <a:stretch/>
        </p:blipFill>
        <p:spPr>
          <a:xfrm>
            <a:off x="2212920" y="2090880"/>
            <a:ext cx="4741920" cy="1749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380880" y="1523880"/>
            <a:ext cx="84582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Цель проекта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знакомить детей с домашними животными и их детенышами, различать характерные особенности; обогащать представление детей о поведении;  питании  домашних животных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2"/>
          <p:cNvSpPr/>
          <p:nvPr/>
        </p:nvSpPr>
        <p:spPr>
          <a:xfrm>
            <a:off x="457200" y="914400"/>
            <a:ext cx="822960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и проекта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ширить знания детей о домашних живот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ть поисковую деятельность детей с помощью род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ствовать к определению задач на основе поставленной пробле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мение планировать этапы своих действ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гументировать свой выбо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ть связную речь, обогащать словарь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685800" y="457200"/>
            <a:ext cx="75438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Участники проекта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ети II младшей группы, воспитатели, родители, музыкальный руководител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ительность проекта: 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в течение 2-х недел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4"/>
          <p:cNvSpPr/>
          <p:nvPr/>
        </p:nvSpPr>
        <p:spPr>
          <a:xfrm>
            <a:off x="38160" y="2209680"/>
            <a:ext cx="938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ffffff"/>
                </a:solidFill>
                <a:uFillTx/>
                <a:latin typeface="Tahoma"/>
              </a:rPr>
              <a:t>Реализация проект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5"/>
          <p:cNvSpPr/>
          <p:nvPr/>
        </p:nvSpPr>
        <p:spPr>
          <a:xfrm>
            <a:off x="35640" y="1523880"/>
            <a:ext cx="904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Познавательное развитие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Кто как кричит?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Домашние животные и их детеныш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"/>
          <p:cNvSpPr/>
          <p:nvPr/>
        </p:nvSpPr>
        <p:spPr>
          <a:xfrm>
            <a:off x="1061280" y="15840"/>
            <a:ext cx="6619680" cy="71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Игровая деятельност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южетно-ролевая игра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В деревне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дактическая игра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то, что ест?»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Узнайте животного п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исанию», «Хорошо – плохо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то, как кричит?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Животные и их детеныши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айди маму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ого не стало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айди нужную картинку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3" descr=""/>
          <p:cNvPicPr/>
          <p:nvPr/>
        </p:nvPicPr>
        <p:blipFill>
          <a:blip r:embed="rId1"/>
          <a:stretch/>
        </p:blipFill>
        <p:spPr>
          <a:xfrm>
            <a:off x="152280" y="87480"/>
            <a:ext cx="4419720" cy="336852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"/>
          <p:cNvPicPr/>
          <p:nvPr/>
        </p:nvPicPr>
        <p:blipFill>
          <a:blip r:embed="rId2"/>
          <a:stretch/>
        </p:blipFill>
        <p:spPr>
          <a:xfrm>
            <a:off x="4908600" y="3521160"/>
            <a:ext cx="3854520" cy="33224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"/>
          <p:cNvPicPr/>
          <p:nvPr/>
        </p:nvPicPr>
        <p:blipFill>
          <a:blip r:embed="rId3"/>
          <a:stretch/>
        </p:blipFill>
        <p:spPr>
          <a:xfrm>
            <a:off x="152280" y="3535200"/>
            <a:ext cx="4419720" cy="33228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7" descr=""/>
          <p:cNvPicPr/>
          <p:nvPr/>
        </p:nvPicPr>
        <p:blipFill>
          <a:blip r:embed="rId4"/>
          <a:stretch/>
        </p:blipFill>
        <p:spPr>
          <a:xfrm>
            <a:off x="4908600" y="77760"/>
            <a:ext cx="4103640" cy="337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7-02-11T11:38:3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