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C06-2BD1-4226-8A9F-8C76C2FD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85C-BE00-48CB-9C86-75D69EB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442-39FA-4F2C-860C-B7716FAD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022-E698-4B2F-A8DE-37754841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1B4A-3AEF-44D8-99A9-E006B425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9358-0E1F-48AE-8489-74BD0BF5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6A2A-C591-4A6B-90BF-8EF356DD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6147-CBD6-4B50-9A99-3E8EC6BD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1B6-9699-4ED8-82E2-00D3ADE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F5A6-2AF9-4E54-9565-77795EC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8BEB-43A3-474C-A890-599EDC9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6E7-2FE4-4235-8D59-693D44EF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AFB-1AFA-4B8F-911F-8D858F74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5B30-E43B-4360-8F67-6DB7508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4428-7360-46A1-A8D6-378DE25A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F580-DF78-4463-93CA-571847A3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8E7-AAEF-4ADA-AEFD-51DD82C2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BC01-59DB-4727-84AD-5B12E556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788D-04B3-406E-B6A5-959684E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98B1-FE34-42A4-A7B7-68FE180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2B8D-63E7-4CEF-94EE-35C7C86E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F3EB-1893-4595-9AB2-F901FC8B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A15-91A8-4EE2-8F6B-23424679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1FA4-256A-4643-A1DE-7AF824A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D465C-2871-4066-9717-D4D5C41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C1E5-4A3E-4779-BAF5-6FCAA66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9B66-130B-49DA-A1D5-89F68C4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3B9C-5D5E-41A2-8272-D788FA57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C4CF-986E-4B3E-B4F6-1E7B2B14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B103-726E-43CC-8D1F-A35C0377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B09-C14A-4384-9B0C-AFA44E92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554-6534-4BBF-8737-6E9AC3D3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EC4-ED77-4410-BB85-1DE8439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9E1-84EC-43FE-8882-423782F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03A-C8ED-4352-85A4-F57BD4B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BBF-779E-4BE5-AD3E-FD7378C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6313-7CA1-4E6C-B982-2E65217E9A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4A5-46DE-4BE1-A6F3-9F671E14BB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3A1-22BF-447E-874B-0DDE204443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ушева М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228600" y="914400"/>
            <a:ext cx="89154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ПОЗНАВАТЕЛЬНЫЙ ПРО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Домашние  животны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для детей 3 – 4 ле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2"/>
          <p:cNvSpPr/>
          <p:nvPr/>
        </p:nvSpPr>
        <p:spPr>
          <a:xfrm>
            <a:off x="152280" y="533520"/>
            <a:ext cx="883944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чь и речевое общение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 произведений художественной литерату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шкин дом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Репка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олк и семеро козлят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Бычок – смоляной боч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8088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Чтение энциклопедичес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ы о домашних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568440" y="10666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Рассматривание карт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домашними живот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Загадывание загадок о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Разучивание потешек: «Кисонька-Мурысонька», «Ты собачка не лай», «Идет коза рогатая», «Как у нашего кота», «Рева-Коро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Разучивание стихов «Агнии Бар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ошадка», «Быч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Составление рассказов по схем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5"/>
          <p:cNvSpPr/>
          <p:nvPr/>
        </p:nvSpPr>
        <p:spPr>
          <a:xfrm>
            <a:off x="457200" y="625320"/>
            <a:ext cx="836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одуктивная деятельность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(коллективная и индивидуальная)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ование «Бусы для кот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Рисунок 6" descr=""/>
          <p:cNvPicPr/>
          <p:nvPr/>
        </p:nvPicPr>
        <p:blipFill>
          <a:blip r:embed="rId1"/>
          <a:stretch/>
        </p:blipFill>
        <p:spPr>
          <a:xfrm>
            <a:off x="228600" y="234144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7" descr=""/>
          <p:cNvPicPr/>
          <p:nvPr/>
        </p:nvPicPr>
        <p:blipFill>
          <a:blip r:embed="rId2"/>
          <a:stretch/>
        </p:blipFill>
        <p:spPr>
          <a:xfrm>
            <a:off x="4638600" y="2895480"/>
            <a:ext cx="42768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/>
          <p:cNvSpPr/>
          <p:nvPr/>
        </p:nvSpPr>
        <p:spPr>
          <a:xfrm>
            <a:off x="27000" y="681120"/>
            <a:ext cx="90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ДОМАШНИХ ЖИВОТНЫХПО ТРАФ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1800" y="609480"/>
            <a:ext cx="82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КРАШИВАНИЕ ДОМАШНИХ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5"/>
          <p:cNvSpPr/>
          <p:nvPr/>
        </p:nvSpPr>
        <p:spPr>
          <a:xfrm>
            <a:off x="609480" y="588960"/>
            <a:ext cx="8305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Аппликация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омик для собач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Рисунок 7" descr=""/>
          <p:cNvPicPr/>
          <p:nvPr/>
        </p:nvPicPr>
        <p:blipFill>
          <a:blip r:embed="rId1"/>
          <a:stretch/>
        </p:blipFill>
        <p:spPr>
          <a:xfrm>
            <a:off x="4762440" y="2590920"/>
            <a:ext cx="4152960" cy="4190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9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97720" y="558720"/>
            <a:ext cx="73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льно – театрализова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-34920" y="2438280"/>
            <a:ext cx="4419720" cy="4191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"/>
          <p:cNvPicPr/>
          <p:nvPr/>
        </p:nvPicPr>
        <p:blipFill>
          <a:blip r:embed="rId2"/>
          <a:stretch/>
        </p:blipFill>
        <p:spPr>
          <a:xfrm>
            <a:off x="4384800" y="1828800"/>
            <a:ext cx="47592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5"/>
          <p:cNvSpPr/>
          <p:nvPr/>
        </p:nvSpPr>
        <p:spPr>
          <a:xfrm>
            <a:off x="228600" y="39852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вижные игры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от и мыши», «Лохматый пес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Воробышки и кот», «Котята и щенята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ролик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Рисунок 6" descr=""/>
          <p:cNvPicPr/>
          <p:nvPr/>
        </p:nvPicPr>
        <p:blipFill>
          <a:blip r:embed="rId1"/>
          <a:stretch/>
        </p:blipFill>
        <p:spPr>
          <a:xfrm>
            <a:off x="206280" y="2706840"/>
            <a:ext cx="4213440" cy="41875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1907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52280" y="33192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бота с родител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пки – передвижки для родителей: «Животные – терапевты для вас и для ваших детей»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ультация: «Если Вы решили завести питомца – советы по выбору домашнего животного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и выставка книжек-малышек про домашних животных и домашних обитател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готовление макета «В деревне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олнение развив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5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610840" cy="64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2"/>
          <p:cNvSpPr/>
          <p:nvPr/>
        </p:nvSpPr>
        <p:spPr>
          <a:xfrm>
            <a:off x="457200" y="12193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Проблем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то они – эти домашние животные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4"/>
          <p:cNvSpPr/>
          <p:nvPr/>
        </p:nvSpPr>
        <p:spPr>
          <a:xfrm>
            <a:off x="380880" y="838080"/>
            <a:ext cx="84582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процессе реализации данного проекта мож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делать следующие выв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сился уровень знаний детей по данной 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группе создана необходимая развивающая сре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родителей сформировалась активная позиция по решению заданных проблем, совместно с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5"/>
          <p:cNvSpPr/>
          <p:nvPr/>
        </p:nvSpPr>
        <p:spPr>
          <a:xfrm>
            <a:off x="304920" y="136836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актическая значимость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ект является эффективным. Собранный материал может быть использован для дальнейшей работы с детьми по ознакомлению окружающим ми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2212920" y="2090880"/>
            <a:ext cx="4741920" cy="174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80880" y="1523880"/>
            <a:ext cx="84582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знакомить детей с домашними животными и их детенышами, различать характерные особенности; обогащать представление детей о поведении;  питании  домашних животны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457200" y="914400"/>
            <a:ext cx="8229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и проект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ширить знания детей о домашних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поисковую деятельность детей с помощью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овать к определению задач на основе поставленной пробл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ние планировать этапы своих дей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гументировать свой выбо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связную речь, обогащать словарь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685800" y="457200"/>
            <a:ext cx="75438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частники проекта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ти II младшей группы, воспитатели, родители, музыкальный руководите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ительность проекта: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 течение 2-х недел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4"/>
          <p:cNvSpPr/>
          <p:nvPr/>
        </p:nvSpPr>
        <p:spPr>
          <a:xfrm>
            <a:off x="38160" y="2209680"/>
            <a:ext cx="93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ffffff"/>
                </a:solidFill>
                <a:uFillTx/>
                <a:latin typeface="Tahoma"/>
              </a:rPr>
              <a:t>Реализация проек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5"/>
          <p:cNvSpPr/>
          <p:nvPr/>
        </p:nvSpPr>
        <p:spPr>
          <a:xfrm>
            <a:off x="35640" y="1523880"/>
            <a:ext cx="904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ознавательное развитие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то как кричит?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Домашние животные и их детеныш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"/>
          <p:cNvSpPr/>
          <p:nvPr/>
        </p:nvSpPr>
        <p:spPr>
          <a:xfrm>
            <a:off x="1061280" y="15840"/>
            <a:ext cx="661968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Игровая деятельн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южетно-ролевая игра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 деревне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ая игр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то, что ест?»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Узнайте животного п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исанию», «Хорошо – плохо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то, как кричит?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Животные и их детеныши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йди маму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го не стало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йди нужную картинк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"/>
          <p:cNvPicPr/>
          <p:nvPr/>
        </p:nvPicPr>
        <p:blipFill>
          <a:blip r:embed="rId1"/>
          <a:stretch/>
        </p:blipFill>
        <p:spPr>
          <a:xfrm>
            <a:off x="152280" y="87480"/>
            <a:ext cx="4419720" cy="33685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4908600" y="3521160"/>
            <a:ext cx="3854520" cy="33224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152280" y="3535200"/>
            <a:ext cx="4419720" cy="3322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908600" y="77760"/>
            <a:ext cx="4103640" cy="337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2-11T11:38:3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