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4.png" ContentType="image/png"/>
  <Override PartName="/ppt/media/image5.gif" ContentType="image/gif"/>
  <Override PartName="/ppt/media/image10.gif" ContentType="image/gif"/>
  <Override PartName="/ppt/media/image1.jpeg" ContentType="image/jpeg"/>
  <Override PartName="/ppt/media/image3.gif" ContentType="image/gif"/>
  <Override PartName="/ppt/media/image8.gif" ContentType="image/gif"/>
  <Override PartName="/ppt/media/image13.gif" ContentType="image/gif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581-5E93-4BE0-B39F-8866CE1B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039-E3FC-473A-BC47-4FA8BF5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EAD-827A-4F85-8A82-680875E6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C01-FBC4-4E5C-B6E7-37B758EF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8F6-73AC-4999-9B71-6E871A71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6F1-34B2-43B5-A95C-CF44D284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3AF-976E-45AF-A564-50DD3417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BCC-D5D7-4432-9B89-269F1BD5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D94-C583-4F5B-949E-81174600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862-6262-45F6-946F-ABFAC69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703-2E1C-42E0-9F46-BA0093DC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8A0-0159-4CA9-93A8-C7FC923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0FF-5C93-4020-9340-05F21B9BA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Цели уро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Comic Sans MS"/>
              </a:rPr>
              <a:t>1.Познакомить с делением с остатком на 10, 100, 1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Comic Sans MS"/>
              </a:rPr>
              <a:t>2. Формировать вычислительные навыки, умение решать задачи, творческое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85880" y="714240"/>
            <a:ext cx="7786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Деление с остат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 10, 100, 1000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47600" y="214200"/>
            <a:ext cx="321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изовская средняя школ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кский р-он. Республика Кр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500720" y="647064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Голоднюк Елена Прокоф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5" descr=""/>
          <p:cNvPicPr/>
          <p:nvPr/>
        </p:nvPicPr>
        <p:blipFill>
          <a:blip r:embed="rId1"/>
          <a:stretch/>
        </p:blipFill>
        <p:spPr>
          <a:xfrm>
            <a:off x="7205760" y="4211640"/>
            <a:ext cx="1163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87280" y="907560"/>
            <a:ext cx="6156360" cy="468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 fontScale="85000"/>
          </a:bodyPr>
          <a:p>
            <a:pPr marL="291600" indent="-291600"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15 +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800 : 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15 +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40 – 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5000" spc="-1" strike="noStrike" u="sng">
                <a:solidFill>
                  <a:srgbClr val="000099"/>
                </a:solidFill>
                <a:uFillTx/>
                <a:latin typeface="Arial"/>
              </a:rPr>
              <a:t>X = 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15 + 25 = 800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: 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40 = 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ученик1"/>
          <p:cNvPicPr/>
          <p:nvPr/>
        </p:nvPicPr>
        <p:blipFill>
          <a:blip r:embed="rId2"/>
          <a:stretch/>
        </p:blipFill>
        <p:spPr>
          <a:xfrm>
            <a:off x="611280" y="1628640"/>
            <a:ext cx="2703600" cy="453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26420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4788360" y="1413000"/>
            <a:ext cx="2328120" cy="1346040"/>
            <a:chOff x="4788360" y="1413000"/>
            <a:chExt cx="2328120" cy="1346040"/>
          </a:xfrm>
        </p:grpSpPr>
        <p:sp>
          <p:nvSpPr>
            <p:cNvPr id="178" name="Oval 13"/>
            <p:cNvSpPr/>
            <p:nvPr/>
          </p:nvSpPr>
          <p:spPr>
            <a:xfrm>
              <a:off x="5796000" y="1844640"/>
              <a:ext cx="91440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4788360" y="1413000"/>
              <a:ext cx="23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3300"/>
                  </a:solidFill>
                  <a:latin typeface="Arial"/>
                </a:rPr>
                <a:t>слагаем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6"/>
          <p:cNvSpPr/>
          <p:nvPr/>
        </p:nvSpPr>
        <p:spPr>
          <a:xfrm>
            <a:off x="3240" y="1268280"/>
            <a:ext cx="47574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Чтобы най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слагаемо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нуж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из сум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выч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друг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слагаем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00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Уч. с.27 №94, Тетр. с.28 №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4" descr="2.jpg"/>
          <p:cNvPicPr/>
          <p:nvPr/>
        </p:nvPicPr>
        <p:blipFill>
          <a:blip r:embed="rId1"/>
          <a:stretch/>
        </p:blipFill>
        <p:spPr>
          <a:xfrm>
            <a:off x="7143840" y="4500720"/>
            <a:ext cx="17143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3"/>
          <p:cNvPicPr/>
          <p:nvPr/>
        </p:nvPicPr>
        <p:blipFill>
          <a:blip r:embed="rId1"/>
          <a:stretch/>
        </p:blipFill>
        <p:spPr>
          <a:xfrm>
            <a:off x="3492360" y="1989000"/>
            <a:ext cx="1816200" cy="2584440"/>
          </a:xfrm>
          <a:prstGeom prst="rect">
            <a:avLst/>
          </a:prstGeom>
          <a:ln w="0">
            <a:noFill/>
          </a:ln>
        </p:spPr>
      </p:pic>
      <p:sp>
        <p:nvSpPr>
          <p:cNvPr id="47" name="WordArt 19"/>
          <p:cNvSpPr txBox="1"/>
          <p:nvPr/>
        </p:nvSpPr>
        <p:spPr>
          <a:xfrm>
            <a:off x="826920" y="1989000"/>
            <a:ext cx="74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8" name="Group 23"/>
          <p:cNvGrpSpPr/>
          <p:nvPr/>
        </p:nvGrpSpPr>
        <p:grpSpPr>
          <a:xfrm>
            <a:off x="367200" y="1306800"/>
            <a:ext cx="2158200" cy="2092680"/>
            <a:chOff x="367200" y="1306800"/>
            <a:chExt cx="2158200" cy="2092680"/>
          </a:xfrm>
        </p:grpSpPr>
        <p:sp>
          <p:nvSpPr>
            <p:cNvPr id="49" name="AutoShape 4"/>
            <p:cNvSpPr/>
            <p:nvPr/>
          </p:nvSpPr>
          <p:spPr>
            <a:xfrm rot="16594200">
              <a:off x="505800" y="137484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973080" y="148428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00ff"/>
                  </a:solidFill>
                  <a:uFillTx/>
                  <a:latin typeface="Arial"/>
                </a:rPr>
                <a:t>1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1"/>
            <p:cNvSpPr/>
            <p:nvPr/>
          </p:nvSpPr>
          <p:spPr>
            <a:xfrm>
              <a:off x="757440" y="17002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8"/>
          <p:cNvGrpSpPr/>
          <p:nvPr/>
        </p:nvGrpSpPr>
        <p:grpSpPr>
          <a:xfrm>
            <a:off x="3780000" y="260280"/>
            <a:ext cx="1881000" cy="1955880"/>
            <a:chOff x="3780000" y="260280"/>
            <a:chExt cx="1881000" cy="1955880"/>
          </a:xfrm>
        </p:grpSpPr>
        <p:sp>
          <p:nvSpPr>
            <p:cNvPr id="53" name="AutoShape 5"/>
            <p:cNvSpPr/>
            <p:nvPr/>
          </p:nvSpPr>
          <p:spPr>
            <a:xfrm>
              <a:off x="3780000" y="26028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4286160" y="33336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333399"/>
                  </a:solidFill>
                  <a:uFillTx/>
                  <a:latin typeface="Arial"/>
                </a:rPr>
                <a:t>2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4"/>
            <p:cNvSpPr/>
            <p:nvPr/>
          </p:nvSpPr>
          <p:spPr>
            <a:xfrm>
              <a:off x="4141800" y="4762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9"/>
          <p:cNvGrpSpPr/>
          <p:nvPr/>
        </p:nvGrpSpPr>
        <p:grpSpPr>
          <a:xfrm>
            <a:off x="6496200" y="1044000"/>
            <a:ext cx="2353680" cy="2404800"/>
            <a:chOff x="6496200" y="1044000"/>
            <a:chExt cx="2353680" cy="2404800"/>
          </a:xfrm>
        </p:grpSpPr>
        <p:sp>
          <p:nvSpPr>
            <p:cNvPr id="57" name="AutoShape 6"/>
            <p:cNvSpPr/>
            <p:nvPr/>
          </p:nvSpPr>
          <p:spPr>
            <a:xfrm rot="976800">
              <a:off x="6732360" y="126828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7165800" y="134136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6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3366ff"/>
                  </a:solidFill>
                  <a:uFillTx/>
                  <a:latin typeface="Arial"/>
                </a:rPr>
                <a:t>33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6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5"/>
            <p:cNvSpPr/>
            <p:nvPr/>
          </p:nvSpPr>
          <p:spPr>
            <a:xfrm>
              <a:off x="6878520" y="155736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0"/>
          <p:cNvGrpSpPr/>
          <p:nvPr/>
        </p:nvGrpSpPr>
        <p:grpSpPr>
          <a:xfrm>
            <a:off x="6312240" y="4145400"/>
            <a:ext cx="2506680" cy="2464200"/>
            <a:chOff x="6312240" y="4145400"/>
            <a:chExt cx="2506680" cy="2464200"/>
          </a:xfrm>
        </p:grpSpPr>
        <p:sp>
          <p:nvSpPr>
            <p:cNvPr id="61" name="AutoShape 7"/>
            <p:cNvSpPr/>
            <p:nvPr/>
          </p:nvSpPr>
          <p:spPr>
            <a:xfrm rot="6681000">
              <a:off x="6624720" y="4399560"/>
              <a:ext cx="188136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7165800" y="458136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00cc"/>
                  </a:solidFill>
                  <a:uFillTx/>
                  <a:latin typeface="Arial"/>
                </a:rPr>
                <a:t>4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6"/>
            <p:cNvSpPr/>
            <p:nvPr/>
          </p:nvSpPr>
          <p:spPr>
            <a:xfrm>
              <a:off x="6878880" y="47973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31"/>
          <p:cNvGrpSpPr/>
          <p:nvPr/>
        </p:nvGrpSpPr>
        <p:grpSpPr>
          <a:xfrm>
            <a:off x="609480" y="3730320"/>
            <a:ext cx="4906440" cy="3083400"/>
            <a:chOff x="609480" y="3730320"/>
            <a:chExt cx="4906440" cy="3083400"/>
          </a:xfrm>
        </p:grpSpPr>
        <p:sp>
          <p:nvSpPr>
            <p:cNvPr id="65" name="AutoShape 8"/>
            <p:cNvSpPr/>
            <p:nvPr/>
          </p:nvSpPr>
          <p:spPr>
            <a:xfrm rot="9925800">
              <a:off x="3418920" y="465264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2"/>
            <p:cNvGrpSpPr/>
            <p:nvPr/>
          </p:nvGrpSpPr>
          <p:grpSpPr>
            <a:xfrm>
              <a:off x="609480" y="3730320"/>
              <a:ext cx="4212000" cy="2878560"/>
              <a:chOff x="609480" y="3730320"/>
              <a:chExt cx="4212000" cy="2878560"/>
            </a:xfrm>
          </p:grpSpPr>
          <p:sp>
            <p:nvSpPr>
              <p:cNvPr id="67" name="AutoShape 9"/>
              <p:cNvSpPr/>
              <p:nvPr/>
            </p:nvSpPr>
            <p:spPr>
              <a:xfrm rot="12075000">
                <a:off x="900000" y="4004640"/>
                <a:ext cx="1881360" cy="1955880"/>
              </a:xfrm>
              <a:prstGeom prst="cloudCallout">
                <a:avLst>
                  <a:gd name="adj1" fmla="val -26134"/>
                  <a:gd name="adj2" fmla="val 6752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7"/>
              <p:cNvSpPr/>
              <p:nvPr/>
            </p:nvSpPr>
            <p:spPr>
              <a:xfrm>
                <a:off x="3852720" y="4869000"/>
                <a:ext cx="9687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Arial"/>
                  </a:rPr>
                  <a:t>* * *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 u="sng">
                    <a:solidFill>
                      <a:srgbClr val="3333ff"/>
                    </a:solidFill>
                    <a:uFillTx/>
                    <a:latin typeface="Arial"/>
                  </a:rPr>
                  <a:t>3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Arial"/>
                  </a:rPr>
                  <a:t>11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1333440" y="4149720"/>
                <a:ext cx="9687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99"/>
                    </a:solidFill>
                    <a:latin typeface="Arial"/>
                  </a:rPr>
                  <a:t>95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24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99"/>
                    </a:solidFill>
                    <a:latin typeface="Arial"/>
                  </a:rPr>
                  <a:t>* * *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0"/>
              <p:cNvSpPr/>
              <p:nvPr/>
            </p:nvSpPr>
            <p:spPr>
              <a:xfrm>
                <a:off x="1241640" y="4307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99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7"/>
            <p:cNvSpPr/>
            <p:nvPr/>
          </p:nvSpPr>
          <p:spPr>
            <a:xfrm>
              <a:off x="3637080" y="5084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32"/>
          <p:cNvSpPr/>
          <p:nvPr/>
        </p:nvSpPr>
        <p:spPr>
          <a:xfrm flipH="1" flipV="1">
            <a:off x="1763640" y="2997360"/>
            <a:ext cx="287280" cy="1008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4"/>
          <p:cNvSpPr/>
          <p:nvPr/>
        </p:nvSpPr>
        <p:spPr>
          <a:xfrm flipV="1">
            <a:off x="1835280" y="620280"/>
            <a:ext cx="2449440" cy="863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5651640" y="692280"/>
            <a:ext cx="1584360" cy="792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6"/>
          <p:cNvSpPr/>
          <p:nvPr/>
        </p:nvSpPr>
        <p:spPr>
          <a:xfrm flipH="1">
            <a:off x="7667280" y="3141720"/>
            <a:ext cx="289080" cy="1439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858920" y="5157720"/>
            <a:ext cx="201780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1261440" y="5157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7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902520" y="24922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7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974160" y="14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4287240" y="2602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4287240" y="14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5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7166880" y="1341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5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7166880" y="2421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7166880" y="4581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7166880" y="5661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1"/>
          <p:cNvSpPr/>
          <p:nvPr/>
        </p:nvSpPr>
        <p:spPr>
          <a:xfrm>
            <a:off x="3782520" y="4869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39240" y="0"/>
            <a:ext cx="91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Arial"/>
              </a:rPr>
              <a:t>Дополните и решите цепочку пр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94"/>
          <p:cNvPicPr/>
          <p:nvPr/>
        </p:nvPicPr>
        <p:blipFill>
          <a:blip r:embed="rId2"/>
          <a:stretch/>
        </p:blipFill>
        <p:spPr>
          <a:xfrm>
            <a:off x="5068800" y="1052640"/>
            <a:ext cx="407520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333360"/>
            <a:ext cx="6300720" cy="4741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В килограммовом торте «Адажио» ¼ часть какао. Сколько какао понадоби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для его изготовл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68360" y="5661000"/>
            <a:ext cx="7056360" cy="125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1000 : 4 = 250 (г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427640" y="0"/>
            <a:ext cx="44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140000" y="691920"/>
            <a:ext cx="5003640" cy="561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Человек спит 8 часов в сутки. Сколько часов в неделю он бодрству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0285266"/>
          <p:cNvPicPr/>
          <p:nvPr/>
        </p:nvPicPr>
        <p:blipFill>
          <a:blip r:embed="rId2"/>
          <a:stretch/>
        </p:blipFill>
        <p:spPr>
          <a:xfrm>
            <a:off x="250920" y="2276640"/>
            <a:ext cx="3889440" cy="31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j0297064"/>
          <p:cNvPicPr/>
          <p:nvPr/>
        </p:nvPicPr>
        <p:blipFill>
          <a:blip r:embed="rId3"/>
          <a:stretch/>
        </p:blipFill>
        <p:spPr>
          <a:xfrm>
            <a:off x="250920" y="1484280"/>
            <a:ext cx="378144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179280" y="115920"/>
            <a:ext cx="44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776520" y="5608800"/>
            <a:ext cx="7173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24 – 8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 ∙ 7 = 112 (ч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9"/>
          <p:cNvSpPr/>
          <p:nvPr/>
        </p:nvSpPr>
        <p:spPr>
          <a:xfrm>
            <a:off x="116280" y="0"/>
            <a:ext cx="87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67504"/>
                </a:solidFill>
                <a:latin typeface="Arial"/>
              </a:rPr>
              <a:t>Соедини дверь с ключом-ответ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3"/>
          <p:cNvGrpSpPr/>
          <p:nvPr/>
        </p:nvGrpSpPr>
        <p:grpSpPr>
          <a:xfrm>
            <a:off x="7093080" y="1268280"/>
            <a:ext cx="1728360" cy="3025440"/>
            <a:chOff x="7093080" y="1268280"/>
            <a:chExt cx="1728360" cy="3025440"/>
          </a:xfrm>
        </p:grpSpPr>
        <p:sp>
          <p:nvSpPr>
            <p:cNvPr id="99" name="Rectangle 10"/>
            <p:cNvSpPr/>
            <p:nvPr/>
          </p:nvSpPr>
          <p:spPr>
            <a:xfrm>
              <a:off x="7093080" y="1268280"/>
              <a:ext cx="1728360" cy="302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4"/>
            <p:cNvSpPr/>
            <p:nvPr/>
          </p:nvSpPr>
          <p:spPr>
            <a:xfrm rot="16200000">
              <a:off x="8207280" y="3456360"/>
              <a:ext cx="454320" cy="15588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57"/>
          <p:cNvSpPr/>
          <p:nvPr/>
        </p:nvSpPr>
        <p:spPr>
          <a:xfrm>
            <a:off x="7093800" y="1413000"/>
            <a:ext cx="1669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00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4"/>
          <p:cNvGrpSpPr/>
          <p:nvPr/>
        </p:nvGrpSpPr>
        <p:grpSpPr>
          <a:xfrm>
            <a:off x="4716360" y="907920"/>
            <a:ext cx="1728360" cy="2952360"/>
            <a:chOff x="4716360" y="907920"/>
            <a:chExt cx="1728360" cy="2952360"/>
          </a:xfrm>
        </p:grpSpPr>
        <p:sp>
          <p:nvSpPr>
            <p:cNvPr id="103" name="Rectangle 9"/>
            <p:cNvSpPr/>
            <p:nvPr/>
          </p:nvSpPr>
          <p:spPr>
            <a:xfrm>
              <a:off x="4716360" y="907920"/>
              <a:ext cx="1728360" cy="2952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3"/>
            <p:cNvSpPr/>
            <p:nvPr/>
          </p:nvSpPr>
          <p:spPr>
            <a:xfrm rot="16200000">
              <a:off x="5833080" y="3040920"/>
              <a:ext cx="443160" cy="15588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61"/>
          <p:cNvSpPr/>
          <p:nvPr/>
        </p:nvSpPr>
        <p:spPr>
          <a:xfrm>
            <a:off x="4717440" y="1052640"/>
            <a:ext cx="1669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610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5"/>
          <p:cNvGrpSpPr/>
          <p:nvPr/>
        </p:nvGrpSpPr>
        <p:grpSpPr>
          <a:xfrm>
            <a:off x="2556000" y="907920"/>
            <a:ext cx="1584000" cy="2952360"/>
            <a:chOff x="2556000" y="907920"/>
            <a:chExt cx="1584000" cy="2952360"/>
          </a:xfrm>
        </p:grpSpPr>
        <p:sp>
          <p:nvSpPr>
            <p:cNvPr id="107" name="Rectangle 8"/>
            <p:cNvSpPr/>
            <p:nvPr/>
          </p:nvSpPr>
          <p:spPr>
            <a:xfrm>
              <a:off x="2556000" y="907920"/>
              <a:ext cx="1584000" cy="2952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2"/>
            <p:cNvSpPr/>
            <p:nvPr/>
          </p:nvSpPr>
          <p:spPr>
            <a:xfrm rot="16200000">
              <a:off x="3563280" y="2937600"/>
              <a:ext cx="443880" cy="14256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62"/>
          <p:cNvSpPr/>
          <p:nvPr/>
        </p:nvSpPr>
        <p:spPr>
          <a:xfrm>
            <a:off x="2412000" y="1052640"/>
            <a:ext cx="18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300 :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6"/>
          <p:cNvGrpSpPr/>
          <p:nvPr/>
        </p:nvGrpSpPr>
        <p:grpSpPr>
          <a:xfrm>
            <a:off x="324000" y="1197000"/>
            <a:ext cx="1583640" cy="2952360"/>
            <a:chOff x="324000" y="1197000"/>
            <a:chExt cx="1583640" cy="2952360"/>
          </a:xfrm>
        </p:grpSpPr>
        <p:sp>
          <p:nvSpPr>
            <p:cNvPr id="111" name="Rectangle 7"/>
            <p:cNvSpPr/>
            <p:nvPr/>
          </p:nvSpPr>
          <p:spPr>
            <a:xfrm>
              <a:off x="324000" y="1197000"/>
              <a:ext cx="1583640" cy="2952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1"/>
            <p:cNvSpPr/>
            <p:nvPr/>
          </p:nvSpPr>
          <p:spPr>
            <a:xfrm rot="16200000">
              <a:off x="1328040" y="3226680"/>
              <a:ext cx="443880" cy="14256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63"/>
          <p:cNvSpPr/>
          <p:nvPr/>
        </p:nvSpPr>
        <p:spPr>
          <a:xfrm>
            <a:off x="251640" y="1413000"/>
            <a:ext cx="1669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420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9"/>
          <p:cNvGrpSpPr/>
          <p:nvPr/>
        </p:nvGrpSpPr>
        <p:grpSpPr>
          <a:xfrm>
            <a:off x="-42120" y="4103640"/>
            <a:ext cx="2252520" cy="2205000"/>
            <a:chOff x="-42120" y="4103640"/>
            <a:chExt cx="2252520" cy="2205000"/>
          </a:xfrm>
        </p:grpSpPr>
        <p:grpSp>
          <p:nvGrpSpPr>
            <p:cNvPr id="115" name="Group 25"/>
            <p:cNvGrpSpPr/>
            <p:nvPr/>
          </p:nvGrpSpPr>
          <p:grpSpPr>
            <a:xfrm>
              <a:off x="917640" y="4103640"/>
              <a:ext cx="1292760" cy="2205000"/>
              <a:chOff x="917640" y="4103640"/>
              <a:chExt cx="1292760" cy="2205000"/>
            </a:xfrm>
          </p:grpSpPr>
          <p:sp>
            <p:nvSpPr>
              <p:cNvPr id="116" name="AutoShape 12"/>
              <p:cNvSpPr/>
              <p:nvPr/>
            </p:nvSpPr>
            <p:spPr>
              <a:xfrm rot="2605800">
                <a:off x="1106640" y="429264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1609920" y="5156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3"/>
              <p:cNvSpPr/>
              <p:nvPr/>
            </p:nvSpPr>
            <p:spPr>
              <a:xfrm>
                <a:off x="1609920" y="609264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4"/>
              <p:cNvSpPr/>
              <p:nvPr/>
            </p:nvSpPr>
            <p:spPr>
              <a:xfrm>
                <a:off x="1538640" y="5156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45"/>
            <p:cNvSpPr/>
            <p:nvPr/>
          </p:nvSpPr>
          <p:spPr>
            <a:xfrm rot="10385400">
              <a:off x="0" y="5101920"/>
              <a:ext cx="1238400" cy="774720"/>
            </a:xfrm>
            <a:prstGeom prst="wedgeEllipseCallout">
              <a:avLst>
                <a:gd name="adj1" fmla="val -50782"/>
                <a:gd name="adj2" fmla="val 706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8"/>
            <p:cNvSpPr/>
            <p:nvPr/>
          </p:nvSpPr>
          <p:spPr>
            <a:xfrm>
              <a:off x="244440" y="5057640"/>
              <a:ext cx="8575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cc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8000"/>
                  </a:solidFill>
                  <a:latin typeface="Arial"/>
                </a:rPr>
                <a:t>6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2"/>
          <p:cNvGrpSpPr/>
          <p:nvPr/>
        </p:nvGrpSpPr>
        <p:grpSpPr>
          <a:xfrm>
            <a:off x="2007000" y="4392360"/>
            <a:ext cx="2228760" cy="2205000"/>
            <a:chOff x="2007000" y="4392360"/>
            <a:chExt cx="2228760" cy="2205000"/>
          </a:xfrm>
        </p:grpSpPr>
        <p:grpSp>
          <p:nvGrpSpPr>
            <p:cNvPr id="123" name="Group 26"/>
            <p:cNvGrpSpPr/>
            <p:nvPr/>
          </p:nvGrpSpPr>
          <p:grpSpPr>
            <a:xfrm>
              <a:off x="2943000" y="4392360"/>
              <a:ext cx="1292760" cy="2205000"/>
              <a:chOff x="2943000" y="4392360"/>
              <a:chExt cx="1292760" cy="2205000"/>
            </a:xfrm>
          </p:grpSpPr>
          <p:sp>
            <p:nvSpPr>
              <p:cNvPr id="124" name="AutoShape 27"/>
              <p:cNvSpPr/>
              <p:nvPr/>
            </p:nvSpPr>
            <p:spPr>
              <a:xfrm rot="2605800">
                <a:off x="3132000" y="458136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>
                <a:off x="3635280" y="544500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>
                <a:off x="3635280" y="638136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>
                <a:off x="3564000" y="544500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46"/>
            <p:cNvSpPr/>
            <p:nvPr/>
          </p:nvSpPr>
          <p:spPr>
            <a:xfrm rot="10385400">
              <a:off x="2050200" y="5444640"/>
              <a:ext cx="1203480" cy="792360"/>
            </a:xfrm>
            <a:prstGeom prst="wedgeEllipseCallout">
              <a:avLst>
                <a:gd name="adj1" fmla="val -48226"/>
                <a:gd name="adj2" fmla="val 679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0"/>
            <p:cNvSpPr/>
            <p:nvPr/>
          </p:nvSpPr>
          <p:spPr>
            <a:xfrm>
              <a:off x="2198520" y="5416560"/>
              <a:ext cx="8575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800080"/>
                  </a:solidFill>
                  <a:latin typeface="Arial"/>
                </a:rPr>
                <a:t>7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73"/>
          <p:cNvGrpSpPr/>
          <p:nvPr/>
        </p:nvGrpSpPr>
        <p:grpSpPr>
          <a:xfrm>
            <a:off x="4172040" y="3887640"/>
            <a:ext cx="2224440" cy="2205000"/>
            <a:chOff x="4172040" y="3887640"/>
            <a:chExt cx="2224440" cy="2205000"/>
          </a:xfrm>
        </p:grpSpPr>
        <p:grpSp>
          <p:nvGrpSpPr>
            <p:cNvPr id="131" name="Group 31"/>
            <p:cNvGrpSpPr/>
            <p:nvPr/>
          </p:nvGrpSpPr>
          <p:grpSpPr>
            <a:xfrm>
              <a:off x="5103720" y="3887640"/>
              <a:ext cx="1292760" cy="2205000"/>
              <a:chOff x="5103720" y="3887640"/>
              <a:chExt cx="1292760" cy="2205000"/>
            </a:xfrm>
          </p:grpSpPr>
          <p:sp>
            <p:nvSpPr>
              <p:cNvPr id="132" name="AutoShape 32"/>
              <p:cNvSpPr/>
              <p:nvPr/>
            </p:nvSpPr>
            <p:spPr>
              <a:xfrm rot="2605800">
                <a:off x="5292720" y="407664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5796000" y="4940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5796000" y="587664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5"/>
              <p:cNvSpPr/>
              <p:nvPr/>
            </p:nvSpPr>
            <p:spPr>
              <a:xfrm>
                <a:off x="5724720" y="4940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AutoShape 47"/>
            <p:cNvSpPr/>
            <p:nvPr/>
          </p:nvSpPr>
          <p:spPr>
            <a:xfrm rot="10385400">
              <a:off x="4210920" y="4941720"/>
              <a:ext cx="1203480" cy="720720"/>
            </a:xfrm>
            <a:prstGeom prst="wedgeEllipseCallout">
              <a:avLst>
                <a:gd name="adj1" fmla="val -48898"/>
                <a:gd name="adj2" fmla="val 701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1"/>
            <p:cNvSpPr/>
            <p:nvPr/>
          </p:nvSpPr>
          <p:spPr>
            <a:xfrm>
              <a:off x="4574160" y="4842000"/>
              <a:ext cx="5191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74"/>
          <p:cNvGrpSpPr/>
          <p:nvPr/>
        </p:nvGrpSpPr>
        <p:grpSpPr>
          <a:xfrm>
            <a:off x="6184080" y="4464000"/>
            <a:ext cx="2298240" cy="2205000"/>
            <a:chOff x="6184080" y="4464000"/>
            <a:chExt cx="2298240" cy="2205000"/>
          </a:xfrm>
        </p:grpSpPr>
        <p:sp>
          <p:nvSpPr>
            <p:cNvPr id="139" name="AutoShape 48"/>
            <p:cNvSpPr/>
            <p:nvPr/>
          </p:nvSpPr>
          <p:spPr>
            <a:xfrm rot="10385400">
              <a:off x="6226920" y="5589360"/>
              <a:ext cx="1203480" cy="792000"/>
            </a:xfrm>
            <a:prstGeom prst="wedgeEllipseCallout">
              <a:avLst>
                <a:gd name="adj1" fmla="val -59949"/>
                <a:gd name="adj2" fmla="val 7035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36"/>
            <p:cNvGrpSpPr/>
            <p:nvPr/>
          </p:nvGrpSpPr>
          <p:grpSpPr>
            <a:xfrm>
              <a:off x="7189560" y="4464000"/>
              <a:ext cx="1292760" cy="2205000"/>
              <a:chOff x="7189560" y="4464000"/>
              <a:chExt cx="1292760" cy="2205000"/>
            </a:xfrm>
          </p:grpSpPr>
          <p:sp>
            <p:nvSpPr>
              <p:cNvPr id="141" name="AutoShape 37"/>
              <p:cNvSpPr/>
              <p:nvPr/>
            </p:nvSpPr>
            <p:spPr>
              <a:xfrm rot="2605800">
                <a:off x="7378560" y="465300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>
                <a:off x="7881840" y="551664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>
                <a:off x="7881840" y="645300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>
                <a:off x="7810560" y="551664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50"/>
            <p:cNvSpPr/>
            <p:nvPr/>
          </p:nvSpPr>
          <p:spPr>
            <a:xfrm>
              <a:off x="6302160" y="5518080"/>
              <a:ext cx="8575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800080"/>
                  </a:solidFill>
                  <a:latin typeface="Arial"/>
                </a:rPr>
                <a:t>4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-0.67187 -0.38842 E">
                                      <p:cBhvr>
                                        <p:cTn id="3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55556E-006 L -0.21267 -0.33589 E">
                                      <p:cBhvr>
                                        <p:cTn id="35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48402 -0.38843 E">
                                      <p:cBhvr>
                                        <p:cTn id="36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7037E-007 L 0.4724 -0.36736 E">
                                      <p:cBhvr>
                                        <p:cTn id="38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6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684360" y="1341360"/>
            <a:ext cx="806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вая те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10560" y="53172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89 :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91280" y="2114640"/>
            <a:ext cx="353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890 :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54560" y="3627360"/>
            <a:ext cx="353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700 :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769840" y="5427720"/>
            <a:ext cx="40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714 : 1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7380720" y="292428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7380720" y="45813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7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563280" y="2205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8 (ост.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70880" y="4500720"/>
            <a:ext cx="48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7 (ост.14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4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7.40741E-007 L 0.00434 0.25255 E">
                                      <p:cBhvr>
                                        <p:cTn id="44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733 0.02106 L -0.29202 -0.14699 E">
                                      <p:cBhvr>
                                        <p:cTn id="44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233 2.59259E-006 L -0.01233 0.05717 C -0.01233 0.08287 0.00312 0.11481 0.0158 0.11481 L 0.04462 0.11481 E">
                                      <p:cBhvr>
                                        <p:cTn id="44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7.40741E-007 L 0.35434 0.13657 E">
                                      <p:cBhvr>
                                        <p:cTn id="452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38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385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38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38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85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38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38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Arial"/>
              </a:rPr>
              <a:t>Решаем с объяс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6000" spc="-1" strike="noStrike">
                <a:solidFill>
                  <a:srgbClr val="d833f9"/>
                </a:solidFill>
                <a:latin typeface="Arial"/>
              </a:rPr>
              <a:t>№ </a:t>
            </a:r>
            <a:r>
              <a:rPr b="1" i="1" lang="ru-RU" sz="6000" spc="-1" strike="noStrike">
                <a:solidFill>
                  <a:srgbClr val="d833f9"/>
                </a:solidFill>
                <a:latin typeface="Arial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66ff"/>
                </a:solidFill>
                <a:uFillTx/>
                <a:latin typeface="Arial"/>
              </a:rPr>
              <a:t>69 : 10</a:t>
            </a:r>
            <a:r>
              <a:rPr b="1" i="1" lang="ru-RU" sz="4800" spc="-1" strike="noStrike">
                <a:solidFill>
                  <a:srgbClr val="0066ff"/>
                </a:solidFill>
                <a:latin typeface="Arial"/>
              </a:rPr>
              <a:t> без остатка не разделится. Разделим 60 на 10. Получим 6. Это частное, а остаток – 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324000" y="404640"/>
            <a:ext cx="85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очитаем параграф на стр. 2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3" descr="J0076215"/>
          <p:cNvPicPr/>
          <p:nvPr/>
        </p:nvPicPr>
        <p:blipFill>
          <a:blip r:embed="rId2"/>
          <a:stretch/>
        </p:blipFill>
        <p:spPr>
          <a:xfrm>
            <a:off x="428760" y="4929120"/>
            <a:ext cx="266544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826920" y="1773360"/>
            <a:ext cx="7705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286080" y="0"/>
            <a:ext cx="2571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№ </a:t>
            </a: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14240" y="11430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рость = Расстоя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2786040" y="17859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км = 6 00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500040" y="24289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33f9"/>
                </a:solidFill>
                <a:latin typeface="Arial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6 00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5 = 12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км/ми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785880" y="328608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тояние = Скорость х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500040" y="421488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33f9"/>
                </a:solidFill>
                <a:latin typeface="Arial"/>
              </a:rPr>
              <a:t>2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0 х 40 = 480 (к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2"/>
          <p:cNvSpPr/>
          <p:nvPr/>
        </p:nvSpPr>
        <p:spPr>
          <a:xfrm>
            <a:off x="571680" y="5072040"/>
            <a:ext cx="585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вет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 проедет 480 к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6 0.00069 L 0.61459 -0.02037 E">
                                      <p:cBhvr>
                                        <p:cTn id="57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– 20 = 40 ∙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– 20 = 240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240 + 20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i="1" lang="ru-RU" sz="5000" spc="-1" strike="noStrike" u="sng">
                <a:solidFill>
                  <a:srgbClr val="000099"/>
                </a:solidFill>
                <a:uFillTx/>
                <a:latin typeface="Arial"/>
              </a:rPr>
              <a:t> = 260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260 – 20 = 40 ∙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240 = 2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4210560" y="1844640"/>
            <a:ext cx="49280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Чтобы най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уменьшаемо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нуж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к раз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прибав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вычитаемое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№ </a:t>
            </a: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Рисунок9"/>
          <p:cNvPicPr/>
          <p:nvPr/>
        </p:nvPicPr>
        <p:blipFill>
          <a:blip r:embed="rId2"/>
          <a:stretch/>
        </p:blipFill>
        <p:spPr>
          <a:xfrm>
            <a:off x="5999040" y="3546360"/>
            <a:ext cx="314496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108000" y="1987560"/>
            <a:ext cx="3022560" cy="1154160"/>
            <a:chOff x="108000" y="1987560"/>
            <a:chExt cx="3022560" cy="1154160"/>
          </a:xfrm>
        </p:grpSpPr>
        <p:sp>
          <p:nvSpPr>
            <p:cNvPr id="171" name="Oval 11"/>
            <p:cNvSpPr/>
            <p:nvPr/>
          </p:nvSpPr>
          <p:spPr>
            <a:xfrm>
              <a:off x="108000" y="2276640"/>
              <a:ext cx="806400" cy="86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829800" y="1987560"/>
              <a:ext cx="23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Arial"/>
                </a:rPr>
                <a:t>уменьшае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0:13:33Z</dcterms:created>
  <dc:creator>1</dc:creator>
  <dc:description/>
  <dc:language>en-US</dc:language>
  <cp:lastModifiedBy>User</cp:lastModifiedBy>
  <dcterms:modified xsi:type="dcterms:W3CDTF">2017-02-12T13:12:26Z</dcterms:modified>
  <cp:revision>48</cp:revision>
  <dc:subject/>
  <dc:title>Слайд 1</dc:title>
</cp:coreProperties>
</file>