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DB8-194F-4841-8EEB-94D1DB7F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8D7-E1CB-4164-AD52-DEAAE236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C53-80F6-4940-BDDF-41CC4BC5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905-42ED-40BC-A186-1416A41F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D9DF-9A57-4972-AE6F-E3D81970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5EA5-4F88-4DDF-B968-011F8607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0D07-D560-42D9-BA81-1ADFB8D5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BAF1-8371-4753-9544-65D50326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F311-EF2E-4ECE-9DE3-B7A9785C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1F76-1F3C-4181-A295-DD9FFACF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DCF3-6DAA-404F-B05F-B6F937A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E88-5E76-45DF-A687-E23B356C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CB20-6654-41A0-B191-71A2B8E6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BFDA-5B6E-4C1F-B2BB-EA5F939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C8BF-4EC8-4F7C-919B-4D9D95DB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4ACA-3FD7-4DBD-B854-34721191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57A7-6124-43B4-9024-24FB65C3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342-8D62-477D-87EB-E7C2FEC6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D8E-7135-42A2-9976-FA281A89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AAD-B92E-4EFE-BE43-4267B000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80C-48BB-4D55-9C64-BC8A9E25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113-22DF-4B78-8406-B1AA6EFB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F0F-9A90-4B42-A373-86623E47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3DA-3FAB-43EA-839F-414F46AF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6061-6811-4C86-A166-36D8FFE739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02C2-907E-424F-AA73-84AD840571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етский сад второй наш дом, кто работает в нем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66680" y="4038480"/>
            <a:ext cx="701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Экскурсия группы по детскому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28 сентября 2016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Для детей нашей группы была проведена экскурсия по детскому саду в ходе которой дети узнали где и как им готовят еду, кто же стирает и гладит им скатерти, полотенца и т.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А еще мы заглянули в кабинет методиста где нам тоже очень понравилось. И мы предлагаем вам,  наш фото отчет о нашей экскурс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Georgia"/>
              </a:rPr>
              <a:t>Дайте повару продукты: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Georgia"/>
              </a:rPr>
              <a:t>Мясо птицы, сухофрукты,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Georgia"/>
              </a:rPr>
              <a:t>Рис, картофель... И тогда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Georgia"/>
              </a:rPr>
              <a:t>Ждёт вас вкусная ед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3886200" cy="318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00600" y="3352680"/>
            <a:ext cx="38862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6870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Целый день она стирает,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А белье не убывает.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То врачи, то повара…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Вот уж свежая гора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505320" cy="280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81240" y="13712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Чтоб деток верно воспитать, Необходимо много знать. 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Знать нужно психологию. 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И знать физиологию, 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Но главное, чтоб методистом быть,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Детишек надобно любить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0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Всегда медицина в почете была,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И подтверждение тому – медсестра!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762480" y="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Мы давно уразумели, 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Что здравый дух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в здоровом теле. 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Растет у чад мускулатура, 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В чести здесь спорт и физкультура.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90720" y="571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8T07:53:55Z</dcterms:created>
  <dc:creator>lenovo</dc:creator>
  <dc:description/>
  <dc:language>en-US</dc:language>
  <cp:lastModifiedBy>lenovo</cp:lastModifiedBy>
  <dcterms:modified xsi:type="dcterms:W3CDTF">2017-02-12T14:12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