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661-3D40-4CB8-AD86-F64423F0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8B3-B384-4C9A-A779-9767494A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D2F-4512-4E11-9EE8-609FFC36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75D-1547-4E14-A9E9-442F60B5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9D31-144D-452D-9782-6A0756EC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25E-E297-4326-AC8D-C4CEB59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070-D90B-44FD-9FD1-98897C3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A88E-B9ED-4B93-A15B-6E5C259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A394-0AA0-4E71-8D39-97560E0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2315-FE5B-438C-8C5D-E9A0CF3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B19-BAFD-4E87-91E2-38ACC64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6F5-EBBC-4018-82D9-5D4B17C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5AEC-C2AD-496B-9E07-369548E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D0AB-24C6-4FB6-AD6C-D42D5E70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61E3-7CAC-47FC-B5CF-812E44A2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DD7-54B5-4B33-A024-37F95CB6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BEA-C311-4636-941F-084E87A5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390-C65C-4603-9779-93A2C92F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218-7091-46F6-943E-390672A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E0F-FDCE-4373-B99A-0C34BA5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D03-0124-418D-B88B-CE97F66E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43E-B4CD-4AA6-9D75-EADB21E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FB8-7737-43D2-A76D-E874E0C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FFE-4726-4A3F-9076-EB0B526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05F-2612-4629-9E60-2209BB8FFA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9CB-42D4-4C0F-984C-2CDFBBC758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тский сад второй наш дом, кто работает в нем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403848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Экскурсия группы по детскому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28 сентября 2016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Для детей нашей группы была проведена экскурсия по детскому саду в ходе которой дети узнали где и как им готовят еду, кто же стирает и гладит им скатерти, полотенца и т.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А еще мы заглянули в кабинет методиста где нам тоже очень понравилось. И мы предлагаем вам,  наш фото отчет о нашей экскурс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Дайте повару продукты: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Мясо птицы, сухофрукты,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Рис, картофель... И тогда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Ждёт вас вкусная ед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3886200" cy="318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3886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6870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Целый день она стирает,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А белье не убывает.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То врачи, то повара…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от уж свежая гора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8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1240" y="13712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Чтоб деток верно воспитать, Необходимо много знать.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Знать нужно психологию.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 знать физиологию,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Но главное, чтоб методистом быть,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Детишек надобно любить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сегда медицина в почете была,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И подтверждение тому – медсестра!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762480" y="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Мы давно уразумели,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 здравый дух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 здоровом теле.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Растет у чад мускулатура,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 чести здесь спорт и физкультура.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720" y="571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07:53:55Z</dcterms:created>
  <dc:creator>lenovo</dc:creator>
  <dc:description/>
  <dc:language>en-US</dc:language>
  <cp:lastModifiedBy>lenovo</cp:lastModifiedBy>
  <dcterms:modified xsi:type="dcterms:W3CDTF">2017-02-12T14:12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