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10745788" cy="7653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022400" y="685440"/>
            <a:ext cx="4813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imes New Roman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08A4-DBAC-4A92-AC1D-ECFEFE627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9034-0408-4B38-9B8C-4DFDF8EDD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022400" y="685800"/>
            <a:ext cx="48132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5FC-582E-4B9A-B4F9-1A56B056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6F6-7F6E-4169-BB64-A31966C2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7C08E-464B-4248-8322-630ABDB4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957A3-BC14-49A6-9BB9-CBBD006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E37F1-1A57-4677-AF04-EA8F3719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FA4F2-6946-4372-A5EA-3516DEE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CA249-099D-46F6-818B-6F0F36B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729D0-45B2-4F85-940D-00C7AF9B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9D01A-CB35-4126-992A-84D1C73A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A9A7E-6D44-424A-A1A2-F5A4AC42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C3B69-C733-4C92-9E89-A592ECCE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4BB07-4955-4BFA-871A-805DB2A6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435-40F7-45C7-9876-6B556F43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DC15C-1C39-4650-9C8E-2813D099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5C71E-3F0A-4AE1-9F94-5F1E6AAA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0D438-D6E8-49C7-A095-C9FE6BE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D44A8-DAE9-4CCB-894A-A3417820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09874-D930-4144-9720-70DC1B87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EFB80-C139-452B-98F9-1F7EF9B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96F68-D0F1-46BD-B49F-B95E029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E9871-EA0B-4F28-8AAF-02ACE1F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133ED-A20B-4026-9D62-EEC4BEC6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CE7B6-901C-441A-BD7C-375EA445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224-64B3-42D9-8604-ACB68B55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86D49-976A-4879-A275-83A84530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312E-BFC8-4948-96D7-199EB93E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2B0A-37F8-4AFD-B024-04E76671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6775-2A86-4A56-B2E1-CC181D51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041C-CD64-489A-92B9-27662F3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289A-DA3C-48BA-B2B7-90530A25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99DD-6719-40D5-8CB6-3BAF2FE2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A343-EB9C-4B0B-8A33-C1042E8A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AFC-AC38-41F8-B957-0515855C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8C11-80FC-43A3-86F1-A938F7EB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3285-D8AE-410D-A9D4-A441776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D97A-F9B0-4874-AB0C-1F4DD3A8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D1E7-7CA8-477D-90BB-D9D5C875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DB54-7C70-40A7-AC0F-2A20C5BE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4FCFB-666F-4FDC-A360-A8DA0894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CAAA-DCA8-40AD-9F55-C0F7BCF1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7A97-672D-4E9D-835C-06DD80B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D880-02D9-443E-84CE-713ADEFA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6DA9-AD64-44D9-9B71-2BD84447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00C-8831-4995-91CB-4B6BF3AE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D16E-3E77-4C19-A7D9-07179773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1E55-A5DA-4DA9-9E85-F917AF3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6FBD-F167-45F4-9EDE-C3F876F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33EB-9F7D-44D7-8C65-626427E1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37CA-F6AE-44FA-A4AC-DC5A44DE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E798-4C67-47E9-8826-B8F2EC89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0234-860F-48DC-B5C9-85BF3EBF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B974-9C4F-41C0-8BA8-46F81FA9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88EC-70F1-48BC-9879-97D6694C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4067-7DE6-4BA8-ABDD-D6462F48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2D6-9567-4240-8870-BC33BD71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8F2A-3633-46D4-93DE-6AA6F57B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09A5-62F4-4E8C-A97D-4478128A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55F2-975C-4A0E-950A-9CEDEA30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B049-56B4-459F-B2FC-6BA1997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1AE6-76F0-476F-9F5C-C1BBC1FD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1E98-8CE6-4838-B439-7F409637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7432-252F-4411-9C80-172BD52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773F-BE15-4A10-8BD6-233A946D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0533-4E3D-4B53-B84F-2D35A779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6CE7-7342-4069-A6C9-01E6ACFC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2E0-6AB9-4463-9AEE-9641301F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368BC-C3F2-4DA0-A6DD-F5B7707F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DE8FB-CD89-4026-87DB-AB73F8D1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053B2-533E-43DE-827E-25E61155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4EC61-C538-4C2A-A26F-34B3A81B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12944-137C-4A45-9621-DF6641E3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B2FA2-2092-4CD0-9206-BE04FB8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467DF-2063-4B41-973B-77B95398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B851A-80F0-45E3-9BEB-8CC5E659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1FC1-0138-4106-A667-54F270E2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79D5-7B61-433C-B4EF-E65DE5EC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755-2359-459F-835C-63C69DCA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6D5C-F4E4-4853-9D89-5CEE3C90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B8C81-B8D5-4B0E-8B31-F5200F2C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CC72C-3286-4B09-841C-8586FE36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8155-75F4-4DCA-A3DB-BB87AFB5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30844-A4FE-4ACA-8DC6-1A0A660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85C30-1F98-4075-9AC4-7D355E3B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456AE-6389-48F2-8DD8-0E4DF714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0EF3B-5CCB-4BA0-8154-A264245A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FDDEB-8162-4B5F-B8C6-A92F4E88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D883D-685B-418B-98FB-96D71E3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E00-EE91-4774-8390-D0B7A69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CE8B6-2C49-47E6-B65E-83503C48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38F8-50CA-4681-82B1-81A3270E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A85CC-DA6F-401F-AA1F-E06DD052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B0A50-8384-4BDF-BA3A-78E19560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70390-89AC-4583-B21C-9670EF61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96CA7-BE0C-48A7-A929-5E854C43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B5B24-8A0C-49AF-ADAB-1EC4323C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92883-295F-4C87-A911-8459EF6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7AA3-9598-42D0-B2D4-E16DF479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2777B-C7CC-458D-8ADB-2FD421B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5ED-65FA-4999-A001-7D7D9837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02EEE-149B-409A-88BC-71896362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716FB-C07D-43F7-AC3F-E7BCE7DC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CFB9D-B3F6-46DE-B14A-57F48757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F1A14-6223-4C79-A298-1AC7138D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D30B-F239-4120-BE5E-8A3AD491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B834-AA76-467B-822B-91AA0ED1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D0880-05B6-4963-923E-CBDD4F5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57841-F2A9-4AB0-95CC-DFC6FDBF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513F6-DE90-49C1-9E13-5ABE322A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81112-2036-42D1-95C4-88279CB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7E2-81E1-4EE6-9B7D-1ABB71F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347BF-0D0A-4F17-8788-0B3EC804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78373-3F76-4BA6-ACC1-E707E346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8560A-0464-4390-9EE3-35FDD4D1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26D9-6033-4C67-A156-C143AEB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5CDC0-F582-46C8-9DE7-EB45039E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4C31C-FC54-4FC3-A9B0-DE60DF62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69B76-3C6D-409F-B808-AF3C36EB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D34A7-021F-4094-8959-D279FA9D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AE72C-E128-428A-AEB1-46D748FB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CFDB1-C0AA-49C5-B022-1B1EF1C7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0"/>
            <a:ext cx="10731240" cy="7638480"/>
            <a:chOff x="-360" y="0"/>
            <a:chExt cx="10731240" cy="7638480"/>
          </a:xfrm>
        </p:grpSpPr>
        <p:grpSp>
          <p:nvGrpSpPr>
            <p:cNvPr id="1" name="Group 3"/>
            <p:cNvGrpSpPr/>
            <p:nvPr/>
          </p:nvGrpSpPr>
          <p:grpSpPr>
            <a:xfrm>
              <a:off x="-360" y="0"/>
              <a:ext cx="10731240" cy="7638480"/>
              <a:chOff x="-360" y="0"/>
              <a:chExt cx="10731240" cy="7638480"/>
            </a:xfrm>
          </p:grpSpPr>
          <p:sp>
            <p:nvSpPr>
              <p:cNvPr id="2" name="Line 4"/>
              <p:cNvSpPr/>
              <p:nvPr/>
            </p:nvSpPr>
            <p:spPr>
              <a:xfrm flipH="1">
                <a:off x="0" y="0"/>
                <a:ext cx="755280" cy="80784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 flipH="1">
                <a:off x="0" y="0"/>
                <a:ext cx="1352160" cy="14454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 flipH="1">
                <a:off x="0" y="0"/>
                <a:ext cx="1969920" cy="21045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 flipH="1">
                <a:off x="0" y="0"/>
                <a:ext cx="2545920" cy="2720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 flipH="1">
                <a:off x="0" y="0"/>
                <a:ext cx="3142800" cy="3358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 flipH="1">
                <a:off x="-360" y="0"/>
                <a:ext cx="3760200" cy="40176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 flipH="1">
                <a:off x="-360" y="0"/>
                <a:ext cx="4377960" cy="46767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 flipH="1">
                <a:off x="-360" y="0"/>
                <a:ext cx="5013720" cy="5356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 flipH="1">
                <a:off x="0" y="0"/>
                <a:ext cx="5590080" cy="5973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 flipH="1">
                <a:off x="0" y="0"/>
                <a:ext cx="6228000" cy="66535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 flipH="1">
                <a:off x="0" y="0"/>
                <a:ext cx="6843600" cy="73123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 flipH="1">
                <a:off x="331920" y="0"/>
                <a:ext cx="714960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 flipH="1">
                <a:off x="92844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H="1">
                <a:off x="154368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H="1">
                <a:off x="2102040" y="0"/>
                <a:ext cx="714960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 flipH="1">
                <a:off x="271908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 flipH="1">
                <a:off x="3303360" y="7200"/>
                <a:ext cx="7141680" cy="76312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 flipH="1">
                <a:off x="4515840" y="999000"/>
                <a:ext cx="6215040" cy="6639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 flipH="1">
                <a:off x="5073120" y="1594440"/>
                <a:ext cx="5657400" cy="604404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 flipH="1">
                <a:off x="5649840" y="2210400"/>
                <a:ext cx="5081040" cy="54280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 flipH="1">
                <a:off x="6246720" y="2848320"/>
                <a:ext cx="4484160" cy="47901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 flipH="1">
                <a:off x="6884640" y="3528720"/>
                <a:ext cx="3846240" cy="41097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 flipH="1">
                <a:off x="7520400" y="4209120"/>
                <a:ext cx="3210120" cy="34293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 flipH="1">
                <a:off x="8117280" y="4846680"/>
                <a:ext cx="2613240" cy="2791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 flipH="1">
                <a:off x="8735040" y="5505480"/>
                <a:ext cx="1995480" cy="21330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 flipH="1">
                <a:off x="9311040" y="6122160"/>
                <a:ext cx="1419480" cy="15163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 flipH="1">
                <a:off x="9869040" y="6717600"/>
                <a:ext cx="861480" cy="920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 flipH="1">
                <a:off x="10424880" y="7312320"/>
                <a:ext cx="305640" cy="3261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 flipH="1">
                <a:off x="0" y="0"/>
                <a:ext cx="238320" cy="254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 flipH="1">
                <a:off x="3952440" y="403560"/>
                <a:ext cx="6770880" cy="72349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32" name="Rectangle 34"/>
            <p:cNvSpPr/>
            <p:nvPr/>
          </p:nvSpPr>
          <p:spPr>
            <a:xfrm>
              <a:off x="537120" y="510120"/>
              <a:ext cx="9671760" cy="6637680"/>
            </a:xfrm>
            <a:prstGeom prst="rect">
              <a:avLst/>
            </a:prstGeom>
            <a:gradFill rotWithShape="0">
              <a:gsLst>
                <a:gs pos="0">
                  <a:srgbClr val="99d0d6"/>
                </a:gs>
                <a:gs pos="100000">
                  <a:srgbClr val="ffffff"/>
                </a:gs>
              </a:gsLst>
              <a:lin ang="5400000"/>
            </a:gradFill>
            <a:ln cap="sq" w="12600">
              <a:solidFill>
                <a:srgbClr val="6600cc"/>
              </a:solidFill>
              <a:miter/>
            </a:ln>
            <a:effectLst>
              <a:outerShdw dist="125751" dir="2700000" blurRad="0" rotWithShape="0">
                <a:srgbClr val="99d0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1274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806040" y="2211120"/>
            <a:ext cx="9131400" cy="4591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 fontScale="96000"/>
          </a:bodyPr>
          <a:p>
            <a:pPr marL="378000" indent="-378000">
              <a:spcBef>
                <a:spcPts val="924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-3150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252720">
              <a:spcBef>
                <a:spcPts val="924"/>
              </a:spcBef>
              <a:buClr>
                <a:srgbClr val="6600cc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766160" indent="-252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270520" indent="-254160">
              <a:spcBef>
                <a:spcPts val="924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270520" indent="-2541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270520" indent="-2541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80640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669840" y="6972120"/>
            <a:ext cx="34038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769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E38F-7E61-4A01-A475-E28D1A14E02A}" type="slidenum"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0" y="0"/>
            <a:ext cx="6894000" cy="7652880"/>
            <a:chOff x="0" y="0"/>
            <a:chExt cx="6894000" cy="7652880"/>
          </a:xfrm>
        </p:grpSpPr>
        <p:sp>
          <p:nvSpPr>
            <p:cNvPr id="473" name="Rectangle 3"/>
            <p:cNvSpPr/>
            <p:nvPr/>
          </p:nvSpPr>
          <p:spPr>
            <a:xfrm>
              <a:off x="0" y="0"/>
              <a:ext cx="5372280" cy="76528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4" name="AutoShape 4"/>
            <p:cNvSpPr/>
            <p:nvPr/>
          </p:nvSpPr>
          <p:spPr>
            <a:xfrm>
              <a:off x="805680" y="1105560"/>
              <a:ext cx="6088320" cy="21312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475" name="Group 5"/>
          <p:cNvGrpSpPr/>
          <p:nvPr/>
        </p:nvGrpSpPr>
        <p:grpSpPr>
          <a:xfrm>
            <a:off x="4266720" y="5456160"/>
            <a:ext cx="5730840" cy="356760"/>
            <a:chOff x="4266720" y="5456160"/>
            <a:chExt cx="5730840" cy="356760"/>
          </a:xfrm>
        </p:grpSpPr>
        <p:sp>
          <p:nvSpPr>
            <p:cNvPr id="476" name="AutoShape 6"/>
            <p:cNvSpPr/>
            <p:nvPr/>
          </p:nvSpPr>
          <p:spPr>
            <a:xfrm flipH="1">
              <a:off x="4266360" y="5456160"/>
              <a:ext cx="5435640" cy="3553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7" name="AutoShape 7"/>
            <p:cNvSpPr/>
            <p:nvPr/>
          </p:nvSpPr>
          <p:spPr>
            <a:xfrm>
              <a:off x="9691920" y="5456160"/>
              <a:ext cx="305640" cy="3567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75960" y="931320"/>
            <a:ext cx="915120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83880" y="2637000"/>
            <a:ext cx="9039240" cy="4155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8"/>
          </p:nvPr>
        </p:nvSpPr>
        <p:spPr>
          <a:xfrm>
            <a:off x="2865600" y="6972480"/>
            <a:ext cx="25034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9"/>
          </p:nvPr>
        </p:nvSpPr>
        <p:spPr>
          <a:xfrm>
            <a:off x="6803640" y="6972480"/>
            <a:ext cx="34052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0"/>
          </p:nvPr>
        </p:nvSpPr>
        <p:spPr>
          <a:xfrm>
            <a:off x="88920" y="6972480"/>
            <a:ext cx="690480" cy="5457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EACE-AC4E-4FF5-862F-F973919C6B4B}" type="slidenum">
              <a:rPr b="1" lang="ru-RU" sz="3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8952840" cy="7652520"/>
            <a:chOff x="0" y="0"/>
            <a:chExt cx="8952840" cy="7652520"/>
          </a:xfrm>
        </p:grpSpPr>
        <p:grpSp>
          <p:nvGrpSpPr>
            <p:cNvPr id="75" name="Group 3"/>
            <p:cNvGrpSpPr/>
            <p:nvPr/>
          </p:nvGrpSpPr>
          <p:grpSpPr>
            <a:xfrm>
              <a:off x="0" y="0"/>
              <a:ext cx="3759840" cy="7652520"/>
              <a:chOff x="0" y="0"/>
              <a:chExt cx="3759840" cy="765252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0" y="0"/>
                <a:ext cx="894960" cy="765252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7" name="Freeform 5"/>
              <p:cNvSpPr/>
              <p:nvPr/>
            </p:nvSpPr>
            <p:spPr>
              <a:xfrm>
                <a:off x="536760" y="0"/>
                <a:ext cx="3223080" cy="1301760"/>
              </a:xfrm>
              <a:custGeom>
                <a:avLst/>
                <a:gdLst>
                  <a:gd name="textAreaLeft" fmla="*/ 0 w 3223080"/>
                  <a:gd name="textAreaRight" fmla="*/ 3223440 w 3223080"/>
                  <a:gd name="textAreaTop" fmla="*/ 0 h 1301760"/>
                  <a:gd name="textAreaBottom" fmla="*/ 1301760 h 1301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8" name="Group 6"/>
            <p:cNvGrpSpPr/>
            <p:nvPr/>
          </p:nvGrpSpPr>
          <p:grpSpPr>
            <a:xfrm>
              <a:off x="268200" y="2210760"/>
              <a:ext cx="8684640" cy="355680"/>
              <a:chOff x="268200" y="2210760"/>
              <a:chExt cx="8684640" cy="355680"/>
            </a:xfrm>
          </p:grpSpPr>
          <p:sp>
            <p:nvSpPr>
              <p:cNvPr id="79" name="AutoShape 7"/>
              <p:cNvSpPr/>
              <p:nvPr/>
            </p:nvSpPr>
            <p:spPr>
              <a:xfrm>
                <a:off x="716040" y="2210760"/>
                <a:ext cx="8236800" cy="353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0" name="AutoShape 8"/>
              <p:cNvSpPr/>
              <p:nvPr/>
            </p:nvSpPr>
            <p:spPr>
              <a:xfrm flipH="1">
                <a:off x="267840" y="2210760"/>
                <a:ext cx="462600" cy="355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5960" y="931320"/>
            <a:ext cx="915120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83880" y="2637000"/>
            <a:ext cx="9039240" cy="4155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2865600" y="6972480"/>
            <a:ext cx="25034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6803640" y="6972480"/>
            <a:ext cx="34052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97920" y="6965640"/>
            <a:ext cx="690840" cy="5461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05EC-7D2E-4641-9BE2-8BD0D5E1FDB3}" type="slidenum">
              <a:rPr b="1" lang="ru-RU" sz="3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10207080" cy="5441760"/>
            <a:chOff x="0" y="0"/>
            <a:chExt cx="10207080" cy="5441760"/>
          </a:xfrm>
        </p:grpSpPr>
        <p:sp>
          <p:nvSpPr>
            <p:cNvPr id="123" name="Rectangle 3"/>
            <p:cNvSpPr/>
            <p:nvPr/>
          </p:nvSpPr>
          <p:spPr>
            <a:xfrm>
              <a:off x="0" y="0"/>
              <a:ext cx="716040" cy="54417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24" name="Group 4"/>
            <p:cNvGrpSpPr/>
            <p:nvPr/>
          </p:nvGrpSpPr>
          <p:grpSpPr>
            <a:xfrm>
              <a:off x="447480" y="1581840"/>
              <a:ext cx="9759600" cy="203040"/>
              <a:chOff x="447480" y="1581840"/>
              <a:chExt cx="9759600" cy="20304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8058240" y="1581840"/>
                <a:ext cx="2148840" cy="203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6" name="Line 6"/>
              <p:cNvSpPr/>
              <p:nvPr/>
            </p:nvSpPr>
            <p:spPr>
              <a:xfrm>
                <a:off x="447480" y="1666080"/>
                <a:ext cx="975960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0" indent="-26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0" indent="-26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074240" y="6976800"/>
            <a:ext cx="2327400" cy="5094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939840" y="6972120"/>
            <a:ext cx="349092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96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3467-0890-4C3F-B075-EF22BA73865B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0" y="5442120"/>
            <a:ext cx="71604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3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0" indent="-26496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0" indent="-264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0" indent="-264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073160" y="6976800"/>
            <a:ext cx="2238480" cy="5094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941640" y="6972120"/>
            <a:ext cx="34020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96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FB64-9AB9-4A52-9F11-FE2171DC5988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5960" y="931320"/>
            <a:ext cx="915120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83880" y="2637000"/>
            <a:ext cx="9039240" cy="4155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2865600" y="6972480"/>
            <a:ext cx="25034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6803640" y="6972480"/>
            <a:ext cx="34052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8920" y="6972480"/>
            <a:ext cx="690480" cy="5457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8009-6F0B-4993-8F0F-ADEC2CB173CE}" type="slidenum">
              <a:rPr b="1" lang="ru-RU" sz="3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0" y="0"/>
            <a:ext cx="10731240" cy="7638480"/>
            <a:chOff x="-360" y="0"/>
            <a:chExt cx="10731240" cy="7638480"/>
          </a:xfrm>
        </p:grpSpPr>
        <p:grpSp>
          <p:nvGrpSpPr>
            <p:cNvPr id="252" name="Group 3"/>
            <p:cNvGrpSpPr/>
            <p:nvPr/>
          </p:nvGrpSpPr>
          <p:grpSpPr>
            <a:xfrm>
              <a:off x="-360" y="0"/>
              <a:ext cx="10731240" cy="7638480"/>
              <a:chOff x="-360" y="0"/>
              <a:chExt cx="10731240" cy="7638480"/>
            </a:xfrm>
          </p:grpSpPr>
          <p:sp>
            <p:nvSpPr>
              <p:cNvPr id="253" name="Line 4"/>
              <p:cNvSpPr/>
              <p:nvPr/>
            </p:nvSpPr>
            <p:spPr>
              <a:xfrm flipH="1">
                <a:off x="0" y="0"/>
                <a:ext cx="755280" cy="80784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4" name="Line 5"/>
              <p:cNvSpPr/>
              <p:nvPr/>
            </p:nvSpPr>
            <p:spPr>
              <a:xfrm flipH="1">
                <a:off x="0" y="0"/>
                <a:ext cx="1352160" cy="14454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5" name="Line 6"/>
              <p:cNvSpPr/>
              <p:nvPr/>
            </p:nvSpPr>
            <p:spPr>
              <a:xfrm flipH="1">
                <a:off x="0" y="0"/>
                <a:ext cx="1969920" cy="21045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6" name="Line 7"/>
              <p:cNvSpPr/>
              <p:nvPr/>
            </p:nvSpPr>
            <p:spPr>
              <a:xfrm flipH="1">
                <a:off x="0" y="0"/>
                <a:ext cx="2545920" cy="2720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7" name="Line 8"/>
              <p:cNvSpPr/>
              <p:nvPr/>
            </p:nvSpPr>
            <p:spPr>
              <a:xfrm flipH="1">
                <a:off x="0" y="0"/>
                <a:ext cx="3142800" cy="3358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8" name="Line 9"/>
              <p:cNvSpPr/>
              <p:nvPr/>
            </p:nvSpPr>
            <p:spPr>
              <a:xfrm flipH="1">
                <a:off x="-360" y="0"/>
                <a:ext cx="3760200" cy="40176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9" name="Line 10"/>
              <p:cNvSpPr/>
              <p:nvPr/>
            </p:nvSpPr>
            <p:spPr>
              <a:xfrm flipH="1">
                <a:off x="-360" y="0"/>
                <a:ext cx="4377960" cy="46767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0" name="Line 11"/>
              <p:cNvSpPr/>
              <p:nvPr/>
            </p:nvSpPr>
            <p:spPr>
              <a:xfrm flipH="1">
                <a:off x="-360" y="0"/>
                <a:ext cx="5013720" cy="5356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1" name="Line 12"/>
              <p:cNvSpPr/>
              <p:nvPr/>
            </p:nvSpPr>
            <p:spPr>
              <a:xfrm flipH="1">
                <a:off x="0" y="0"/>
                <a:ext cx="5590080" cy="5973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2" name="Line 13"/>
              <p:cNvSpPr/>
              <p:nvPr/>
            </p:nvSpPr>
            <p:spPr>
              <a:xfrm flipH="1">
                <a:off x="0" y="0"/>
                <a:ext cx="6228000" cy="66535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3" name="Line 14"/>
              <p:cNvSpPr/>
              <p:nvPr/>
            </p:nvSpPr>
            <p:spPr>
              <a:xfrm flipH="1">
                <a:off x="0" y="0"/>
                <a:ext cx="6843600" cy="73123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4" name="Line 15"/>
              <p:cNvSpPr/>
              <p:nvPr/>
            </p:nvSpPr>
            <p:spPr>
              <a:xfrm flipH="1">
                <a:off x="331920" y="0"/>
                <a:ext cx="714960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5" name="Line 16"/>
              <p:cNvSpPr/>
              <p:nvPr/>
            </p:nvSpPr>
            <p:spPr>
              <a:xfrm flipH="1">
                <a:off x="92844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6" name="Line 17"/>
              <p:cNvSpPr/>
              <p:nvPr/>
            </p:nvSpPr>
            <p:spPr>
              <a:xfrm flipH="1">
                <a:off x="154368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7" name="Line 18"/>
              <p:cNvSpPr/>
              <p:nvPr/>
            </p:nvSpPr>
            <p:spPr>
              <a:xfrm flipH="1">
                <a:off x="2102040" y="0"/>
                <a:ext cx="714960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 flipH="1">
                <a:off x="271908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9" name="Line 20"/>
              <p:cNvSpPr/>
              <p:nvPr/>
            </p:nvSpPr>
            <p:spPr>
              <a:xfrm flipH="1">
                <a:off x="3303360" y="7200"/>
                <a:ext cx="7141680" cy="76312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0" name="Line 21"/>
              <p:cNvSpPr/>
              <p:nvPr/>
            </p:nvSpPr>
            <p:spPr>
              <a:xfrm flipH="1">
                <a:off x="4515840" y="999000"/>
                <a:ext cx="6215040" cy="6639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1" name="Line 22"/>
              <p:cNvSpPr/>
              <p:nvPr/>
            </p:nvSpPr>
            <p:spPr>
              <a:xfrm flipH="1">
                <a:off x="5073120" y="1594440"/>
                <a:ext cx="5657400" cy="604404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2" name="Line 23"/>
              <p:cNvSpPr/>
              <p:nvPr/>
            </p:nvSpPr>
            <p:spPr>
              <a:xfrm flipH="1">
                <a:off x="5649840" y="2210400"/>
                <a:ext cx="5081040" cy="54280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3" name="Line 24"/>
              <p:cNvSpPr/>
              <p:nvPr/>
            </p:nvSpPr>
            <p:spPr>
              <a:xfrm flipH="1">
                <a:off x="6246720" y="2848320"/>
                <a:ext cx="4484160" cy="47901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4" name="Line 25"/>
              <p:cNvSpPr/>
              <p:nvPr/>
            </p:nvSpPr>
            <p:spPr>
              <a:xfrm flipH="1">
                <a:off x="6884640" y="3528720"/>
                <a:ext cx="3846240" cy="41097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5" name="Line 26"/>
              <p:cNvSpPr/>
              <p:nvPr/>
            </p:nvSpPr>
            <p:spPr>
              <a:xfrm flipH="1">
                <a:off x="7520400" y="4209120"/>
                <a:ext cx="3210120" cy="34293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6" name="Line 27"/>
              <p:cNvSpPr/>
              <p:nvPr/>
            </p:nvSpPr>
            <p:spPr>
              <a:xfrm flipH="1">
                <a:off x="8117280" y="4846680"/>
                <a:ext cx="2613240" cy="2791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7" name="Line 28"/>
              <p:cNvSpPr/>
              <p:nvPr/>
            </p:nvSpPr>
            <p:spPr>
              <a:xfrm flipH="1">
                <a:off x="8735040" y="5505480"/>
                <a:ext cx="1995480" cy="21330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8" name="Line 29"/>
              <p:cNvSpPr/>
              <p:nvPr/>
            </p:nvSpPr>
            <p:spPr>
              <a:xfrm flipH="1">
                <a:off x="9311040" y="6122160"/>
                <a:ext cx="1419480" cy="15163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9" name="Line 30"/>
              <p:cNvSpPr/>
              <p:nvPr/>
            </p:nvSpPr>
            <p:spPr>
              <a:xfrm flipH="1">
                <a:off x="9869040" y="6717600"/>
                <a:ext cx="861480" cy="920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0" name="Line 31"/>
              <p:cNvSpPr/>
              <p:nvPr/>
            </p:nvSpPr>
            <p:spPr>
              <a:xfrm flipH="1">
                <a:off x="10424880" y="7312320"/>
                <a:ext cx="305640" cy="3261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1" name="Line 32"/>
              <p:cNvSpPr/>
              <p:nvPr/>
            </p:nvSpPr>
            <p:spPr>
              <a:xfrm flipH="1">
                <a:off x="0" y="0"/>
                <a:ext cx="238320" cy="254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2" name="Line 33"/>
              <p:cNvSpPr/>
              <p:nvPr/>
            </p:nvSpPr>
            <p:spPr>
              <a:xfrm flipH="1">
                <a:off x="3952440" y="403560"/>
                <a:ext cx="6770880" cy="72349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283" name="Rectangle 34"/>
            <p:cNvSpPr/>
            <p:nvPr/>
          </p:nvSpPr>
          <p:spPr>
            <a:xfrm>
              <a:off x="537120" y="1785600"/>
              <a:ext cx="9671760" cy="4676760"/>
            </a:xfrm>
            <a:prstGeom prst="rect">
              <a:avLst/>
            </a:prstGeom>
            <a:gradFill rotWithShape="0">
              <a:gsLst>
                <a:gs pos="0">
                  <a:srgbClr val="99d0d6"/>
                </a:gs>
                <a:gs pos="100000">
                  <a:srgbClr val="ffffff"/>
                </a:gs>
              </a:gsLst>
              <a:lin ang="5400000"/>
            </a:gradFill>
            <a:ln cap="sq" w="12600">
              <a:solidFill>
                <a:srgbClr val="6600cc"/>
              </a:solidFill>
              <a:miter/>
            </a:ln>
            <a:effectLst>
              <a:outerShdw dist="125751" dir="2700000" blurRad="0" rotWithShape="0">
                <a:srgbClr val="99d0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1274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06040" y="2211120"/>
            <a:ext cx="9131400" cy="4591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 fontScale="96000"/>
          </a:bodyPr>
          <a:p>
            <a:pPr marL="378000" indent="-378000">
              <a:spcBef>
                <a:spcPts val="924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-3150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252720">
              <a:spcBef>
                <a:spcPts val="924"/>
              </a:spcBef>
              <a:buClr>
                <a:srgbClr val="6600cc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766160" indent="-252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270520" indent="-254160">
              <a:spcBef>
                <a:spcPts val="924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270520" indent="-2541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270520" indent="-2541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80640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669840" y="6972120"/>
            <a:ext cx="34038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769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FDA-B000-4818-B318-BB79DCC76E9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0"/>
            <a:ext cx="6894000" cy="7652880"/>
            <a:chOff x="0" y="0"/>
            <a:chExt cx="6894000" cy="7652880"/>
          </a:xfrm>
        </p:grpSpPr>
        <p:sp>
          <p:nvSpPr>
            <p:cNvPr id="326" name="Rectangle 3"/>
            <p:cNvSpPr/>
            <p:nvPr/>
          </p:nvSpPr>
          <p:spPr>
            <a:xfrm>
              <a:off x="0" y="0"/>
              <a:ext cx="5372280" cy="76528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>
              <a:off x="805680" y="1105560"/>
              <a:ext cx="6088320" cy="212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28" name="Group 5"/>
          <p:cNvGrpSpPr/>
          <p:nvPr/>
        </p:nvGrpSpPr>
        <p:grpSpPr>
          <a:xfrm>
            <a:off x="4266720" y="5456160"/>
            <a:ext cx="5730840" cy="356760"/>
            <a:chOff x="4266720" y="5456160"/>
            <a:chExt cx="5730840" cy="356760"/>
          </a:xfrm>
        </p:grpSpPr>
        <p:sp>
          <p:nvSpPr>
            <p:cNvPr id="329" name="AutoShape 6"/>
            <p:cNvSpPr/>
            <p:nvPr/>
          </p:nvSpPr>
          <p:spPr>
            <a:xfrm flipH="1">
              <a:off x="4266360" y="5456160"/>
              <a:ext cx="5435640" cy="3553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9691920" y="5456160"/>
              <a:ext cx="305640" cy="3567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5960" y="931320"/>
            <a:ext cx="915120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83880" y="2637000"/>
            <a:ext cx="9039240" cy="4155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2865600" y="6972480"/>
            <a:ext cx="25034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6803640" y="6972480"/>
            <a:ext cx="34052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88920" y="6972480"/>
            <a:ext cx="690480" cy="5457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6248-37FE-43BB-B9F7-7E8B755B4D2D}" type="slidenum">
              <a:rPr b="1" lang="ru-RU" sz="3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0"/>
            <a:ext cx="10295640" cy="6631920"/>
            <a:chOff x="0" y="0"/>
            <a:chExt cx="10295640" cy="6631920"/>
          </a:xfrm>
        </p:grpSpPr>
        <p:sp>
          <p:nvSpPr>
            <p:cNvPr id="373" name="Rectangle 3"/>
            <p:cNvSpPr/>
            <p:nvPr/>
          </p:nvSpPr>
          <p:spPr>
            <a:xfrm>
              <a:off x="0" y="0"/>
              <a:ext cx="2058840" cy="5442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374" name="Group 4"/>
            <p:cNvGrpSpPr/>
            <p:nvPr/>
          </p:nvGrpSpPr>
          <p:grpSpPr>
            <a:xfrm>
              <a:off x="0" y="3911400"/>
              <a:ext cx="10295640" cy="2720520"/>
              <a:chOff x="0" y="3911400"/>
              <a:chExt cx="10295640" cy="2720520"/>
            </a:xfrm>
          </p:grpSpPr>
          <p:sp>
            <p:nvSpPr>
              <p:cNvPr id="375" name="Rectangle 5"/>
              <p:cNvSpPr/>
              <p:nvPr/>
            </p:nvSpPr>
            <p:spPr>
              <a:xfrm>
                <a:off x="1163880" y="3911400"/>
                <a:ext cx="9131760" cy="27205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6" name="Rectangle 6"/>
              <p:cNvSpPr/>
              <p:nvPr/>
            </p:nvSpPr>
            <p:spPr>
              <a:xfrm>
                <a:off x="1219680" y="4166280"/>
                <a:ext cx="8989920" cy="2386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7" name="Line 7"/>
              <p:cNvSpPr/>
              <p:nvPr/>
            </p:nvSpPr>
            <p:spPr>
              <a:xfrm>
                <a:off x="0" y="5441760"/>
                <a:ext cx="11638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78" name="Group 8"/>
            <p:cNvGrpSpPr/>
            <p:nvPr/>
          </p:nvGrpSpPr>
          <p:grpSpPr>
            <a:xfrm>
              <a:off x="745920" y="595080"/>
              <a:ext cx="9489960" cy="339480"/>
              <a:chOff x="745920" y="595080"/>
              <a:chExt cx="9489960" cy="339480"/>
            </a:xfrm>
          </p:grpSpPr>
          <p:sp>
            <p:nvSpPr>
              <p:cNvPr id="379" name="Rectangle 9"/>
              <p:cNvSpPr/>
              <p:nvPr/>
            </p:nvSpPr>
            <p:spPr>
              <a:xfrm>
                <a:off x="7369200" y="595080"/>
                <a:ext cx="2864520" cy="339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0" name="Line 10"/>
              <p:cNvSpPr/>
              <p:nvPr/>
            </p:nvSpPr>
            <p:spPr>
              <a:xfrm>
                <a:off x="745920" y="764640"/>
                <a:ext cx="948996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0" indent="-26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0" indent="-26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1073160" y="6976800"/>
            <a:ext cx="2238480" cy="5094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941640" y="6972120"/>
            <a:ext cx="34020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796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33E3-6816-4E54-A45A-C95D979021E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3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0" y="0"/>
            <a:ext cx="10295640" cy="6631920"/>
            <a:chOff x="0" y="0"/>
            <a:chExt cx="10295640" cy="6631920"/>
          </a:xfrm>
        </p:grpSpPr>
        <p:sp>
          <p:nvSpPr>
            <p:cNvPr id="423" name="Rectangle 3"/>
            <p:cNvSpPr/>
            <p:nvPr/>
          </p:nvSpPr>
          <p:spPr>
            <a:xfrm>
              <a:off x="0" y="0"/>
              <a:ext cx="2058840" cy="5442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24" name="Group 4"/>
            <p:cNvGrpSpPr/>
            <p:nvPr/>
          </p:nvGrpSpPr>
          <p:grpSpPr>
            <a:xfrm>
              <a:off x="0" y="3911400"/>
              <a:ext cx="10295640" cy="2720520"/>
              <a:chOff x="0" y="3911400"/>
              <a:chExt cx="10295640" cy="2720520"/>
            </a:xfrm>
          </p:grpSpPr>
          <p:sp>
            <p:nvSpPr>
              <p:cNvPr id="425" name="Rectangle 5"/>
              <p:cNvSpPr/>
              <p:nvPr/>
            </p:nvSpPr>
            <p:spPr>
              <a:xfrm>
                <a:off x="1163880" y="3911400"/>
                <a:ext cx="9131760" cy="27205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6" name="Rectangle 6"/>
              <p:cNvSpPr/>
              <p:nvPr/>
            </p:nvSpPr>
            <p:spPr>
              <a:xfrm>
                <a:off x="1219680" y="4166280"/>
                <a:ext cx="8989920" cy="2386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7" name="Line 7"/>
              <p:cNvSpPr/>
              <p:nvPr/>
            </p:nvSpPr>
            <p:spPr>
              <a:xfrm>
                <a:off x="0" y="5441760"/>
                <a:ext cx="11638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28" name="Group 8"/>
            <p:cNvGrpSpPr/>
            <p:nvPr/>
          </p:nvGrpSpPr>
          <p:grpSpPr>
            <a:xfrm>
              <a:off x="745920" y="595080"/>
              <a:ext cx="9489960" cy="339480"/>
              <a:chOff x="745920" y="595080"/>
              <a:chExt cx="9489960" cy="339480"/>
            </a:xfrm>
          </p:grpSpPr>
          <p:sp>
            <p:nvSpPr>
              <p:cNvPr id="429" name="Rectangle 9"/>
              <p:cNvSpPr/>
              <p:nvPr/>
            </p:nvSpPr>
            <p:spPr>
              <a:xfrm>
                <a:off x="7369200" y="595080"/>
                <a:ext cx="2864520" cy="339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0" name="Line 10"/>
              <p:cNvSpPr/>
              <p:nvPr/>
            </p:nvSpPr>
            <p:spPr>
              <a:xfrm>
                <a:off x="745920" y="764640"/>
                <a:ext cx="948996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0" indent="-26496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0" indent="-264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0" indent="-264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5"/>
          </p:nvPr>
        </p:nvSpPr>
        <p:spPr>
          <a:xfrm>
            <a:off x="1073160" y="6976800"/>
            <a:ext cx="2238480" cy="5094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6"/>
          </p:nvPr>
        </p:nvSpPr>
        <p:spPr>
          <a:xfrm>
            <a:off x="3941640" y="6972120"/>
            <a:ext cx="34020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7"/>
          </p:nvPr>
        </p:nvSpPr>
        <p:spPr>
          <a:xfrm>
            <a:off x="796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3D3E-50E5-4D2A-9BFE-55F4DF3831F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4.xml"/><Relationship Id="rId9" Type="http://schemas.openxmlformats.org/officeDocument/2006/relationships/hyperlink" Target="http://sobory.ru/photo/?photo=164637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4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4.xml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j01494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10744200" cy="7653240"/>
          </a:xfrm>
          <a:prstGeom prst="rect">
            <a:avLst/>
          </a:prstGeom>
          <a:ln w="0">
            <a:noFill/>
          </a:ln>
        </p:spPr>
      </p:pic>
      <p:sp>
        <p:nvSpPr>
          <p:cNvPr id="527" name="WordArt 4"/>
          <p:cNvSpPr txBox="1"/>
          <p:nvPr/>
        </p:nvSpPr>
        <p:spPr>
          <a:xfrm>
            <a:off x="1195560" y="2530440"/>
            <a:ext cx="87850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Храмы XVIII века в Смоленск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28" name="TSL Academie 19.mp3" descr=""/>
          <p:cNvPicPr/>
          <p:nvPr/>
        </p:nvPicPr>
        <p:blipFill>
          <a:blip r:embed="rId2"/>
          <a:stretch/>
        </p:blipFill>
        <p:spPr>
          <a:xfrm>
            <a:off x="1085760" y="968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6"/>
          <p:cNvSpPr/>
          <p:nvPr/>
        </p:nvSpPr>
        <p:spPr>
          <a:xfrm>
            <a:off x="4579920" y="4906800"/>
            <a:ext cx="53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олнила Чулкова Ольга Александровна 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20267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5200" y="369360"/>
            <a:ext cx="9131040" cy="100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Церковь Благовещения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18840" y="1305000"/>
            <a:ext cx="5329080" cy="56894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 algn="just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м, выдержанный в формах барокко, был возведен в 1774 году. Находится на северном склоне Соборной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м сильно пострадал во время сражения за освобождение города в 1943 году. От первоначального сооружения остался лишь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четверик</a:t>
            </a:r>
            <a:r>
              <a:rPr b="0" lang="en-US" sz="2400" spc="-1" strike="noStrike" u="sng" baseline="30000">
                <a:solidFill>
                  <a:srgbClr val="6600cc"/>
                </a:solidFill>
                <a:uFillTx/>
                <a:latin typeface="Arial"/>
                <a:hlinkClick r:id="rId2" action="ppaction://hlinksldjump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сновного объема, увенчанный восьмигранным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3" action="ppaction://hlinksldjump"/>
              </a:rPr>
              <a:t>барабаном</a:t>
            </a:r>
            <a:r>
              <a:rPr b="0" lang="en-US" sz="2400" spc="-1" strike="noStrike" u="sng" baseline="30000">
                <a:solidFill>
                  <a:srgbClr val="6600cc"/>
                </a:solidFill>
                <a:uFillTx/>
                <a:latin typeface="Arial"/>
                <a:hlinkClick r:id="rId4" action="ppaction://hlinksldjump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 маленькой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5" action="ppaction://hlinksldjump"/>
              </a:rPr>
              <a:t>главк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Примыкавшие к нему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6" action="ppaction://hlinksldjump"/>
              </a:rPr>
              <a:t>трапезная</a:t>
            </a:r>
            <a:r>
              <a:rPr b="0" lang="en-US" sz="2400" spc="-1" strike="noStrike" u="sng" baseline="30000">
                <a:solidFill>
                  <a:srgbClr val="6600cc"/>
                </a:solidFill>
                <a:uFillTx/>
                <a:latin typeface="Arial"/>
                <a:hlinkClick r:id="rId7" action="ppaction://hlinksldjump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вухъярусная колокольня были разобраны в 1952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Стрелка влево 4">
            <a:hlinkClick r:id="rId8" action="ppaction://hlinksldjump"/>
          </p:cNvPr>
          <p:cNvSpPr/>
          <p:nvPr/>
        </p:nvSpPr>
        <p:spPr>
          <a:xfrm>
            <a:off x="8801280" y="647064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8" name="Picture 7" descr="Смоленск. Церковь Благовещения Пресвятой Богородицы, , Наталия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8640" y="1306440"/>
            <a:ext cx="352908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79560" y="442440"/>
            <a:ext cx="9129600" cy="792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Церковь Георгия Победоносца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011200" y="1882440"/>
            <a:ext cx="4905720" cy="4591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тся в восточной части города. Построена в 1782 году «усердием» священника Гетрашевича. Памятник архитектуры позднего барокко. Очень красивое трехсветное помещение храма разделено сейчас на три эт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picture"/>
          <p:cNvPicPr/>
          <p:nvPr/>
        </p:nvPicPr>
        <p:blipFill>
          <a:blip r:embed="rId1"/>
          <a:stretch/>
        </p:blipFill>
        <p:spPr>
          <a:xfrm>
            <a:off x="979560" y="1593720"/>
            <a:ext cx="3597120" cy="3703680"/>
          </a:xfrm>
          <a:prstGeom prst="rect">
            <a:avLst/>
          </a:prstGeom>
          <a:ln w="38160">
            <a:solidFill>
              <a:srgbClr val="0000ff"/>
            </a:solidFill>
            <a:round/>
          </a:ln>
        </p:spPr>
      </p:pic>
      <p:sp>
        <p:nvSpPr>
          <p:cNvPr id="562" name="Стрелка влево 4">
            <a:hlinkClick r:id="rId2" action="ppaction://hlinksldjump"/>
          </p:cNvPr>
          <p:cNvSpPr/>
          <p:nvPr/>
        </p:nvSpPr>
        <p:spPr>
          <a:xfrm>
            <a:off x="8729640" y="632772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99920" y="468360"/>
            <a:ext cx="9644040" cy="9288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Церковь Смоленской Божьей Матери  Одигитрии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564" name="Picture 7" descr="C:\Documents and Settings\Admin\Мои документы\Downloads\dnepr_vorota_01.JPG"/>
          <p:cNvPicPr/>
          <p:nvPr/>
        </p:nvPicPr>
        <p:blipFill>
          <a:blip r:embed="rId1"/>
          <a:stretch/>
        </p:blipFill>
        <p:spPr>
          <a:xfrm>
            <a:off x="657360" y="1325520"/>
            <a:ext cx="9501120" cy="571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5200" y="514440"/>
            <a:ext cx="9131040" cy="790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Церковь Смоленской Божьей Матери Одигитрии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42800" y="1539720"/>
            <a:ext cx="9539280" cy="48643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619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ена на берегу Днепра. Сооружена на месте Фроловской (Днепровской) крепостной башни с воротами. На ней в нише с 1602 года находился образ Божьей Матери Одигитрии, присланный в Смоленск Борисом Годуновым. В начал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а пришедшая в ветхое состояние башня была разобрана. В 1727 году над воротами крепостной стены поставлен и освящен деревянный храм в честь Рождества Пресвятой Богородицы, в него перенесена чудотворная икона Божьей Матери. В 1793 году на месте деревянного храма построен каменный (в1811 году перестро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61920" algn="just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трелка влево 4"/>
          <p:cNvSpPr/>
          <p:nvPr/>
        </p:nvSpPr>
        <p:spPr>
          <a:xfrm>
            <a:off x="8586720" y="632772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5200" y="296640"/>
            <a:ext cx="9131040" cy="865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Церковь Покрова Богородицы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71520" y="1304640"/>
            <a:ext cx="5268960" cy="59785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а в 1794 году «старанием» священника В. Брянцева. Памятник раннего классицизм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одноэтажный стройный четверик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вершен куполом и небольшой главкой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восьмигранном барабан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Цоколь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крыльцо колокольни белокам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picture"/>
          <p:cNvPicPr/>
          <p:nvPr/>
        </p:nvPicPr>
        <p:blipFill>
          <a:blip r:embed="rId1"/>
          <a:stretch/>
        </p:blipFill>
        <p:spPr>
          <a:xfrm>
            <a:off x="5877000" y="1235160"/>
            <a:ext cx="4174920" cy="511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571" name="Стрелка влево 4"/>
          <p:cNvSpPr/>
          <p:nvPr/>
        </p:nvSpPr>
        <p:spPr>
          <a:xfrm>
            <a:off x="942840" y="647064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512360" y="931320"/>
            <a:ext cx="915084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д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195560" y="2697120"/>
            <a:ext cx="9145440" cy="41529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полните таблицу «Смоленские храмы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XVI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ве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627200" y="3178080"/>
          <a:ext cx="8569440" cy="1440000"/>
        </p:xfrm>
        <a:graphic>
          <a:graphicData uri="http://schemas.openxmlformats.org/drawingml/2006/table">
            <a:tbl>
              <a:tblPr/>
              <a:tblGrid>
                <a:gridCol w="1441440"/>
                <a:gridCol w="1987560"/>
                <a:gridCol w="1828800"/>
                <a:gridCol w="1870200"/>
                <a:gridCol w="144144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оды строитель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сто распо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рхитектурный ст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ид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Text Box 24"/>
          <p:cNvSpPr/>
          <p:nvPr/>
        </p:nvSpPr>
        <p:spPr>
          <a:xfrm>
            <a:off x="1319400" y="4668840"/>
            <a:ext cx="183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6" name="Text Box 25"/>
          <p:cNvSpPr/>
          <p:nvPr/>
        </p:nvSpPr>
        <p:spPr>
          <a:xfrm>
            <a:off x="1195560" y="4729320"/>
            <a:ext cx="928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ьте на вопрос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аким годам относится строительство представленных храмов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какого строительного материала создавали хра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ек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извели ли на вас впечатления архитектурные сооруж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ек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1274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imes New Roman"/>
              </a:rPr>
              <a:t>Источники</a:t>
            </a:r>
            <a:endParaRPr b="0" lang="en-US" sz="51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27120" y="2041200"/>
            <a:ext cx="8848800" cy="45068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685800" indent="-685800" algn="just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AutoNum type="arabicPeriod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дрицова М.Ю. и др. История православной культуры земли Смоленской. — Смоленск: Издательство СОИУУ, 20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AutoNum type="arabicPeriod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ерывая связь времен / Сост. Архипова Т.А. и др. — Смоленск: Издательство СОИУУ,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AutoNum type="arabicPeriod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славные храмы Смоленска. — Смоленск: ООО «Кантилена»,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8827920" y="64184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Стрелка влево 3"/>
          <p:cNvSpPr/>
          <p:nvPr/>
        </p:nvSpPr>
        <p:spPr>
          <a:xfrm>
            <a:off x="9443880" y="68994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6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6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6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6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6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6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6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6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да – алтарный высту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Стрелка влево 3"/>
          <p:cNvSpPr/>
          <p:nvPr/>
        </p:nvSpPr>
        <p:spPr>
          <a:xfrm>
            <a:off x="9443880" y="68994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7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7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7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7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7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7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7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7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Стрелка влево 3"/>
          <p:cNvSpPr/>
          <p:nvPr/>
        </p:nvSpPr>
        <p:spPr>
          <a:xfrm>
            <a:off x="9443880" y="68994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6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6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6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6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6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6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6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6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1206360" y="858960"/>
            <a:ext cx="5868000" cy="15541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Икона — молитва в красках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Храм — молитва в камне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Колокол — молитва в звуке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4204440" y="2602080"/>
            <a:ext cx="6572160" cy="4478760"/>
          </a:xfrm>
          <a:prstGeom prst="rect">
            <a:avLst/>
          </a:prstGeom>
          <a:noFill/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етлым облаком сияет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горе воздушный храм —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очно с озера взлетает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елый лебедь к небесам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м меж сосен изумрудных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лещет озера хрусталь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к молитва в звуках чудных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вон церковный льется вдаль…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. Шамонин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трелка влево 3"/>
          <p:cNvSpPr/>
          <p:nvPr/>
        </p:nvSpPr>
        <p:spPr>
          <a:xfrm>
            <a:off x="9443880" y="68994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6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6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6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6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6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6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6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6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Стрелка влево 3"/>
          <p:cNvSpPr/>
          <p:nvPr/>
        </p:nvSpPr>
        <p:spPr>
          <a:xfrm>
            <a:off x="9404280" y="692316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6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6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6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6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6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6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6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6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4"/>
          <p:cNvSpPr/>
          <p:nvPr/>
        </p:nvSpPr>
        <p:spPr>
          <a:xfrm>
            <a:off x="3787920" y="585720"/>
            <a:ext cx="63388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Храмы традиционно считались на Руси указателями на пути к Царству Небесному. И сегодня наши храмы должны указать нам направление нашего движения, наше будуще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ирилл, патриарх Московски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  Всея Рус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692280" y="2968560"/>
            <a:ext cx="92167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мовое строительство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ение позиций Православной Церкви на Смоленщине продолжается при преемнике владыки Гедеона епископе Парфении (Сопковском). Его стараниями в Смоленском крае разворачивается широкое каменное храмовое строительство. Много новых церквей было построено в самом Смоленске. Нередко для составления проекта храма приглашались известные зодчие, такие как М.Ф. Казаков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80-х го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все храмы имеют черты стиля 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  <a:hlinkClick r:id="rId1" action="ppaction://hlinksldjump"/>
              </a:rPr>
              <a:t>барокко</a:t>
            </a:r>
            <a:r>
              <a:rPr b="0" lang="ru-RU" sz="2400" spc="-1" strike="noStrike" u="sng" baseline="30000">
                <a:solidFill>
                  <a:srgbClr val="6600cc"/>
                </a:solidFill>
                <a:uFillTx/>
                <a:latin typeface="Arial"/>
                <a:ea typeface="Arial"/>
                <a:hlinkClick r:id="rId2" action="ppaction://hlinksldjump"/>
              </a:rPr>
              <a:t>*</a:t>
            </a:r>
            <a:r>
              <a:rPr b="0" lang="ru-RU" sz="2400" spc="-1" strike="noStrike" u="sng" baseline="30000">
                <a:solidFill>
                  <a:srgbClr val="6600cc"/>
                </a:solidFill>
                <a:uFillTx/>
                <a:latin typeface="Arial"/>
                <a:ea typeface="Arial"/>
                <a:hlinkClick r:id="rId3" action="ppaction://hlinksldjump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00280" y="610920"/>
            <a:ext cx="9131040" cy="6218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Times New Roman"/>
              </a:rPr>
              <a:t>Содержание</a:t>
            </a:r>
            <a:r>
              <a:rPr b="0" lang="ru-RU" sz="4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_x000b_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Церковь Николая Чудотворца (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Нижне-Никольская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)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Преображенский собор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Церковь Воздвижения Креста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9" action="ppaction://hlinksldjump"/>
              </a:rPr>
              <a:t>Церковь Благовещения</a:t>
            </a:r>
            <a:br>
              <a:rPr sz="2800"/>
            </a:b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10" action="ppaction://hlinksldjump"/>
              </a:rPr>
              <a:t>Церковь Георгия Победоносца</a:t>
            </a:r>
            <a:br>
              <a:rPr sz="2800"/>
            </a:b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11" action="ppaction://hlinksldjump"/>
              </a:rPr>
              <a:t>Церковь Смоленской Божьей Матери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12" action="ppaction://hlinksldjump"/>
              </a:rPr>
              <a:t>Одигитрии</a:t>
            </a:r>
            <a:br>
              <a:rPr sz="2800"/>
            </a:b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13" action="ppaction://hlinksldjump"/>
              </a:rPr>
              <a:t>Церковь Покрова Богородицы_x000b__x000b_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42480" y="468000"/>
            <a:ext cx="9131400" cy="12762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i="1" lang="en-US" sz="4400" spc="-1" strike="noStrike">
                <a:solidFill>
                  <a:srgbClr val="006699"/>
                </a:solidFill>
                <a:latin typeface="Times New Roman"/>
              </a:rPr>
              <a:t>Церковь Николая Чудотворц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11000" y="4167360"/>
            <a:ext cx="7521480" cy="19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http://www.smolenskru.ru/images/Churchs/nik_ch14.jpg"/>
          <p:cNvPicPr/>
          <p:nvPr/>
        </p:nvPicPr>
        <p:blipFill>
          <a:blip r:embed="rId1"/>
          <a:stretch/>
        </p:blipFill>
        <p:spPr>
          <a:xfrm>
            <a:off x="585720" y="1539720"/>
            <a:ext cx="9715680" cy="550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7714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Церковь Николая Чудотворца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(Нижне-Никольская)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532280" y="6059520"/>
            <a:ext cx="2373480" cy="9921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174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9200" y="2325600"/>
            <a:ext cx="4967280" cy="4337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0">
              <a:spcBef>
                <a:spcPts val="700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роена на правом берегу Днепра на месте сгоревшей в 1747 году деревянной церкви. Является одним из наиболее ярких памятников эпохи барокко среди сооружений этого ти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019"/>
          <p:cNvPicPr/>
          <p:nvPr/>
        </p:nvPicPr>
        <p:blipFill>
          <a:blip r:embed="rId1"/>
          <a:srcRect l="0" t="12707" r="43354" b="0"/>
          <a:stretch/>
        </p:blipFill>
        <p:spPr>
          <a:xfrm>
            <a:off x="5514840" y="1611360"/>
            <a:ext cx="4572000" cy="52164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542" name="Стрелка влево 5">
            <a:hlinkClick r:id="rId2" action="ppaction://hlinksldjump"/>
          </p:cNvPr>
          <p:cNvSpPr/>
          <p:nvPr/>
        </p:nvSpPr>
        <p:spPr>
          <a:xfrm>
            <a:off x="728640" y="639936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8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2260800" y="585360"/>
            <a:ext cx="9491400" cy="576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Преображенский собор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5200" y="6470640"/>
            <a:ext cx="3751200" cy="571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Monotype Corsiva"/>
              </a:rPr>
              <a:t>175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71520" y="682560"/>
            <a:ext cx="5286600" cy="6359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lvl="2"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ложен в юго-восточной части города, входит в комплекс Авраамиева монасты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ий памятник барокко в Смоленске. Отличительная особенность здания — сильно вытянутый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четверик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 композиции, увенчанный стройной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  <a:hlinkClick r:id="rId2" action="ppaction://hlinksldjump"/>
              </a:rPr>
              <a:t>главкой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двойном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  <a:hlinkClick r:id="rId3" action="ppaction://hlinksldjump"/>
              </a:rPr>
              <a:t>барабане*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  <a:hlinkClick r:id="rId4" action="ppaction://hlinksldjump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ность постройке придают высокие полукруглые крыль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Стрелка влево 7">
            <a:hlinkClick r:id="rId5" action="ppaction://hlinksldjump"/>
          </p:cNvPr>
          <p:cNvSpPr/>
          <p:nvPr/>
        </p:nvSpPr>
        <p:spPr>
          <a:xfrm>
            <a:off x="9372600" y="654192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47" name="Содержимое 12" descr="264_0067787b.jpg"/>
          <p:cNvPicPr/>
          <p:nvPr/>
        </p:nvPicPr>
        <p:blipFill>
          <a:blip r:embed="rId6"/>
          <a:stretch/>
        </p:blipFill>
        <p:spPr>
          <a:xfrm>
            <a:off x="657360" y="1468440"/>
            <a:ext cx="391140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25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42480" y="-360"/>
            <a:ext cx="9131400" cy="12762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i="1" lang="en-US" sz="4400" spc="-1" strike="noStrike">
                <a:solidFill>
                  <a:srgbClr val="006699"/>
                </a:solidFill>
                <a:latin typeface="Times New Roman"/>
              </a:rPr>
              <a:t>Церковь Воздвижения Крест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611000" y="4167360"/>
            <a:ext cx="7521480" cy="19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Рисунок 3" descr="01013_20060621_080129.jpg"/>
          <p:cNvPicPr/>
          <p:nvPr/>
        </p:nvPicPr>
        <p:blipFill>
          <a:blip r:embed="rId1"/>
          <a:stretch/>
        </p:blipFill>
        <p:spPr>
          <a:xfrm>
            <a:off x="514440" y="1182600"/>
            <a:ext cx="9786960" cy="607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7714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Monotype Corsiva"/>
              </a:rPr>
              <a:t>Церковь</a:t>
            </a:r>
            <a:r>
              <a:rPr b="0" lang="en-US" sz="36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Monotype Corsiva"/>
              </a:rPr>
              <a:t>Воздвижения Креста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42840" y="1666800"/>
            <a:ext cx="4934160" cy="53755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а в 1766-1767 годах. Памятник архитектуры барокко. Основной объем —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четверик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2" action="ppaction://hlinksldjump"/>
              </a:rPr>
              <a:t>*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 пятигранной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4" action="ppaction://hlinksldjump"/>
              </a:rPr>
              <a:t>апсидой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увенчанный восьмигранным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5" action="ppaction://hlinksldjump"/>
              </a:rPr>
              <a:t>барабанчиком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6" action="ppaction://hlinksldjump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маленькой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7" action="ppaction://hlinksldjump"/>
              </a:rPr>
              <a:t>главкой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8" action="ppaction://hlinksldjump"/>
              </a:rPr>
              <a:t>*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9" action="ppaction://hlinksldjump"/>
              </a:rPr>
              <a:t>. Трапезная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10" action="ppaction://hlinksldjump"/>
              </a:rPr>
              <a:t>*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11" action="ppaction://hlinksldjump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изкая, с севера к ней пристроен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12" action="ppaction://hlinksldjump"/>
              </a:rPr>
              <a:t>придел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13" action="ppaction://hlinksldjump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риса и Глеба. Колокольня состоит из трех четв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трелка влево 7">
            <a:hlinkClick r:id="rId14" action="ppaction://hlinksldjump"/>
          </p:cNvPr>
          <p:cNvSpPr/>
          <p:nvPr/>
        </p:nvSpPr>
        <p:spPr>
          <a:xfrm>
            <a:off x="8801280" y="639936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4" name="Picture 5" descr="храм  Воздвижения Креста Господня."/>
          <p:cNvPicPr/>
          <p:nvPr/>
        </p:nvPicPr>
        <p:blipFill>
          <a:blip r:embed="rId15"/>
          <a:srcRect l="20295" t="1607" r="0" b="23425"/>
          <a:stretch/>
        </p:blipFill>
        <p:spPr>
          <a:xfrm>
            <a:off x="5803920" y="2243160"/>
            <a:ext cx="4321080" cy="3240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0:14:51Z</dcterms:created>
  <dc:creator>Иванченко Оксана Михайловна</dc:creator>
  <dc:description/>
  <dc:language>en-US</dc:language>
  <cp:lastModifiedBy>Ольга</cp:lastModifiedBy>
  <dcterms:modified xsi:type="dcterms:W3CDTF">2017-02-12T10:09:11Z</dcterms:modified>
  <cp:revision>76</cp:revision>
  <dc:subject>История православной культуры</dc:subject>
  <dc:title>Храмы XVIII века в Смоленске</dc:title>
</cp:coreProperties>
</file>