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10745788" cy="7653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022400" y="685440"/>
            <a:ext cx="4813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860A-B852-469E-9B6D-00E3DB0AE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403-B05E-4195-98DF-988C12AD8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022400" y="685800"/>
            <a:ext cx="48132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521-FA17-434F-8C82-AD5DF987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551-DE40-4AEA-BD98-6387791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7DD71-D7A4-4288-B919-AD4C03B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5CF65-3A99-46B3-9B39-A9BA1C5D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63280-F45E-41D3-99D7-0A2990F2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FE341-9CF9-4D5E-A0E7-839C865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FF322-FD4C-4B46-B248-7F2FBD7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92006-0718-43A2-A1D6-3EBCF60F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C3F87-72E4-417D-9517-C5E1757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D65A3-7A79-42B5-8956-431CFC5A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B9512-528C-44B0-BB14-1B0153C1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90F29-B009-479E-AE6D-7FC55D72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0EA-ACDB-4D3C-A634-900B23DD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27512-17AA-45FB-8304-D584A701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9A999-7775-408C-A0A1-A65DFC5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5F47C-A279-4F5F-AC64-F22DCF55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FCD88-B4FD-4EEC-A725-E4BE763B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DEE5A-D156-49F0-AE4E-9D386B0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9C8E7-AE00-413A-B9A2-8BA46214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9607-82C5-4416-B1E9-0C36B111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F2DD4-4567-4E0F-8AFF-9A0A6C1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B8F60-F37B-401E-925F-C92D55C7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4E5E4-BCA3-4F2A-AE38-C95C9171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C91-119A-4A75-9818-CAC9298B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6E73D-3BB7-4ED5-A77D-99A8553B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BC91-F0A7-45C2-9DDF-ECCC724B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CCE0-7788-435B-BD59-C8E9DEAE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3C68-3D0E-45E0-B324-A2A745F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A54-017F-490C-AB7F-E1D55D71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9F5A-D248-43B3-8FE1-C149FFDB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C32A-EBA2-41C7-B32B-9A29B8E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95FC-660F-4A81-B3AD-4CCEE05F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DE4-34DE-496B-BBFB-602EADEA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93E3-CE84-46BE-9958-2B5C2D4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66D1-EEBB-4C6C-B355-D6D6316B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129D-8159-43E2-AF37-A2F2C47C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15F6-2F6C-4601-B426-CD3FD330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993-4DBF-40B8-9A10-93387029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D10E-DEFF-4C2C-BC26-F91BC733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2A72-49A9-4A64-8B57-1149A31A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33C7-E80F-4178-BD3A-01761B2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3935-34D5-4C7A-8E95-FBF74CF1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BB5F-7463-4FA1-8722-9FE33FF8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DD4-6923-430A-9128-89131113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ED40-EFD5-4F16-9D3E-DCC05FAF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B924-889C-4E17-B655-E19135EA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AB38-C212-4DC6-BE02-8410533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1802-7B71-47E9-A5EE-840B52C9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7A91-C0BA-4A9D-ACD1-FCE58155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8441-C977-4DBB-B360-59415FDC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AE72-BBC8-41F3-ADF7-D2FE0C96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D0AE-1755-4327-BAB2-9E5AA2C8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730F-FC27-489F-8C4B-AC7FF974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406E-C4CB-460C-8EC6-467E804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9C2-FE17-4256-88DC-B3802865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2D679-7A21-4FDA-A9B1-96B73AA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4902-FCE2-40EC-9335-934BDE0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9DAB-E535-4F84-BB1A-3DC05F64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F1E3-3703-4D58-898B-2401A59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F1C5-B565-41B8-9912-477BDF9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1EF1-89A2-4DC3-BF96-BD2815C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D985-139E-4149-866E-D4BC760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7009-609E-4677-8BB7-5DC14F84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9BEE-EF5F-49A9-BA09-E05E472E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8E10B-40CA-4E28-9318-EE9885E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4D2-5EB9-44AD-88A4-3700AACF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13F41-C92F-4D5A-B1B6-CBEBCD1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C5C2-FD60-47E6-A8CF-DA92B566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8D6C-473A-44F8-8CB5-A0E4928D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7DE5-CB9D-42E4-B5D6-D2E63E82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0CA2-28D7-4990-8323-2995F54D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88F2C-D559-4817-8D9A-076A195C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0A22-B40C-4593-B26B-86D1276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1CCF-36DC-4EBB-9D6B-4191ED10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3F32-38A8-4784-877C-75AECFBF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4714-A726-4C92-939F-75CE962E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295-8E62-4AAA-92CD-9F344CF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A9517-FD09-4572-947A-991EAF82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ED40-99EF-44D1-A237-40EB06F5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ED05A-B7A6-4183-80E4-0C9CACAE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27089-C26A-4FCC-9015-F237DAC5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BB13A-2992-435D-A6CA-7F69E1F8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42C3-8F18-47CE-8156-BD03944D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0DFD6-DF7C-4603-8BD6-00132AE8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53340-1406-44F2-ADE1-2231BAD1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89EB-7785-46FD-9CC8-CA44C446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1E961-438F-405F-A4FF-7CF0B14D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A49-C444-4878-81EA-9642438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8E7E5-2F7A-4D54-B276-28162F71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BB57-6479-4809-9368-DD158176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18C4-944F-4E83-923C-82509715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8F1D-1D1B-4EC0-B825-4E52985D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B6A8-3981-4584-89C4-DB98EED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45F41-12C6-4402-907E-18ECA8CB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FAC08-DA9F-49DF-AB43-7730D32F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9BBE7-2569-43F6-BE99-D468040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160FC-9241-4027-AF8E-95024A8E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5168D-CB5F-4EAD-A3EC-2680006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635-389B-4D1B-B9FC-4EDA39B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64C5A-0531-40AE-9D75-E62B4404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F34F9-EA62-43F5-9A9C-BE26E92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DFE4-6E18-467B-8E87-90A4BD55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12AEC-A088-44C9-8149-AF615676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9026-BA6A-4429-B2CE-CAAFD7BB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2D059-8AFA-4A7F-88B0-7D81DF32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FDE6-6CB4-47EA-994D-6FA1B46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47D2C-5B33-48B0-8A5C-9CDE723C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856B-4BF0-49D2-AC44-D938F63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F4386-E33E-4EF9-B2F9-7333DF5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083-25D8-4E44-B47B-41BEA13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074600" y="309240"/>
            <a:ext cx="91332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44D50-F9D5-44D3-B498-8B65D74F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346D-D4D7-499C-828E-6EA7BD97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F1F9C-23A2-4909-BC57-E575B30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D79DD-C132-4A31-BE30-25EAA8A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074600" y="4426920"/>
            <a:ext cx="91332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CC6A6-68D0-497E-A6DE-EDBD57F2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54600" y="178560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7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754600" y="4426920"/>
            <a:ext cx="445680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09D2-1C1C-4EAC-A9D9-32EAA079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16232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250400" y="178560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0746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16232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250400" y="4426920"/>
            <a:ext cx="2940480" cy="24116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F04ED-B6FD-4E32-AE4E-C7680D07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67400-121C-439D-8A07-BE75C8E8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C00FB-D6FE-4652-A671-41551C8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D8540-270F-4F60-9DB7-A9C8D9D5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0"/>
            <a:ext cx="10731240" cy="7638480"/>
            <a:chOff x="-360" y="0"/>
            <a:chExt cx="10731240" cy="7638480"/>
          </a:xfrm>
        </p:grpSpPr>
        <p:grpSp>
          <p:nvGrpSpPr>
            <p:cNvPr id="1" name="Group 3"/>
            <p:cNvGrpSpPr/>
            <p:nvPr/>
          </p:nvGrpSpPr>
          <p:grpSpPr>
            <a:xfrm>
              <a:off x="-360" y="0"/>
              <a:ext cx="10731240" cy="7638480"/>
              <a:chOff x="-360" y="0"/>
              <a:chExt cx="10731240" cy="7638480"/>
            </a:xfrm>
          </p:grpSpPr>
          <p:sp>
            <p:nvSpPr>
              <p:cNvPr id="2" name="Line 4"/>
              <p:cNvSpPr/>
              <p:nvPr/>
            </p:nvSpPr>
            <p:spPr>
              <a:xfrm flipH="1">
                <a:off x="0" y="0"/>
                <a:ext cx="755280" cy="8078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 flipH="1">
                <a:off x="0" y="0"/>
                <a:ext cx="1352160" cy="14454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 flipH="1">
                <a:off x="0" y="0"/>
                <a:ext cx="1969920" cy="21045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 flipH="1">
                <a:off x="0" y="0"/>
                <a:ext cx="2545920" cy="27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 flipH="1">
                <a:off x="0" y="0"/>
                <a:ext cx="3142800" cy="3358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 flipH="1">
                <a:off x="-360" y="0"/>
                <a:ext cx="3760200" cy="40176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 flipH="1">
                <a:off x="-360" y="0"/>
                <a:ext cx="4377960" cy="4676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 flipH="1">
                <a:off x="-360" y="0"/>
                <a:ext cx="5013720" cy="5356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 flipH="1">
                <a:off x="0" y="0"/>
                <a:ext cx="5590080" cy="5973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 flipH="1">
                <a:off x="0" y="0"/>
                <a:ext cx="6228000" cy="66535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 flipH="1">
                <a:off x="0" y="0"/>
                <a:ext cx="6843600" cy="7312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 flipH="1">
                <a:off x="33192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 flipH="1">
                <a:off x="92844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H="1">
                <a:off x="15436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H="1">
                <a:off x="210204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 flipH="1">
                <a:off x="27190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 flipH="1">
                <a:off x="3303360" y="7200"/>
                <a:ext cx="7141680" cy="76312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 flipH="1">
                <a:off x="4515840" y="999000"/>
                <a:ext cx="6215040" cy="6639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 flipH="1">
                <a:off x="5073120" y="1594440"/>
                <a:ext cx="5657400" cy="60440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 flipH="1">
                <a:off x="5649840" y="2210400"/>
                <a:ext cx="5081040" cy="54280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 flipH="1">
                <a:off x="6246720" y="2848320"/>
                <a:ext cx="4484160" cy="4790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 flipH="1">
                <a:off x="6884640" y="3528720"/>
                <a:ext cx="3846240" cy="4109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 flipH="1">
                <a:off x="7520400" y="4209120"/>
                <a:ext cx="3210120" cy="34293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 flipH="1">
                <a:off x="8117280" y="4846680"/>
                <a:ext cx="2613240" cy="2791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 flipH="1">
                <a:off x="8735040" y="5505480"/>
                <a:ext cx="1995480" cy="21330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 flipH="1">
                <a:off x="9311040" y="6122160"/>
                <a:ext cx="1419480" cy="1516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 flipH="1">
                <a:off x="9869040" y="6717600"/>
                <a:ext cx="861480" cy="9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 flipH="1">
                <a:off x="10424880" y="7312320"/>
                <a:ext cx="305640" cy="326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 flipH="1">
                <a:off x="0" y="0"/>
                <a:ext cx="238320" cy="254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 flipH="1">
                <a:off x="3952440" y="403560"/>
                <a:ext cx="6770880" cy="72349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32" name="Rectangle 34"/>
            <p:cNvSpPr/>
            <p:nvPr/>
          </p:nvSpPr>
          <p:spPr>
            <a:xfrm>
              <a:off x="537120" y="510120"/>
              <a:ext cx="9671760" cy="6637680"/>
            </a:xfrm>
            <a:prstGeom prst="rect">
              <a:avLst/>
            </a:prstGeom>
            <a:gradFill rotWithShape="0">
              <a:gsLst>
                <a:gs pos="0">
                  <a:srgbClr val="99d0d6"/>
                </a:gs>
                <a:gs pos="100000">
                  <a:srgbClr val="ffffff"/>
                </a:gs>
              </a:gsLst>
              <a:lin ang="5400000"/>
            </a:gradFill>
            <a:ln cap="sq" w="12600">
              <a:solidFill>
                <a:srgbClr val="6600cc"/>
              </a:solidFill>
              <a:miter/>
            </a:ln>
            <a:effectLst>
              <a:outerShdw dist="125751" dir="2700000" blurRad="0" rotWithShape="0">
                <a:srgbClr val="99d0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1274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806040" y="2211120"/>
            <a:ext cx="9131400" cy="4591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 fontScale="96000"/>
          </a:bodyPr>
          <a:p>
            <a:pPr marL="378000" indent="-37800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-3150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252720">
              <a:spcBef>
                <a:spcPts val="924"/>
              </a:spcBef>
              <a:buClr>
                <a:srgbClr val="6600cc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766160" indent="-252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270520" indent="-25416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80640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669840" y="6972120"/>
            <a:ext cx="34038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769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3DD-0227-4E3E-96C9-4EDEACB39954}" type="slidenum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0" y="0"/>
            <a:ext cx="6894000" cy="7652880"/>
            <a:chOff x="0" y="0"/>
            <a:chExt cx="6894000" cy="7652880"/>
          </a:xfrm>
        </p:grpSpPr>
        <p:sp>
          <p:nvSpPr>
            <p:cNvPr id="473" name="Rectangle 3"/>
            <p:cNvSpPr/>
            <p:nvPr/>
          </p:nvSpPr>
          <p:spPr>
            <a:xfrm>
              <a:off x="0" y="0"/>
              <a:ext cx="5372280" cy="76528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4" name="AutoShape 4"/>
            <p:cNvSpPr/>
            <p:nvPr/>
          </p:nvSpPr>
          <p:spPr>
            <a:xfrm>
              <a:off x="805680" y="1105560"/>
              <a:ext cx="6088320" cy="21312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475" name="Group 5"/>
          <p:cNvGrpSpPr/>
          <p:nvPr/>
        </p:nvGrpSpPr>
        <p:grpSpPr>
          <a:xfrm>
            <a:off x="4266720" y="5456160"/>
            <a:ext cx="5730840" cy="356760"/>
            <a:chOff x="4266720" y="5456160"/>
            <a:chExt cx="5730840" cy="356760"/>
          </a:xfrm>
        </p:grpSpPr>
        <p:sp>
          <p:nvSpPr>
            <p:cNvPr id="476" name="AutoShape 6"/>
            <p:cNvSpPr/>
            <p:nvPr/>
          </p:nvSpPr>
          <p:spPr>
            <a:xfrm flipH="1">
              <a:off x="4266360" y="5456160"/>
              <a:ext cx="5435640" cy="3553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7" name="AutoShape 7"/>
            <p:cNvSpPr/>
            <p:nvPr/>
          </p:nvSpPr>
          <p:spPr>
            <a:xfrm>
              <a:off x="9691920" y="5456160"/>
              <a:ext cx="305640" cy="3567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8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9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0"/>
          </p:nvPr>
        </p:nvSpPr>
        <p:spPr>
          <a:xfrm>
            <a:off x="88920" y="6972480"/>
            <a:ext cx="690480" cy="5457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A64C-CDC7-4C34-B9A9-2064AF042447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8952840" cy="7652520"/>
            <a:chOff x="0" y="0"/>
            <a:chExt cx="8952840" cy="765252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3759840" cy="7652520"/>
              <a:chOff x="0" y="0"/>
              <a:chExt cx="3759840" cy="765252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894960" cy="765252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7" name="Freeform 5"/>
              <p:cNvSpPr/>
              <p:nvPr/>
            </p:nvSpPr>
            <p:spPr>
              <a:xfrm>
                <a:off x="536760" y="0"/>
                <a:ext cx="3223080" cy="1301760"/>
              </a:xfrm>
              <a:custGeom>
                <a:avLst/>
                <a:gdLst>
                  <a:gd name="textAreaLeft" fmla="*/ 0 w 3223080"/>
                  <a:gd name="textAreaRight" fmla="*/ 3223440 w 3223080"/>
                  <a:gd name="textAreaTop" fmla="*/ 0 h 1301760"/>
                  <a:gd name="textAreaBottom" fmla="*/ 1301760 h 1301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8" name="Group 6"/>
            <p:cNvGrpSpPr/>
            <p:nvPr/>
          </p:nvGrpSpPr>
          <p:grpSpPr>
            <a:xfrm>
              <a:off x="268200" y="2210760"/>
              <a:ext cx="8684640" cy="355680"/>
              <a:chOff x="268200" y="2210760"/>
              <a:chExt cx="8684640" cy="355680"/>
            </a:xfrm>
          </p:grpSpPr>
          <p:sp>
            <p:nvSpPr>
              <p:cNvPr id="79" name="AutoShape 7"/>
              <p:cNvSpPr/>
              <p:nvPr/>
            </p:nvSpPr>
            <p:spPr>
              <a:xfrm>
                <a:off x="716040" y="2210760"/>
                <a:ext cx="8236800" cy="353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0" name="AutoShape 8"/>
              <p:cNvSpPr/>
              <p:nvPr/>
            </p:nvSpPr>
            <p:spPr>
              <a:xfrm flipH="1">
                <a:off x="267840" y="2210760"/>
                <a:ext cx="462600" cy="355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97920" y="6965640"/>
            <a:ext cx="690840" cy="5461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1F68-052E-428C-A7F1-7055064F4458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10207080" cy="5441760"/>
            <a:chOff x="0" y="0"/>
            <a:chExt cx="10207080" cy="5441760"/>
          </a:xfrm>
        </p:grpSpPr>
        <p:sp>
          <p:nvSpPr>
            <p:cNvPr id="123" name="Rectangle 3"/>
            <p:cNvSpPr/>
            <p:nvPr/>
          </p:nvSpPr>
          <p:spPr>
            <a:xfrm>
              <a:off x="0" y="0"/>
              <a:ext cx="716040" cy="54417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24" name="Group 4"/>
            <p:cNvGrpSpPr/>
            <p:nvPr/>
          </p:nvGrpSpPr>
          <p:grpSpPr>
            <a:xfrm>
              <a:off x="447480" y="1581840"/>
              <a:ext cx="9759600" cy="203040"/>
              <a:chOff x="447480" y="1581840"/>
              <a:chExt cx="9759600" cy="20304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8058240" y="1581840"/>
                <a:ext cx="2148840" cy="203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6" name="Line 6"/>
              <p:cNvSpPr/>
              <p:nvPr/>
            </p:nvSpPr>
            <p:spPr>
              <a:xfrm>
                <a:off x="447480" y="1666080"/>
                <a:ext cx="975960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074240" y="6976800"/>
            <a:ext cx="232740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939840" y="6972120"/>
            <a:ext cx="349092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D9F-E7E3-4154-A99C-041928A6119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0" y="5442120"/>
            <a:ext cx="7160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3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073160" y="6976800"/>
            <a:ext cx="223848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941640" y="6972120"/>
            <a:ext cx="34020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B1B6-80AF-487F-8F32-4D984C72264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8920" y="6972480"/>
            <a:ext cx="690480" cy="5457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01F1-B604-4724-91C3-8DE178638E5A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360" y="0"/>
            <a:ext cx="10731240" cy="7638480"/>
            <a:chOff x="-360" y="0"/>
            <a:chExt cx="10731240" cy="7638480"/>
          </a:xfrm>
        </p:grpSpPr>
        <p:grpSp>
          <p:nvGrpSpPr>
            <p:cNvPr id="252" name="Group 3"/>
            <p:cNvGrpSpPr/>
            <p:nvPr/>
          </p:nvGrpSpPr>
          <p:grpSpPr>
            <a:xfrm>
              <a:off x="-360" y="0"/>
              <a:ext cx="10731240" cy="7638480"/>
              <a:chOff x="-360" y="0"/>
              <a:chExt cx="10731240" cy="7638480"/>
            </a:xfrm>
          </p:grpSpPr>
          <p:sp>
            <p:nvSpPr>
              <p:cNvPr id="253" name="Line 4"/>
              <p:cNvSpPr/>
              <p:nvPr/>
            </p:nvSpPr>
            <p:spPr>
              <a:xfrm flipH="1">
                <a:off x="0" y="0"/>
                <a:ext cx="755280" cy="8078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4" name="Line 5"/>
              <p:cNvSpPr/>
              <p:nvPr/>
            </p:nvSpPr>
            <p:spPr>
              <a:xfrm flipH="1">
                <a:off x="0" y="0"/>
                <a:ext cx="1352160" cy="14454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5" name="Line 6"/>
              <p:cNvSpPr/>
              <p:nvPr/>
            </p:nvSpPr>
            <p:spPr>
              <a:xfrm flipH="1">
                <a:off x="0" y="0"/>
                <a:ext cx="1969920" cy="21045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6" name="Line 7"/>
              <p:cNvSpPr/>
              <p:nvPr/>
            </p:nvSpPr>
            <p:spPr>
              <a:xfrm flipH="1">
                <a:off x="0" y="0"/>
                <a:ext cx="2545920" cy="27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7" name="Line 8"/>
              <p:cNvSpPr/>
              <p:nvPr/>
            </p:nvSpPr>
            <p:spPr>
              <a:xfrm flipH="1">
                <a:off x="0" y="0"/>
                <a:ext cx="3142800" cy="3358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8" name="Line 9"/>
              <p:cNvSpPr/>
              <p:nvPr/>
            </p:nvSpPr>
            <p:spPr>
              <a:xfrm flipH="1">
                <a:off x="-360" y="0"/>
                <a:ext cx="3760200" cy="40176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 flipH="1">
                <a:off x="-360" y="0"/>
                <a:ext cx="4377960" cy="4676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0" name="Line 11"/>
              <p:cNvSpPr/>
              <p:nvPr/>
            </p:nvSpPr>
            <p:spPr>
              <a:xfrm flipH="1">
                <a:off x="-360" y="0"/>
                <a:ext cx="5013720" cy="5356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1" name="Line 12"/>
              <p:cNvSpPr/>
              <p:nvPr/>
            </p:nvSpPr>
            <p:spPr>
              <a:xfrm flipH="1">
                <a:off x="0" y="0"/>
                <a:ext cx="5590080" cy="5973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2" name="Line 13"/>
              <p:cNvSpPr/>
              <p:nvPr/>
            </p:nvSpPr>
            <p:spPr>
              <a:xfrm flipH="1">
                <a:off x="0" y="0"/>
                <a:ext cx="6228000" cy="66535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3" name="Line 14"/>
              <p:cNvSpPr/>
              <p:nvPr/>
            </p:nvSpPr>
            <p:spPr>
              <a:xfrm flipH="1">
                <a:off x="0" y="0"/>
                <a:ext cx="6843600" cy="7312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4" name="Line 15"/>
              <p:cNvSpPr/>
              <p:nvPr/>
            </p:nvSpPr>
            <p:spPr>
              <a:xfrm flipH="1">
                <a:off x="33192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5" name="Line 16"/>
              <p:cNvSpPr/>
              <p:nvPr/>
            </p:nvSpPr>
            <p:spPr>
              <a:xfrm flipH="1">
                <a:off x="92844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6" name="Line 17"/>
              <p:cNvSpPr/>
              <p:nvPr/>
            </p:nvSpPr>
            <p:spPr>
              <a:xfrm flipH="1">
                <a:off x="15436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7" name="Line 18"/>
              <p:cNvSpPr/>
              <p:nvPr/>
            </p:nvSpPr>
            <p:spPr>
              <a:xfrm flipH="1">
                <a:off x="2102040" y="0"/>
                <a:ext cx="714960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 flipH="1">
                <a:off x="2719080" y="0"/>
                <a:ext cx="7149960" cy="7638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69" name="Line 20"/>
              <p:cNvSpPr/>
              <p:nvPr/>
            </p:nvSpPr>
            <p:spPr>
              <a:xfrm flipH="1">
                <a:off x="3303360" y="7200"/>
                <a:ext cx="7141680" cy="76312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0" name="Line 21"/>
              <p:cNvSpPr/>
              <p:nvPr/>
            </p:nvSpPr>
            <p:spPr>
              <a:xfrm flipH="1">
                <a:off x="4515840" y="999000"/>
                <a:ext cx="6215040" cy="66394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1" name="Line 22"/>
              <p:cNvSpPr/>
              <p:nvPr/>
            </p:nvSpPr>
            <p:spPr>
              <a:xfrm flipH="1">
                <a:off x="5073120" y="1594440"/>
                <a:ext cx="5657400" cy="604404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2" name="Line 23"/>
              <p:cNvSpPr/>
              <p:nvPr/>
            </p:nvSpPr>
            <p:spPr>
              <a:xfrm flipH="1">
                <a:off x="5649840" y="2210400"/>
                <a:ext cx="5081040" cy="54280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3" name="Line 24"/>
              <p:cNvSpPr/>
              <p:nvPr/>
            </p:nvSpPr>
            <p:spPr>
              <a:xfrm flipH="1">
                <a:off x="6246720" y="2848320"/>
                <a:ext cx="4484160" cy="4790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4" name="Line 25"/>
              <p:cNvSpPr/>
              <p:nvPr/>
            </p:nvSpPr>
            <p:spPr>
              <a:xfrm flipH="1">
                <a:off x="6884640" y="3528720"/>
                <a:ext cx="3846240" cy="41097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5" name="Line 26"/>
              <p:cNvSpPr/>
              <p:nvPr/>
            </p:nvSpPr>
            <p:spPr>
              <a:xfrm flipH="1">
                <a:off x="7520400" y="4209120"/>
                <a:ext cx="3210120" cy="34293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6" name="Line 27"/>
              <p:cNvSpPr/>
              <p:nvPr/>
            </p:nvSpPr>
            <p:spPr>
              <a:xfrm flipH="1">
                <a:off x="8117280" y="4846680"/>
                <a:ext cx="2613240" cy="27918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7" name="Line 28"/>
              <p:cNvSpPr/>
              <p:nvPr/>
            </p:nvSpPr>
            <p:spPr>
              <a:xfrm flipH="1">
                <a:off x="8735040" y="5505480"/>
                <a:ext cx="1995480" cy="213300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8" name="Line 29"/>
              <p:cNvSpPr/>
              <p:nvPr/>
            </p:nvSpPr>
            <p:spPr>
              <a:xfrm flipH="1">
                <a:off x="9311040" y="6122160"/>
                <a:ext cx="1419480" cy="15163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79" name="Line 30"/>
              <p:cNvSpPr/>
              <p:nvPr/>
            </p:nvSpPr>
            <p:spPr>
              <a:xfrm flipH="1">
                <a:off x="9869040" y="6717600"/>
                <a:ext cx="861480" cy="920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0" name="Line 31"/>
              <p:cNvSpPr/>
              <p:nvPr/>
            </p:nvSpPr>
            <p:spPr>
              <a:xfrm flipH="1">
                <a:off x="10424880" y="7312320"/>
                <a:ext cx="305640" cy="32616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1" name="Line 32"/>
              <p:cNvSpPr/>
              <p:nvPr/>
            </p:nvSpPr>
            <p:spPr>
              <a:xfrm flipH="1">
                <a:off x="0" y="0"/>
                <a:ext cx="238320" cy="25488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82" name="Line 33"/>
              <p:cNvSpPr/>
              <p:nvPr/>
            </p:nvSpPr>
            <p:spPr>
              <a:xfrm flipH="1">
                <a:off x="3952440" y="403560"/>
                <a:ext cx="6770880" cy="7234920"/>
              </a:xfrm>
              <a:prstGeom prst="line">
                <a:avLst/>
              </a:prstGeom>
              <a:ln cap="sq" w="12600">
                <a:solidFill>
                  <a:srgbClr val="99d0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283" name="Rectangle 34"/>
            <p:cNvSpPr/>
            <p:nvPr/>
          </p:nvSpPr>
          <p:spPr>
            <a:xfrm>
              <a:off x="537120" y="1785600"/>
              <a:ext cx="9671760" cy="4676760"/>
            </a:xfrm>
            <a:prstGeom prst="rect">
              <a:avLst/>
            </a:prstGeom>
            <a:gradFill rotWithShape="0">
              <a:gsLst>
                <a:gs pos="0">
                  <a:srgbClr val="99d0d6"/>
                </a:gs>
                <a:gs pos="100000">
                  <a:srgbClr val="ffffff"/>
                </a:gs>
              </a:gsLst>
              <a:lin ang="5400000"/>
            </a:gradFill>
            <a:ln cap="sq" w="12600">
              <a:solidFill>
                <a:srgbClr val="6600cc"/>
              </a:solidFill>
              <a:miter/>
            </a:ln>
            <a:effectLst>
              <a:outerShdw dist="125751" dir="2700000" blurRad="0" rotWithShape="0">
                <a:srgbClr val="99d0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1274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06040" y="2211120"/>
            <a:ext cx="9131400" cy="4591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 fontScale="96000"/>
          </a:bodyPr>
          <a:p>
            <a:pPr marL="378000" indent="-37800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-3150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252720">
              <a:spcBef>
                <a:spcPts val="924"/>
              </a:spcBef>
              <a:buClr>
                <a:srgbClr val="6600cc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766160" indent="-252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270520" indent="-254160">
              <a:spcBef>
                <a:spcPts val="924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270520" indent="-2541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80640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669840" y="6972120"/>
            <a:ext cx="34038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769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BBC-4308-4897-9066-87F0797D0BA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0"/>
            <a:ext cx="6894000" cy="7652880"/>
            <a:chOff x="0" y="0"/>
            <a:chExt cx="6894000" cy="7652880"/>
          </a:xfrm>
        </p:grpSpPr>
        <p:sp>
          <p:nvSpPr>
            <p:cNvPr id="326" name="Rectangle 3"/>
            <p:cNvSpPr/>
            <p:nvPr/>
          </p:nvSpPr>
          <p:spPr>
            <a:xfrm>
              <a:off x="0" y="0"/>
              <a:ext cx="5372280" cy="76528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>
              <a:off x="805680" y="1105560"/>
              <a:ext cx="6088320" cy="212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28" name="Group 5"/>
          <p:cNvGrpSpPr/>
          <p:nvPr/>
        </p:nvGrpSpPr>
        <p:grpSpPr>
          <a:xfrm>
            <a:off x="4266720" y="5456160"/>
            <a:ext cx="5730840" cy="356760"/>
            <a:chOff x="4266720" y="5456160"/>
            <a:chExt cx="5730840" cy="356760"/>
          </a:xfrm>
        </p:grpSpPr>
        <p:sp>
          <p:nvSpPr>
            <p:cNvPr id="329" name="AutoShape 6"/>
            <p:cNvSpPr/>
            <p:nvPr/>
          </p:nvSpPr>
          <p:spPr>
            <a:xfrm flipH="1">
              <a:off x="4266360" y="5456160"/>
              <a:ext cx="5435640" cy="3553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9691920" y="5456160"/>
              <a:ext cx="305640" cy="3567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5960" y="931320"/>
            <a:ext cx="915120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83880" y="2637000"/>
            <a:ext cx="9039240" cy="4155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2865600" y="6972480"/>
            <a:ext cx="25034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6803640" y="6972480"/>
            <a:ext cx="3405240" cy="5299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88920" y="6972480"/>
            <a:ext cx="690480" cy="5457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C8BF-B80E-43E7-86E7-FCA695B45EEC}" type="slidenum">
              <a:rPr b="1" lang="ru-RU" sz="3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0"/>
            <a:ext cx="10295640" cy="6631920"/>
            <a:chOff x="0" y="0"/>
            <a:chExt cx="10295640" cy="6631920"/>
          </a:xfrm>
        </p:grpSpPr>
        <p:sp>
          <p:nvSpPr>
            <p:cNvPr id="373" name="Rectangle 3"/>
            <p:cNvSpPr/>
            <p:nvPr/>
          </p:nvSpPr>
          <p:spPr>
            <a:xfrm>
              <a:off x="0" y="0"/>
              <a:ext cx="2058840" cy="5442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374" name="Group 4"/>
            <p:cNvGrpSpPr/>
            <p:nvPr/>
          </p:nvGrpSpPr>
          <p:grpSpPr>
            <a:xfrm>
              <a:off x="0" y="3911400"/>
              <a:ext cx="10295640" cy="2720520"/>
              <a:chOff x="0" y="3911400"/>
              <a:chExt cx="10295640" cy="2720520"/>
            </a:xfrm>
          </p:grpSpPr>
          <p:sp>
            <p:nvSpPr>
              <p:cNvPr id="375" name="Rectangle 5"/>
              <p:cNvSpPr/>
              <p:nvPr/>
            </p:nvSpPr>
            <p:spPr>
              <a:xfrm>
                <a:off x="1163880" y="3911400"/>
                <a:ext cx="9131760" cy="27205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6" name="Rectangle 6"/>
              <p:cNvSpPr/>
              <p:nvPr/>
            </p:nvSpPr>
            <p:spPr>
              <a:xfrm>
                <a:off x="1219680" y="4166280"/>
                <a:ext cx="8989920" cy="2386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77" name="Line 7"/>
              <p:cNvSpPr/>
              <p:nvPr/>
            </p:nvSpPr>
            <p:spPr>
              <a:xfrm>
                <a:off x="0" y="5441760"/>
                <a:ext cx="11638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78" name="Group 8"/>
            <p:cNvGrpSpPr/>
            <p:nvPr/>
          </p:nvGrpSpPr>
          <p:grpSpPr>
            <a:xfrm>
              <a:off x="745920" y="595080"/>
              <a:ext cx="9489960" cy="339480"/>
              <a:chOff x="745920" y="595080"/>
              <a:chExt cx="9489960" cy="339480"/>
            </a:xfrm>
          </p:grpSpPr>
          <p:sp>
            <p:nvSpPr>
              <p:cNvPr id="379" name="Rectangle 9"/>
              <p:cNvSpPr/>
              <p:nvPr/>
            </p:nvSpPr>
            <p:spPr>
              <a:xfrm>
                <a:off x="7369200" y="595080"/>
                <a:ext cx="2864520" cy="339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80" name="Line 10"/>
              <p:cNvSpPr/>
              <p:nvPr/>
            </p:nvSpPr>
            <p:spPr>
              <a:xfrm>
                <a:off x="745920" y="764640"/>
                <a:ext cx="948996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3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1073160" y="6976800"/>
            <a:ext cx="223848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941640" y="6972120"/>
            <a:ext cx="34020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3C29-BDFF-4A5A-B510-DBE815A5242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3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0" y="0"/>
            <a:ext cx="10295640" cy="6631920"/>
            <a:chOff x="0" y="0"/>
            <a:chExt cx="10295640" cy="6631920"/>
          </a:xfrm>
        </p:grpSpPr>
        <p:sp>
          <p:nvSpPr>
            <p:cNvPr id="423" name="Rectangle 3"/>
            <p:cNvSpPr/>
            <p:nvPr/>
          </p:nvSpPr>
          <p:spPr>
            <a:xfrm>
              <a:off x="0" y="0"/>
              <a:ext cx="2058840" cy="5442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24" name="Group 4"/>
            <p:cNvGrpSpPr/>
            <p:nvPr/>
          </p:nvGrpSpPr>
          <p:grpSpPr>
            <a:xfrm>
              <a:off x="0" y="3911400"/>
              <a:ext cx="10295640" cy="2720520"/>
              <a:chOff x="0" y="3911400"/>
              <a:chExt cx="10295640" cy="2720520"/>
            </a:xfrm>
          </p:grpSpPr>
          <p:sp>
            <p:nvSpPr>
              <p:cNvPr id="425" name="Rectangle 5"/>
              <p:cNvSpPr/>
              <p:nvPr/>
            </p:nvSpPr>
            <p:spPr>
              <a:xfrm>
                <a:off x="1163880" y="3911400"/>
                <a:ext cx="9131760" cy="27205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6" name="Rectangle 6"/>
              <p:cNvSpPr/>
              <p:nvPr/>
            </p:nvSpPr>
            <p:spPr>
              <a:xfrm>
                <a:off x="1219680" y="4166280"/>
                <a:ext cx="8989920" cy="2386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27" name="Line 7"/>
              <p:cNvSpPr/>
              <p:nvPr/>
            </p:nvSpPr>
            <p:spPr>
              <a:xfrm>
                <a:off x="0" y="5441760"/>
                <a:ext cx="11638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28" name="Group 8"/>
            <p:cNvGrpSpPr/>
            <p:nvPr/>
          </p:nvGrpSpPr>
          <p:grpSpPr>
            <a:xfrm>
              <a:off x="745920" y="595080"/>
              <a:ext cx="9489960" cy="339480"/>
              <a:chOff x="745920" y="595080"/>
              <a:chExt cx="9489960" cy="339480"/>
            </a:xfrm>
          </p:grpSpPr>
          <p:sp>
            <p:nvSpPr>
              <p:cNvPr id="429" name="Rectangle 9"/>
              <p:cNvSpPr/>
              <p:nvPr/>
            </p:nvSpPr>
            <p:spPr>
              <a:xfrm>
                <a:off x="7369200" y="595080"/>
                <a:ext cx="2864520" cy="339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30" name="Line 10"/>
              <p:cNvSpPr/>
              <p:nvPr/>
            </p:nvSpPr>
            <p:spPr>
              <a:xfrm>
                <a:off x="745920" y="764640"/>
                <a:ext cx="948996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74600" y="1785600"/>
            <a:ext cx="9133200" cy="505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2832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6352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9960" indent="-26352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65200" indent="-26496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65200" indent="-264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5"/>
          </p:nvPr>
        </p:nvSpPr>
        <p:spPr>
          <a:xfrm>
            <a:off x="1073160" y="6976800"/>
            <a:ext cx="2238480" cy="509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6"/>
          </p:nvPr>
        </p:nvSpPr>
        <p:spPr>
          <a:xfrm>
            <a:off x="3941640" y="6972120"/>
            <a:ext cx="340200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7"/>
          </p:nvPr>
        </p:nvSpPr>
        <p:spPr>
          <a:xfrm>
            <a:off x="7969320" y="6972120"/>
            <a:ext cx="2238480" cy="51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35A7-B165-4D2C-B506-BDA9C96636C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4.xml"/><Relationship Id="rId9" Type="http://schemas.openxmlformats.org/officeDocument/2006/relationships/hyperlink" Target="http://sobory.ru/photo/?photo=164637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4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4.xm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j014940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10744200" cy="7653240"/>
          </a:xfrm>
          <a:prstGeom prst="rect">
            <a:avLst/>
          </a:prstGeom>
          <a:ln w="0">
            <a:noFill/>
          </a:ln>
        </p:spPr>
      </p:pic>
      <p:sp>
        <p:nvSpPr>
          <p:cNvPr id="527" name="WordArt 4"/>
          <p:cNvSpPr txBox="1"/>
          <p:nvPr/>
        </p:nvSpPr>
        <p:spPr>
          <a:xfrm>
            <a:off x="1195560" y="2530440"/>
            <a:ext cx="87850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Храмы XVIII века в Смоленск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28" name="TSL Academie 19.mp3" descr=""/>
          <p:cNvPicPr/>
          <p:nvPr/>
        </p:nvPicPr>
        <p:blipFill>
          <a:blip r:embed="rId2"/>
          <a:stretch/>
        </p:blipFill>
        <p:spPr>
          <a:xfrm>
            <a:off x="1085760" y="968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6"/>
          <p:cNvSpPr/>
          <p:nvPr/>
        </p:nvSpPr>
        <p:spPr>
          <a:xfrm>
            <a:off x="4579920" y="490680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полнила Чулкова Ольга Александровна 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20267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5200" y="369360"/>
            <a:ext cx="9131040" cy="100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Церковь Благовещения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18840" y="1305000"/>
            <a:ext cx="5329080" cy="5689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 algn="just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, выдержанный в формах барокко, был возведен в 1774 году. Находится на северном склоне Соборной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м сильно пострадал во время сражения за освобождение города в 1943 году. От первоначального сооружения остался лишь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четверик</a:t>
            </a:r>
            <a:r>
              <a:rPr b="0" lang="en-US" sz="2400" spc="-1" strike="noStrike" u="sng" baseline="30000">
                <a:solidFill>
                  <a:srgbClr val="6600cc"/>
                </a:solidFill>
                <a:uFillTx/>
                <a:latin typeface="Arial"/>
                <a:hlinkClick r:id="rId2" action="ppaction://hlinksldjump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новного объема, увенчанный восьмигранным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3" action="ppaction://hlinksldjump"/>
              </a:rPr>
              <a:t>барабаном</a:t>
            </a:r>
            <a:r>
              <a:rPr b="0" lang="en-US" sz="2400" spc="-1" strike="noStrike" u="sng" baseline="30000">
                <a:solidFill>
                  <a:srgbClr val="6600cc"/>
                </a:solidFill>
                <a:uFillTx/>
                <a:latin typeface="Arial"/>
                <a:hlinkClick r:id="rId4" action="ppaction://hlinksldjump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 маленькой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5" action="ppaction://hlinksldjump"/>
              </a:rPr>
              <a:t>глав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Примыкавшие к нему </a:t>
            </a: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  <a:hlinkClick r:id="rId6" action="ppaction://hlinksldjump"/>
              </a:rPr>
              <a:t>трапезная</a:t>
            </a:r>
            <a:r>
              <a:rPr b="0" lang="en-US" sz="2400" spc="-1" strike="noStrike" u="sng" baseline="30000">
                <a:solidFill>
                  <a:srgbClr val="6600cc"/>
                </a:solidFill>
                <a:uFillTx/>
                <a:latin typeface="Arial"/>
                <a:hlinkClick r:id="rId7" action="ppaction://hlinksldjump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вухъярусная колокольня были разобраны в 195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Стрелка влево 4">
            <a:hlinkClick r:id="rId8" action="ppaction://hlinksldjump"/>
          </p:cNvPr>
          <p:cNvSpPr/>
          <p:nvPr/>
        </p:nvSpPr>
        <p:spPr>
          <a:xfrm>
            <a:off x="8801280" y="647064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8" name="Picture 7" descr="Смоленск. Церковь Благовещения Пресвятой Богородицы, , Наталия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8640" y="1306440"/>
            <a:ext cx="352908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79560" y="442440"/>
            <a:ext cx="9129600" cy="792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Церковь Георгия Победоносца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011200" y="1882440"/>
            <a:ext cx="4905720" cy="4591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 algn="just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ся в восточной части города. Построена в 1782 году «усердием» священника Гетрашевича. Памятник архитектуры позднего барокко. Очень красивое трехсветное помещение храма разделено сейчас на три эта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picture"/>
          <p:cNvPicPr/>
          <p:nvPr/>
        </p:nvPicPr>
        <p:blipFill>
          <a:blip r:embed="rId1"/>
          <a:stretch/>
        </p:blipFill>
        <p:spPr>
          <a:xfrm>
            <a:off x="979560" y="1593720"/>
            <a:ext cx="3597120" cy="3703680"/>
          </a:xfrm>
          <a:prstGeom prst="rect">
            <a:avLst/>
          </a:prstGeom>
          <a:ln w="38160">
            <a:solidFill>
              <a:srgbClr val="0000ff"/>
            </a:solidFill>
            <a:round/>
          </a:ln>
        </p:spPr>
      </p:pic>
      <p:sp>
        <p:nvSpPr>
          <p:cNvPr id="562" name="Стрелка влево 4">
            <a:hlinkClick r:id="rId2" action="ppaction://hlinksldjump"/>
          </p:cNvPr>
          <p:cNvSpPr/>
          <p:nvPr/>
        </p:nvSpPr>
        <p:spPr>
          <a:xfrm>
            <a:off x="8729640" y="632772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99920" y="468360"/>
            <a:ext cx="9644040" cy="9288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Церковь Смоленской Божьей Матери  Одигитрии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564" name="Picture 7" descr="C:\Documents and Settings\Admin\Мои документы\Downloads\dnepr_vorota_01.JPG"/>
          <p:cNvPicPr/>
          <p:nvPr/>
        </p:nvPicPr>
        <p:blipFill>
          <a:blip r:embed="rId1"/>
          <a:stretch/>
        </p:blipFill>
        <p:spPr>
          <a:xfrm>
            <a:off x="657360" y="1325520"/>
            <a:ext cx="9501120" cy="571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5200" y="514440"/>
            <a:ext cx="9131040" cy="790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Церковь Смоленской Божьей Матери Одигитрии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42800" y="1539720"/>
            <a:ext cx="9539280" cy="4864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619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ена на берегу Днепра. Сооружена на месте Фроловской (Днепровской) крепостной башни с воротами. На ней в нише с 1602 года находился образ Божьей Матери Одигитрии, присланный в Смоленск Борисом Годуновым. В начал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а пришедшая в ветхое состояние башня была разобрана. В 1727 году над воротами крепостной стены поставлен и освящен деревянный храм в честь Рождества Пресвятой Богородицы, в него перенесена чудотворная икона Божьей Матери. В 1793 году на месте деревянного храма построен каменный (в1811 году перестро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840" indent="61920" algn="just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трелка влево 4"/>
          <p:cNvSpPr/>
          <p:nvPr/>
        </p:nvSpPr>
        <p:spPr>
          <a:xfrm>
            <a:off x="8586720" y="632772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5200" y="296640"/>
            <a:ext cx="9131040" cy="865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Церковь Покрова Богородицы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71520" y="1304640"/>
            <a:ext cx="5268960" cy="59785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а в 1794 году «старанием» священника В. Брянцева. Памятник раннего классицизм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одноэтажный стройный четверик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вершен куполом и небольшой главкой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восьмигранном барабан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Цоколь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крыльцо колокольни белокам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picture"/>
          <p:cNvPicPr/>
          <p:nvPr/>
        </p:nvPicPr>
        <p:blipFill>
          <a:blip r:embed="rId1"/>
          <a:stretch/>
        </p:blipFill>
        <p:spPr>
          <a:xfrm>
            <a:off x="5877000" y="1235160"/>
            <a:ext cx="4174920" cy="511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571" name="Стрелка влево 4"/>
          <p:cNvSpPr/>
          <p:nvPr/>
        </p:nvSpPr>
        <p:spPr>
          <a:xfrm>
            <a:off x="942840" y="647064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512360" y="931320"/>
            <a:ext cx="9150840" cy="1113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д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195560" y="2697120"/>
            <a:ext cx="9145440" cy="41529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полните таблицу «Смоленские храм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XVI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627200" y="3178080"/>
          <a:ext cx="8569440" cy="1440000"/>
        </p:xfrm>
        <a:graphic>
          <a:graphicData uri="http://schemas.openxmlformats.org/drawingml/2006/table">
            <a:tbl>
              <a:tblPr/>
              <a:tblGrid>
                <a:gridCol w="1441440"/>
                <a:gridCol w="1987560"/>
                <a:gridCol w="1828800"/>
                <a:gridCol w="1870200"/>
                <a:gridCol w="144144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ды строитель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сто распо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рхитектурный ст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ид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Text Box 24"/>
          <p:cNvSpPr/>
          <p:nvPr/>
        </p:nvSpPr>
        <p:spPr>
          <a:xfrm>
            <a:off x="1319400" y="4668840"/>
            <a:ext cx="183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1195560" y="4729320"/>
            <a:ext cx="928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ьте на вопрос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аким годам относится строительство представленных храмов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акого строительного материала создавали хра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к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ели ли на вас впечатления архитектурные сооруж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к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1274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imes New Roman"/>
              </a:rPr>
              <a:t>Источники</a:t>
            </a:r>
            <a:endParaRPr b="0" lang="en-US" sz="51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27120" y="2041200"/>
            <a:ext cx="8848800" cy="45068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685800" indent="-68580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дрицова М.Ю. и др. История православной культуры земли Смоленской. — Смоленск: Издательство СОИУУ, 20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ерывая связь времен / Сост. Архипова Т.А. и др. — Смоленск: Издательство СОИУУ,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AutoNum type="arabicPeriod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славные храмы Смоленска. — Смоленск: ООО «Кантилена»,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8827920" y="64184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6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6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6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6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6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6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6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6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да – алтарный выст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7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7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7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7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7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7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7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7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7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6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6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6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6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6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6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6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6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206360" y="858960"/>
            <a:ext cx="5868000" cy="15541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кона — молитва в красках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Храм — молитва в камн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Колокол — молитва в звук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4204440" y="2602080"/>
            <a:ext cx="6572160" cy="4478760"/>
          </a:xfrm>
          <a:prstGeom prst="rect">
            <a:avLst/>
          </a:prstGeom>
          <a:noFill/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етлым облаком сияет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горе воздушный храм —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но с озера взлетает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елый лебедь к небесам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м меж сосен изумрудных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лещет озера хрусталь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молитва в звуках чудных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вон церковный льется вдаль…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. Шамони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лево 3"/>
          <p:cNvSpPr/>
          <p:nvPr/>
        </p:nvSpPr>
        <p:spPr>
          <a:xfrm>
            <a:off x="9443880" y="689940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6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6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6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6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6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6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6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6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74600" y="309240"/>
            <a:ext cx="9133200" cy="12762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ИЛОЖЕНИЕ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50480" y="1666440"/>
            <a:ext cx="9412200" cy="5986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rmAutofit/>
          </a:bodyPr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абан — верхняя часть здания, служащая основанием куп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окко — одно из главных направлений в искусстве кон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с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 Для архитектуры Б. характерны пространственный размах, слитность, криволинейность форм, величие и пышность декор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вка — декоративное завершение на барабане в форме шлема, луковицы, конуса, зонтик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ссицизм — направление в искусств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нач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в., обратившееся к античному наследию как к норме и идеальному образцу. Архитектуре К. присущи четкость и геометризм форм, логичность планировки, сдержанный дек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идел — небольшая пристройка к храму со стороны южного или северного фасада, имеющая дополнительный алтарь для богослу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пезная — западная пристройка к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оль — нижняя часть наружной стены, лежащая на фундам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 algn="just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верик — четырехгранное сооружение или его ч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трелка влево 3"/>
          <p:cNvSpPr/>
          <p:nvPr/>
        </p:nvSpPr>
        <p:spPr>
          <a:xfrm>
            <a:off x="9404280" y="6923160"/>
            <a:ext cx="978120" cy="48420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6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6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6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6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6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6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6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6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4"/>
          <p:cNvSpPr/>
          <p:nvPr/>
        </p:nvSpPr>
        <p:spPr>
          <a:xfrm>
            <a:off x="3787920" y="585720"/>
            <a:ext cx="633888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Храмы традиционно считались на Руси указателями на пути к Царству Небесному. И сегодня наши храмы должны указать нам направление нашего движения, наше будуще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ирилл, патриарх Московски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  Всея Рус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692280" y="2968560"/>
            <a:ext cx="92167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мовое строительство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е позиций Православной Церкви на Смоленщине продолжается при преемнике владыки Гедеона епископе Парфении (Сопковском). Его стараниями в Смоленском крае разворачивается широкое каменное храмовое строительство. Много новых церквей было построено в самом Смоленске. Нередко для составления проекта храма приглашались известные зодчие, такие как М.Ф. Казаков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80-х го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все храмы имеют черты стиля </a:t>
            </a:r>
            <a:r>
              <a:rPr b="0" lang="ru-RU" sz="2400" spc="-1" strike="noStrike" u="sng">
                <a:solidFill>
                  <a:srgbClr val="6600cc"/>
                </a:solidFill>
                <a:uFillTx/>
                <a:latin typeface="Arial"/>
                <a:ea typeface="Arial"/>
                <a:hlinkClick r:id="rId1" action="ppaction://hlinksldjump"/>
              </a:rPr>
              <a:t>барокко</a:t>
            </a:r>
            <a:r>
              <a:rPr b="0" lang="ru-RU" sz="2400" spc="-1" strike="noStrike" u="sng" baseline="30000">
                <a:solidFill>
                  <a:srgbClr val="6600cc"/>
                </a:solidFill>
                <a:uFillTx/>
                <a:latin typeface="Arial"/>
                <a:ea typeface="Arial"/>
                <a:hlinkClick r:id="rId2" action="ppaction://hlinksldjump"/>
              </a:rPr>
              <a:t>*</a:t>
            </a:r>
            <a:r>
              <a:rPr b="0" lang="ru-RU" sz="2400" spc="-1" strike="noStrike" u="sng" baseline="30000">
                <a:solidFill>
                  <a:srgbClr val="6600cc"/>
                </a:solidFill>
                <a:uFillTx/>
                <a:latin typeface="Arial"/>
                <a:ea typeface="Arial"/>
                <a:hlinkClick r:id="rId3" action="ppaction://hlinksldjump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00280" y="610920"/>
            <a:ext cx="9131040" cy="6218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Times New Roman"/>
              </a:rPr>
              <a:t>Содержание</a:t>
            </a:r>
            <a:r>
              <a:rPr b="0" lang="ru-RU" sz="4800" spc="-1" strike="noStrike" u="sng">
                <a:solidFill>
                  <a:srgbClr val="6600cc"/>
                </a:solidFill>
                <a:uFillTx/>
                <a:latin typeface="Times New Roman"/>
                <a:hlinkClick r:id="rId1" action="ppaction://hlinksldjump"/>
              </a:rPr>
              <a:t>_x000b_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2" action="ppaction://hlinksldjump"/>
              </a:rPr>
              <a:t>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3" action="ppaction://hlinksldjump"/>
              </a:rPr>
              <a:t>Церковь Николая Чудотворца (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4" action="ppaction://hlinksldjump"/>
              </a:rPr>
              <a:t>Нижне-Никольская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5" action="ppaction://hlinksldjump"/>
              </a:rPr>
              <a:t>)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6" action="ppaction://hlinksldjump"/>
              </a:rPr>
              <a:t>Преображенский собор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7" action="ppaction://hlinksldjump"/>
              </a:rPr>
              <a:t>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8" action="ppaction://hlinksldjump"/>
              </a:rPr>
              <a:t>Церковь Воздвижения Креста_x000b_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9" action="ppaction://hlinksldjump"/>
              </a:rPr>
              <a:t>Церковь Благовещения</a:t>
            </a:r>
            <a:br>
              <a:rPr sz="2800"/>
            </a:b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0" action="ppaction://hlinksldjump"/>
              </a:rPr>
              <a:t>Церковь Георгия Победоносца</a:t>
            </a:r>
            <a:br>
              <a:rPr sz="2800"/>
            </a:b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1" action="ppaction://hlinksldjump"/>
              </a:rPr>
              <a:t>Церковь Смоленской Божьей Матери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2" action="ppaction://hlinksldjump"/>
              </a:rPr>
              <a:t>Одигитрии</a:t>
            </a:r>
            <a:br>
              <a:rPr sz="2800"/>
            </a:br>
            <a:r>
              <a:rPr b="0" lang="ru-RU" sz="2800" spc="-1" strike="noStrike" u="sng">
                <a:solidFill>
                  <a:srgbClr val="6600cc"/>
                </a:solidFill>
                <a:uFillTx/>
                <a:latin typeface="Times New Roman"/>
                <a:hlinkClick r:id="rId13" action="ppaction://hlinksldjump"/>
              </a:rPr>
              <a:t>Церковь Покрова Богородицы_x000b__x000b_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42480" y="468000"/>
            <a:ext cx="9131400" cy="12762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i="1" lang="en-US" sz="4400" spc="-1" strike="noStrike">
                <a:solidFill>
                  <a:srgbClr val="006699"/>
                </a:solidFill>
                <a:latin typeface="Times New Roman"/>
              </a:rPr>
              <a:t>Церковь Николая Чудотворц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11000" y="4167360"/>
            <a:ext cx="7521480" cy="19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http://www.smolenskru.ru/images/Churchs/nik_ch14.jpg"/>
          <p:cNvPicPr/>
          <p:nvPr/>
        </p:nvPicPr>
        <p:blipFill>
          <a:blip r:embed="rId1"/>
          <a:stretch/>
        </p:blipFill>
        <p:spPr>
          <a:xfrm>
            <a:off x="585720" y="1539720"/>
            <a:ext cx="9715680" cy="550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7714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Церковь Николая Чудотворца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(Нижне-Никольская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532280" y="6059520"/>
            <a:ext cx="2373480" cy="9921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174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9200" y="2325600"/>
            <a:ext cx="4967280" cy="4337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0"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роена на правом берегу Днепра на месте сгоревшей в 1747 году деревянной церкви. Является одним из наиболее ярких памятников эпохи барокко среди сооружений этого ти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019"/>
          <p:cNvPicPr/>
          <p:nvPr/>
        </p:nvPicPr>
        <p:blipFill>
          <a:blip r:embed="rId1"/>
          <a:srcRect l="0" t="12707" r="43354" b="0"/>
          <a:stretch/>
        </p:blipFill>
        <p:spPr>
          <a:xfrm>
            <a:off x="5514840" y="1611360"/>
            <a:ext cx="4572000" cy="52164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542" name="Стрелка влево 5">
            <a:hlinkClick r:id="rId2" action="ppaction://hlinksldjump"/>
          </p:cNvPr>
          <p:cNvSpPr/>
          <p:nvPr/>
        </p:nvSpPr>
        <p:spPr>
          <a:xfrm>
            <a:off x="728640" y="639936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8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2260800" y="585360"/>
            <a:ext cx="9491400" cy="576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Преображенский собор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5200" y="6470640"/>
            <a:ext cx="3751200" cy="571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onotype Corsiva"/>
              </a:rPr>
              <a:t>175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71520" y="682560"/>
            <a:ext cx="5286600" cy="6359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lvl="2"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ожен в юго-восточной части города, входит в комплекс Авраамиева монасты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памятник барокко в Смоленске. Отличительная особенность здания — сильно вытянутый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четверик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 композиции, увенчанный стройной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2" action="ppaction://hlinksldjump"/>
              </a:rPr>
              <a:t>главкой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двойном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3" action="ppaction://hlinksldjump"/>
              </a:rPr>
              <a:t>барабане*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  <a:hlinkClick r:id="rId4" action="ppaction://hlinksldjump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ность постройке придают высокие полукруглые крыль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трелка влево 7">
            <a:hlinkClick r:id="rId5" action="ppaction://hlinksldjump"/>
          </p:cNvPr>
          <p:cNvSpPr/>
          <p:nvPr/>
        </p:nvSpPr>
        <p:spPr>
          <a:xfrm>
            <a:off x="9372600" y="654192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7" name="Содержимое 12" descr="264_0067787b.jpg"/>
          <p:cNvPicPr/>
          <p:nvPr/>
        </p:nvPicPr>
        <p:blipFill>
          <a:blip r:embed="rId6"/>
          <a:stretch/>
        </p:blipFill>
        <p:spPr>
          <a:xfrm>
            <a:off x="657360" y="1468440"/>
            <a:ext cx="391140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25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42480" y="-360"/>
            <a:ext cx="9131400" cy="12762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i="1" lang="en-US" sz="4400" spc="-1" strike="noStrike">
                <a:solidFill>
                  <a:srgbClr val="006699"/>
                </a:solidFill>
                <a:latin typeface="Times New Roman"/>
              </a:rPr>
              <a:t>Церковь Воздвижения Крест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611000" y="4167360"/>
            <a:ext cx="7521480" cy="19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Рисунок 3" descr="01013_20060621_080129.jpg"/>
          <p:cNvPicPr/>
          <p:nvPr/>
        </p:nvPicPr>
        <p:blipFill>
          <a:blip r:embed="rId1"/>
          <a:stretch/>
        </p:blipFill>
        <p:spPr>
          <a:xfrm>
            <a:off x="514440" y="1182600"/>
            <a:ext cx="9786960" cy="607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0d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6040" y="680760"/>
            <a:ext cx="9131400" cy="7714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Церковь</a:t>
            </a:r>
            <a:r>
              <a:rPr b="0" lang="en-US" sz="36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Воздвижения Креста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42840" y="1666800"/>
            <a:ext cx="4934160" cy="53755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3840" indent="-393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а в 1766-1767 годах. Памятник архитектуры барокко. Основной объем —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" action="ppaction://hlinksldjump"/>
              </a:rPr>
              <a:t>четверик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2" action="ppaction://hlinksldjump"/>
              </a:rPr>
              <a:t>*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 пятигранной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4" action="ppaction://hlinksldjump"/>
              </a:rPr>
              <a:t>апсидой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увенчанный восьмигранным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5" action="ppaction://hlinksldjump"/>
              </a:rPr>
              <a:t>барабанчиком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6" action="ppaction://hlinksldjump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маленькой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7" action="ppaction://hlinksldjump"/>
              </a:rPr>
              <a:t>главкой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8" action="ppaction://hlinksldjump"/>
              </a:rPr>
              <a:t>*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9" action="ppaction://hlinksldjump"/>
              </a:rPr>
              <a:t>. Трапезная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10" action="ppaction://hlinksldjump"/>
              </a:rPr>
              <a:t>*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11" action="ppaction://hlinksldjump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изкая, с севера к ней пристроен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2" action="ppaction://hlinksldjump"/>
              </a:rPr>
              <a:t>придел</a:t>
            </a:r>
            <a:r>
              <a:rPr b="0" lang="en-US" sz="2800" spc="-1" strike="noStrike" u="sng" baseline="30000">
                <a:solidFill>
                  <a:srgbClr val="6600cc"/>
                </a:solidFill>
                <a:uFillTx/>
                <a:latin typeface="Arial"/>
                <a:hlinkClick r:id="rId13" action="ppaction://hlinksldjump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риса и Глеба. Колокольня состоит из трех четв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трелка влево 7">
            <a:hlinkClick r:id="rId14" action="ppaction://hlinksldjump"/>
          </p:cNvPr>
          <p:cNvSpPr/>
          <p:nvPr/>
        </p:nvSpPr>
        <p:spPr>
          <a:xfrm>
            <a:off x="8801280" y="639936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4" name="Picture 5" descr="храм  Воздвижения Креста Господня."/>
          <p:cNvPicPr/>
          <p:nvPr/>
        </p:nvPicPr>
        <p:blipFill>
          <a:blip r:embed="rId15"/>
          <a:srcRect l="20295" t="1607" r="0" b="23425"/>
          <a:stretch/>
        </p:blipFill>
        <p:spPr>
          <a:xfrm>
            <a:off x="5803920" y="2243160"/>
            <a:ext cx="4321080" cy="3240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0:14:51Z</dcterms:created>
  <dc:creator>Иванченко Оксана Михайловна</dc:creator>
  <dc:description/>
  <dc:language>en-US</dc:language>
  <cp:lastModifiedBy>Ольга</cp:lastModifiedBy>
  <dcterms:modified xsi:type="dcterms:W3CDTF">2017-02-12T10:09:11Z</dcterms:modified>
  <cp:revision>76</cp:revision>
  <dc:subject>История православной культуры</dc:subject>
  <dc:title>Храмы XVIII века в Смоленске</dc:title>
</cp:coreProperties>
</file>