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C16D-D83D-4BDF-ADB0-CADFE4E7A4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2C5F-AC40-4C1D-A43A-89B9D6099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2AD-8326-4E95-A2B5-68FC43D9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A99-21E7-46B0-88A4-3D285909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70D05-9B85-4DB3-A205-3FB0E376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473EE-4D31-40C5-AC0F-24327545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587BD-DDEE-43EF-B365-F839C548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AF320-E5C1-4CC9-8632-F0D587B8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C312C-FAC3-40C2-A663-34EF0DFD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44EE5-AD22-4C29-9888-BB242AAB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3A6CA-7A7B-4594-A79C-14D68EC7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2E5AD-F0BD-4FC6-9D6E-AD872BFA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B35D1-F081-4E1C-9493-D46A305C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010-F33F-4693-9DDD-9FBEC410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6A9-37B9-47EA-BCAF-8031C500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1F10-2C89-423D-90A3-91D7BCA2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7206-823B-4B76-9734-83DCE833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0269-D8DF-4BAB-9FE3-3D742B1A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005C-74A4-4C4B-8FE3-F25CEC3F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5DCB-424C-450F-B60A-AB9E0D29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DA99-9DC5-45D6-A965-0650C82F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CD2F-6755-442E-BA1E-D6B0AEE3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3A1-CA81-4C3E-92E5-82EFD0D7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B6C4-9BC6-440E-96AF-6559F884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140D-861B-4967-BC78-44DCA387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D926-0D38-416B-A75D-58D01ACE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B44A-B7F1-4869-8543-07AAD3C6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0214-9770-47C0-B635-1A58EF1F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0980-9CDA-4D43-A276-6167700C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1A89D-171C-4223-9707-A7F59179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4080-4ABE-45E4-B692-5FD94EC6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2B385-EDFE-46FD-A3BB-D5E2EFBE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1A89D-4CA6-44C0-9C6A-AA06EA56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99C-CA46-4B66-ABE8-737A4418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7309-6522-45CC-A89B-B3455E04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EBD9-6115-4162-9E51-6CFEDC27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6FEB2-CA5A-4717-BA8C-9DE93EAE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B3B5-4A51-4C8C-B840-FE373147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E57E-25EF-4549-A5C1-05FBA61B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054D-2244-4FA1-BB5C-5C49BC82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7F258-5FAF-4A50-865C-237D862B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658B3-72BE-4194-A838-3639881D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D7EF1-6A1A-4777-9BE0-084D5C4E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897E5-2EDB-4E3C-AF19-B68A8B84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441-272D-4BFF-A667-06B2D2C0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4116-349E-4612-A7AB-B98FDFC4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3311F-A630-4190-BCDC-3F5B1946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08FB7-6EC6-4A23-9E66-4BC8A6D8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E4144-17B5-4924-A2AE-60689D94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D4889-C4FF-4626-85BF-54EA1F99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EDCB-F883-4CC4-A76B-D1762FEF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57C45-269D-411B-B235-51AC6064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3289B-5D79-4D1C-BE80-2A2BE2FE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81729-BC4B-4C22-92AE-1BA4382B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5F148-988E-4335-8F4E-3A9AB0D1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7A0-EBAC-4BE7-B5F1-D7F39A56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C6818-C9F1-4E2A-94D4-18CBEE85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DA476-0843-45D1-AD01-B0735497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F11AA-3BC3-4C0A-8BF2-862DAC0B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2326F-22F1-4CDF-940F-5FF4D143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BAC5D-3D10-4C92-9002-4EA12E8C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9E1CA-DAEB-4A28-A654-7C455802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9224F-47CA-4651-A00B-54D3D9B9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F0DB4-9A46-4E0E-815C-DE872D31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06E1A-B39F-41CC-A57D-429C92F8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9273D-6FE5-488E-9F2D-DB20C005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668-4774-45A2-B631-7765B8E9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F02D0-6CA4-41B3-A35F-7EBB33E3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567C4-32F2-42B6-A868-5AE95990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FE6D9-95D2-4286-8D65-5CC09B8E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091C6-BD25-4F44-A408-23A0ECD4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1A0FC-E545-48FD-8AFE-FE00675D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2D73D-8146-43B9-ABDD-4EF1B7A0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49BB1-3EBB-499E-A820-2D8ED6E3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C033C-0557-45EA-AC19-225476D1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CB40C-855D-4E3B-B56E-6C9646C4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4667D-F1F7-4067-9A54-B848D0AC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8B4-93E8-4FDC-A359-F15C2A43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31C05-4F0E-4E5B-A1B1-5F6BD1B3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29086-4128-49FC-ABA8-A085E141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68FBA-9B6A-4D51-A41C-DDF4DB8C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FE1E3-E16B-4CBA-BBEF-91C1E2C3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6FC50-BB8C-4FE3-9150-53BC20F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3F583-21BC-4919-831C-305AF3A4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ECD82-2578-4CC4-B53C-D9F10DFC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ED16D-B939-4F13-8BD7-A765CDBA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4E7BD-05E8-4D48-A0B9-D4B346CA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D2108-A870-48C6-B752-0C146E4C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964-1E5E-46E4-A880-540F95B1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11E7E-8038-4C3F-B2FB-724E3124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9581A-CE14-4080-80C3-F7E4A957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E8AC4-F9E6-4537-B57E-0D621063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5EBF4-271D-42FA-8043-19CEFE02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7547B-1763-4188-ABC4-80CB0B80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051EF-37B6-44AC-9CFD-42E2D33D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406CF-B6A6-4EA4-B83F-BC0BA50E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D7309-15DC-4894-9F68-6880D9F9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D7227-CA1D-4859-9979-F51DB843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08610-CE27-4D91-9D7F-802CD230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F6A-E67A-465E-B8ED-DCF7D767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9F7C6-4CAF-463E-A318-26C5E3A1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05867-B983-48E6-8A02-1FD76D05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0CBC8-ACA6-45A9-ABED-7430AAD2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2E14A-F81C-45A6-A18E-3C82AC1C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3591B-BF37-4B57-899A-3ED26BA7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B15A2-3F68-4D2B-A1C0-7421374F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514C8-154C-4C35-B152-C79AE99E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C843C-D05A-41E1-99C0-EA325A7E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25C3E-E484-4F4E-9133-032E8FA7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47EFF-757A-41F0-8A14-595EC34D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F86D-9449-4CAB-A864-62A864BAC8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388B-4903-491B-8490-BBCB11DD03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AEB5-7741-4CFC-8D54-19F718103FD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5421-5AA0-42BA-BA50-C1E4A0FD56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8C1F-AF4A-4CB5-B16F-0CC9BAE867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1B27-1480-4E54-8E3F-F931214482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5E52-B383-4286-BFB5-890C377567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768A-073E-4D60-93DF-FE50DFB1B85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773C-3300-4F27-99A5-632CB1808F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706320" y="633240"/>
            <a:ext cx="7785360" cy="38721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786120" y="4429080"/>
            <a:ext cx="5143680" cy="120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челакова Светлана Антоновна, учитель русского языка и литературы МБОУ «Красноключинская ООШ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3" descr=""/>
          <p:cNvPicPr/>
          <p:nvPr/>
        </p:nvPicPr>
        <p:blipFill>
          <a:blip r:embed="rId1"/>
          <a:stretch/>
        </p:blipFill>
        <p:spPr>
          <a:xfrm>
            <a:off x="517680" y="549360"/>
            <a:ext cx="7980120" cy="11397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713880" y="1785960"/>
            <a:ext cx="7858440" cy="45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•</a:t>
            </a:r>
            <a:r>
              <a:rPr b="0" lang="ru-RU" sz="16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арные и групповые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Древо решений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Мозговой штурм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Общая дискуссия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ект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ейс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кци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минар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Общий галдёж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есные ассоциаци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С-формула (П-позиция («Я считаю, что…»); О – объяснение (или обоснование) («Потому что…»); П- пример («Я могу доказать это на примере …»); С- следствие (или суждение) («Исходя из этого, я делаю вывод о том, что…») – применяется при обсуждении сложных вопросов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378000" y="493560"/>
            <a:ext cx="8315280" cy="1798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3520" indent="-263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3520" indent="-263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2357280"/>
          <a:ext cx="8001000" cy="3929400"/>
        </p:xfrm>
        <a:graphic>
          <a:graphicData uri="http://schemas.openxmlformats.org/drawingml/2006/table">
            <a:tbl>
              <a:tblPr/>
              <a:tblGrid>
                <a:gridCol w="6765840"/>
                <a:gridCol w="123516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верж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н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14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 окончание существитель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 его р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вь существительное в И.п. ед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оду и окончанию определи скло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Учительство — не утраченное искусство, но уважение к учительству — утраченная традиция»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ак Барзэн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мериканский историк культуры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Я благодарен своей профессии,  потому ..., желаю будущему поколению ....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Рисунок 3" descr="http://www.krugosvet.ru/images/1008542_8542_201.jpg"/>
          <p:cNvPicPr/>
          <p:nvPr/>
        </p:nvPicPr>
        <p:blipFill>
          <a:blip r:embed="rId1"/>
          <a:stretch/>
        </p:blipFill>
        <p:spPr>
          <a:xfrm>
            <a:off x="1000080" y="500040"/>
            <a:ext cx="27860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20430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pic>
        <p:nvPicPr>
          <p:cNvPr id="435" name="Содержимое 5" descr="http://macrolib.ru/wp-content/uploads/author/lucij-annej-seneka.jpg"/>
          <p:cNvPicPr/>
          <p:nvPr/>
        </p:nvPicPr>
        <p:blipFill>
          <a:blip r:embed="rId1"/>
          <a:stretch/>
        </p:blipFill>
        <p:spPr>
          <a:xfrm>
            <a:off x="357120" y="1000080"/>
            <a:ext cx="3571920" cy="42148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644720" y="857160"/>
            <a:ext cx="40417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Кого боги хотят покарать, того они делают педагогом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ене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80520" y="17146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3" descr="https://im0-tub-ru.yandex.net/i?id=e209de174b72aa818c778768dac7b9b6&amp;n=33&amp;h=215&amp;w=215"/>
          <p:cNvPicPr/>
          <p:nvPr/>
        </p:nvPicPr>
        <p:blipFill>
          <a:blip r:embed="rId1"/>
          <a:stretch/>
        </p:blipFill>
        <p:spPr>
          <a:xfrm>
            <a:off x="500040" y="1000080"/>
            <a:ext cx="3643200" cy="3714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То, что я слышу, я забываю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, что я вижу, я помню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, что я делаю, я понимаю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нфуци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Прямоугольник 4"/>
          <p:cNvSpPr/>
          <p:nvPr/>
        </p:nvSpPr>
        <p:spPr>
          <a:xfrm>
            <a:off x="285840" y="4929120"/>
            <a:ext cx="38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ий (ок. 551 — 479 до н. э.)- великий древнекитайский мыслитель, философ, основатель конфуциан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teract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«находиться во взаимодействии» или находится в режиме беседы, диалога с кем-либо (человеком) или с чем-либо(например, компьютером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активное обучение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это, прежде всего, диалоговое обучение, в ходе которого осуществляется взаимодействие преподавателя и обучающего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55600" y="781200"/>
            <a:ext cx="8437680" cy="17967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здание комфортных условий обучения, при которых ученик чувствует свою успешность, свое интеллектуальное совершенство, что делает продуктивным сам образовательный процесс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517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буждают у обучающихся интерес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ощряют активное участие каждого в учебном процессе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щаются к чувствам каждого обучающегося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особствуют эффективному усвоению учебного материала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казывают многоплановое воздействие на обучающихся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уществляют обратную связь (ответная реакция аудитории)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уют у обучающихся мнения и отношения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уют жизненные навыки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особствуют изменению поведения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5177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авило первое.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работу должны быть вовлечены в той или иной мере все участники. С этой целью полезно использовать технологии, позволяющие включить всех участников в процесс обсуждени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авило второе.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до позаботиться о психологической подготовке участников. Речь идет о том, что не все, пришедшие на занятие, психологически готовы к непосредственному включению в те или иные формы работы. В этой связи полезны разминки, постоянное поощрение за активное участие в работе, предоставление возможности для самореализац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5177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авило третье.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учающихся в технологии интерактива не должно быть много. Количество участников и качество обучения могут оказаться в прямой зависимости. Оптимальное количество участников - 25 человек. Только при этом условии возможна продуктивная работа в малых группах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авило четвертое.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готовка помещения для работы. Помещение должно быть подготовлено с таким расчетом, чтобы участникам было легко пересаживаться для работы в больших и малых группах. Для обучаемых должен быть создан физический комфорт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5177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авило пятое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Четкое закрепление (фиксация) процедур и регламента. Об этом надо договориться в самом начале и постараться не нарушать его. Например: все участники будут проявлять терпимость к любой точке зрения, уважать право каждого на свободу слова, уважать его достоинств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Правило шестое.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тнеситесь со вниманием к делению участников занятия на группы. Первоначально его лучше построить на основе добровольности. Затем уместно воспользоваться принципом случайного выбор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98440" y="341280"/>
            <a:ext cx="8699400" cy="13114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доверительные, по крайней мере, позитивные отношения между обучающим и обучающимися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демократический стиль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в процессе общения обучающего и обучающихся между собой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а личный ("педагогический") опыт обучающихся, включение в учебный процесс ярких примеров, фактов, образов;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образие форм и методов представления информации, форм деятельности обучающихся, их мобильность;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внешней и внутренней мотивации деятельности, а также взаимомотивации обучающихся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7T08:19:06Z</dcterms:created>
  <dc:creator>ученик</dc:creator>
  <dc:description/>
  <dc:language>en-US</dc:language>
  <cp:lastModifiedBy>ученик</cp:lastModifiedBy>
  <dcterms:modified xsi:type="dcterms:W3CDTF">2017-02-12T08:14:51Z</dcterms:modified>
  <cp:revision>26</cp:revision>
  <dc:subject/>
  <dc:title> «Интерактивные  формы и методы обучения на уроках русского языка» </dc:title>
</cp:coreProperties>
</file>