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D8FE-BA06-4EB0-9C44-91DF0CC763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8D75-4051-4EFC-92C0-069F2616E3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5C5-75F0-40CC-AB7F-8C6F340B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355-39D8-4379-B31B-5CAA2B02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02076-C7FD-40B3-AFD8-CC4D3E48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04003-15BF-42CE-B2FD-96EFC28E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82CD4-22CB-477B-8AC8-B8B276BD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5ABF4-D505-45E8-8AD4-15D49C56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8FE42-FA0F-4EDF-8DD0-C90F9938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B494E-C144-45AA-A3B5-EDEE64FD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FF3CD-3300-4B01-ACDE-E1BE5E0A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73FBE-2211-4FF8-B589-FD35DFFF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E7C23-08EC-4041-8E04-830BC953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89D-F6A6-44FD-84BF-D1B01C60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811-7B8B-4AAC-9A11-3D23D4CE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45D0-55F4-4E85-922F-81AE0A8E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874D-6D78-4BF1-82C2-BF37F999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356F-E5B5-4AAF-9412-FD99725E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A4E1-F3C9-4AEE-B0EF-E0796881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14E3-C8B6-4A2C-A350-AF635C7E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2D51-C13E-4FB6-BB6A-CFD09765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1155-1CC8-4B4A-9181-8704FC93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C6A-47E7-4BE0-9F96-AC63A9EA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7FF6-8894-47AB-A89E-551F610A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7F44-4A8D-41A6-92B4-3FCE6613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A5D5-80C2-4637-A162-906D699A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86E0-2779-4F7B-BAE4-D74C4B62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587F-172C-49F9-95DA-A4DB9729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782F-D066-4961-AF86-852B27B1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A6F0-2B60-40E8-92CA-9CBF90D7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F056E-7000-44BB-869D-B092A2D1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2019-F91E-4F32-B0D2-BC4CDD80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93ED6-D682-4A39-B91E-10F13522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FB9-C4F8-4353-BFE8-2CA5EEDB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0CA0E-58A6-4B73-B641-35616C59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2710-1266-4A91-B893-5622C50D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64A2-DDE3-42B1-B5B2-34D4212B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D88A6-F2C6-4A7C-90EB-8BAF6803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5ABFF-69E0-409A-ABA1-D81D43ED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0A03A-6A1E-4342-8E5B-D7F73945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28AA3-9A41-429A-AD11-0CFC3008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DB6CD-21C1-4D42-897B-EDE353F8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2442B-F1E7-4A20-90E5-2C3119C2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678D5-3C74-42C9-8391-AF6EA8FB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A93-BD5F-4793-944B-88A3ABB3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88604-B93C-40DB-A90A-52BAE605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7D34A-CCB0-4ED5-9C36-F473D1AF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5E0BC-8282-4B44-9A2F-A4A6C821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4C5E-D6E6-4356-A325-010EB862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EB5BF-052D-4CEE-B7B2-B10A525B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C3073-5D92-4730-9D67-ACF1B47E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3F7E2-3C8F-424C-8382-1F3FB505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9088D-C7C6-4E9F-9427-E43B306A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D1D00-AF52-43E3-B60A-A9500131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72C38-EBD4-49F2-AD31-5345EF9D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97D-2BD8-42B8-9E8A-36F5B43B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E3F8A-D8AE-4791-B2F8-1497DD81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DC195-6AC4-4042-8EAE-7EBD051D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0C9B-5036-4D56-981C-333F9F5F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1F125-31CD-46D0-B987-82C65800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53271-1D6D-430F-B623-6FC4DE80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BD876-E73E-4A16-BB50-BC85C431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0B364-64DE-4307-A2E2-5B388816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93AC4-9E57-48FF-8827-F443345B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846C0-4612-4DEF-B6F8-19C3DAA0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0B5B3-C834-4C18-878B-A77CC276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38A-221E-4FC0-8CA5-5C82AF1A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02BAF-E144-4F3B-A753-2385B0F4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B6557-BCF7-4C8E-A946-2A02BB39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1E627-8920-40C9-9A12-CA5E05A6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F0488-4BA2-4F93-AEAE-FF43E1AC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4BE84-4900-4DAD-A129-26C74F8B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0C739-503B-42F0-A4C9-1CE18EAF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D3C50-D3EB-400A-9F58-BB4DC9FC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A96B3-16B3-40A1-A8F4-96FE5BA8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AB915-D648-4349-820C-40C58B89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A922F-CC13-4430-A14B-5B2E6AD3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EB09-E8AF-4FD0-818B-AAA008B4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282C9-4B5A-4604-AF74-752D952E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90F9A-B43F-4A82-8D2E-D40CB8AB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CA8E9-BBFA-4116-B268-E2B849CA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72458-4827-40F6-92A0-C21A27E0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03C73-2B98-4BF7-8825-4C2EDBAA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80FD3-8605-4526-B5CA-07F6C753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A7C36-CFF6-4150-8E73-DAB895FA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1DC4F-55C0-45FF-851A-602192DB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F182C-E412-4288-A4E2-7D34B43B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CE337-56BF-4FFF-B224-0AA32737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7D2-58A1-476C-87C0-8EDE6011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29C98-51AF-4368-910C-9A435557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599DC-684A-4F5A-AC4E-D5A0FA3E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C4920-0A23-43CB-A886-591DD4E7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31F54-A838-4DE5-83D3-099DEDBE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51679-1EC9-4189-BD6B-FFE95199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2C188-B8A8-48A9-8A05-106F4626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926AA-2BC1-4576-A712-3692A00B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B91C5-E639-4482-BC80-5073611D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AE97B-7100-4EF2-AC0A-222B8091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4E078-3427-4BA6-A476-DA9C495E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60C-510F-48B1-8A42-580EDCCD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90456-E49E-4880-9549-23B1178A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3C147-31CA-4D4B-87DE-971890A7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F703F-C8A9-4CBD-8273-12A1896E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9A7A1-B27C-4141-8A38-A133D20E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613F5-690A-48D6-802D-CB699FF9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C5E37-F96A-4C85-B8F9-E3C7FA1F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BA3B3-8915-47A0-BB98-DA0A39D0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413C4-556B-4673-9818-EA48161A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D85BB-39A0-4D0C-98D1-4B24D116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4147D-5E17-4148-AB92-3071AA03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2D96-841A-49DE-A16E-D2F5F63474B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2188-5015-4B86-B843-828B363F7D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C7D5-FF51-498C-A2D8-B229C20B5B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2578-B2A8-4FE3-B9DF-409F06A11C7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C9EF-DF93-4635-B439-52812788C6C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1614-36CA-4DE0-AE82-2876955793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1BE2-616D-4BCB-9F9D-710AEE8FCD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D205-5A67-402C-9759-3E812B65584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7ECC-CF4D-460E-B20E-282010DDDD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706320" y="633240"/>
            <a:ext cx="7785360" cy="38721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786120" y="4429080"/>
            <a:ext cx="5143680" cy="120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челакова Светлана Антоновна, учитель русского языка и литературы МБОУ «Красноключинская ООШ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3" descr=""/>
          <p:cNvPicPr/>
          <p:nvPr/>
        </p:nvPicPr>
        <p:blipFill>
          <a:blip r:embed="rId1"/>
          <a:stretch/>
        </p:blipFill>
        <p:spPr>
          <a:xfrm>
            <a:off x="517680" y="549360"/>
            <a:ext cx="7980120" cy="11397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713880" y="1785960"/>
            <a:ext cx="7858440" cy="45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•</a:t>
            </a:r>
            <a:r>
              <a:rPr b="0" lang="ru-RU" sz="16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а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арные и групповые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Древо решений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Мозговой штурм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Общая дискуссия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екты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ейсы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кци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еминары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Общий галдёж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есные ассоциаци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С-формула (П-позиция («Я считаю, что…»); О – объяснение (или обоснование) («Потому что…»); П- пример («Я могу доказать это на примере …»); С- следствие (или суждение) («Исходя из этого, я делаю вывод о том, что…») – применяется при обсуждении сложных вопросов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4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378000" y="493560"/>
            <a:ext cx="8315280" cy="1798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3520" indent="-263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3520" indent="-263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2357280"/>
          <a:ext cx="8001000" cy="3929400"/>
        </p:xfrm>
        <a:graphic>
          <a:graphicData uri="http://schemas.openxmlformats.org/drawingml/2006/table">
            <a:tbl>
              <a:tblPr/>
              <a:tblGrid>
                <a:gridCol w="6765840"/>
                <a:gridCol w="123516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верж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14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 окончание существитель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 его р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вь существительное в И.п. ед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оду и окончанию определи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Учительство — не утраченное искусство, но уважение к учительству — утраченная традиция»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ак Барзэн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мериканский историк культуры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Я благодарен своей профессии,  потому ..., желаю будущему поколению ....»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Рисунок 3" descr="http://www.krugosvet.ru/images/1008542_8542_201.jpg"/>
          <p:cNvPicPr/>
          <p:nvPr/>
        </p:nvPicPr>
        <p:blipFill>
          <a:blip r:embed="rId1"/>
          <a:stretch/>
        </p:blipFill>
        <p:spPr>
          <a:xfrm>
            <a:off x="1000080" y="500040"/>
            <a:ext cx="27860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20430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pic>
        <p:nvPicPr>
          <p:cNvPr id="435" name="Содержимое 5" descr="http://macrolib.ru/wp-content/uploads/author/lucij-annej-seneka.jpg"/>
          <p:cNvPicPr/>
          <p:nvPr/>
        </p:nvPicPr>
        <p:blipFill>
          <a:blip r:embed="rId1"/>
          <a:stretch/>
        </p:blipFill>
        <p:spPr>
          <a:xfrm>
            <a:off x="357120" y="1000080"/>
            <a:ext cx="3571920" cy="42148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644720" y="857160"/>
            <a:ext cx="40417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Кого боги хотят покарать, того они делают педагогом»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ене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80520" y="17146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Содержимое 3" descr="https://im0-tub-ru.yandex.net/i?id=e209de174b72aa818c778768dac7b9b6&amp;n=33&amp;h=215&amp;w=215"/>
          <p:cNvPicPr/>
          <p:nvPr/>
        </p:nvPicPr>
        <p:blipFill>
          <a:blip r:embed="rId1"/>
          <a:stretch/>
        </p:blipFill>
        <p:spPr>
          <a:xfrm>
            <a:off x="500040" y="1000080"/>
            <a:ext cx="3643200" cy="3714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64832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То, что я слышу, я забываю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о, что я вижу, я помню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о, что я делаю, я понимаю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нфуци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Прямоугольник 4"/>
          <p:cNvSpPr/>
          <p:nvPr/>
        </p:nvSpPr>
        <p:spPr>
          <a:xfrm>
            <a:off x="285840" y="4929120"/>
            <a:ext cx="38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ий (ок. 551 — 479 до н. э.)- великий древнекитайский мыслитель, философ, основатель конфуциан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teract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«находиться во взаимодействии» или находится в режиме беседы, диалога с кем-либо (человеком) или с чем-либо(например, компьютером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активное обучение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это, прежде всего, диалоговое обучение, в ходе которого осуществляется взаимодействие преподавателя и обучающего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55600" y="781200"/>
            <a:ext cx="8437680" cy="17967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здание комфортных условий обучения, при которых ученик чувствует свою успешность, свое интеллектуальное совершенство, что делает продуктивным сам образовательный процесс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5177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буждают у обучающихся интерес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ощряют активное участие каждого в учебном процессе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ращаются к чувствам каждого обучающегося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особствуют эффективному усвоению учебного материала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казывают многоплановое воздействие на обучающихся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уществляют обратную связь (ответная реакция аудитории)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уют у обучающихся мнения и отношения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уют жизненные навыки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особствуют изменению поведения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5177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Правило первое.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работу должны быть вовлечены в той или иной мере все участники. С этой целью полезно использовать технологии, позволяющие включить всех участников в процесс обсуждени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Правило второе.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до позаботиться о психологической подготовке участников. Речь идет о том, что не все, пришедшие на занятие, психологически готовы к непосредственному включению в те или иные формы работы. В этой связи полезны разминки, постоянное поощрение за активное участие в работе, предоставление возможности для самореализаци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5177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Правило третье.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учающихся в технологии интерактива не должно быть много. Количество участников и качество обучения могут оказаться в прямой зависимости. Оптимальное количество участников - 25 человек. Только при этом условии возможна продуктивная работа в малых группах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Правило четвертое.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готовка помещения для работы. Помещение должно быть подготовлено с таким расчетом, чтобы участникам было легко пересаживаться для работы в больших и малых группах. Для обучаемых должен быть создан физический комфорт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5177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Правило пятое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Четкое закрепление (фиксация) процедур и регламента. Об этом надо договориться в самом начале и постараться не нарушать его. Например: все участники будут проявлять терпимость к любой точке зрения, уважать право каждого на свободу слова, уважать его достоинств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Правило шестое.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тнеситесь со вниманием к делению участников занятия на группы. Первоначально его лучше построить на основе добровольности. Затем уместно воспользоваться принципом случайного выбор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98440" y="341280"/>
            <a:ext cx="8699400" cy="13114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доверительные, по крайней мере, позитивные отношения между обучающим и обучающимися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демократический стиль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в процессе общения обучающего и обучающихся между собой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 на личный ("педагогический") опыт обучающихся, включение в учебный процесс ярких примеров, фактов, образов;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образие форм и методов представления информации, форм деятельности обучающихся, их мобильность;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внешней и внутренней мотивации деятельности, а также взаимомотивации обучающихся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7T08:19:06Z</dcterms:created>
  <dc:creator>ученик</dc:creator>
  <dc:description/>
  <dc:language>en-US</dc:language>
  <cp:lastModifiedBy>ученик</cp:lastModifiedBy>
  <dcterms:modified xsi:type="dcterms:W3CDTF">2017-02-12T08:14:51Z</dcterms:modified>
  <cp:revision>26</cp:revision>
  <dc:subject/>
  <dc:title> «Интерактивные  формы и методы обучения на уроках русского языка» </dc:title>
</cp:coreProperties>
</file>