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E37-F580-42F9-95B8-601F9DF5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EF6-F7A2-40BC-9E95-A8B663F7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DC1-5FDD-4D71-8945-47C406F0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1C2-97F6-49B5-A72F-9C81326A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D57B-CCD0-42E0-B285-14E7DD67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AD91-2BD4-4BF6-AE31-25670A47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B029-001A-44AA-850D-7300123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48C7-39D4-49A5-9504-C35344D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C877-49F9-4BD5-B31A-EE051344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0BA6-F74A-43D1-AD40-AFB6F712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BC20-CD3F-46D1-8037-597D089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28B-B4E1-46D8-BD1D-A137B24A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49C3-90A2-4235-99F3-C89F2BB2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870E-E42A-41E7-99D2-8C8658F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70F7-A02C-46D3-91DF-785B0BFA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ECD7-695E-4B36-B4EE-A061CB2A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1CDF-8744-44D0-9049-F8E4E60E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848-5271-4CBD-8B96-F0FAB2D7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C76-D177-4A37-A51D-45720DA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A89-85DC-49F1-B987-415D2FD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CFD-7D1F-46DA-A4BD-4E5AEC7D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A68-A7FF-4182-9AD1-FCF4A44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167-826C-4C7D-BDAB-BAF4FFE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E55-4DB0-4937-A318-EDDD622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3A90-3E3B-4556-8659-CDA0EC26C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D2A9-D094-467F-8043-D48447C21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«Как смотреть с детьми картины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5520" y="5334120"/>
            <a:ext cx="3048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Воспитатель подготовительной группы ра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Пульянова Е.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48387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Что такое «насмотренность»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собность детей отражать в рисунке видимый ими мир находиться в прямой зависимости от развитости их представлений об окружающей действительности. Поскольку каждый художник и маленький ребенок обладают «своим видением», своим опытом «насмотренности», то и педагогическая организация процесса восприятия должна учитывать эту особ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еоряд в ситуации организованной деятельности по ИЗО, лепке, аппликации, конструированию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утешествие в природу», в мир образов родной или иной художественной культуры поможет мультимедийная презентация, видеофильм, состоящие из выразительных кадров. Красивые цветные изображения, сменяются одно за другим на экране в затемненной комнате, не оставят детей равнодушными и будут способствовать активному обсуждению проблемы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т возрастной специфики и особенностей процесса восприятия у дошкольник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Эстетика детского восприятия позволяет детям всех возрастных групп предъявлять выразительные художественные фотографии людей, животных, архитектуры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ачиная со старшего дошкольного возраста, следует показывать  все способы изображения, созданные с помощью различных техник и различных графических и живописных матери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каз скульптуры и архитектуры во всех возрастных группах лучше осуществлять в «реальном объе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приемы, помогающие ребенку «увидеть» картину или иллюстр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ошкольного возраста наиболее благоприятны сказочно-игровая форма общения и диало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ложные самостоятельны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проблемного метода изложения (недосказанность, поиск, исследов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ние необычных костюмов, кукол,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вые ситуации и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конкурсов и сорев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ный опыт эстетического переживания и эстетического отношения – опыт «насмотренности» - окажет благотворное влияние на становление и развитие в ребенке авторской позиции творца, зрителя, ценителя и критика искусства, художника, скульп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724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1:06:48Z</dcterms:created>
  <dc:creator>lenovo</dc:creator>
  <dc:description/>
  <dc:language>en-US</dc:language>
  <cp:lastModifiedBy>lenovo</cp:lastModifiedBy>
  <dcterms:modified xsi:type="dcterms:W3CDTF">2017-02-12T14:31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