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068-1301-4335-9CB2-109A5AFA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F09-8A01-4F19-97DE-8C88E4B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CC6-04F2-4AF8-B377-841C97BE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D57-2AAB-48AB-9122-9C973C5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E75B-7D71-494C-9799-040FF5D2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102-217E-4740-B64A-9D888C60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348-4183-4988-8CA5-3E9F9AA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174-1B23-41FC-82E5-18D015D0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6C4-9EE5-421D-81B1-1B1BBB7A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ACD3-939E-42A7-9244-0D263F6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F65A-737A-42E7-BA58-ADA5DA6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0E1-9761-481A-AC8A-E23081A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AEE9-BDA5-4513-B41A-7C3450E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6625-79C6-46C6-B314-8EAF119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B6F6-B907-4BCB-BE28-9CF45EE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40FB-9B59-42E0-8387-90801477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4D54-92B7-4D19-BF22-7DDAC627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C71-5D7E-44BD-9322-32E2DFF5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2B8-DED2-4D45-9769-E578829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FA9-1195-414B-A4DE-B840948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DBF-AA9E-49E3-BF43-33DB0F9F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854-2D5A-4A69-9E84-25C0300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A60-D474-4DB4-BA54-1E8F5E1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39C-EB20-43EA-B8A0-2B5A71B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297-985F-45CA-AA4B-8618203A8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1B7-C39D-40C6-A2C9-E37D7A3BF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«Как смотреть с детьми картины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5520" y="5334120"/>
            <a:ext cx="3048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Воспитатель подготовительной группы ра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Пульянова Е.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48387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Что такое «насмотренность»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собность детей отражать в рисунке видимый ими мир находиться в прямой зависимости от развитости их представлений об окружающей действительности. Поскольку каждый художник и маленький ребенок обладают «своим видением», своим опытом «насмотренности», то и педагогическая организация процесса восприятия должна учитывать эту особ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еоряд в ситуации организованной деятельности по ИЗО, лепке, аппликации, конструированию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утешествие в природу», в мир образов родной или иной художественной культуры поможет мультимедийная презентация, видеофильм, состоящие из выразительных кадров. Красивые цветные изображения, сменяются одно за другим на экране в затемненной комнате, не оставят детей равнодушными и будут способствовать активному обсуждению проблемы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т возрастной специфики и особенностей процесса восприятия у дошкольник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Эстетика детского восприятия позволяет детям всех возрастных групп предъявлять выразительные художественные фотографии людей, животных, архитектуры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ачиная со старшего дошкольного возраста, следует показывать  все способы изображения, созданные с помощью различных техник и различных графических и живописных матери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каз скульптуры и архитектуры во всех возрастных группах лучше осуществлять в «реальном объе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приемы, помогающие ребенку «увидеть» картину или иллюстр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ошкольного возраста наиболее благоприятны сказочно-игровая форма общения и диало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ложные самостоятельны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проблемного метода изложения (недосказанность, поиск, исследов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ние необычных костюмов, кукол,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вые ситуации и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конкурсов и соревн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ретенный опыт эстетического переживания и эстетического отношения – опыт «насмотренности» - окажет благотворное влияние на становление и развитие в ребенке авторской позиции творца, зрителя, ценителя и критика искусства, художника, скульп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724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1:06:48Z</dcterms:created>
  <dc:creator>lenovo</dc:creator>
  <dc:description/>
  <dc:language>en-US</dc:language>
  <cp:lastModifiedBy>lenovo</cp:lastModifiedBy>
  <dcterms:modified xsi:type="dcterms:W3CDTF">2017-02-12T14:31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