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19.png" ContentType="image/png"/>
  <Override PartName="/ppt/media/image24.jpeg" ContentType="image/jpeg"/>
  <Override PartName="/ppt/media/image1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108-1DF7-4E93-9EC7-CA7299AF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077-CD06-4A1E-8F8C-601C0303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A80-3CF3-4809-9C4A-C644A4A6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3B0-F62B-4A3F-875F-B57DB970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1986-2106-438E-A7E4-870B34E7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3E5C-C925-4274-8031-075F2C3A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5BE0-EE6C-43B8-AC37-9FFD53FC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576B-3293-4FF7-8573-11179EEB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5664-74FF-4CA0-BE5B-A1C80182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72B7-B580-4199-AD52-4228A887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B184-2D4A-474F-B6B1-847D099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82D-73A4-4328-8007-60B89772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F91-5BCF-4BB8-B931-E493937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C7A9-E29B-45B6-8DE6-FB68EF67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3AC8-ED6F-447D-8DA1-31448917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58CF-EE4A-4B8C-9AC7-A581C0B6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2423-138B-4795-9CFE-72E68840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66B0-7803-497D-9826-DC108F33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2872-C5D4-4FD5-80EE-31A90C0A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8B23-9EC6-4E90-B30D-527D224A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B3F2-B609-45B4-A1CE-762CF458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5B34-DE3C-4591-A5F1-BEC7BFA4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75F-F6E6-4206-A2C2-0951001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4736-B32F-4FAB-9CC7-9D698492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04F9-37DA-4F9B-AEB2-28BCC788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0A00-6BB3-449F-A6D8-24B112A1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F1EF-F29E-4675-9861-723CA71B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4876-47E2-498D-9E53-39C34911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2E48-4BED-4513-BDF3-BB63B29A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6F8A-3E41-4B7F-8140-74FFD821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B86A-1246-44DB-89A5-A41F8D4E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C7251-4E05-4E98-BC52-2DDF1BAF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3E90A-F00B-4279-8021-ACC3AF8B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80D-E443-4CB8-941D-BE538607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E23C6-506F-4FAF-B7F0-49CDAFF4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81C2-CCE9-465E-8584-43ACD653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47EDF-B9D8-4A47-9B30-E73423B9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2355-7CC0-4BE6-BAD6-AFDEF2B5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E27C-D454-4903-A826-BADDDA6D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4AD2-F090-4A85-8241-94AEE90A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A2839-40B1-4606-894C-BDE66C4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608F7-B227-4F78-970E-03F6C7E6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ACD2-7504-45CD-BF69-6C1617BA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322-EECA-41AA-AF34-1EBB11F0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6D1-4A15-410A-81F1-24E973CD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2E5-642B-411F-9FC2-26791682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CD8-CB11-4EDA-A509-BDDC51C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771-701C-4733-B43F-24EAD6F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63C4-7FC3-4147-AE75-5B79FAC5363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F51D-19BF-45A6-8DAD-67DEB8C2E29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971C-4C86-4543-A7DD-7BFDC7A5E1E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0349-1DA4-4B75-A676-893ADFADB3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214200" y="1928880"/>
            <a:ext cx="842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dbf5f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Народный праздник</a:t>
            </a:r>
            <a:endParaRPr b="1" lang="en-US" sz="3200" spc="1" strike="noStrike">
              <a:ln w="9360">
                <a:solidFill>
                  <a:srgbClr val="dbf5f9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dbf5f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9360">
                  <a:solidFill>
                    <a:srgbClr val="dbf5f9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«Масленица»</a:t>
            </a:r>
            <a:endParaRPr b="1" lang="en-US" sz="3200" spc="1" strike="noStrike">
              <a:ln w="9360">
                <a:solidFill>
                  <a:srgbClr val="dbf5f9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Рисунок 3" descr="C:\Users\321\Pictures\img62.jpg"/>
          <p:cNvPicPr/>
          <p:nvPr/>
        </p:nvPicPr>
        <p:blipFill>
          <a:blip r:embed="rId1"/>
          <a:stretch/>
        </p:blipFill>
        <p:spPr>
          <a:xfrm>
            <a:off x="2571840" y="4143240"/>
            <a:ext cx="378612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торник — Заигрыш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286000" y="2890800"/>
            <a:ext cx="457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571680" y="215100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На АПушке :: Просмотр темы - ШИРОКАЯ МАСЛЕНИЦА!"/>
          <p:cNvPicPr/>
          <p:nvPr/>
        </p:nvPicPr>
        <p:blipFill>
          <a:blip r:embed="rId1"/>
          <a:stretch/>
        </p:blipFill>
        <p:spPr>
          <a:xfrm>
            <a:off x="2411280" y="907920"/>
            <a:ext cx="3643560" cy="364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5" name="Rectangle 6"/>
          <p:cNvSpPr/>
          <p:nvPr/>
        </p:nvSpPr>
        <p:spPr>
          <a:xfrm>
            <a:off x="357120" y="4581000"/>
            <a:ext cx="878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 взрослые ходили от дома к дому, поздравляли с масленицей и выпрашивали блины. Все ходили друг к другу в гости, пели песни, шут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реда - Лакомка</a:t>
            </a: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714240" y="2151000"/>
            <a:ext cx="807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Масленица по-казацки в Мамаевой слободе WoMo"/>
          <p:cNvPicPr/>
          <p:nvPr/>
        </p:nvPicPr>
        <p:blipFill>
          <a:blip r:embed="rId1"/>
          <a:stretch/>
        </p:blipFill>
        <p:spPr>
          <a:xfrm>
            <a:off x="2484360" y="1413000"/>
            <a:ext cx="4413240" cy="31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Прямоугольник 5"/>
          <p:cNvSpPr/>
          <p:nvPr/>
        </p:nvSpPr>
        <p:spPr>
          <a:xfrm>
            <a:off x="0" y="5288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день люди лакомились блинами и другими масленичными яствами. Блины пеклись с бесконечным разнообразием: пшеничные, ячневые, овсяные, гречневые, из пресного и кислого те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285840" y="35712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твертый день Масленицы - «широкий четверг» - «разгул, перел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6"/>
          <p:cNvSpPr/>
          <p:nvPr/>
        </p:nvSpPr>
        <p:spPr>
          <a:xfrm>
            <a:off x="285840" y="4929120"/>
            <a:ext cx="857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день было больше всего развлечений. Устраивали конские бега, кулачные бои, борьбу. Строили снежный городок и брали его с боем. Катались на конях по деревне. Съезжали с гор на санях, лыжах. Ряженые веселили народ. Угощали блинами. Родственники навещали друг друга семьями, ходили в гости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8" descr="C:\Users\321\Pictures\2272_47856.jpg"/>
          <p:cNvPicPr/>
          <p:nvPr/>
        </p:nvPicPr>
        <p:blipFill>
          <a:blip r:embed="rId1"/>
          <a:stretch/>
        </p:blipFill>
        <p:spPr>
          <a:xfrm>
            <a:off x="658800" y="1481040"/>
            <a:ext cx="2803680" cy="60357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9" descr="C:\Users\321\Desktop\еремеева кукла масленица\b486de5b.jpg"/>
          <p:cNvPicPr/>
          <p:nvPr/>
        </p:nvPicPr>
        <p:blipFill>
          <a:blip r:embed="rId2"/>
          <a:stretch/>
        </p:blipFill>
        <p:spPr>
          <a:xfrm>
            <a:off x="4788000" y="1484280"/>
            <a:ext cx="2428920" cy="290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15920" y="281160"/>
            <a:ext cx="862020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Домашние пельмешки - Социальная сеть online-clubs.com"/>
          <p:cNvPicPr/>
          <p:nvPr/>
        </p:nvPicPr>
        <p:blipFill>
          <a:blip r:embed="rId2"/>
          <a:stretch/>
        </p:blipFill>
        <p:spPr>
          <a:xfrm>
            <a:off x="971640" y="2205000"/>
            <a:ext cx="340668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7" name="Прямоугольник 4"/>
          <p:cNvSpPr/>
          <p:nvPr/>
        </p:nvSpPr>
        <p:spPr>
          <a:xfrm>
            <a:off x="357120" y="1285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ёща приглашала на блины зятя со всей семьёй. А молодёжь всю ночь веселилась: пели, пляс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3"/>
          <a:stretch/>
        </p:blipFill>
        <p:spPr>
          <a:xfrm>
            <a:off x="4788000" y="4467240"/>
            <a:ext cx="3857400" cy="23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420840" y="-603360"/>
            <a:ext cx="8272440" cy="27561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5"/>
          <p:cNvSpPr/>
          <p:nvPr/>
        </p:nvSpPr>
        <p:spPr>
          <a:xfrm>
            <a:off x="571680" y="285840"/>
            <a:ext cx="778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ббота – проводы масле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у Масленицу проводили за руки из одного конца деревни в другой. Шла большая толпа ряженых, все шутили, пели песни, пляс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C:\Users\321\Pictures\8546_900.jpg"/>
          <p:cNvPicPr/>
          <p:nvPr/>
        </p:nvPicPr>
        <p:blipFill>
          <a:blip r:embed="rId2"/>
          <a:stretch/>
        </p:blipFill>
        <p:spPr>
          <a:xfrm>
            <a:off x="4929120" y="2143080"/>
            <a:ext cx="3694320" cy="3143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Масленница &quot; * Отдел религиозного образования, катехизации и миссионерства Одесской епархии УПЦ"/>
          <p:cNvPicPr/>
          <p:nvPr/>
        </p:nvPicPr>
        <p:blipFill>
          <a:blip r:embed="rId3"/>
          <a:stretch/>
        </p:blipFill>
        <p:spPr>
          <a:xfrm>
            <a:off x="1116000" y="2997360"/>
            <a:ext cx="3429000" cy="293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2840" y="42084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857160" y="514368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и проводы Масленицы. В поле раскладывали костёр из соломы и сжигали куклу с песнями, просили прощения и прощали друг другу все об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Народный праздник Масленица или как встречали Масленицу на Р…"/>
          <p:cNvPicPr/>
          <p:nvPr/>
        </p:nvPicPr>
        <p:blipFill>
          <a:blip r:embed="rId2"/>
          <a:stretch/>
        </p:blipFill>
        <p:spPr>
          <a:xfrm>
            <a:off x="2411280" y="1916280"/>
            <a:ext cx="375300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857320" y="4500360"/>
            <a:ext cx="5786280" cy="21430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4000"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Они хранили в жизни мирной,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Привычки малой старины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У них на Масленице жирной,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Водились русские блины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Constantia"/>
              </a:rPr>
              <a:t>А. С.Пушкин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928880" y="428760"/>
            <a:ext cx="5857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826920" y="2492280"/>
            <a:ext cx="698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4617b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1" strike="noStrike">
              <a:ln w="9360">
                <a:solidFill>
                  <a:srgbClr val="04617b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539640" y="3645000"/>
            <a:ext cx="6840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785880" y="333360"/>
            <a:ext cx="695484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428760" y="1643040"/>
            <a:ext cx="8358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знакомится с русскими забавами, создавая атмосферу радости приобщения к традиционным народным гуляньям весеннего праздника.  Расширить знания и умения по выполнению   обрядовой  куклы «Маслениц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Прямоугольник 6" descr=""/>
          <p:cNvPicPr/>
          <p:nvPr/>
        </p:nvPicPr>
        <p:blipFill>
          <a:blip r:embed="rId1"/>
          <a:stretch/>
        </p:blipFill>
        <p:spPr>
          <a:xfrm>
            <a:off x="1133640" y="182520"/>
            <a:ext cx="5999040" cy="136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Традиционные семейные  куклы выполнялись из различных видов материала:  лыка, соломы, из кусочков ткани, они имели особое значение, тем самым выполняя  роль домашнего оберега.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-152280"/>
            <a:ext cx="679788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321760" cy="124452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2"/>
          <p:cNvSpPr/>
          <p:nvPr/>
        </p:nvSpPr>
        <p:spPr>
          <a:xfrm>
            <a:off x="500040" y="128592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тем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ктуаль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тому что Россия богата своими большими народными праздниками, в том числе праздник Масленица, всегда находятся желающие потягаться силой, показать свою удаль, угоститься вкусными блинами,  песни попеть, а  по традициям и обычаям подарить  в подарок обрядовые «куклы», выполненные своими руками, из лыка, соломы, ткани, которые   символизируют богатство, здоровье и благополу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Этапы исследования 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этап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стория возникновения народного  праздника «Масленица»;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I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этап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зучить  приемы  выполнения традиционных  кукол и их значимос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II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этап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 Выполнить  народную  обрядовую куклу  «Масленица»,  соблюдая охрану труда и технику безопасн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V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 этап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оциологический опрос. Анкетирование. Диаграмм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5"/>
          <p:cNvSpPr/>
          <p:nvPr/>
        </p:nvSpPr>
        <p:spPr>
          <a:xfrm>
            <a:off x="285840" y="3143160"/>
            <a:ext cx="22860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3214800" y="3429000"/>
            <a:ext cx="2286000" cy="985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Цветовое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7"/>
          <p:cNvSpPr/>
          <p:nvPr/>
        </p:nvSpPr>
        <p:spPr>
          <a:xfrm>
            <a:off x="3071880" y="4500720"/>
            <a:ext cx="285732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хнология вы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родной обрядовой  кук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8"/>
          <p:cNvSpPr/>
          <p:nvPr/>
        </p:nvSpPr>
        <p:spPr>
          <a:xfrm>
            <a:off x="6000840" y="5214960"/>
            <a:ext cx="22860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ебесто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5824440" y="3081240"/>
            <a:ext cx="22860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боруд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6000840" y="4071960"/>
            <a:ext cx="22860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1"/>
          <p:cNvSpPr/>
          <p:nvPr/>
        </p:nvSpPr>
        <p:spPr>
          <a:xfrm>
            <a:off x="214200" y="5429160"/>
            <a:ext cx="2786040" cy="1057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2"/>
          <p:cNvSpPr/>
          <p:nvPr/>
        </p:nvSpPr>
        <p:spPr>
          <a:xfrm>
            <a:off x="357120" y="4286160"/>
            <a:ext cx="22860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льтерна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3"/>
          <p:cNvSpPr/>
          <p:nvPr/>
        </p:nvSpPr>
        <p:spPr>
          <a:xfrm>
            <a:off x="3214800" y="5715000"/>
            <a:ext cx="25002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отовое из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4"/>
          <p:cNvSpPr/>
          <p:nvPr/>
        </p:nvSpPr>
        <p:spPr>
          <a:xfrm>
            <a:off x="2786040" y="1500120"/>
            <a:ext cx="3500640" cy="1200240"/>
          </a:xfrm>
          <a:prstGeom prst="ellipse">
            <a:avLst/>
          </a:prstGeom>
          <a:solidFill>
            <a:srgbClr val="91c6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здник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Масле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готовление народной обрядовой кук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головок 17" descr=""/>
          <p:cNvPicPr/>
          <p:nvPr/>
        </p:nvPicPr>
        <p:blipFill>
          <a:blip r:embed="rId1"/>
          <a:stretch/>
        </p:blipFill>
        <p:spPr>
          <a:xfrm>
            <a:off x="781200" y="195120"/>
            <a:ext cx="8240400" cy="130968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603360" y="40176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9"/>
          <p:cNvSpPr/>
          <p:nvPr/>
        </p:nvSpPr>
        <p:spPr>
          <a:xfrm>
            <a:off x="428760" y="514368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рану труда и 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2643120" y="2714760"/>
            <a:ext cx="4071960" cy="277560"/>
          </a:xfrm>
          <a:prstGeom prst="wedgeRectCallout">
            <a:avLst>
              <a:gd name="adj1" fmla="val -27925"/>
              <a:gd name="adj2" fmla="val 29155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нания, умения, необходимая 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Стихи о Боге: Февраль 2011"/>
          <p:cNvPicPr/>
          <p:nvPr/>
        </p:nvPicPr>
        <p:blipFill>
          <a:blip r:embed="rId1"/>
          <a:stretch/>
        </p:blipFill>
        <p:spPr>
          <a:xfrm>
            <a:off x="1500120" y="1643040"/>
            <a:ext cx="664380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стория проведения народного праздника «Масленица»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онедельник — Встреча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2286000" y="264312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500040" y="190512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Масленичная неделя в Рубцовске начнется 23 февраля"/>
          <p:cNvPicPr/>
          <p:nvPr/>
        </p:nvPicPr>
        <p:blipFill>
          <a:blip r:embed="rId1"/>
          <a:stretch/>
        </p:blipFill>
        <p:spPr>
          <a:xfrm>
            <a:off x="3059280" y="1268280"/>
            <a:ext cx="378612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0" name="Прямоугольник 9"/>
          <p:cNvSpPr/>
          <p:nvPr/>
        </p:nvSpPr>
        <p:spPr>
          <a:xfrm>
            <a:off x="642960" y="478620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ли куклу Масленицу, наряжали её, усаживали в сани и везли на горку. Встречали её с песнями. Первыми были дети. Начиная с этого дня, дети каждый день катались с гор.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5:32:20Z</dcterms:created>
  <dc:creator>User</dc:creator>
  <dc:description/>
  <dc:language>en-US</dc:language>
  <cp:lastModifiedBy>Mars</cp:lastModifiedBy>
  <dcterms:modified xsi:type="dcterms:W3CDTF">2017-02-12T13:53:51Z</dcterms:modified>
  <cp:revision>19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