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19.png" ContentType="image/png"/>
  <Override PartName="/ppt/media/image24.jpeg" ContentType="image/jpeg"/>
  <Override PartName="/ppt/media/image1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FC8-ED08-4D35-96EF-2A361A8C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1AB-CC8D-4A92-81AF-CAD866B6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515-9CBA-4718-A514-C83C4AE4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0F6-456C-4BC5-820A-190B10F2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0FD4-0C89-4DF8-A574-EBAD94A8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D75A-A962-4AD9-904A-8E956617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4FE9-BA59-43A8-910C-3F7BACE2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D426-A703-4AAA-8395-B5FEEBF4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29EC-369A-4CBE-A98D-B6E1D28A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15CA-3531-4262-896C-39EEA9CD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5BCA-268A-462F-B0D5-BE6D2CF9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D4F-19FC-40EB-8F8B-0B59F06A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3619-812B-40B9-8E81-62945313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F586-1CDC-4915-AF87-50010A70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DC1E-0C83-45FD-9AAE-706B1225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C5AB-8D9C-406B-B15F-4972283F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3036-FAF5-4E1D-9EE8-AD6B1A56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FDA3-E742-4807-B85A-D2EA7E69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9379-E99D-40FE-A5EB-B1697D3C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03BF-0807-4BC2-B84B-7724E13A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FCF4-D637-4A69-AA26-55AA4F2C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F40B-8E4C-4376-80FC-A8C82504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507-6332-4B74-B14E-7E792C90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8E0C3-83E4-4457-A20D-D57898F7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12A0D-0720-4CA4-9F07-FDD389C6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5D78-A370-4BF4-AF4D-5959CF6C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7174-707A-4BA1-87F0-DDA04F6E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67DBF-DF58-466B-B0C3-40C61604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DC46-0BE8-4696-9CEB-139EFF27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3FB4E-43B4-4145-B976-36C7D0A8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3963E-590C-4BAC-9ABD-58B004F3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2B60B-EB4D-4C5C-8907-175305A2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82853-20A8-4029-80EB-A203E86A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1D0-D403-4847-AF7F-7AD75FA6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4A648-BA73-494D-B896-96BB8E8F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824E5-913B-4080-84FD-53C7E593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CA807-FEFB-4A43-8B27-C3CAE69D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3F44E-4FCD-4CB3-A9D5-DBDBFF9E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B7101-745B-457E-B8D4-D88D912C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3779-05EB-400B-A1E4-ABD9AD9D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1714-0F78-45F4-9EF2-422DDEA5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B524D-7E1B-4F57-951D-B04FA2F0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014DA-B4A1-4BAC-9B0A-3D25F54A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641-904E-4203-9F1C-4719314F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800-AC8B-43A2-A76F-B927EF56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55C-C4B4-45CB-A510-47A424E6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226-614D-4BC7-8BBC-9EDC2889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440-8003-4CD2-A2C6-8EBFC234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73CE-E369-4BCC-AC92-FBB910D7620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6B43-5618-4DD1-989A-14E63EC7CE2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7A0F-2650-4AFB-8C91-953954122CF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02C7-D761-4324-BA82-D3FF1215388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5"/>
          <p:cNvSpPr txBox="1"/>
          <p:nvPr/>
        </p:nvSpPr>
        <p:spPr>
          <a:xfrm>
            <a:off x="214200" y="1928880"/>
            <a:ext cx="842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dbf5f9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Народный праздник</a:t>
            </a:r>
            <a:endParaRPr b="1" lang="en-US" sz="3200" spc="1" strike="noStrike">
              <a:ln w="9360">
                <a:solidFill>
                  <a:srgbClr val="dbf5f9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dbf5f9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3200" spc="1" strike="noStrike">
                <a:ln w="9360">
                  <a:solidFill>
                    <a:srgbClr val="dbf5f9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«Масленица»</a:t>
            </a:r>
            <a:endParaRPr b="1" lang="en-US" sz="3200" spc="1" strike="noStrike">
              <a:ln w="9360">
                <a:solidFill>
                  <a:srgbClr val="dbf5f9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Рисунок 3" descr="C:\Users\321\Pictures\img62.jpg"/>
          <p:cNvPicPr/>
          <p:nvPr/>
        </p:nvPicPr>
        <p:blipFill>
          <a:blip r:embed="rId1"/>
          <a:stretch/>
        </p:blipFill>
        <p:spPr>
          <a:xfrm>
            <a:off x="2571840" y="4143240"/>
            <a:ext cx="378612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Вторник — Заигрыш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286000" y="28908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571680" y="2151000"/>
            <a:ext cx="807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На АПушке :: Просмотр темы - ШИРОКАЯ МАСЛЕНИЦА!"/>
          <p:cNvPicPr/>
          <p:nvPr/>
        </p:nvPicPr>
        <p:blipFill>
          <a:blip r:embed="rId1"/>
          <a:stretch/>
        </p:blipFill>
        <p:spPr>
          <a:xfrm>
            <a:off x="2411280" y="907920"/>
            <a:ext cx="3643560" cy="364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5" name="Rectangle 6"/>
          <p:cNvSpPr/>
          <p:nvPr/>
        </p:nvSpPr>
        <p:spPr>
          <a:xfrm>
            <a:off x="357120" y="4581000"/>
            <a:ext cx="878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 взрослые ходили от дома к дому, поздравляли с масленицей и выпрашивали блины. Все ходили друг к другу в гости, пели песни, шут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реда - Лакомка</a:t>
            </a: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714240" y="2151000"/>
            <a:ext cx="807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4" descr="Масленица по-казацки в Мамаевой слободе WoMo"/>
          <p:cNvPicPr/>
          <p:nvPr/>
        </p:nvPicPr>
        <p:blipFill>
          <a:blip r:embed="rId1"/>
          <a:stretch/>
        </p:blipFill>
        <p:spPr>
          <a:xfrm>
            <a:off x="2484360" y="1413000"/>
            <a:ext cx="4413240" cy="31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Прямоугольник 5"/>
          <p:cNvSpPr/>
          <p:nvPr/>
        </p:nvSpPr>
        <p:spPr>
          <a:xfrm>
            <a:off x="0" y="5288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день люди лакомились блинами и другими масленичными яствами. Блины пеклись с бесконечным разнообразием: пшеничные, ячневые, овсяные, гречневые, из пресного и кислого те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285840" y="35712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твертый день Масленицы - «широкий четверг» - «разгул, перел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6"/>
          <p:cNvSpPr/>
          <p:nvPr/>
        </p:nvSpPr>
        <p:spPr>
          <a:xfrm>
            <a:off x="285840" y="4929120"/>
            <a:ext cx="857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день было больше всего развлечений. Устраивали конские бега, кулачные бои, борьбу. Строили снежный городок и брали его с боем. Катались на конях по деревне. Съезжали с гор на санях, лыжах. Ряженые веселили народ. Угощали блинами. Родственники навещали друг друга семьями, ходили в гости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8" descr="C:\Users\321\Pictures\2272_47856.jpg"/>
          <p:cNvPicPr/>
          <p:nvPr/>
        </p:nvPicPr>
        <p:blipFill>
          <a:blip r:embed="rId1"/>
          <a:stretch/>
        </p:blipFill>
        <p:spPr>
          <a:xfrm>
            <a:off x="658800" y="1481040"/>
            <a:ext cx="2803680" cy="60357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9" descr="C:\Users\321\Desktop\еремеева кукла масленица\b486de5b.jpg"/>
          <p:cNvPicPr/>
          <p:nvPr/>
        </p:nvPicPr>
        <p:blipFill>
          <a:blip r:embed="rId2"/>
          <a:stretch/>
        </p:blipFill>
        <p:spPr>
          <a:xfrm>
            <a:off x="4788000" y="1484280"/>
            <a:ext cx="2428920" cy="290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15920" y="281160"/>
            <a:ext cx="8620200" cy="115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Домашние пельмешки - Социальная сеть online-clubs.com"/>
          <p:cNvPicPr/>
          <p:nvPr/>
        </p:nvPicPr>
        <p:blipFill>
          <a:blip r:embed="rId2"/>
          <a:stretch/>
        </p:blipFill>
        <p:spPr>
          <a:xfrm>
            <a:off x="971640" y="2205000"/>
            <a:ext cx="3406680" cy="22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7" name="Прямоугольник 4"/>
          <p:cNvSpPr/>
          <p:nvPr/>
        </p:nvSpPr>
        <p:spPr>
          <a:xfrm>
            <a:off x="357120" y="12859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ёща приглашала на блины зятя со всей семьёй. А молодёжь всю ночь веселилась: пели, пляс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3"/>
          <a:stretch/>
        </p:blipFill>
        <p:spPr>
          <a:xfrm>
            <a:off x="4788000" y="4467240"/>
            <a:ext cx="3857400" cy="23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420840" y="-603360"/>
            <a:ext cx="8272440" cy="27561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5"/>
          <p:cNvSpPr/>
          <p:nvPr/>
        </p:nvSpPr>
        <p:spPr>
          <a:xfrm>
            <a:off x="571680" y="285840"/>
            <a:ext cx="778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ббота – проводы масле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у Масленицу проводили за руки из одного конца деревни в другой. Шла большая толпа ряженых, все шутили, пели песни, пляс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C:\Users\321\Pictures\8546_900.jpg"/>
          <p:cNvPicPr/>
          <p:nvPr/>
        </p:nvPicPr>
        <p:blipFill>
          <a:blip r:embed="rId2"/>
          <a:stretch/>
        </p:blipFill>
        <p:spPr>
          <a:xfrm>
            <a:off x="4929120" y="2143080"/>
            <a:ext cx="3694320" cy="3143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Масленница &quot; * Отдел религиозного образования, катехизации и миссионерства Одесской епархии УПЦ"/>
          <p:cNvPicPr/>
          <p:nvPr/>
        </p:nvPicPr>
        <p:blipFill>
          <a:blip r:embed="rId3"/>
          <a:stretch/>
        </p:blipFill>
        <p:spPr>
          <a:xfrm>
            <a:off x="1116000" y="2997360"/>
            <a:ext cx="3429000" cy="293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2840" y="42084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857160" y="514368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ыли проводы Масленицы. В поле раскладывали костёр из соломы и сжигали куклу с песнями, просили прощения и прощали друг другу все об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Народный праздник Масленица или как встречали Масленицу на Р…"/>
          <p:cNvPicPr/>
          <p:nvPr/>
        </p:nvPicPr>
        <p:blipFill>
          <a:blip r:embed="rId2"/>
          <a:stretch/>
        </p:blipFill>
        <p:spPr>
          <a:xfrm>
            <a:off x="2411280" y="1916280"/>
            <a:ext cx="375300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857320" y="4500360"/>
            <a:ext cx="5786280" cy="21430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4000"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Они хранили в жизни мирной,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Привычки малой старины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У них на Масленице жирной,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Водились русские блины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А. С.Пушкин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928880" y="428760"/>
            <a:ext cx="58579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826920" y="2492280"/>
            <a:ext cx="6985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4617b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1" strike="noStrike">
              <a:ln w="9360">
                <a:solidFill>
                  <a:srgbClr val="04617b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0" name="WordArt 5"/>
          <p:cNvSpPr txBox="1"/>
          <p:nvPr/>
        </p:nvSpPr>
        <p:spPr>
          <a:xfrm>
            <a:off x="539640" y="3645000"/>
            <a:ext cx="6840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785880" y="333360"/>
            <a:ext cx="695484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Прямоугольник 5"/>
          <p:cNvSpPr/>
          <p:nvPr/>
        </p:nvSpPr>
        <p:spPr>
          <a:xfrm>
            <a:off x="428760" y="1643040"/>
            <a:ext cx="8358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знакомится с русскими забавами, создавая атмосферу радости приобщения к традиционным народным гуляньям весеннего праздника.  Расширить знания и умения по выполнению   обрядовой  куклы «Маслениц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Прямоугольник 6" descr=""/>
          <p:cNvPicPr/>
          <p:nvPr/>
        </p:nvPicPr>
        <p:blipFill>
          <a:blip r:embed="rId1"/>
          <a:stretch/>
        </p:blipFill>
        <p:spPr>
          <a:xfrm>
            <a:off x="1133640" y="182520"/>
            <a:ext cx="5999040" cy="1360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Традиционные семейные  куклы выполнялись из различных видов материала:  лыка, соломы, из кусочков ткани, они имели особое значение, тем самым выполняя  роль домашнего оберега. 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Прямоугольник 4" descr=""/>
          <p:cNvPicPr/>
          <p:nvPr/>
        </p:nvPicPr>
        <p:blipFill>
          <a:blip r:embed="rId1"/>
          <a:stretch/>
        </p:blipFill>
        <p:spPr>
          <a:xfrm>
            <a:off x="566640" y="-152280"/>
            <a:ext cx="6797880" cy="162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321760" cy="124452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2"/>
          <p:cNvSpPr/>
          <p:nvPr/>
        </p:nvSpPr>
        <p:spPr>
          <a:xfrm>
            <a:off x="500040" y="1285920"/>
            <a:ext cx="850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 тем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ктуаль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тому что Россия богата своими большими народными праздниками, в том числе праздник Масленица, всегда находятся желающие потягаться силой, показать свою удаль, угоститься вкусными блинами,  песни попеть, а  по традициям и обычаям подарить  в подарок обрядовые «куклы», выполненные своими руками, из лыка, соломы, ткани, которые   символизируют богатство, здоровье и благополу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Этапы исследования 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 этап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стория возникновения народного  праздника «Масленица»;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 этап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зучить  приемы  выполнения традиционных  кукол и их значимость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 этап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 Выполнить  народную  обрядовую куклу  «Масленица»,  соблюдая охрану труда и технику безопасност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 этап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оциологический опрос. Анкетирование. Диаграмм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5"/>
          <p:cNvSpPr/>
          <p:nvPr/>
        </p:nvSpPr>
        <p:spPr>
          <a:xfrm>
            <a:off x="285840" y="3143160"/>
            <a:ext cx="22860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3214800" y="3429000"/>
            <a:ext cx="2286000" cy="985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Цветовое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7"/>
          <p:cNvSpPr/>
          <p:nvPr/>
        </p:nvSpPr>
        <p:spPr>
          <a:xfrm>
            <a:off x="3071880" y="4500720"/>
            <a:ext cx="285732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хнология выпол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родной обрядовой  кук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8"/>
          <p:cNvSpPr/>
          <p:nvPr/>
        </p:nvSpPr>
        <p:spPr>
          <a:xfrm>
            <a:off x="6000840" y="5214960"/>
            <a:ext cx="22860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ебесто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9"/>
          <p:cNvSpPr/>
          <p:nvPr/>
        </p:nvSpPr>
        <p:spPr>
          <a:xfrm>
            <a:off x="5824440" y="3081240"/>
            <a:ext cx="22860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боруд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6000840" y="4071960"/>
            <a:ext cx="22860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1"/>
          <p:cNvSpPr/>
          <p:nvPr/>
        </p:nvSpPr>
        <p:spPr>
          <a:xfrm>
            <a:off x="214200" y="5429160"/>
            <a:ext cx="2786040" cy="1057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2"/>
          <p:cNvSpPr/>
          <p:nvPr/>
        </p:nvSpPr>
        <p:spPr>
          <a:xfrm>
            <a:off x="357120" y="4286160"/>
            <a:ext cx="22860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льтерна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3"/>
          <p:cNvSpPr/>
          <p:nvPr/>
        </p:nvSpPr>
        <p:spPr>
          <a:xfrm>
            <a:off x="3214800" y="5715000"/>
            <a:ext cx="25002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Готовое изде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14"/>
          <p:cNvSpPr/>
          <p:nvPr/>
        </p:nvSpPr>
        <p:spPr>
          <a:xfrm>
            <a:off x="2786040" y="1500120"/>
            <a:ext cx="3500640" cy="1200240"/>
          </a:xfrm>
          <a:prstGeom prst="ellipse">
            <a:avLst/>
          </a:prstGeom>
          <a:solidFill>
            <a:srgbClr val="91c6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здник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Масле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готовление народной обрядовой кук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головок 17" descr=""/>
          <p:cNvPicPr/>
          <p:nvPr/>
        </p:nvPicPr>
        <p:blipFill>
          <a:blip r:embed="rId1"/>
          <a:stretch/>
        </p:blipFill>
        <p:spPr>
          <a:xfrm>
            <a:off x="781200" y="195120"/>
            <a:ext cx="8240400" cy="130968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603360" y="40176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9"/>
          <p:cNvSpPr/>
          <p:nvPr/>
        </p:nvSpPr>
        <p:spPr>
          <a:xfrm>
            <a:off x="428760" y="514368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рану труда и техник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2643120" y="2714760"/>
            <a:ext cx="4071960" cy="277560"/>
          </a:xfrm>
          <a:prstGeom prst="wedgeRectCallout">
            <a:avLst>
              <a:gd name="adj1" fmla="val -27925"/>
              <a:gd name="adj2" fmla="val 29155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нания, умения, необходимая информ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Стихи о Боге: Февраль 2011"/>
          <p:cNvPicPr/>
          <p:nvPr/>
        </p:nvPicPr>
        <p:blipFill>
          <a:blip r:embed="rId1"/>
          <a:stretch/>
        </p:blipFill>
        <p:spPr>
          <a:xfrm>
            <a:off x="1500120" y="1643040"/>
            <a:ext cx="6643800" cy="49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История проведения народного праздника «Масленица»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Понедельник — Встреча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Прямоугольник 4"/>
          <p:cNvSpPr/>
          <p:nvPr/>
        </p:nvSpPr>
        <p:spPr>
          <a:xfrm>
            <a:off x="2286000" y="264312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500040" y="1905120"/>
            <a:ext cx="82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Масленичная неделя в Рубцовске начнется 23 февраля"/>
          <p:cNvPicPr/>
          <p:nvPr/>
        </p:nvPicPr>
        <p:blipFill>
          <a:blip r:embed="rId1"/>
          <a:stretch/>
        </p:blipFill>
        <p:spPr>
          <a:xfrm>
            <a:off x="3059280" y="1268280"/>
            <a:ext cx="378612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0" name="Прямоугольник 9"/>
          <p:cNvSpPr/>
          <p:nvPr/>
        </p:nvSpPr>
        <p:spPr>
          <a:xfrm>
            <a:off x="642960" y="478620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ли куклу Масленицу, наряжали её, усаживали в сани и везли на горку. Встречали её с песнями. Первыми были дети. Начиная с этого дня, дети каждый день катались с гор.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05:32:20Z</dcterms:created>
  <dc:creator>User</dc:creator>
  <dc:description/>
  <dc:language>en-US</dc:language>
  <cp:lastModifiedBy>Mars</cp:lastModifiedBy>
  <dcterms:modified xsi:type="dcterms:W3CDTF">2017-02-12T13:53:51Z</dcterms:modified>
  <cp:revision>19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