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9D7-170D-49FA-9BA0-726A4392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4A4-7159-417C-A9AD-26AD8866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4F4-5F1C-464C-8FEA-D79C05A4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04B-8363-412A-B741-8151D3E1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660-A426-4D50-9E49-B0E586D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15BE-1297-4134-AE1B-84510F6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0545-C0CE-4B35-AA8A-7C16B59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B9A7-3ECE-45D9-BC74-870C8D18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C348-E277-48A4-82B8-5E491F5A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9DF-8E99-4E5E-BA88-854CA15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1D6F-E676-4F6B-98C8-DB13A7C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1A5-ECEF-4F7A-B0D3-15CF969B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436-C6B8-4AF5-8BF2-B7394D4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8E3-233E-4E26-9886-E96A686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B620-D643-42F7-928B-979B5D18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39F7-FD8B-4DCA-BC0D-F14562AC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BC8-E834-4999-B6A8-6F9036E1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D374-C3E1-4246-BAA5-3D8A9DE8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D583-6B0C-4697-8B68-1EDE599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49FA-EB01-4F3E-A2F3-8FC056E8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CBB8-2D16-4DF7-95FA-C09E373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1EBD-5868-41EA-94AA-11D05052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C00-9399-4B12-B901-6089C69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675F-841B-43A5-86E2-A6DF0DFC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E055-7809-47E5-B8B1-9390C62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2DDF-EC18-448A-895C-B47727F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79AC-D1DB-4D69-82EC-E8A32FE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5A5E-9354-4D0A-BB95-231BF69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FD5A-F486-4CB1-BFF9-7A4CDD3E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7E0D-AC44-429C-A9D8-B83BB6A2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247D-9A7C-457A-BF75-445956C9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5D71F-76E5-46A8-B556-CBCF4D0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2BCD-84D5-4E03-B4AD-E033660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86B-2040-4CF2-83E8-80D33F1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F719-2F6F-434F-8DED-884CB4D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4B94-5186-4656-A07F-8AF7909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D840-38EF-411F-A20D-1E504150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50C2-B9E2-4DD3-8088-4C2D47E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E1B1-817C-48F7-A2EC-C8E0C0AD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C991-06A6-40E6-B122-686FAB9F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C8E4-CA38-4CCC-81D8-2282C76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7F93E-E2B9-4781-BB1E-2C61C1B3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21B3-DFCC-4459-A67F-436E56FE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335-C871-455F-A476-CF623E9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CE8-4181-41F5-A85C-7D5722E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C1F-F40D-42FD-977F-9B9F162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8F3-7FED-448A-8B2D-96B9926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0FC-600C-416D-BA1B-710CC8C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253-D05C-4355-ABF0-497FED1D2E1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813-9445-495D-A9F9-DDF9A9CB328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6C85-95FB-47ED-B4D6-355D83899AB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443-7A32-4A75-BC21-1C4862606B2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иёмы  выполнения традиционных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обрядовых куко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Рисунок 7" descr="E:\проекты октябрь 14-15\проект масленица\обрядовые куклы\-19-638.jpg"/>
          <p:cNvPicPr/>
          <p:nvPr/>
        </p:nvPicPr>
        <p:blipFill>
          <a:blip r:embed="rId1"/>
          <a:stretch/>
        </p:blipFill>
        <p:spPr>
          <a:xfrm>
            <a:off x="347760" y="1200240"/>
            <a:ext cx="2340000" cy="2347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9" descr="E:\проекты октябрь 14-15\проект масленица\обрядовые куклы\-14-638.jpg"/>
          <p:cNvPicPr/>
          <p:nvPr/>
        </p:nvPicPr>
        <p:blipFill>
          <a:blip r:embed="rId2"/>
          <a:stretch/>
        </p:blipFill>
        <p:spPr>
          <a:xfrm>
            <a:off x="3224160" y="12002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8" descr="C:\Users\User\Desktop\проекты октябрь 14-15\проект масленица\обрядовые куклы\-17-638.jpg"/>
          <p:cNvPicPr/>
          <p:nvPr/>
        </p:nvPicPr>
        <p:blipFill>
          <a:blip r:embed="rId3"/>
          <a:stretch/>
        </p:blipFill>
        <p:spPr>
          <a:xfrm>
            <a:off x="5962680" y="12747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C:\Users\User\Desktop\проекты октябрь 14-15\проект масленица\обрядовые куклы\-16-638.jpg"/>
          <p:cNvPicPr/>
          <p:nvPr/>
        </p:nvPicPr>
        <p:blipFill>
          <a:blip r:embed="rId4"/>
          <a:stretch/>
        </p:blipFill>
        <p:spPr>
          <a:xfrm>
            <a:off x="347760" y="3790800"/>
            <a:ext cx="2414520" cy="2421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C:\Users\User\Desktop\проекты октябрь 14-15\проект масленица\обрядовые куклы\-8-638.jpg"/>
          <p:cNvPicPr/>
          <p:nvPr/>
        </p:nvPicPr>
        <p:blipFill>
          <a:blip r:embed="rId5"/>
          <a:stretch/>
        </p:blipFill>
        <p:spPr>
          <a:xfrm>
            <a:off x="3151080" y="3790800"/>
            <a:ext cx="2487600" cy="2421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E:\проекты октябрь 14-15\проект масленица\обрядовые куклы\-18-638.jpg"/>
          <p:cNvPicPr/>
          <p:nvPr/>
        </p:nvPicPr>
        <p:blipFill>
          <a:blip r:embed="rId6"/>
          <a:stretch/>
        </p:blipFill>
        <p:spPr>
          <a:xfrm>
            <a:off x="5888160" y="3790800"/>
            <a:ext cx="24876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4:17:36Z</dcterms:modified>
  <cp:revision>20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