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7C60-D11C-41A3-8617-3B5BD460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821A-982B-4816-A07B-A36D0E92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36D6-F891-41BA-92E3-1BC215D3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2A94-8F3F-4CE0-88EC-762B9115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E412-EA9B-4C09-8530-20B122F3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C6C6-A719-470B-BFAF-E7FBC6B5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FD72-86B0-4520-8A16-C3A6E7FF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418D-9C5F-4648-9AC3-228BB031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A9D3-DBD9-4A18-8882-36C5B3A1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C97C-1713-47A1-A545-CE22B389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432A-A9A2-4447-AEAE-325927AC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0F3C-5AAB-4482-BF4E-97E65B99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8593-1C22-4509-84EE-6A655428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2323-75C3-4B2A-96BA-6BC8BE14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A2E1-5BA9-4DDE-97D3-0333C4EF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CDD3-0FE2-4462-8326-DCA06DDF6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E70B-B624-4372-B76C-1A93070B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C19DA-1FBB-4DA2-B0E0-3B12D0AE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BA3BA-D218-4509-88CC-01B6804D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77DFF-EFD4-42F2-9FC9-2AD607CF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86C9C-E458-43B3-8EC9-98E5B15E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1FF63-8ABA-4D53-A008-6FC08F11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AA77-F032-46BD-B8D4-345D86BD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CE929-4F80-43EC-98D8-D1AFC79C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E6842-456D-43C8-B8C7-9FA9E441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9755C-8A6C-4BC7-BAD2-777875D1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8DEB2-77EE-4DD2-A3E1-AEDB9A4E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C1E47-B9AC-4CD0-8F0E-039A59DC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CDE31-60D4-44B5-9419-D842DEF6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7F32C-C1DE-45DE-A185-F0DE6D7B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12A78-5272-45D8-934B-09640BDE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43F09-C540-4F60-B15E-A15F76B0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A3FCC-7320-4739-94C8-B3ED2852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83DE-EEBC-42AF-9895-9C2D72C1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6C03F-9A15-45DD-B948-7351222E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A585C-638A-4C17-80A8-22DB5D32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8116B-28DE-4D95-AC40-03E41F42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B61C4-55D7-484A-9F86-232A1B50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2A416-19AB-49B5-8926-2FFF48BE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2F6EF-0C13-4D0A-9DF1-F14943CA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FBB58-4F97-4913-83CD-77C1D425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8F1F5-11C3-4425-89CC-04CD2AC0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7602B-EF81-4C9C-9CF2-9C74CB3C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C1F9-B040-46F0-A224-50B251FC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DC57-2D79-49F3-8DA7-016685E7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A8C0-7FE7-4D2D-8682-BF36ADBE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EF59-9FF7-49F3-9E27-1629EC15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103D-0F55-4408-9C0A-A61798DB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0CC0-F74D-4207-89C3-33D5169F7D6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A57A-95DE-4D5B-B5DF-AFCAD377755E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1EFD-230B-4247-9F44-F6401815A3F2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A7DC-BE2A-4FA0-A314-3E68AD91613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818676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риёмы  выполнения традиционных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 обрядовых кукол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Рисунок 7" descr="E:\проекты октябрь 14-15\проект масленица\обрядовые куклы\-19-638.jpg"/>
          <p:cNvPicPr/>
          <p:nvPr/>
        </p:nvPicPr>
        <p:blipFill>
          <a:blip r:embed="rId1"/>
          <a:stretch/>
        </p:blipFill>
        <p:spPr>
          <a:xfrm>
            <a:off x="347760" y="1200240"/>
            <a:ext cx="2340000" cy="23479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9" descr="E:\проекты октябрь 14-15\проект масленица\обрядовые куклы\-14-638.jpg"/>
          <p:cNvPicPr/>
          <p:nvPr/>
        </p:nvPicPr>
        <p:blipFill>
          <a:blip r:embed="rId2"/>
          <a:stretch/>
        </p:blipFill>
        <p:spPr>
          <a:xfrm>
            <a:off x="3224160" y="1200240"/>
            <a:ext cx="2414520" cy="241452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18" descr="C:\Users\User\Desktop\проекты октябрь 14-15\проект масленица\обрядовые куклы\-17-638.jpg"/>
          <p:cNvPicPr/>
          <p:nvPr/>
        </p:nvPicPr>
        <p:blipFill>
          <a:blip r:embed="rId3"/>
          <a:stretch/>
        </p:blipFill>
        <p:spPr>
          <a:xfrm>
            <a:off x="5962680" y="1274760"/>
            <a:ext cx="2340000" cy="234000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19" descr="C:\Users\User\Desktop\проекты октябрь 14-15\проект масленица\обрядовые куклы\-16-638.jpg"/>
          <p:cNvPicPr/>
          <p:nvPr/>
        </p:nvPicPr>
        <p:blipFill>
          <a:blip r:embed="rId4"/>
          <a:stretch/>
        </p:blipFill>
        <p:spPr>
          <a:xfrm>
            <a:off x="347760" y="3790800"/>
            <a:ext cx="2414520" cy="242100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10" descr="C:\Users\User\Desktop\проекты октябрь 14-15\проект масленица\обрядовые куклы\-8-638.jpg"/>
          <p:cNvPicPr/>
          <p:nvPr/>
        </p:nvPicPr>
        <p:blipFill>
          <a:blip r:embed="rId5"/>
          <a:stretch/>
        </p:blipFill>
        <p:spPr>
          <a:xfrm>
            <a:off x="3151080" y="3790800"/>
            <a:ext cx="2487600" cy="242100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11" descr="E:\проекты октябрь 14-15\проект масленица\обрядовые куклы\-18-638.jpg"/>
          <p:cNvPicPr/>
          <p:nvPr/>
        </p:nvPicPr>
        <p:blipFill>
          <a:blip r:embed="rId6"/>
          <a:stretch/>
        </p:blipFill>
        <p:spPr>
          <a:xfrm>
            <a:off x="5888160" y="3790800"/>
            <a:ext cx="2487600" cy="2421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5T05:32:20Z</dcterms:created>
  <dc:creator>User</dc:creator>
  <dc:description/>
  <dc:language>en-US</dc:language>
  <cp:lastModifiedBy>Mars</cp:lastModifiedBy>
  <dcterms:modified xsi:type="dcterms:W3CDTF">2017-02-12T14:17:36Z</dcterms:modified>
  <cp:revision>20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