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42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9.jpeg" ContentType="image/jpeg"/>
  <Override PartName="/ppt/media/image5.png" ContentType="image/png"/>
  <Override PartName="/ppt/media/image27.jpeg" ContentType="image/jpeg"/>
  <Override PartName="/ppt/media/image13.png" ContentType="image/png"/>
  <Override PartName="/ppt/media/image32.jpeg" ContentType="image/jpeg"/>
  <Override PartName="/ppt/media/image8.png" ContentType="image/png"/>
  <Override PartName="/ppt/media/image38.png" ContentType="image/png"/>
  <Override PartName="/ppt/media/image36.jpeg" ContentType="image/jpeg"/>
  <Override PartName="/ppt/media/image33.jpeg" ContentType="image/jpeg"/>
  <Override PartName="/ppt/media/image20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30.jpeg" ContentType="image/jpeg"/>
  <Override PartName="/ppt/media/image43.png" ContentType="image/png"/>
  <Override PartName="/ppt/media/image44.png" ContentType="image/png"/>
  <Override PartName="/ppt/media/image45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3188-33AA-494A-8E38-254E05A11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5FA4-2829-46D7-93C1-C3D12A29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F003-DC79-45F7-B7D9-EBD9D8798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410E-FBB5-47AE-B735-3A9DA9A9E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0AD2-C57C-49B4-A569-D8C5A42E7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1124-064E-4E2C-BD62-83CB55B1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D4D2-0BCE-4C4F-AC31-A261D9DC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61EF-47B3-45B8-8D35-EB93FB49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13D3-A2D9-4606-9FD2-27B0B37C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8325-AE10-405B-A14B-35D14611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DC9F-9AE8-4AF4-AFD3-35024996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D6AA-7850-47FE-A0A5-8908CB82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9178-2603-4786-95E7-DCC76213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E0D1-BF25-4661-AA85-9373B759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DD46-A21A-4159-82C3-D728185C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79B7-88D7-4025-8C0A-9609760AC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95D4-A84B-486B-89AD-C640FAC1F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F92FF-B22F-40CD-8275-3C8FB464E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87CC4-8071-4CC9-A271-84D3CDA0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8BFBE-3AA0-452A-83FC-7CCAE655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F5321-17F0-4CAB-95F0-784D3660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87A2E-B8EB-494C-B8FC-7EDFC6CE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9840-BB07-4E57-A0BF-C311AB34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7FFC1-4E69-4BDE-A1AC-9C851388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814C5-E6D0-45EE-9DE3-38881A6A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FF890-3431-4B37-A41D-7A340206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D0884-02E1-4A50-9D0E-40E3346F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62FBC-83C9-4E0F-B4E8-35DB893F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53CA3-6670-4698-BD12-157A34278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2AF1C-04DC-401D-9E63-9E81F2D51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E57C9-075F-4F82-9110-954A647C6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9F254-1A9D-4897-80E4-8F567254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E8F6A-A558-4062-A7EA-5BC0423C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53E1-BBD5-4C83-B126-FB98FF60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599A1-F8A0-44C0-88ED-07D1C3F7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A9E02-1D05-415F-A555-B5FBDEF3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7A350-49F0-4E43-B83C-5B8B281C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49705-A64D-4FDA-8E53-18F25A0A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57B86-CC6C-4042-9456-EFC8AD82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231DB-2F89-4AFA-983D-BD83F752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2A109-DA0D-416E-B75B-CCC0AF2A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8C4EF-A8DF-4666-9346-4DF39C862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B15A0-309C-49DA-B83C-BAE0AEBFF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1860-5572-469B-9B60-8139D33B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D258-4A77-4F9F-868B-9AB0A975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8C2D-7D76-48E9-A2BE-FF808B52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2A17-4952-457D-A246-AAA12BAD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BD39-4456-4B20-BCF8-19D496C4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EDF3-6198-47CD-8D53-DA66913E4718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C5F8-2BB7-4446-BA69-897375302441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B725-1AF5-4A51-891E-901EE6394D38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8F4D-B4FE-4833-BFEB-40B19DEF78A9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30.jpeg"/><Relationship Id="rId11" Type="http://schemas.openxmlformats.org/officeDocument/2006/relationships/image" Target="../media/image31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Материалы и оборудование</a:t>
            </a:r>
            <a:br>
              <a:rPr sz="50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Технологическая карта №1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Рисунок 3" descr="G:\проекты октябрь 14-15\проект масленица\фото масленица\P1010657.JPG"/>
          <p:cNvPicPr/>
          <p:nvPr/>
        </p:nvPicPr>
        <p:blipFill>
          <a:blip r:embed="rId1"/>
          <a:stretch/>
        </p:blipFill>
        <p:spPr>
          <a:xfrm>
            <a:off x="542880" y="1530360"/>
            <a:ext cx="1816200" cy="314496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4" descr="G:\проекты октябрь 14-15\проект масленица\фото масленица\DSCF5509 - копия.JPG"/>
          <p:cNvPicPr/>
          <p:nvPr/>
        </p:nvPicPr>
        <p:blipFill>
          <a:blip r:embed="rId2"/>
          <a:stretch/>
        </p:blipFill>
        <p:spPr>
          <a:xfrm>
            <a:off x="3181320" y="1536840"/>
            <a:ext cx="1689120" cy="298584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5" descr="G:\проекты октябрь 14-15\проект масленица\фото масленица\DSCF5508.JPG"/>
          <p:cNvPicPr/>
          <p:nvPr/>
        </p:nvPicPr>
        <p:blipFill>
          <a:blip r:embed="rId3"/>
          <a:stretch/>
        </p:blipFill>
        <p:spPr>
          <a:xfrm>
            <a:off x="5479920" y="1633680"/>
            <a:ext cx="2140200" cy="241452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6" descr="G:\проекты октябрь 14-15\проект масленица\фото масленица\DSCF5486.JPG"/>
          <p:cNvPicPr/>
          <p:nvPr/>
        </p:nvPicPr>
        <p:blipFill>
          <a:blip r:embed="rId4"/>
          <a:stretch/>
        </p:blipFill>
        <p:spPr>
          <a:xfrm>
            <a:off x="542880" y="3389400"/>
            <a:ext cx="1816200" cy="299880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7" descr="G:\проекты октябрь 14-15\проект масленица\фото масленица\DSCF5489.JPG"/>
          <p:cNvPicPr/>
          <p:nvPr/>
        </p:nvPicPr>
        <p:blipFill>
          <a:blip r:embed="rId5"/>
          <a:stretch/>
        </p:blipFill>
        <p:spPr>
          <a:xfrm>
            <a:off x="2724120" y="3468600"/>
            <a:ext cx="1085760" cy="267012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8" descr="untitled987"/>
          <p:cNvPicPr/>
          <p:nvPr/>
        </p:nvPicPr>
        <p:blipFill>
          <a:blip r:embed="rId6"/>
          <a:stretch/>
        </p:blipFill>
        <p:spPr>
          <a:xfrm>
            <a:off x="4468680" y="3468600"/>
            <a:ext cx="1687680" cy="277344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9" descr="G:\проекты октябрь 14-15\проект масленица\фото масленица\P1010662.JPG"/>
          <p:cNvPicPr/>
          <p:nvPr/>
        </p:nvPicPr>
        <p:blipFill>
          <a:blip r:embed="rId7"/>
          <a:stretch/>
        </p:blipFill>
        <p:spPr>
          <a:xfrm>
            <a:off x="6821640" y="3395520"/>
            <a:ext cx="1627200" cy="298620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10" descr="12946-14"/>
          <p:cNvPicPr/>
          <p:nvPr/>
        </p:nvPicPr>
        <p:blipFill>
          <a:blip r:embed="rId8"/>
          <a:stretch/>
        </p:blipFill>
        <p:spPr>
          <a:xfrm>
            <a:off x="1341360" y="4889520"/>
            <a:ext cx="2078280" cy="316404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12" descr="untitled32"/>
          <p:cNvPicPr/>
          <p:nvPr/>
        </p:nvPicPr>
        <p:blipFill>
          <a:blip r:embed="rId9"/>
          <a:stretch/>
        </p:blipFill>
        <p:spPr>
          <a:xfrm>
            <a:off x="4413240" y="4956120"/>
            <a:ext cx="2127240" cy="31640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ехнологическая последовательность обработки народной обрядовой куклы «Масленица»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Технологическая карта №2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Рисунок 3" descr="http://www.littleone.ru/public/img/articles/more/more_1330044042580_1__1.jpg"/>
          <p:cNvPicPr/>
          <p:nvPr/>
        </p:nvPicPr>
        <p:blipFill>
          <a:blip r:embed="rId1"/>
          <a:stretch/>
        </p:blipFill>
        <p:spPr>
          <a:xfrm>
            <a:off x="357120" y="1928880"/>
            <a:ext cx="2143080" cy="229536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4" descr="http://www.littleone.ru/public/img/articles/more/more_1330044042693_2__1.jpg"/>
          <p:cNvPicPr/>
          <p:nvPr/>
        </p:nvPicPr>
        <p:blipFill>
          <a:blip r:embed="rId2"/>
          <a:stretch/>
        </p:blipFill>
        <p:spPr>
          <a:xfrm>
            <a:off x="3071880" y="1928880"/>
            <a:ext cx="2214360" cy="221436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5" descr="http://www.littleone.ru/public/img/articles/more/more_1330044041315_3__1.jpg"/>
          <p:cNvPicPr/>
          <p:nvPr/>
        </p:nvPicPr>
        <p:blipFill>
          <a:blip r:embed="rId3"/>
          <a:stretch/>
        </p:blipFill>
        <p:spPr>
          <a:xfrm>
            <a:off x="5572080" y="200016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6" descr="G:\проекты октябрь 14-15\проект масленица\фото масленица\P1010664.JPG"/>
          <p:cNvPicPr/>
          <p:nvPr/>
        </p:nvPicPr>
        <p:blipFill>
          <a:blip r:embed="rId4"/>
          <a:stretch/>
        </p:blipFill>
        <p:spPr>
          <a:xfrm>
            <a:off x="357120" y="4357800"/>
            <a:ext cx="2479680" cy="200016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8" descr="G:\проекты октябрь 14-15\проект масленица\фото масленица\P1010665.JPG"/>
          <p:cNvPicPr/>
          <p:nvPr/>
        </p:nvPicPr>
        <p:blipFill>
          <a:blip r:embed="rId5"/>
          <a:stretch/>
        </p:blipFill>
        <p:spPr>
          <a:xfrm>
            <a:off x="3214800" y="4429080"/>
            <a:ext cx="2286000" cy="185760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9" descr="G:\проекты октябрь 14-15\проект масленица\фото масленица\P1010668.JPG"/>
          <p:cNvPicPr/>
          <p:nvPr/>
        </p:nvPicPr>
        <p:blipFill>
          <a:blip r:embed="rId6"/>
          <a:stretch/>
        </p:blipFill>
        <p:spPr>
          <a:xfrm>
            <a:off x="6000840" y="4429080"/>
            <a:ext cx="228600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Технологическая последовательность изделия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Рисунок 3" descr="G:\проекты октябрь 14-15\проект масленица\фото масленица\DSCF5497.JPG"/>
          <p:cNvPicPr/>
          <p:nvPr/>
        </p:nvPicPr>
        <p:blipFill>
          <a:blip r:embed="rId1"/>
          <a:stretch/>
        </p:blipFill>
        <p:spPr>
          <a:xfrm>
            <a:off x="500040" y="1571760"/>
            <a:ext cx="1500120" cy="207144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4" descr="G:\проекты октябрь 14-15\проект масленица\фото масленица\DSCF5491.JPG"/>
          <p:cNvPicPr/>
          <p:nvPr/>
        </p:nvPicPr>
        <p:blipFill>
          <a:blip r:embed="rId2"/>
          <a:stretch/>
        </p:blipFill>
        <p:spPr>
          <a:xfrm>
            <a:off x="428760" y="378612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5" descr="G:\проекты октябрь 14-15\проект масленица\фото масленица\DSCF5492.JPG"/>
          <p:cNvPicPr/>
          <p:nvPr/>
        </p:nvPicPr>
        <p:blipFill>
          <a:blip r:embed="rId3"/>
          <a:stretch/>
        </p:blipFill>
        <p:spPr>
          <a:xfrm>
            <a:off x="2214720" y="3929040"/>
            <a:ext cx="1643040" cy="114624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6" descr="G:\проекты октябрь 14-15\проект масленица\фото масленица\DSCF5504.JPG"/>
          <p:cNvPicPr/>
          <p:nvPr/>
        </p:nvPicPr>
        <p:blipFill>
          <a:blip r:embed="rId4"/>
          <a:stretch/>
        </p:blipFill>
        <p:spPr>
          <a:xfrm>
            <a:off x="2286000" y="1571760"/>
            <a:ext cx="2214720" cy="114300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8" descr="G:\проекты октябрь 14-15\проект масленица\фото масленица\DSCF5501.JPG"/>
          <p:cNvPicPr/>
          <p:nvPr/>
        </p:nvPicPr>
        <p:blipFill>
          <a:blip r:embed="rId5"/>
          <a:stretch/>
        </p:blipFill>
        <p:spPr>
          <a:xfrm>
            <a:off x="2214720" y="2786040"/>
            <a:ext cx="2286000" cy="107172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9" descr="G:\проекты октябрь 14-15\проект масленица\фото масленица\DSCF5506.JPG"/>
          <p:cNvPicPr/>
          <p:nvPr/>
        </p:nvPicPr>
        <p:blipFill>
          <a:blip r:embed="rId6"/>
          <a:stretch/>
        </p:blipFill>
        <p:spPr>
          <a:xfrm>
            <a:off x="4643280" y="1571760"/>
            <a:ext cx="2143440" cy="171432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10" descr="G:\проекты октябрь 14-15\проект масленица\фото масленица\DSCF5514.JPG"/>
          <p:cNvPicPr/>
          <p:nvPr/>
        </p:nvPicPr>
        <p:blipFill>
          <a:blip r:embed="rId7"/>
          <a:stretch/>
        </p:blipFill>
        <p:spPr>
          <a:xfrm>
            <a:off x="6572160" y="2214720"/>
            <a:ext cx="2357640" cy="278604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12" descr="G:\проекты октябрь 14-15\проект масленица\фото масленица\DSCF5494.JPG"/>
          <p:cNvPicPr/>
          <p:nvPr/>
        </p:nvPicPr>
        <p:blipFill>
          <a:blip r:embed="rId8"/>
          <a:stretch/>
        </p:blipFill>
        <p:spPr>
          <a:xfrm>
            <a:off x="4143240" y="3643200"/>
            <a:ext cx="1785960" cy="142884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13" descr="G:\проекты октябрь 14-15\проект масленица\фото масленица\DSCF5495.JPG"/>
          <p:cNvPicPr/>
          <p:nvPr/>
        </p:nvPicPr>
        <p:blipFill>
          <a:blip r:embed="rId9"/>
          <a:stretch/>
        </p:blipFill>
        <p:spPr>
          <a:xfrm>
            <a:off x="357120" y="5214960"/>
            <a:ext cx="1785960" cy="109044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14" descr="G:\проекты октябрь 14-15\проект масленица\фото масленица\DSCF5499.JPG"/>
          <p:cNvPicPr/>
          <p:nvPr/>
        </p:nvPicPr>
        <p:blipFill>
          <a:blip r:embed="rId10"/>
          <a:stretch/>
        </p:blipFill>
        <p:spPr>
          <a:xfrm>
            <a:off x="2571840" y="5286240"/>
            <a:ext cx="2143080" cy="121464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15" descr="G:\проекты октябрь 14-15\проект масленица\фото масленица\DSCF5500.JPG"/>
          <p:cNvPicPr/>
          <p:nvPr/>
        </p:nvPicPr>
        <p:blipFill>
          <a:blip r:embed="rId11"/>
          <a:stretch/>
        </p:blipFill>
        <p:spPr>
          <a:xfrm>
            <a:off x="5929200" y="4000680"/>
            <a:ext cx="2286000" cy="2624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Calibri"/>
              </a:rPr>
              <a:t>Вышив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Рисунок 4" descr="G:\проекты октябрь 14-15\проект масленица\фото масленица\DSCF5511.JPG"/>
          <p:cNvPicPr/>
          <p:nvPr/>
        </p:nvPicPr>
        <p:blipFill>
          <a:blip r:embed="rId1"/>
          <a:stretch/>
        </p:blipFill>
        <p:spPr>
          <a:xfrm>
            <a:off x="3714840" y="1428840"/>
            <a:ext cx="1857240" cy="192888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5" descr="G:\проекты октябрь 14-15\проект масленица\фото масленица\DSCF5525.JPG"/>
          <p:cNvPicPr/>
          <p:nvPr/>
        </p:nvPicPr>
        <p:blipFill>
          <a:blip r:embed="rId2"/>
          <a:stretch/>
        </p:blipFill>
        <p:spPr>
          <a:xfrm>
            <a:off x="4143240" y="3571920"/>
            <a:ext cx="2143440" cy="304488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6" descr="G:\проекты октябрь 14-15\проект масленица\фото масленица\DSCF5490.JPG"/>
          <p:cNvPicPr/>
          <p:nvPr/>
        </p:nvPicPr>
        <p:blipFill>
          <a:blip r:embed="rId3"/>
          <a:stretch/>
        </p:blipFill>
        <p:spPr>
          <a:xfrm>
            <a:off x="357120" y="1214280"/>
            <a:ext cx="3071880" cy="214344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7" descr="G:\проекты октябрь 14-15\проект масленица\фото масленица\DSCF5494.JPG"/>
          <p:cNvPicPr/>
          <p:nvPr/>
        </p:nvPicPr>
        <p:blipFill>
          <a:blip r:embed="rId4"/>
          <a:stretch/>
        </p:blipFill>
        <p:spPr>
          <a:xfrm>
            <a:off x="642960" y="3643200"/>
            <a:ext cx="2928960" cy="264348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8" descr="G:\проекты октябрь 14-15\проект масленица\фото масленица\DSCF5527.JPG"/>
          <p:cNvPicPr/>
          <p:nvPr/>
        </p:nvPicPr>
        <p:blipFill>
          <a:blip r:embed="rId5"/>
          <a:stretch/>
        </p:blipFill>
        <p:spPr>
          <a:xfrm>
            <a:off x="6429240" y="1714680"/>
            <a:ext cx="2452680" cy="39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Социологический опрос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1" name="Объект 1" descr=""/>
          <p:cNvPicPr/>
          <p:nvPr/>
        </p:nvPicPr>
        <p:blipFill>
          <a:blip r:embed="rId1"/>
          <a:stretch/>
        </p:blipFill>
        <p:spPr>
          <a:xfrm>
            <a:off x="428760" y="1571760"/>
            <a:ext cx="2714400" cy="2074680"/>
          </a:xfrm>
          <a:prstGeom prst="rect">
            <a:avLst/>
          </a:prstGeom>
          <a:ln w="0">
            <a:noFill/>
          </a:ln>
        </p:spPr>
      </p:pic>
      <p:pic>
        <p:nvPicPr>
          <p:cNvPr id="232" name="Объект 2" descr=""/>
          <p:cNvPicPr/>
          <p:nvPr/>
        </p:nvPicPr>
        <p:blipFill>
          <a:blip r:embed="rId2"/>
          <a:stretch/>
        </p:blipFill>
        <p:spPr>
          <a:xfrm>
            <a:off x="3071880" y="1571760"/>
            <a:ext cx="2894040" cy="2101680"/>
          </a:xfrm>
          <a:prstGeom prst="rect">
            <a:avLst/>
          </a:prstGeom>
          <a:ln w="0">
            <a:noFill/>
          </a:ln>
        </p:spPr>
      </p:pic>
      <p:pic>
        <p:nvPicPr>
          <p:cNvPr id="233" name="Объект 3" descr=""/>
          <p:cNvPicPr/>
          <p:nvPr/>
        </p:nvPicPr>
        <p:blipFill>
          <a:blip r:embed="rId3"/>
          <a:stretch/>
        </p:blipFill>
        <p:spPr>
          <a:xfrm>
            <a:off x="5857920" y="1714680"/>
            <a:ext cx="2928960" cy="1965240"/>
          </a:xfrm>
          <a:prstGeom prst="rect">
            <a:avLst/>
          </a:prstGeom>
          <a:ln w="0">
            <a:noFill/>
          </a:ln>
        </p:spPr>
      </p:pic>
      <p:pic>
        <p:nvPicPr>
          <p:cNvPr id="234" name="Объект 4" descr=""/>
          <p:cNvPicPr/>
          <p:nvPr/>
        </p:nvPicPr>
        <p:blipFill>
          <a:blip r:embed="rId4"/>
          <a:stretch/>
        </p:blipFill>
        <p:spPr>
          <a:xfrm>
            <a:off x="538200" y="3857760"/>
            <a:ext cx="2851200" cy="2071440"/>
          </a:xfrm>
          <a:prstGeom prst="rect">
            <a:avLst/>
          </a:prstGeom>
          <a:ln w="0">
            <a:noFill/>
          </a:ln>
        </p:spPr>
      </p:pic>
      <p:pic>
        <p:nvPicPr>
          <p:cNvPr id="235" name="Объект 6" descr=""/>
          <p:cNvPicPr/>
          <p:nvPr/>
        </p:nvPicPr>
        <p:blipFill>
          <a:blip r:embed="rId5"/>
          <a:stretch/>
        </p:blipFill>
        <p:spPr>
          <a:xfrm>
            <a:off x="3143160" y="3857760"/>
            <a:ext cx="2786040" cy="2019240"/>
          </a:xfrm>
          <a:prstGeom prst="rect">
            <a:avLst/>
          </a:prstGeom>
          <a:ln w="0">
            <a:noFill/>
          </a:ln>
        </p:spPr>
      </p:pic>
      <p:pic>
        <p:nvPicPr>
          <p:cNvPr id="236" name="Объект 7" descr=""/>
          <p:cNvPicPr/>
          <p:nvPr/>
        </p:nvPicPr>
        <p:blipFill>
          <a:blip r:embed="rId6"/>
          <a:stretch/>
        </p:blipFill>
        <p:spPr>
          <a:xfrm>
            <a:off x="5857920" y="3929040"/>
            <a:ext cx="2928960" cy="202716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109440" y="420840"/>
            <a:ext cx="8753400" cy="179856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2"/>
          <p:cNvSpPr/>
          <p:nvPr/>
        </p:nvSpPr>
        <p:spPr>
          <a:xfrm>
            <a:off x="500040" y="2071800"/>
            <a:ext cx="8143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ла расчёт экономических расходов, он состав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0.00(пятьдесят )рублей за материал   из лыко, остальной материал был у меня дома, остались лоскутки от других творческих р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изготовление куклы «Масленица» я затратила 15 ча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Итог работы: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Я выполнила все этапы исследова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наши дни праздник Масленица, как и в эпоху славянских языческих племен, остаётся одним из самых массовых народных гуляний, любимым праздником и взрослых и детей разных национальностей. Масленичная неделя была буквально переполнена праздничными делами: обрядовые и не обрядовые действия, традиционные игры и затеи, обязанности и поступки до отказа заполняли все дни. Сил, энергии, задора хватало на все, поскольку царила атмосфера предельной раскрепощённости, всеобщей радости и веселья. Каждый день масленицы имел свое название, за каждым закреплены были определенные действия, правила поведени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Я думаю, что моё исследование помогло мне по другому посмотреть на праздник "Масленица", окунуться в те далекие времена, изучая традиции и обряды моего народа. Выполняя куклу "Масленица", я сама становлюсь участницей этого большого семейного праздник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Calibri"/>
              </a:rPr>
              <a:t>Автор проекта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2" name="Содержимое 3" descr=""/>
          <p:cNvPicPr/>
          <p:nvPr/>
        </p:nvPicPr>
        <p:blipFill>
          <a:blip r:embed="rId1"/>
          <a:stretch/>
        </p:blipFill>
        <p:spPr>
          <a:xfrm>
            <a:off x="566640" y="1798560"/>
            <a:ext cx="4267440" cy="4589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G:\DCIM\101MSDCF\DSC03866.JPG"/>
          <p:cNvPicPr/>
          <p:nvPr/>
        </p:nvPicPr>
        <p:blipFill>
          <a:blip r:embed="rId2"/>
          <a:stretch/>
        </p:blipFill>
        <p:spPr>
          <a:xfrm>
            <a:off x="4572000" y="1846440"/>
            <a:ext cx="3500280" cy="433836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5T05:32:20Z</dcterms:created>
  <dc:creator>User</dc:creator>
  <dc:description/>
  <dc:language>en-US</dc:language>
  <cp:lastModifiedBy>Mars</cp:lastModifiedBy>
  <dcterms:modified xsi:type="dcterms:W3CDTF">2017-02-12T14:10:12Z</dcterms:modified>
  <cp:revision>19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