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3.png" ContentType="image/png"/>
  <Override PartName="/ppt/media/image32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2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2E1-1C08-4B15-8AAD-29235BD3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157-63F9-49F7-8E7A-91B7F33F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BCE-06EB-4BFE-9BA5-70DB4F86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639-0871-4E15-97E2-EC93DC60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6F2-682C-4EC6-A776-B0A360A3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5DCE-DD3E-4B79-9106-B8D5AFC1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9E43-B6F7-4924-8E2A-EE0A7326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918D-CAD9-4A76-A623-916B7DB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9B8A-1980-4F37-8986-6B42EAF9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D3C-7625-45BC-A23D-58443060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B480-C2D3-4788-A1AC-13123B92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DFE-3663-467B-847A-4D6A961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0B2C-4081-4709-8D46-C7760F6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F27B-935E-4DFB-8CC0-8E0D9FA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F1AA-C191-4A70-A82B-7AF3E92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7E73-9F94-4DC4-B7CA-F5E10A3D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DF94-A041-49F3-BD1A-0EC55145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C1BA-AD69-4E52-BA2F-4DBCBB71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7A82-98EC-44A2-8E50-EFC34E93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5F1B-091F-4D40-A529-0083200E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B7DC-0444-4D3F-8A6C-5ED7C16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0609-5005-4E66-9F50-009EB3C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CA4-9A36-4D30-96D7-3DE6D3D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3025-FDA7-4311-A8EF-143E4ABA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E584-BE79-482C-9168-05A1C33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0D2F-9D28-4ACC-B571-56E7930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D237-FCC2-44D2-9694-D702F96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2B02-0B94-4EF5-ADE9-59689B18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ECF2-7757-406D-AFB6-1D38EC41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64EA-680C-4CDA-9EF8-4CB6E23D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BDA4-7DF8-4F11-8273-DAECCF07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4364A-5C97-482D-9CFD-5E35C105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3E86-E9D1-4874-BF29-ECEB872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634-FFC9-491B-B9FC-C71F03B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BCC7-FFD2-4DCB-85E1-CB5AE401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BEDC-1960-42EA-AD41-F1455811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3686-F121-4CCE-B2E5-43BA49D7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95E4-83D5-4D72-A461-EE30CA7E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B695-4BED-41E7-A285-A0EAAC4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D49B-8D51-419E-BF53-04F05C8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3468-A3F2-4EBA-AB1F-00936F92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0844-A859-4402-963C-6ED5B844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C8BC-1825-41D5-8AAF-7913A56D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97C-73CF-4A75-BAA9-3E25C3B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5E0-AF54-4EF5-8C6A-92F2F4B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9E1-C19D-41AE-9F7E-31B64D3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7AC-795D-46BA-A7FA-C5AAA5D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C23-3470-4170-8A93-3072279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BAFF-D848-4A2B-BC68-2A3340EF134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818-0638-42DE-8830-E896E13D584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5691-83B9-44A9-82AB-75A7D2641BB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9BAE-B21D-473F-9960-19DE8788770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Материалы и оборудование</a:t>
            </a:r>
            <a:br>
              <a:rPr sz="5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ехнологическая карта №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Рисунок 3" descr="G:\проекты октябрь 14-15\проект масленица\фото масленица\P1010657.JPG"/>
          <p:cNvPicPr/>
          <p:nvPr/>
        </p:nvPicPr>
        <p:blipFill>
          <a:blip r:embed="rId1"/>
          <a:stretch/>
        </p:blipFill>
        <p:spPr>
          <a:xfrm>
            <a:off x="542880" y="1530360"/>
            <a:ext cx="1816200" cy="31449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G:\проекты октябрь 14-15\проект масленица\фото масленица\DSCF5509 - копия.JPG"/>
          <p:cNvPicPr/>
          <p:nvPr/>
        </p:nvPicPr>
        <p:blipFill>
          <a:blip r:embed="rId2"/>
          <a:stretch/>
        </p:blipFill>
        <p:spPr>
          <a:xfrm>
            <a:off x="3181320" y="1536840"/>
            <a:ext cx="1689120" cy="29858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5" descr="G:\проекты октябрь 14-15\проект масленица\фото масленица\DSCF5508.JPG"/>
          <p:cNvPicPr/>
          <p:nvPr/>
        </p:nvPicPr>
        <p:blipFill>
          <a:blip r:embed="rId3"/>
          <a:stretch/>
        </p:blipFill>
        <p:spPr>
          <a:xfrm>
            <a:off x="5479920" y="1633680"/>
            <a:ext cx="2140200" cy="24145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6" descr="G:\проекты октябрь 14-15\проект масленица\фото масленица\DSCF5486.JPG"/>
          <p:cNvPicPr/>
          <p:nvPr/>
        </p:nvPicPr>
        <p:blipFill>
          <a:blip r:embed="rId4"/>
          <a:stretch/>
        </p:blipFill>
        <p:spPr>
          <a:xfrm>
            <a:off x="542880" y="3389400"/>
            <a:ext cx="1816200" cy="299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7" descr="G:\проекты октябрь 14-15\проект масленица\фото масленица\DSCF5489.JPG"/>
          <p:cNvPicPr/>
          <p:nvPr/>
        </p:nvPicPr>
        <p:blipFill>
          <a:blip r:embed="rId5"/>
          <a:stretch/>
        </p:blipFill>
        <p:spPr>
          <a:xfrm>
            <a:off x="2724120" y="3468600"/>
            <a:ext cx="1085760" cy="26701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8" descr="untitled987"/>
          <p:cNvPicPr/>
          <p:nvPr/>
        </p:nvPicPr>
        <p:blipFill>
          <a:blip r:embed="rId6"/>
          <a:stretch/>
        </p:blipFill>
        <p:spPr>
          <a:xfrm>
            <a:off x="4468680" y="3468600"/>
            <a:ext cx="1687680" cy="27734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9" descr="G:\проекты октябрь 14-15\проект масленица\фото масленица\P1010662.JPG"/>
          <p:cNvPicPr/>
          <p:nvPr/>
        </p:nvPicPr>
        <p:blipFill>
          <a:blip r:embed="rId7"/>
          <a:stretch/>
        </p:blipFill>
        <p:spPr>
          <a:xfrm>
            <a:off x="6821640" y="3395520"/>
            <a:ext cx="162720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0" descr="12946-14"/>
          <p:cNvPicPr/>
          <p:nvPr/>
        </p:nvPicPr>
        <p:blipFill>
          <a:blip r:embed="rId8"/>
          <a:stretch/>
        </p:blipFill>
        <p:spPr>
          <a:xfrm>
            <a:off x="1341360" y="4889520"/>
            <a:ext cx="2078280" cy="31640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2" descr="untitled32"/>
          <p:cNvPicPr/>
          <p:nvPr/>
        </p:nvPicPr>
        <p:blipFill>
          <a:blip r:embed="rId9"/>
          <a:stretch/>
        </p:blipFill>
        <p:spPr>
          <a:xfrm>
            <a:off x="4413240" y="4956120"/>
            <a:ext cx="2127240" cy="3164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хнологическая последовательность обработки народной обрядовой куклы «Масленица»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хнологическая карта №2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Рисунок 3" descr="http://www.littleone.ru/public/img/articles/more/more_1330044042580_1__1.jpg"/>
          <p:cNvPicPr/>
          <p:nvPr/>
        </p:nvPicPr>
        <p:blipFill>
          <a:blip r:embed="rId1"/>
          <a:stretch/>
        </p:blipFill>
        <p:spPr>
          <a:xfrm>
            <a:off x="357120" y="1928880"/>
            <a:ext cx="2143080" cy="22953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4" descr="http://www.littleone.ru/public/img/articles/more/more_1330044042693_2__1.jpg"/>
          <p:cNvPicPr/>
          <p:nvPr/>
        </p:nvPicPr>
        <p:blipFill>
          <a:blip r:embed="rId2"/>
          <a:stretch/>
        </p:blipFill>
        <p:spPr>
          <a:xfrm>
            <a:off x="3071880" y="192888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http://www.littleone.ru/public/img/articles/more/more_1330044041315_3__1.jpg"/>
          <p:cNvPicPr/>
          <p:nvPr/>
        </p:nvPicPr>
        <p:blipFill>
          <a:blip r:embed="rId3"/>
          <a:stretch/>
        </p:blipFill>
        <p:spPr>
          <a:xfrm>
            <a:off x="5572080" y="20001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6" descr="G:\проекты октябрь 14-15\проект масленица\фото масленица\P1010664.JPG"/>
          <p:cNvPicPr/>
          <p:nvPr/>
        </p:nvPicPr>
        <p:blipFill>
          <a:blip r:embed="rId4"/>
          <a:stretch/>
        </p:blipFill>
        <p:spPr>
          <a:xfrm>
            <a:off x="357120" y="4357800"/>
            <a:ext cx="247968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G:\проекты октябрь 14-15\проект масленица\фото масленица\P1010665.JPG"/>
          <p:cNvPicPr/>
          <p:nvPr/>
        </p:nvPicPr>
        <p:blipFill>
          <a:blip r:embed="rId5"/>
          <a:stretch/>
        </p:blipFill>
        <p:spPr>
          <a:xfrm>
            <a:off x="3214800" y="44290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9" descr="G:\проекты октябрь 14-15\проект масленица\фото масленица\P1010668.JPG"/>
          <p:cNvPicPr/>
          <p:nvPr/>
        </p:nvPicPr>
        <p:blipFill>
          <a:blip r:embed="rId6"/>
          <a:stretch/>
        </p:blipFill>
        <p:spPr>
          <a:xfrm>
            <a:off x="6000840" y="442908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хнологическая последовательность издел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Рисунок 3" descr="G:\проекты октябрь 14-15\проект масленица\фото масленица\DSCF5497.JPG"/>
          <p:cNvPicPr/>
          <p:nvPr/>
        </p:nvPicPr>
        <p:blipFill>
          <a:blip r:embed="rId1"/>
          <a:stretch/>
        </p:blipFill>
        <p:spPr>
          <a:xfrm>
            <a:off x="500040" y="1571760"/>
            <a:ext cx="1500120" cy="20714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G:\проекты октябрь 14-15\проект масленица\фото масленица\DSCF5491.JPG"/>
          <p:cNvPicPr/>
          <p:nvPr/>
        </p:nvPicPr>
        <p:blipFill>
          <a:blip r:embed="rId2"/>
          <a:stretch/>
        </p:blipFill>
        <p:spPr>
          <a:xfrm>
            <a:off x="428760" y="3786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G:\проекты октябрь 14-15\проект масленица\фото масленица\DSCF5492.JPG"/>
          <p:cNvPicPr/>
          <p:nvPr/>
        </p:nvPicPr>
        <p:blipFill>
          <a:blip r:embed="rId3"/>
          <a:stretch/>
        </p:blipFill>
        <p:spPr>
          <a:xfrm>
            <a:off x="2214720" y="3929040"/>
            <a:ext cx="1643040" cy="11462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G:\проекты октябрь 14-15\проект масленица\фото масленица\DSCF5504.JPG"/>
          <p:cNvPicPr/>
          <p:nvPr/>
        </p:nvPicPr>
        <p:blipFill>
          <a:blip r:embed="rId4"/>
          <a:stretch/>
        </p:blipFill>
        <p:spPr>
          <a:xfrm>
            <a:off x="2286000" y="1571760"/>
            <a:ext cx="221472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G:\проекты октябрь 14-15\проект масленица\фото масленица\DSCF5501.JPG"/>
          <p:cNvPicPr/>
          <p:nvPr/>
        </p:nvPicPr>
        <p:blipFill>
          <a:blip r:embed="rId5"/>
          <a:stretch/>
        </p:blipFill>
        <p:spPr>
          <a:xfrm>
            <a:off x="2214720" y="2786040"/>
            <a:ext cx="2286000" cy="10717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9" descr="G:\проекты октябрь 14-15\проект масленица\фото масленица\DSCF5506.JPG"/>
          <p:cNvPicPr/>
          <p:nvPr/>
        </p:nvPicPr>
        <p:blipFill>
          <a:blip r:embed="rId6"/>
          <a:stretch/>
        </p:blipFill>
        <p:spPr>
          <a:xfrm>
            <a:off x="4643280" y="1571760"/>
            <a:ext cx="2143440" cy="17143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0" descr="G:\проекты октябрь 14-15\проект масленица\фото масленица\DSCF5514.JPG"/>
          <p:cNvPicPr/>
          <p:nvPr/>
        </p:nvPicPr>
        <p:blipFill>
          <a:blip r:embed="rId7"/>
          <a:stretch/>
        </p:blipFill>
        <p:spPr>
          <a:xfrm>
            <a:off x="6572160" y="221472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G:\проекты октябрь 14-15\проект масленица\фото масленица\DSCF5494.JPG"/>
          <p:cNvPicPr/>
          <p:nvPr/>
        </p:nvPicPr>
        <p:blipFill>
          <a:blip r:embed="rId8"/>
          <a:stretch/>
        </p:blipFill>
        <p:spPr>
          <a:xfrm>
            <a:off x="4143240" y="364320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3" descr="G:\проекты октябрь 14-15\проект масленица\фото масленица\DSCF5495.JPG"/>
          <p:cNvPicPr/>
          <p:nvPr/>
        </p:nvPicPr>
        <p:blipFill>
          <a:blip r:embed="rId9"/>
          <a:stretch/>
        </p:blipFill>
        <p:spPr>
          <a:xfrm>
            <a:off x="357120" y="5214960"/>
            <a:ext cx="1785960" cy="10904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4" descr="G:\проекты октябрь 14-15\проект масленица\фото масленица\DSCF5499.JPG"/>
          <p:cNvPicPr/>
          <p:nvPr/>
        </p:nvPicPr>
        <p:blipFill>
          <a:blip r:embed="rId10"/>
          <a:stretch/>
        </p:blipFill>
        <p:spPr>
          <a:xfrm>
            <a:off x="2571840" y="5286240"/>
            <a:ext cx="2143080" cy="1214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5" descr="G:\проекты октябрь 14-15\проект масленица\фото масленица\DSCF5500.JPG"/>
          <p:cNvPicPr/>
          <p:nvPr/>
        </p:nvPicPr>
        <p:blipFill>
          <a:blip r:embed="rId11"/>
          <a:stretch/>
        </p:blipFill>
        <p:spPr>
          <a:xfrm>
            <a:off x="5929200" y="4000680"/>
            <a:ext cx="2286000" cy="2624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Выши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Рисунок 4" descr="G:\проекты октябрь 14-15\проект масленица\фото масленица\DSCF5511.JPG"/>
          <p:cNvPicPr/>
          <p:nvPr/>
        </p:nvPicPr>
        <p:blipFill>
          <a:blip r:embed="rId1"/>
          <a:stretch/>
        </p:blipFill>
        <p:spPr>
          <a:xfrm>
            <a:off x="3714840" y="14288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G:\проекты октябрь 14-15\проект масленица\фото масленица\DSCF5525.JPG"/>
          <p:cNvPicPr/>
          <p:nvPr/>
        </p:nvPicPr>
        <p:blipFill>
          <a:blip r:embed="rId2"/>
          <a:stretch/>
        </p:blipFill>
        <p:spPr>
          <a:xfrm>
            <a:off x="4143240" y="3571920"/>
            <a:ext cx="2143440" cy="30448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G:\проекты октябрь 14-15\проект масленица\фото масленица\DSCF5490.JPG"/>
          <p:cNvPicPr/>
          <p:nvPr/>
        </p:nvPicPr>
        <p:blipFill>
          <a:blip r:embed="rId3"/>
          <a:stretch/>
        </p:blipFill>
        <p:spPr>
          <a:xfrm>
            <a:off x="357120" y="1214280"/>
            <a:ext cx="3071880" cy="2143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G:\проекты октябрь 14-15\проект масленица\фото масленица\DSCF5494.JPG"/>
          <p:cNvPicPr/>
          <p:nvPr/>
        </p:nvPicPr>
        <p:blipFill>
          <a:blip r:embed="rId4"/>
          <a:stretch/>
        </p:blipFill>
        <p:spPr>
          <a:xfrm>
            <a:off x="642960" y="3643200"/>
            <a:ext cx="2928960" cy="2643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8" descr="G:\проекты октябрь 14-15\проект масленица\фото масленица\DSCF5527.JPG"/>
          <p:cNvPicPr/>
          <p:nvPr/>
        </p:nvPicPr>
        <p:blipFill>
          <a:blip r:embed="rId5"/>
          <a:stretch/>
        </p:blipFill>
        <p:spPr>
          <a:xfrm>
            <a:off x="6429240" y="1714680"/>
            <a:ext cx="245268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Объект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2714400" cy="207468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2" descr=""/>
          <p:cNvPicPr/>
          <p:nvPr/>
        </p:nvPicPr>
        <p:blipFill>
          <a:blip r:embed="rId2"/>
          <a:stretch/>
        </p:blipFill>
        <p:spPr>
          <a:xfrm>
            <a:off x="3071880" y="1571760"/>
            <a:ext cx="2894040" cy="210168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3" descr=""/>
          <p:cNvPicPr/>
          <p:nvPr/>
        </p:nvPicPr>
        <p:blipFill>
          <a:blip r:embed="rId3"/>
          <a:stretch/>
        </p:blipFill>
        <p:spPr>
          <a:xfrm>
            <a:off x="5857920" y="1714680"/>
            <a:ext cx="2928960" cy="196524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4" descr=""/>
          <p:cNvPicPr/>
          <p:nvPr/>
        </p:nvPicPr>
        <p:blipFill>
          <a:blip r:embed="rId4"/>
          <a:stretch/>
        </p:blipFill>
        <p:spPr>
          <a:xfrm>
            <a:off x="538200" y="3857760"/>
            <a:ext cx="2851200" cy="207144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6" descr=""/>
          <p:cNvPicPr/>
          <p:nvPr/>
        </p:nvPicPr>
        <p:blipFill>
          <a:blip r:embed="rId5"/>
          <a:stretch/>
        </p:blipFill>
        <p:spPr>
          <a:xfrm>
            <a:off x="3143160" y="3857760"/>
            <a:ext cx="2786040" cy="20192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7" descr=""/>
          <p:cNvPicPr/>
          <p:nvPr/>
        </p:nvPicPr>
        <p:blipFill>
          <a:blip r:embed="rId6"/>
          <a:stretch/>
        </p:blipFill>
        <p:spPr>
          <a:xfrm>
            <a:off x="5857920" y="3929040"/>
            <a:ext cx="29289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09440" y="420840"/>
            <a:ext cx="8753400" cy="17985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500040" y="207180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ла расчёт экономических расходов, он состав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.00(пятьдесят )рублей за материал   из лыко, остальной материал был у меня дома, остались лоскутки от других творчески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зготовление куклы «Масленица» я затратила 15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тог работы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выполнила все этапы исслед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ши дни праздник Масленица, как и в эпоху славянских языческих племен, остаётся одним из самых массовых народных гуляний, любимым праздником и взрослых и детей разных национальностей. Масленичная неделя была буквально переполнена праздничными делами: обрядовые и не обрядовые действия, традиционные игры и затеи, обязанности и поступки до отказа заполняли все дни. Сил, энергии, задора хватало на все, поскольку царила атмосфера предельной раскрепощённости, всеобщей радости и веселья. Каждый день масленицы имел свое название, за каждым закреплены были определенные действия, правила повед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 думаю, что моё исследование помогло мне по другому посмотреть на праздник "Масленица", окунуться в те далекие времена, изучая традиции и обряды моего народа. Выполняя куклу "Масленица", я сама становлюсь участницей этого большого семейного праздни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Calibri"/>
              </a:rPr>
              <a:t>Автор проект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3" descr=""/>
          <p:cNvPicPr/>
          <p:nvPr/>
        </p:nvPicPr>
        <p:blipFill>
          <a:blip r:embed="rId1"/>
          <a:stretch/>
        </p:blipFill>
        <p:spPr>
          <a:xfrm>
            <a:off x="566640" y="1798560"/>
            <a:ext cx="4267440" cy="4589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G:\DCIM\101MSDCF\DSC03866.JPG"/>
          <p:cNvPicPr/>
          <p:nvPr/>
        </p:nvPicPr>
        <p:blipFill>
          <a:blip r:embed="rId2"/>
          <a:stretch/>
        </p:blipFill>
        <p:spPr>
          <a:xfrm>
            <a:off x="4572000" y="1846440"/>
            <a:ext cx="3500280" cy="433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5:32:20Z</dcterms:created>
  <dc:creator>User</dc:creator>
  <dc:description/>
  <dc:language>en-US</dc:language>
  <cp:lastModifiedBy>Mars</cp:lastModifiedBy>
  <dcterms:modified xsi:type="dcterms:W3CDTF">2017-02-12T14:10:12Z</dcterms:modified>
  <cp:revision>1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