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4955-7B7A-4D55-AD55-F2E161AB73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5DB8-40A2-48AA-93B1-76EFDDB6B95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63B1-020F-4646-8AC7-5E09A2D3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A887-7D06-45AD-8AD2-C790E0D5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BF97-7368-40FB-AF3F-7BB1E606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D7B-F222-47E2-A5E4-F68FE706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CFF-7386-4395-B359-B19923C2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730-E711-4036-8FF1-55C87266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E71-0DED-4442-BBC1-4919B4EF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EF9-DF40-4A4A-90CB-49AD2279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D715-1D76-4626-BA64-B545FC81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6C73-0EA1-4BAC-A7BD-B7ED8B09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697-71FA-4517-905D-97ED5821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FCDE-14D2-4672-A84C-BA1D1D6E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93AF-39BB-41CF-96CA-AFD7783651F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Прямоугольник 7"/>
          <p:cNvGrpSpPr/>
          <p:nvPr/>
        </p:nvGrpSpPr>
        <p:grpSpPr>
          <a:xfrm>
            <a:off x="-12600" y="-6480"/>
            <a:ext cx="9205920" cy="6883560"/>
            <a:chOff x="-12600" y="-6480"/>
            <a:chExt cx="9205920" cy="6883560"/>
          </a:xfrm>
        </p:grpSpPr>
        <p:pic>
          <p:nvPicPr>
            <p:cNvPr id="49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-12600" y="-6480"/>
              <a:ext cx="920592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4680"/>
              <a:ext cx="9178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1" name="Рисунок 6" descr="0_8d705_4ec530c8_L.png"/>
          <p:cNvPicPr/>
          <p:nvPr/>
        </p:nvPicPr>
        <p:blipFill>
          <a:blip r:embed="rId2"/>
          <a:stretch/>
        </p:blipFill>
        <p:spPr>
          <a:xfrm>
            <a:off x="0" y="21420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52" name="Рамка 3" descr=""/>
          <p:cNvPicPr/>
          <p:nvPr/>
        </p:nvPicPr>
        <p:blipFill>
          <a:blip r:embed="rId3"/>
          <a:stretch/>
        </p:blipFill>
        <p:spPr>
          <a:xfrm>
            <a:off x="414360" y="341280"/>
            <a:ext cx="8388360" cy="6175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0_5b0ab_31a270ea_XL.jpeg"/>
          <p:cNvPicPr/>
          <p:nvPr/>
        </p:nvPicPr>
        <p:blipFill>
          <a:blip r:embed="rId4"/>
          <a:stretch/>
        </p:blipFill>
        <p:spPr>
          <a:xfrm>
            <a:off x="4498920" y="3571920"/>
            <a:ext cx="4175280" cy="2841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Иятта\Рабочий стол\ЭТО СРОЧНО\Новая папка\звоночек.gif"/>
          <p:cNvPicPr/>
          <p:nvPr/>
        </p:nvPicPr>
        <p:blipFill>
          <a:blip r:embed="rId5"/>
          <a:stretch/>
        </p:blipFill>
        <p:spPr>
          <a:xfrm>
            <a:off x="7358040" y="5000760"/>
            <a:ext cx="1500120" cy="1468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5" name="Прямоугольник 13" descr=""/>
          <p:cNvPicPr/>
          <p:nvPr/>
        </p:nvPicPr>
        <p:blipFill>
          <a:blip r:embed="rId6"/>
          <a:stretch/>
        </p:blipFill>
        <p:spPr>
          <a:xfrm>
            <a:off x="1908000" y="1773360"/>
            <a:ext cx="6235920" cy="2463840"/>
          </a:xfrm>
          <a:prstGeom prst="rect">
            <a:avLst/>
          </a:prstGeom>
          <a:ln w="0">
            <a:noFill/>
          </a:ln>
        </p:spPr>
      </p:pic>
      <p:sp>
        <p:nvSpPr>
          <p:cNvPr id="56" name="TextBox 14"/>
          <p:cNvSpPr/>
          <p:nvPr/>
        </p:nvSpPr>
        <p:spPr>
          <a:xfrm>
            <a:off x="868320" y="450072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00000"/>
                </a:solidFill>
                <a:latin typeface="Calibri"/>
              </a:rPr>
              <a:t>Гурьянова Марина Борисов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00000"/>
                </a:solidFill>
                <a:latin typeface="Calibri"/>
              </a:rPr>
              <a:t>МБОУ «СОШ №1 г. Петровска Саратов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95492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e2200"/>
                </a:solidFill>
                <a:latin typeface="Calibri"/>
              </a:rPr>
              <a:t>ВЫПОЛНЕНИЕ ЭТОЙ РАБОТЫ МНЕ ПОНРАВИЛОСЬ (НЕ ПОНРАВИЛОСЬ), ПОТОМУ  ЧТО_____________________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2e2200"/>
                </a:solidFill>
                <a:latin typeface="Calibri"/>
              </a:rPr>
              <a:t>НАИБОЛЕЕ ТРУДНЫМ МНЕ ПОКАЗАЛОСЬ____________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2e2200"/>
                </a:solidFill>
                <a:latin typeface="Calibri"/>
              </a:rPr>
              <a:t>Я ДУМАЮ, ЭТО ПОТОМУ, ЧТО ______________________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2e2200"/>
                </a:solidFill>
                <a:latin typeface="Calibri"/>
              </a:rPr>
              <a:t>САМЫМ ИНТЕРЕСНЫМ БЫЛО ______________________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2e2200"/>
                </a:solidFill>
                <a:latin typeface="Calibri"/>
              </a:rPr>
              <a:t>ЕСЛИ БЫ Я ЕЩЕ РАЗ ВЫПОЛНЯЛ ЭТУ РАБОТУ, ТО Я БЫ СДЕЛАЛ СЛЕДУЮЩЕЕ ____________________________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2e2200"/>
                </a:solidFill>
                <a:latin typeface="Calibri"/>
              </a:rPr>
              <a:t>Я БЫ ХОТЕЛ ПОПРОСИТЬ СВОЕГО УЧИТЕЛЯ __________</a:t>
            </a:r>
            <a:br>
              <a:rPr sz="2400"/>
            </a:br>
            <a:r>
              <a:rPr b="1" lang="ru-RU" sz="2400" spc="-1" strike="noStrike">
                <a:solidFill>
                  <a:srgbClr val="2e22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4" descr="C:\Users\ДНС\Desktop\shkola.jpg"/>
          <p:cNvPicPr/>
          <p:nvPr/>
        </p:nvPicPr>
        <p:blipFill>
          <a:blip r:embed="rId1"/>
          <a:stretch/>
        </p:blipFill>
        <p:spPr>
          <a:xfrm>
            <a:off x="6516720" y="4987800"/>
            <a:ext cx="24526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8832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115560"/>
            <a:ext cx="766764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0000"/>
                </a:solidFill>
                <a:latin typeface="Calibri"/>
              </a:rPr>
              <a:t>Рекомендуемые источники информации для оцениван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26920" y="1413000"/>
          <a:ext cx="7417080" cy="4176720"/>
        </p:xfrm>
        <a:graphic>
          <a:graphicData uri="http://schemas.openxmlformats.org/drawingml/2006/table">
            <a:tbl>
              <a:tblPr/>
              <a:tblGrid>
                <a:gridCol w="3824280"/>
                <a:gridCol w="3592800"/>
              </a:tblGrid>
              <a:tr h="108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чник информ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от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773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боты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71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71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тистические дан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73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ультаты тестир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pic>
        <p:nvPicPr>
          <p:cNvPr id="92" name="Picture 4" descr="C:\Users\ДНС\Desktop\knigi.png"/>
          <p:cNvPicPr/>
          <p:nvPr/>
        </p:nvPicPr>
        <p:blipFill>
          <a:blip r:embed="rId1"/>
          <a:stretch/>
        </p:blipFill>
        <p:spPr>
          <a:xfrm>
            <a:off x="7093080" y="4924440"/>
            <a:ext cx="1933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197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280" y="259920"/>
            <a:ext cx="7738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екомендуемые методы оцениван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00000" y="1341360"/>
          <a:ext cx="7272360" cy="4391280"/>
        </p:xfrm>
        <a:graphic>
          <a:graphicData uri="http://schemas.openxmlformats.org/drawingml/2006/table">
            <a:tbl>
              <a:tblPr/>
              <a:tblGrid>
                <a:gridCol w="3748320"/>
                <a:gridCol w="3524040"/>
              </a:tblGrid>
              <a:tr h="735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чник информ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от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522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22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 вы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2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бор отве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22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раткий отв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22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рытый отв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22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ртфоли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22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амоанали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96" name="Picture 2" descr="C:\Users\ДНС\Desktop\globus-kolokolchik-knigi-300x300.png"/>
          <p:cNvPicPr/>
          <p:nvPr/>
        </p:nvPicPr>
        <p:blipFill>
          <a:blip r:embed="rId1"/>
          <a:stretch/>
        </p:blipFill>
        <p:spPr>
          <a:xfrm>
            <a:off x="7451640" y="5157720"/>
            <a:ext cx="15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267920"/>
            <a:ext cx="781056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188640"/>
            <a:ext cx="766764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екомендуемые методы и инструменты оцениван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00000" y="1484280"/>
          <a:ext cx="7344000" cy="4321080"/>
        </p:xfrm>
        <a:graphic>
          <a:graphicData uri="http://schemas.openxmlformats.org/drawingml/2006/table">
            <a:tbl>
              <a:tblPr/>
              <a:tblGrid>
                <a:gridCol w="2192400"/>
                <a:gridCol w="1486080"/>
                <a:gridCol w="1158840"/>
                <a:gridCol w="1253880"/>
                <a:gridCol w="1252800"/>
              </a:tblGrid>
              <a:tr h="3492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тоды оцени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струменты оцени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Критериаль-ные опис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Этало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Памят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Линейки достиж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33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блю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092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ивание процесса вы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18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бор ответа, краткий отв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3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рытый отв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100" name="Picture 2" descr="C:\Users\ДНС\Desktop\mini_1.jpg"/>
          <p:cNvPicPr/>
          <p:nvPr/>
        </p:nvPicPr>
        <p:blipFill>
          <a:blip r:embed="rId1"/>
          <a:stretch/>
        </p:blipFill>
        <p:spPr>
          <a:xfrm>
            <a:off x="7380360" y="5475240"/>
            <a:ext cx="17002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17056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1.  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НАЧАЛО РАБОТЫ</a:t>
            </a: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: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ОБСУДИТЬ ЗАМЫСЕЛ В МАЛОЙ ГРУППЕ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ПОДЕЛИТЬСЯ ИДЕЯМИ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2.  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ПОДГОТОВИТЕЛЬНЫЙ ЭТАП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ПРОГОВОРИТЬ ПЛАН В МАЛОЙ ГРУППЕ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ВЫБРАТЬ ТИП ТЕКСТА, ОСНОВНУЮ ИДЕЮ И ТЕМУ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ИЗОБРАЗИТЬ СХЕМАТИЧЕСКИ РАЗВИТИЕ СЮЖЕТА (НАЧАЛО – СЕРЕДИНА – ОКОНЧАНИЕ)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 ПОДОБРАТЬ МАТЕРИАЛЫ, ИНФОРМАЦИЮ, ИДЕИ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СОЗДАТЬ БАНК СЛОВ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3.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ОСНОВНОЙ ЭТАП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НАПИСАТЬ ЧЕРНОВИК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ПРОЧИТАТЬ ЧЕРНОВИК В МАЛОЙ ГРУППЕ, ОТМЕТИТЬ МЕСТА, ТРЕБУЮЩИЕ ПРАВКИ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ВНЕСТИ ИСПРАВЛЕНИЯ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4. 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ПОДГОТОВКА ОКОНЧАТЕЛЬНОЙ ВЕРСИИ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 ЕЩЕ РАЗ ПРОЧИТАТЬ В МАЛОЙ ГРУППЕ, ПОПРОСИТЬ ПРОЧИТАТЬ ТОВАРИЩЕЙ ИЛИ УЧИТЕЛЯ, ПЕРЕЧИТАТЬ САМОМУ И ВНЕСТИ ОКОНЧАТЕЛЬНУЮ ПРАВКУ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ОФОРМИТЬ РАБОТУ: КРАСИВО РАЗМЕСТИТЬ НА СТРАНИЦАХ И ПРОИЛЛЮСТРИРОВАТЬ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189000"/>
            <a:ext cx="78102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00000"/>
                </a:solidFill>
                <a:latin typeface="Calibri"/>
              </a:rPr>
              <a:t>Памятка по подготовке и выполнению письменной работ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2" descr="C:\Documents and Settings\Иятта\Рабочий стол\ЭТО СРОЧНО\Новая папка\звоночек.gif"/>
          <p:cNvPicPr/>
          <p:nvPr/>
        </p:nvPicPr>
        <p:blipFill>
          <a:blip r:embed="rId1"/>
          <a:stretch/>
        </p:blipFill>
        <p:spPr>
          <a:xfrm>
            <a:off x="7705800" y="5445000"/>
            <a:ext cx="1352520" cy="132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1413000"/>
            <a:ext cx="77724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04da3"/>
                </a:solidFill>
                <a:latin typeface="Calibri"/>
              </a:rPr>
              <a:t>                         </a:t>
            </a:r>
            <a:r>
              <a:rPr b="1" lang="ru-RU" sz="3600" spc="-1" strike="noStrike">
                <a:solidFill>
                  <a:srgbClr val="a04da3"/>
                </a:solidFill>
                <a:latin typeface="Calibri"/>
              </a:rPr>
              <a:t>карта понятий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Рисунок 3" descr="D:\Desktop\ск.jpeg"/>
          <p:cNvPicPr/>
          <p:nvPr/>
        </p:nvPicPr>
        <p:blipFill>
          <a:blip r:embed="rId1"/>
          <a:srcRect l="20953" t="19072" r="7334" b="16503"/>
          <a:stretch/>
        </p:blipFill>
        <p:spPr>
          <a:xfrm>
            <a:off x="900000" y="1557360"/>
            <a:ext cx="3959280" cy="40323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D:\Desktop\ск2.jpeg"/>
          <p:cNvPicPr/>
          <p:nvPr/>
        </p:nvPicPr>
        <p:blipFill>
          <a:blip r:embed="rId2"/>
          <a:stretch/>
        </p:blipFill>
        <p:spPr>
          <a:xfrm>
            <a:off x="5292720" y="1557360"/>
            <a:ext cx="2846520" cy="403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ДНС\Desktop\globus-kolokolchik-knigi-300x300.png"/>
          <p:cNvPicPr/>
          <p:nvPr/>
        </p:nvPicPr>
        <p:blipFill>
          <a:blip r:embed="rId3"/>
          <a:stretch/>
        </p:blipFill>
        <p:spPr>
          <a:xfrm>
            <a:off x="7524720" y="5229360"/>
            <a:ext cx="15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2160" y="12682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04da3"/>
                </a:solidFill>
                <a:latin typeface="Calibri"/>
              </a:rPr>
              <a:t>- </a:t>
            </a:r>
            <a:r>
              <a:rPr b="1" i="1" lang="ru-RU" sz="2400" spc="-1" strike="noStrike">
                <a:solidFill>
                  <a:srgbClr val="a04da3"/>
                </a:solidFill>
                <a:latin typeface="Calibri"/>
              </a:rPr>
              <a:t>В ХОДЕ РАБОТЫ НАД ПРОЕКТОМ Я ПРОБОВАЛ НОВЫЕ ВЕЩИ</a:t>
            </a:r>
            <a:br>
              <a:rPr sz="2400"/>
            </a:br>
            <a:r>
              <a:rPr b="1" i="1" lang="ru-RU" sz="2400" spc="-1" strike="noStrike">
                <a:solidFill>
                  <a:srgbClr val="a04da3"/>
                </a:solidFill>
                <a:latin typeface="Calibri"/>
              </a:rPr>
              <a:t>- В ХОДЕ РАБОТЫ НАД ПРОЕКТОМ Я ЖДАЛ СВОЕЙ ОЧЕРЕДИ</a:t>
            </a:r>
            <a:br>
              <a:rPr sz="2400"/>
            </a:br>
            <a:r>
              <a:rPr b="1" i="1" lang="ru-RU" sz="2400" spc="-1" strike="noStrike">
                <a:solidFill>
                  <a:srgbClr val="a04da3"/>
                </a:solidFill>
                <a:latin typeface="Calibri"/>
              </a:rPr>
              <a:t>- В ХОДЕ РАБОТЫ НАД ПРОЕКТОМ Я РАБОТАЛ ВМЕСТЕ</a:t>
            </a:r>
            <a:br>
              <a:rPr sz="2400"/>
            </a:br>
            <a:r>
              <a:rPr b="1" i="1" lang="ru-RU" sz="2400" spc="-1" strike="noStrike">
                <a:solidFill>
                  <a:srgbClr val="a04da3"/>
                </a:solidFill>
                <a:latin typeface="Calibri"/>
              </a:rPr>
              <a:t>- В ХОДЕ РАБОТЫ НАД ПРОЕКТОМ Я СПРАШИВАЛ, ПОМОГАЛ</a:t>
            </a:r>
            <a:br>
              <a:rPr sz="2400"/>
            </a:br>
            <a:r>
              <a:rPr b="1" i="1" lang="ru-RU" sz="2400" spc="-1" strike="noStrike">
                <a:solidFill>
                  <a:srgbClr val="a04da3"/>
                </a:solidFill>
                <a:latin typeface="Calibri"/>
              </a:rPr>
              <a:t>- В ХОДЕ РАБОТЫ НАД ПРОЕКТОМ Я РЕШАЛ ПРОБЛЕМЫ</a:t>
            </a:r>
            <a:br>
              <a:rPr sz="2400"/>
            </a:br>
            <a:r>
              <a:rPr b="1" i="1" lang="ru-RU" sz="2400" spc="-1" strike="noStrike">
                <a:solidFill>
                  <a:srgbClr val="a04da3"/>
                </a:solidFill>
                <a:latin typeface="Calibri"/>
              </a:rPr>
              <a:t>- В ХОДЕ РАБОТЫ НАД ПРОЕКТОМ Я ДЕЛАЛ ПРАВИЛЬНЫЙ ВЫБОР</a:t>
            </a:r>
            <a:br>
              <a:rPr sz="2400"/>
            </a:br>
            <a:r>
              <a:rPr b="1" i="1" lang="ru-RU" sz="2400" spc="-1" strike="noStrike">
                <a:solidFill>
                  <a:srgbClr val="a04da3"/>
                </a:solidFill>
                <a:latin typeface="Calibri"/>
              </a:rPr>
              <a:t>- В ХОДЕ РАБОТЫ НАД ПРОЕКТОМ Я ПРОВЕРЯЛ СВОЮ РАБОТУ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21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Рисунок 6" descr="0_8d705_4ec530c8_L.png"/>
          <p:cNvPicPr/>
          <p:nvPr/>
        </p:nvPicPr>
        <p:blipFill>
          <a:blip r:embed="rId1"/>
          <a:stretch/>
        </p:blipFill>
        <p:spPr>
          <a:xfrm>
            <a:off x="6012000" y="4730760"/>
            <a:ext cx="304776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Данная методика позволяет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61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4a26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a261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4a2610"/>
                </a:solidFill>
                <a:latin typeface="Calibri"/>
              </a:rPr>
              <a:t>повысить качество выполнения домашнего  задания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4a26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a2610"/>
                </a:solidFill>
                <a:latin typeface="Calibri"/>
              </a:rPr>
              <a:t>выявить уровень понимания материала учащимися и разобрать моменты, вызвавшие затруднения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4a26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a2610"/>
                </a:solidFill>
                <a:latin typeface="Calibri"/>
              </a:rPr>
              <a:t>развить критическое мышление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4a26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a2610"/>
                </a:solidFill>
                <a:latin typeface="Calibri"/>
              </a:rPr>
              <a:t>построить обучение на основе сотрудничества учителя и учеников, повысить активную роль детей в процессе обучения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3" descr="C:\Users\ДНС\Desktop\skoro_v_shkolu_kartinki_15-500x313.jpg"/>
          <p:cNvPicPr/>
          <p:nvPr/>
        </p:nvPicPr>
        <p:blipFill>
          <a:blip r:embed="rId1"/>
          <a:stretch/>
        </p:blipFill>
        <p:spPr>
          <a:xfrm>
            <a:off x="3276720" y="4702320"/>
            <a:ext cx="360972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771516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buClr>
                <a:srgbClr val="2e2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e2200"/>
                </a:solidFill>
                <a:latin typeface="Calibri"/>
              </a:rPr>
              <a:t>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haroni"/>
              </a:rPr>
              <a:t>Функции системы оценивания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e2200"/>
                </a:solidFill>
                <a:latin typeface="Calibri"/>
                <a:ea typeface="Aharoni"/>
              </a:rPr>
              <a:t>-</a:t>
            </a:r>
            <a:r>
              <a:rPr b="1" i="1" lang="ru-RU" sz="2000" spc="-1" strike="noStrike" u="sng">
                <a:solidFill>
                  <a:srgbClr val="7030a0"/>
                </a:solidFill>
                <a:uFillTx/>
                <a:latin typeface="Calibri"/>
              </a:rPr>
              <a:t>нормативная</a:t>
            </a: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2e2200"/>
                </a:solidFill>
                <a:latin typeface="Calibri"/>
              </a:rPr>
              <a:t>позволяет проверить соответствие с нормативом, утвержденным ФГОС;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i="1" lang="ru-RU" sz="2000" spc="-1" strike="noStrike" u="sng">
                <a:solidFill>
                  <a:srgbClr val="7030a0"/>
                </a:solidFill>
                <a:uFillTx/>
                <a:latin typeface="Calibri"/>
              </a:rPr>
              <a:t>информирующая</a:t>
            </a: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2e2200"/>
                </a:solidFill>
                <a:latin typeface="Calibri"/>
              </a:rPr>
              <a:t>даёт информацию об успехах и нереализованных возможностях школьника;</a:t>
            </a:r>
            <a:br>
              <a:rPr sz="2000"/>
            </a:br>
            <a:r>
              <a:rPr b="1" i="1" lang="ru-RU" sz="2000" spc="-1" strike="noStrike">
                <a:solidFill>
                  <a:srgbClr val="2e2200"/>
                </a:solidFill>
                <a:latin typeface="Calibri"/>
              </a:rPr>
              <a:t>-</a:t>
            </a:r>
            <a:r>
              <a:rPr b="1" i="1" lang="ru-RU" sz="2000" spc="-1" strike="noStrike" u="sng">
                <a:solidFill>
                  <a:srgbClr val="7030a0"/>
                </a:solidFill>
                <a:uFillTx/>
                <a:latin typeface="Calibri"/>
              </a:rPr>
              <a:t>корректирующая</a:t>
            </a: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2e2200"/>
                </a:solidFill>
                <a:latin typeface="Calibri"/>
              </a:rPr>
              <a:t> способствует внесению поправок в действия школьника, корректировке его установок, взглядов;  </a:t>
            </a:r>
            <a:br>
              <a:rPr sz="2000"/>
            </a:br>
            <a:r>
              <a:rPr b="1" i="1" lang="ru-RU" sz="2000" spc="-1" strike="noStrike">
                <a:solidFill>
                  <a:srgbClr val="2e2200"/>
                </a:solidFill>
                <a:latin typeface="Calibri"/>
              </a:rPr>
              <a:t>-</a:t>
            </a:r>
            <a:r>
              <a:rPr b="1" i="1" lang="ru-RU" sz="2000" spc="-1" strike="noStrike" u="sng">
                <a:solidFill>
                  <a:srgbClr val="7030a0"/>
                </a:solidFill>
                <a:uFillTx/>
                <a:latin typeface="Calibri"/>
              </a:rPr>
              <a:t>воспитывающая</a:t>
            </a:r>
            <a:r>
              <a:rPr b="1" i="1" lang="ru-RU" sz="2000" spc="-1" strike="noStrike">
                <a:solidFill>
                  <a:srgbClr val="2e2200"/>
                </a:solidFill>
                <a:latin typeface="Calibri"/>
              </a:rPr>
              <a:t>  создаёт условия для воспитания личностных качеств;  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i="1" lang="ru-RU" sz="2000" spc="-1" strike="noStrike" u="sng">
                <a:solidFill>
                  <a:srgbClr val="7030a0"/>
                </a:solidFill>
                <a:uFillTx/>
                <a:latin typeface="Calibri"/>
              </a:rPr>
              <a:t>социальная</a:t>
            </a:r>
            <a:r>
              <a:rPr b="1" i="1" lang="ru-RU" sz="2000" spc="-1" strike="noStrike">
                <a:solidFill>
                  <a:srgbClr val="2e2200"/>
                </a:solidFill>
                <a:latin typeface="Calibri"/>
              </a:rPr>
              <a:t>  влияет на самооценку, статус школьника в коллективе сверстников;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i="1" lang="ru-RU" sz="2000" spc="-1" strike="noStrike" u="sng">
                <a:solidFill>
                  <a:srgbClr val="7030a0"/>
                </a:solidFill>
                <a:uFillTx/>
                <a:latin typeface="Calibri"/>
              </a:rPr>
              <a:t>диагностическая</a:t>
            </a: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2e2200"/>
                </a:solidFill>
                <a:latin typeface="Calibri"/>
              </a:rPr>
              <a:t> определяет уровень знаний, сформированность  надпредметных умений; </a:t>
            </a:r>
            <a:r>
              <a:rPr b="1" lang="ru-RU" sz="2000" spc="-1" strike="noStrike">
                <a:solidFill>
                  <a:srgbClr val="2e2200"/>
                </a:solidFill>
                <a:latin typeface="Calibri"/>
              </a:rPr>
              <a:t>   </a:t>
            </a:r>
            <a:br>
              <a:rPr sz="2000"/>
            </a:br>
            <a:r>
              <a:rPr b="1" i="1" lang="ru-RU" sz="2000" spc="-1" strike="noStrike">
                <a:solidFill>
                  <a:srgbClr val="2e2200"/>
                </a:solidFill>
                <a:latin typeface="Calibri"/>
              </a:rPr>
              <a:t>-</a:t>
            </a:r>
            <a:r>
              <a:rPr b="1" i="1" lang="ru-RU" sz="2000" spc="-1" strike="noStrike" u="sng">
                <a:solidFill>
                  <a:srgbClr val="7030a0"/>
                </a:solidFill>
                <a:uFillTx/>
                <a:latin typeface="Calibri"/>
              </a:rPr>
              <a:t>стимулирующая</a:t>
            </a:r>
            <a:r>
              <a:rPr b="1" i="1" lang="ru-RU" sz="2000" spc="-1" strike="noStrike">
                <a:solidFill>
                  <a:srgbClr val="2e2200"/>
                </a:solidFill>
                <a:latin typeface="Calibri"/>
              </a:rPr>
              <a:t>  способствует созданию успеха, поддержанию интереса к деятельности и т.п.         </a:t>
            </a:r>
            <a:br>
              <a:rPr sz="2000"/>
            </a:br>
            <a:r>
              <a:rPr b="1" i="1" lang="ru-RU" sz="2000" spc="-1" strike="noStrike">
                <a:solidFill>
                  <a:srgbClr val="2e22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Рисунок 6" descr="0_8d705_4ec530c8_L.png"/>
          <p:cNvPicPr/>
          <p:nvPr/>
        </p:nvPicPr>
        <p:blipFill>
          <a:blip r:embed="rId1"/>
          <a:stretch/>
        </p:blipFill>
        <p:spPr>
          <a:xfrm>
            <a:off x="6012000" y="4730760"/>
            <a:ext cx="3047760" cy="19670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150920" cy="1297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26920" y="1052640"/>
            <a:ext cx="78710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истема оценивания образовательных результатов</a:t>
            </a:r>
            <a:br>
              <a:rPr sz="14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5280" y="1268280"/>
          <a:ext cx="8078760" cy="4640400"/>
        </p:xfrm>
        <a:graphic>
          <a:graphicData uri="http://schemas.openxmlformats.org/drawingml/2006/table">
            <a:tbl>
              <a:tblPr/>
              <a:tblGrid>
                <a:gridCol w="2379600"/>
                <a:gridCol w="2849760"/>
                <a:gridCol w="2849400"/>
              </a:tblGrid>
              <a:tr h="444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сти системы оцени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        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кт оцени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ЗУН, познавательные, регулятивные результа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личностные результа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р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Персонифицированная количественная 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Персонифицированная/ неперсонифицированная качественная 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0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ства фиксации результатов оцен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Листы достижений, классные журналы, справки по результатам внутришкольного контро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Дневники наблюдения учителя (классного руководителя, воспитателя ГПД, психолог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Характеристики обучаю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соб (поэтапность процедуры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Тематические контрольные работы, тестовый контроль, диагностические работы, задания частично-поискового характе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Проектная деятельность, участие в общественной жизни класса, портфолио, задания творческого характе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словия эффективности системы оцени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В ОУ они могут быть различными, но систематичность, личностно-ориентированность, позитивность – основные постоянные принципы современной оценочной деятельности педагог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3" name="Picture 2" descr="C:\Documents and Settings\Иятта\Рабочий стол\ЭТО СРОЧНО\Новая папка\звоночек.gif"/>
          <p:cNvPicPr/>
          <p:nvPr/>
        </p:nvPicPr>
        <p:blipFill>
          <a:blip r:embed="rId1"/>
          <a:stretch/>
        </p:blipFill>
        <p:spPr>
          <a:xfrm>
            <a:off x="7705800" y="5445000"/>
            <a:ext cx="1352520" cy="132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1128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2610"/>
                </a:solidFill>
                <a:latin typeface="Calibri"/>
              </a:rPr>
              <a:t>                        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Методы оценива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4a26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a2610"/>
                </a:solidFill>
                <a:latin typeface="Calibri"/>
              </a:rPr>
              <a:t>наблюдение,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4a26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a2610"/>
                </a:solidFill>
                <a:latin typeface="Calibri"/>
              </a:rPr>
              <a:t>оценивание процесса выполнения,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4a26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a2610"/>
                </a:solidFill>
                <a:latin typeface="Calibri"/>
              </a:rPr>
              <a:t>открытый отве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Объект 5" descr="0_5b0ab_31a270ea_XL.jpeg"/>
          <p:cNvPicPr/>
          <p:nvPr/>
        </p:nvPicPr>
        <p:blipFill>
          <a:blip r:embed="rId1"/>
          <a:stretch/>
        </p:blipFill>
        <p:spPr>
          <a:xfrm>
            <a:off x="5089680" y="3859200"/>
            <a:ext cx="3786120" cy="257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Иятта\Рабочий стол\ЭТО СРОЧНО\Новая папка\звоночек.gif"/>
          <p:cNvPicPr/>
          <p:nvPr/>
        </p:nvPicPr>
        <p:blipFill>
          <a:blip r:embed="rId2"/>
          <a:stretch/>
        </p:blipFill>
        <p:spPr>
          <a:xfrm>
            <a:off x="8043840" y="5383080"/>
            <a:ext cx="1022400" cy="1001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63272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Рисунок 3" descr="0_8d705_4ec530c8_L.png"/>
          <p:cNvPicPr/>
          <p:nvPr/>
        </p:nvPicPr>
        <p:blipFill>
          <a:blip r:embed="rId1"/>
          <a:stretch/>
        </p:blipFill>
        <p:spPr>
          <a:xfrm>
            <a:off x="25560" y="115920"/>
            <a:ext cx="2430360" cy="15685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1"/>
          <p:cNvSpPr/>
          <p:nvPr/>
        </p:nvSpPr>
        <p:spPr>
          <a:xfrm>
            <a:off x="5003640" y="4149720"/>
            <a:ext cx="1554480" cy="19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8462e"/>
                </a:solidFill>
                <a:latin typeface="Calibri"/>
              </a:rPr>
              <a:t>предметные результ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03280" y="1052640"/>
          <a:ext cx="6624720" cy="4176720"/>
        </p:xfrm>
        <a:graphic>
          <a:graphicData uri="http://schemas.openxmlformats.org/drawingml/2006/table">
            <a:tbl>
              <a:tblPr/>
              <a:tblGrid>
                <a:gridCol w="546120"/>
                <a:gridCol w="544680"/>
                <a:gridCol w="5533920"/>
              </a:tblGrid>
              <a:tr h="35856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СТ НАБЛЮД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 РАБОТЫ В ГРУПП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МЯ, ФАМИЛИЯ ___________________________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·        чередует говорение и слушание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·        задает уместные вопросы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58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·        говорит по теме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92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·        пытается полно отвечать на замечания и вопросы товарищей по работе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71" name="Объект 5" descr="0_5b0ab_31a270ea_XL.jpeg"/>
          <p:cNvPicPr/>
          <p:nvPr/>
        </p:nvPicPr>
        <p:blipFill>
          <a:blip r:embed="rId2"/>
          <a:stretch/>
        </p:blipFill>
        <p:spPr>
          <a:xfrm>
            <a:off x="6461280" y="5059440"/>
            <a:ext cx="26463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141560" y="260280"/>
          <a:ext cx="6526080" cy="4897440"/>
        </p:xfrm>
        <a:graphic>
          <a:graphicData uri="http://schemas.openxmlformats.org/drawingml/2006/table">
            <a:tbl>
              <a:tblPr/>
              <a:tblGrid>
                <a:gridCol w="566640"/>
                <a:gridCol w="568440"/>
                <a:gridCol w="5391000"/>
              </a:tblGrid>
              <a:tr h="37008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СТ НАБЛЮД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 УСТНОЙ ПРЕЗЕНТ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63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·        наглядно передает содержание и структуру сообщ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·        выбирает доступное содерж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63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·        выбирает удачную форму подачи информации, помогающую понять смысл сообщ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63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·        привлекает аудиторию с помощью глазного контакта, уместных устных реплик и т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·        использует специальные слова и выраж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63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·        использует разнообразные предложения и словосочетания, которые оживляют реч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4" descr="C:\Users\ДНС\Desktop\knigi.png"/>
          <p:cNvPicPr/>
          <p:nvPr/>
        </p:nvPicPr>
        <p:blipFill>
          <a:blip r:embed="rId1"/>
          <a:stretch/>
        </p:blipFill>
        <p:spPr>
          <a:xfrm>
            <a:off x="7093080" y="4924440"/>
            <a:ext cx="1933560" cy="1933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Users\ДНС\Desktop\i.jpg"/>
          <p:cNvPicPr/>
          <p:nvPr/>
        </p:nvPicPr>
        <p:blipFill>
          <a:blip r:embed="rId2"/>
          <a:stretch/>
        </p:blipFill>
        <p:spPr>
          <a:xfrm>
            <a:off x="325440" y="4941720"/>
            <a:ext cx="1630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e2200"/>
                </a:solidFill>
                <a:latin typeface="Calibri"/>
              </a:rPr>
              <a:t>  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400" spc="-1" strike="noStrike" u="sng">
                <a:solidFill>
                  <a:srgbClr val="900000"/>
                </a:solidFill>
                <a:uFillTx/>
                <a:latin typeface="Arial"/>
                <a:ea typeface="Times New Roman"/>
              </a:rPr>
              <a:t>Формулировка вопросов, постановка проблем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C:\Users\ДНС\Desktop\globus-kolokolchik-knigi-300x300.png"/>
          <p:cNvPicPr/>
          <p:nvPr/>
        </p:nvPicPr>
        <p:blipFill>
          <a:blip r:embed="rId1"/>
          <a:stretch/>
        </p:blipFill>
        <p:spPr>
          <a:xfrm>
            <a:off x="7596360" y="4797360"/>
            <a:ext cx="15476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042920" y="1197000"/>
          <a:ext cx="6842160" cy="3887640"/>
        </p:xfrm>
        <a:graphic>
          <a:graphicData uri="http://schemas.openxmlformats.org/drawingml/2006/table">
            <a:tbl>
              <a:tblPr/>
              <a:tblGrid>
                <a:gridCol w="1886040"/>
                <a:gridCol w="2679840"/>
                <a:gridCol w="2276280"/>
              </a:tblGrid>
              <a:tr h="3060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Задает прост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Задавая вопрос, использует вопросительные сло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Задает конкретные вопросы, показывающие область интерес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Пытается формулировать ясные вопросы по теме исслед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Ставит исследовательски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Активно участвует в постановке вопросов по теме исслед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41436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900000"/>
                </a:solidFill>
                <a:latin typeface="Calibri"/>
              </a:rPr>
              <a:t>Уровень развития способности</a:t>
            </a:r>
            <a:br>
              <a:rPr sz="3200"/>
            </a:br>
            <a:r>
              <a:rPr b="1" lang="ru-RU" sz="3200" spc="-1" strike="noStrike" u="sng">
                <a:solidFill>
                  <a:srgbClr val="900000"/>
                </a:solidFill>
                <a:uFillTx/>
                <a:latin typeface="Calibri"/>
              </a:rPr>
              <a:t>ПЛАНИРОВАНИ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00000" y="1268280"/>
          <a:ext cx="7488360" cy="3726000"/>
        </p:xfrm>
        <a:graphic>
          <a:graphicData uri="http://schemas.openxmlformats.org/drawingml/2006/table">
            <a:tbl>
              <a:tblPr/>
              <a:tblGrid>
                <a:gridCol w="2303640"/>
                <a:gridCol w="2736720"/>
                <a:gridCol w="2448000"/>
              </a:tblGrid>
              <a:tr h="372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Ставит цель исследования с помощью учи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Следует плану, предложенному учител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Использует источники информации, рекомендованные учител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Ставит цель исследования самостоятель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В целом представляет, как достичь ц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Пытается обнаружить способы получения информ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Самостоятельно ставит цель исследования и действует согласно этой ц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Планирует исследовательский проек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Знает, как получить необходимую информацию и использует разные способы ее получ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</a:tbl>
          </a:graphicData>
        </a:graphic>
      </p:graphicFrame>
      <p:pic>
        <p:nvPicPr>
          <p:cNvPr id="80" name="Picture 2" descr="C:\Users\ДНС\Desktop\mini_1.jpg"/>
          <p:cNvPicPr/>
          <p:nvPr/>
        </p:nvPicPr>
        <p:blipFill>
          <a:blip r:embed="rId1"/>
          <a:stretch/>
        </p:blipFill>
        <p:spPr>
          <a:xfrm>
            <a:off x="6761160" y="5013360"/>
            <a:ext cx="2319480" cy="17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971640" y="4125960"/>
          <a:ext cx="7416720" cy="920880"/>
        </p:xfrm>
        <a:graphic>
          <a:graphicData uri="http://schemas.openxmlformats.org/drawingml/2006/table">
            <a:tbl>
              <a:tblPr/>
              <a:tblGrid>
                <a:gridCol w="2232000"/>
                <a:gridCol w="2736720"/>
                <a:gridCol w="2448000"/>
              </a:tblGrid>
              <a:tr h="676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24480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1916280"/>
            <a:ext cx="80262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92360" y="404640"/>
            <a:ext cx="59040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Уровень развития способност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СБОР И ОРГАНИЗАЦИЯ ДАННЫХ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00000" y="2060640"/>
          <a:ext cx="7559640" cy="3097080"/>
        </p:xfrm>
        <a:graphic>
          <a:graphicData uri="http://schemas.openxmlformats.org/drawingml/2006/table">
            <a:tbl>
              <a:tblPr/>
              <a:tblGrid>
                <a:gridCol w="2816280"/>
                <a:gridCol w="2468520"/>
                <a:gridCol w="2274840"/>
              </a:tblGrid>
              <a:tr h="30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В качестве источника информации использует только учебн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Описывает наблюдения с помощью учи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Пытается использовать различные источники информ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Описывает наблюдения, используя знакомые способ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Отбирает нужную информацию из большого ее масси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Описывает наблюдения, используя рисунки, пояснения, таблицы и граф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900000" y="4932360"/>
          <a:ext cx="7559640" cy="1004760"/>
        </p:xfrm>
        <a:graphic>
          <a:graphicData uri="http://schemas.openxmlformats.org/drawingml/2006/table">
            <a:tbl>
              <a:tblPr/>
              <a:tblGrid>
                <a:gridCol w="2816280"/>
                <a:gridCol w="2468520"/>
                <a:gridCol w="227484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758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6" name="Picture 2" descr="C:\Documents and Settings\Иятта\Рабочий стол\ЭТО СРОЧНО\Новая папка\звоночек.gif"/>
          <p:cNvPicPr/>
          <p:nvPr/>
        </p:nvPicPr>
        <p:blipFill>
          <a:blip r:embed="rId1"/>
          <a:stretch/>
        </p:blipFill>
        <p:spPr>
          <a:xfrm>
            <a:off x="7705800" y="5445000"/>
            <a:ext cx="1352520" cy="132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7T15:28:45Z</dcterms:created>
  <dc:creator>Iyatta</dc:creator>
  <dc:description/>
  <dc:language>en-US</dc:language>
  <cp:lastModifiedBy>Марина</cp:lastModifiedBy>
  <dcterms:modified xsi:type="dcterms:W3CDTF">2016-08-28T13:44:23Z</dcterms:modified>
  <cp:revision>85</cp:revision>
  <dc:subject/>
  <dc:title>Слайд 1</dc:title>
</cp:coreProperties>
</file>