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77BF-9FB1-4AC1-A7F5-5E2834692D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E741-48BC-4B24-9842-6701B34B72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1FD-30AF-47AC-A0B3-A9AD8EE8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562-EFDD-46C2-A84B-25BC7F17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326-28FE-48F3-8C9C-27063EC0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8AE-088A-4B69-A16E-03752843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24C-294F-4D0C-8FBA-A80F8F46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21C-87D0-4791-B34C-EDEBA847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F89-E3FD-40FB-8EF8-E60883AD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A33-14FD-47B1-BC22-13721614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F93-7BFE-41EA-96C3-B64EF7E1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9D6-B648-4AC2-B812-93C45B27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D32-A1EC-4B57-B35E-5E70954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531-7C4A-4BEF-B702-BEA06B7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A626-0C53-4021-9FC3-B81D156E8A9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Прямоугольник 7"/>
          <p:cNvGrpSpPr/>
          <p:nvPr/>
        </p:nvGrpSpPr>
        <p:grpSpPr>
          <a:xfrm>
            <a:off x="-12600" y="-6480"/>
            <a:ext cx="9205920" cy="6883560"/>
            <a:chOff x="-12600" y="-6480"/>
            <a:chExt cx="9205920" cy="6883560"/>
          </a:xfrm>
        </p:grpSpPr>
        <p:pic>
          <p:nvPicPr>
            <p:cNvPr id="49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-12600" y="-6480"/>
              <a:ext cx="920592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4680"/>
              <a:ext cx="9178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" name="Рисунок 6" descr="0_8d705_4ec530c8_L.png"/>
          <p:cNvPicPr/>
          <p:nvPr/>
        </p:nvPicPr>
        <p:blipFill>
          <a:blip r:embed="rId2"/>
          <a:stretch/>
        </p:blipFill>
        <p:spPr>
          <a:xfrm>
            <a:off x="0" y="21420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Рамка 3" descr=""/>
          <p:cNvPicPr/>
          <p:nvPr/>
        </p:nvPicPr>
        <p:blipFill>
          <a:blip r:embed="rId3"/>
          <a:stretch/>
        </p:blipFill>
        <p:spPr>
          <a:xfrm>
            <a:off x="414360" y="341280"/>
            <a:ext cx="8388360" cy="6175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0_5b0ab_31a270ea_XL.jpeg"/>
          <p:cNvPicPr/>
          <p:nvPr/>
        </p:nvPicPr>
        <p:blipFill>
          <a:blip r:embed="rId4"/>
          <a:stretch/>
        </p:blipFill>
        <p:spPr>
          <a:xfrm>
            <a:off x="4498920" y="3571920"/>
            <a:ext cx="4175280" cy="2841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Иятта\Рабочий стол\ЭТО СРОЧНО\Новая папка\звоночек.gif"/>
          <p:cNvPicPr/>
          <p:nvPr/>
        </p:nvPicPr>
        <p:blipFill>
          <a:blip r:embed="rId5"/>
          <a:stretch/>
        </p:blipFill>
        <p:spPr>
          <a:xfrm>
            <a:off x="7358040" y="5000760"/>
            <a:ext cx="1500120" cy="1468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" name="Прямоугольник 13" descr=""/>
          <p:cNvPicPr/>
          <p:nvPr/>
        </p:nvPicPr>
        <p:blipFill>
          <a:blip r:embed="rId6"/>
          <a:stretch/>
        </p:blipFill>
        <p:spPr>
          <a:xfrm>
            <a:off x="1908000" y="1773360"/>
            <a:ext cx="6235920" cy="2463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4"/>
          <p:cNvSpPr/>
          <p:nvPr/>
        </p:nvSpPr>
        <p:spPr>
          <a:xfrm>
            <a:off x="868320" y="450072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00000"/>
                </a:solidFill>
                <a:latin typeface="Calibri"/>
              </a:rPr>
              <a:t>Гурьянова Марина Борисов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00000"/>
                </a:solidFill>
                <a:latin typeface="Calibri"/>
              </a:rPr>
              <a:t>МБОУ «СОШ №1 г. Петровска Саратов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9549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ВЫПОЛНЕНИЕ ЭТОЙ РАБОТЫ МНЕ ПОНРАВИЛОСЬ (НЕ ПОНРАВИЛОСЬ), ПОТОМУ  ЧТО_________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НАИБОЛЕЕ ТРУДНЫМ МНЕ ПОКАЗАЛОСЬ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Я ДУМАЮ, ЭТО ПОТОМУ, ЧТО __________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САМЫМ ИНТЕРЕСНЫМ БЫЛО __________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ЕСЛИ БЫ Я ЕЩЕ РАЗ ВЫПОЛНЯЛ ЭТУ РАБОТУ, ТО Я БЫ СДЕЛАЛ СЛЕДУЮЩЕЕ ____________________________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200"/>
                </a:solidFill>
                <a:latin typeface="Calibri"/>
              </a:rPr>
              <a:t>Я БЫ ХОТЕЛ ПОПРОСИТЬ СВОЕГО УЧИТЕЛЯ __________</a:t>
            </a:r>
            <a:br>
              <a:rPr sz="2400"/>
            </a:br>
            <a:r>
              <a:rPr b="1" lang="ru-RU" sz="2400" spc="-1" strike="noStrike">
                <a:solidFill>
                  <a:srgbClr val="2e22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4" descr="C:\Users\ДНС\Desktop\shkola.jpg"/>
          <p:cNvPicPr/>
          <p:nvPr/>
        </p:nvPicPr>
        <p:blipFill>
          <a:blip r:embed="rId1"/>
          <a:stretch/>
        </p:blipFill>
        <p:spPr>
          <a:xfrm>
            <a:off x="6516720" y="4987800"/>
            <a:ext cx="24526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8832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115560"/>
            <a:ext cx="7667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0000"/>
                </a:solidFill>
                <a:latin typeface="Calibri"/>
              </a:rPr>
              <a:t>Рекомендуемые источники информации для оценива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413000"/>
          <a:ext cx="7417080" cy="4176720"/>
        </p:xfrm>
        <a:graphic>
          <a:graphicData uri="http://schemas.openxmlformats.org/drawingml/2006/table">
            <a:tbl>
              <a:tblPr/>
              <a:tblGrid>
                <a:gridCol w="3824280"/>
                <a:gridCol w="3592800"/>
              </a:tblGrid>
              <a:tr h="108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73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ы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1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71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истические дан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3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ы тест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4" descr="C:\Users\ДНС\Desktop\knigi.png"/>
          <p:cNvPicPr/>
          <p:nvPr/>
        </p:nvPicPr>
        <p:blipFill>
          <a:blip r:embed="rId1"/>
          <a:stretch/>
        </p:blipFill>
        <p:spPr>
          <a:xfrm>
            <a:off x="7093080" y="492444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197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259920"/>
            <a:ext cx="7738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комендуемые методы оценива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0000" y="1341360"/>
          <a:ext cx="7272360" cy="4391280"/>
        </p:xfrm>
        <a:graphic>
          <a:graphicData uri="http://schemas.openxmlformats.org/drawingml/2006/table">
            <a:tbl>
              <a:tblPr/>
              <a:tblGrid>
                <a:gridCol w="3748320"/>
                <a:gridCol w="3524040"/>
              </a:tblGrid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вы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2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ор отв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аткий от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рытый от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ртфоли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22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оанали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2" descr="C:\Users\ДНС\Desktop\globus-kolokolchik-knigi-300x300.png"/>
          <p:cNvPicPr/>
          <p:nvPr/>
        </p:nvPicPr>
        <p:blipFill>
          <a:blip r:embed="rId1"/>
          <a:stretch/>
        </p:blipFill>
        <p:spPr>
          <a:xfrm>
            <a:off x="7451640" y="5157720"/>
            <a:ext cx="15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267920"/>
            <a:ext cx="781056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88640"/>
            <a:ext cx="76676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комендуемые методы и инструменты оценива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0000" y="1484280"/>
          <a:ext cx="7344000" cy="4321080"/>
        </p:xfrm>
        <a:graphic>
          <a:graphicData uri="http://schemas.openxmlformats.org/drawingml/2006/table">
            <a:tbl>
              <a:tblPr/>
              <a:tblGrid>
                <a:gridCol w="2192400"/>
                <a:gridCol w="1486080"/>
                <a:gridCol w="1158840"/>
                <a:gridCol w="1253880"/>
                <a:gridCol w="1252800"/>
              </a:tblGrid>
              <a:tr h="3492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оды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струменты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Критериаль-ные опис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Этало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Памя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Линейки достиж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блю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92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ивание процесса вы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ор ответа, краткий от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3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рытый от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" descr="C:\Users\ДНС\Desktop\mini_1.jpg"/>
          <p:cNvPicPr/>
          <p:nvPr/>
        </p:nvPicPr>
        <p:blipFill>
          <a:blip r:embed="rId1"/>
          <a:stretch/>
        </p:blipFill>
        <p:spPr>
          <a:xfrm>
            <a:off x="7380360" y="5475240"/>
            <a:ext cx="17002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17056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1.  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ЧАЛО РАБОТЫ</a:t>
            </a: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: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ОБСУДИТЬ ЗАМЫСЕЛ В МАЛОЙ ГРУППЕ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ПОДЕЛИТЬСЯ ИДЕЯМИ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2.  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ОДГОТОВИТЕЛЬНЫЙ ЭТАП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ПРОГОВОРИТЬ ПЛАН В МАЛОЙ ГРУППЕ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ВЫБРАТЬ ТИП ТЕКСТА, ОСНОВНУЮ ИДЕЮ И ТЕМУ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ИЗОБРАЗИТЬ СХЕМАТИЧЕСКИ РАЗВИТИЕ СЮЖЕТА (НАЧАЛО – СЕРЕДИНА – ОКОНЧАНИЕ)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 ПОДОБРАТЬ МАТЕРИАЛЫ, ИНФОРМАЦИЮ, ИДЕИ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СОЗДАТЬ БАНК СЛОВ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3.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ОСНОВНОЙ ЭТАП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НАПИСАТЬ ЧЕРНОВИК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ПРОЧИТАТЬ ЧЕРНОВИК В МАЛОЙ ГРУППЕ, ОТМЕТИТЬ МЕСТА, ТРЕБУЮЩИЕ ПРАВКИ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ВНЕСТИ ИСПРАВЛЕНИЯ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4. 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ОДГОТОВКА ОКОНЧАТЕЛЬНОЙ ВЕРСИИ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 ЕЩЕ РАЗ ПРОЧИТАТЬ В МАЛОЙ ГРУППЕ, ПОПРОСИТЬ ПРОЧИТАТЬ ТОВАРИЩЕЙ ИЛИ УЧИТЕЛЯ, ПЕРЕЧИТАТЬ САМОМУ И ВНЕСТИ ОКОНЧАТЕЛЬНУЮ ПРАВКУ</a:t>
            </a:r>
            <a:br>
              <a:rPr sz="1600"/>
            </a:br>
            <a:r>
              <a:rPr b="1" lang="ru-RU" sz="1600" spc="-1" strike="noStrike">
                <a:solidFill>
                  <a:srgbClr val="4a2610"/>
                </a:solidFill>
                <a:latin typeface="Calibri"/>
              </a:rPr>
              <a:t>ОФОРМИТЬ РАБОТУ: КРАСИВО РАЗМЕСТИТЬ НА СТРАНИЦАХ И ПРОИЛЛЮСТРИРОВАТЬ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89000"/>
            <a:ext cx="78102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00000"/>
                </a:solidFill>
                <a:latin typeface="Calibri"/>
              </a:rPr>
              <a:t>Памятка по подготовке и выполнению письменной работ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C:\Documents and Settings\Иятта\Рабочий стол\ЭТО СРОЧНО\Новая папка\звоночек.gif"/>
          <p:cNvPicPr/>
          <p:nvPr/>
        </p:nvPicPr>
        <p:blipFill>
          <a:blip r:embed="rId1"/>
          <a:stretch/>
        </p:blipFill>
        <p:spPr>
          <a:xfrm>
            <a:off x="7705800" y="5445000"/>
            <a:ext cx="1352520" cy="132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1413000"/>
            <a:ext cx="77724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04da3"/>
                </a:solidFill>
                <a:latin typeface="Calibri"/>
              </a:rPr>
              <a:t>                         </a:t>
            </a:r>
            <a:r>
              <a:rPr b="1" lang="ru-RU" sz="3600" spc="-1" strike="noStrike">
                <a:solidFill>
                  <a:srgbClr val="a04da3"/>
                </a:solidFill>
                <a:latin typeface="Calibri"/>
              </a:rPr>
              <a:t>карта поняти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Рисунок 3" descr="D:\Desktop\ск.jpeg"/>
          <p:cNvPicPr/>
          <p:nvPr/>
        </p:nvPicPr>
        <p:blipFill>
          <a:blip r:embed="rId1"/>
          <a:srcRect l="20953" t="19072" r="7334" b="16503"/>
          <a:stretch/>
        </p:blipFill>
        <p:spPr>
          <a:xfrm>
            <a:off x="900000" y="1557360"/>
            <a:ext cx="3959280" cy="4032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D:\Desktop\ск2.jpeg"/>
          <p:cNvPicPr/>
          <p:nvPr/>
        </p:nvPicPr>
        <p:blipFill>
          <a:blip r:embed="rId2"/>
          <a:stretch/>
        </p:blipFill>
        <p:spPr>
          <a:xfrm>
            <a:off x="5292720" y="1557360"/>
            <a:ext cx="2846520" cy="403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ДНС\Desktop\globus-kolokolchik-knigi-300x300.png"/>
          <p:cNvPicPr/>
          <p:nvPr/>
        </p:nvPicPr>
        <p:blipFill>
          <a:blip r:embed="rId3"/>
          <a:stretch/>
        </p:blipFill>
        <p:spPr>
          <a:xfrm>
            <a:off x="7524720" y="5229360"/>
            <a:ext cx="15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12682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04da3"/>
                </a:solidFill>
                <a:latin typeface="Calibri"/>
              </a:rPr>
              <a:t>- </a:t>
            </a: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В ХОДЕ РАБОТЫ НАД ПРОЕКТОМ Я ПРОБОВАЛ НОВЫЕ ВЕЩИ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ЖДАЛ СВОЕЙ ОЧЕРЕДИ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РАБОТАЛ ВМЕСТЕ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СПРАШИВАЛ, ПОМОГАЛ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РЕШАЛ ПРОБЛЕМЫ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ДЕЛАЛ ПРАВИЛЬНЫЙ ВЫБОР</a:t>
            </a:r>
            <a:br>
              <a:rPr sz="2400"/>
            </a:br>
            <a:r>
              <a:rPr b="1" i="1" lang="ru-RU" sz="2400" spc="-1" strike="noStrike">
                <a:solidFill>
                  <a:srgbClr val="a04da3"/>
                </a:solidFill>
                <a:latin typeface="Calibri"/>
              </a:rPr>
              <a:t>- В ХОДЕ РАБОТЫ НАД ПРОЕКТОМ Я ПРОВЕРЯЛ СВОЮ РАБОТ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Рисунок 6" descr="0_8d705_4ec530c8_L.png"/>
          <p:cNvPicPr/>
          <p:nvPr/>
        </p:nvPicPr>
        <p:blipFill>
          <a:blip r:embed="rId1"/>
          <a:stretch/>
        </p:blipFill>
        <p:spPr>
          <a:xfrm>
            <a:off x="6012000" y="4730760"/>
            <a:ext cx="3047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Данная методика позволяет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261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повысить качество выполнения домашнего  зада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выявить уровень понимания материала учащимися и разобрать моменты, вызвавшие затрудне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развить критическое мышлени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2610"/>
                </a:solidFill>
                <a:latin typeface="Calibri"/>
              </a:rPr>
              <a:t>построить обучение на основе сотрудничества учителя и учеников, повысить активную роль детей в процессе обуче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3" descr="C:\Users\ДНС\Desktop\skoro_v_shkolu_kartinki_15-500x313.jpg"/>
          <p:cNvPicPr/>
          <p:nvPr/>
        </p:nvPicPr>
        <p:blipFill>
          <a:blip r:embed="rId1"/>
          <a:stretch/>
        </p:blipFill>
        <p:spPr>
          <a:xfrm>
            <a:off x="3276720" y="4702320"/>
            <a:ext cx="36097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7151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2e2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e22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haroni"/>
              </a:rPr>
              <a:t>Функции системы оценивания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e2200"/>
                </a:solidFill>
                <a:latin typeface="Calibri"/>
                <a:ea typeface="Aharon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нормативная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позволяет проверить соответствие с нормативом, утвержденным ФГОС;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информирующая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даёт информацию об успехах и нереализованных возможностях школьника;</a:t>
            </a:r>
            <a:br>
              <a:rPr sz="2000"/>
            </a:b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корректирующая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способствует внесению поправок в действия школьника, корректировке его установок, взглядов;  </a:t>
            </a:r>
            <a:br>
              <a:rPr sz="2000"/>
            </a:b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воспитывающая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 создаёт условия для воспитания личностных качеств;  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социальная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 влияет на самооценку, статус школьника в коллективе сверстников;</a:t>
            </a:r>
            <a:br>
              <a:rPr sz="2000"/>
            </a:b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диагностическая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определяет уровень знаний, сформированность  надпредметных умений; </a:t>
            </a:r>
            <a:r>
              <a:rPr b="1" lang="ru-RU" sz="2000" spc="-1" strike="noStrike">
                <a:solidFill>
                  <a:srgbClr val="2e2200"/>
                </a:solidFill>
                <a:latin typeface="Calibri"/>
              </a:rPr>
              <a:t>   </a:t>
            </a:r>
            <a:br>
              <a:rPr sz="2000"/>
            </a:b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-</a:t>
            </a:r>
            <a:r>
              <a:rPr b="1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стимулирующая</a:t>
            </a: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 способствует созданию успеха, поддержанию интереса к деятельности и т.п.         </a:t>
            </a:r>
            <a:br>
              <a:rPr sz="2000"/>
            </a:br>
            <a:r>
              <a:rPr b="1" i="1" lang="ru-RU" sz="2000" spc="-1" strike="noStrike">
                <a:solidFill>
                  <a:srgbClr val="2e22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Рисунок 6" descr="0_8d705_4ec530c8_L.png"/>
          <p:cNvPicPr/>
          <p:nvPr/>
        </p:nvPicPr>
        <p:blipFill>
          <a:blip r:embed="rId1"/>
          <a:stretch/>
        </p:blipFill>
        <p:spPr>
          <a:xfrm>
            <a:off x="6012000" y="4730760"/>
            <a:ext cx="3047760" cy="1967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150920" cy="129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787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стема оценивания образовательных результатов</a:t>
            </a: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268280"/>
          <a:ext cx="8078760" cy="4640400"/>
        </p:xfrm>
        <a:graphic>
          <a:graphicData uri="http://schemas.openxmlformats.org/drawingml/2006/table">
            <a:tbl>
              <a:tblPr/>
              <a:tblGrid>
                <a:gridCol w="2379600"/>
                <a:gridCol w="2849760"/>
                <a:gridCol w="2849400"/>
              </a:tblGrid>
              <a:tr h="444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сти системы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ЗУН, познавательные, регулятивные результа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личностные результа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Персонифицированная количественная 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Персонифицированная/ неперсонифицированная качественная 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ства фиксации результатов оце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Листы достижений, классные журналы, справки по результатам внутришкольного контро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Дневники наблюдения учителя (классного руководителя, воспитателя ГПД, психолог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Характеристики обучаю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 (поэтапность процедур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Тематические контрольные работы, тестовый контроль, диагностические работы, задания частично-поискового характ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Проектная деятельность, участие в общественной жизни класса, портфолио, задания творческого характ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ловия эффективности системы оцени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В ОУ они могут быть различными, но систематичность, личностно-ориентированность, позитивность – основные постоянные принципы современной оценочной деятельности педаго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2" descr="C:\Documents and Settings\Иятта\Рабочий стол\ЭТО СРОЧНО\Новая папка\звоночек.gif"/>
          <p:cNvPicPr/>
          <p:nvPr/>
        </p:nvPicPr>
        <p:blipFill>
          <a:blip r:embed="rId1"/>
          <a:stretch/>
        </p:blipFill>
        <p:spPr>
          <a:xfrm>
            <a:off x="7705800" y="5445000"/>
            <a:ext cx="1352520" cy="132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261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Методы оценива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2610"/>
                </a:solidFill>
                <a:latin typeface="Calibri"/>
              </a:rPr>
              <a:t>наблюдение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2610"/>
                </a:solidFill>
                <a:latin typeface="Calibri"/>
              </a:rPr>
              <a:t>оценивание процесса выполнения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4a2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a2610"/>
                </a:solidFill>
                <a:latin typeface="Calibri"/>
              </a:rPr>
              <a:t>открытый отве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Объект 5" descr="0_5b0ab_31a270ea_XL.jpeg"/>
          <p:cNvPicPr/>
          <p:nvPr/>
        </p:nvPicPr>
        <p:blipFill>
          <a:blip r:embed="rId1"/>
          <a:stretch/>
        </p:blipFill>
        <p:spPr>
          <a:xfrm>
            <a:off x="5089680" y="3859200"/>
            <a:ext cx="3786120" cy="257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Иятта\Рабочий стол\ЭТО СРОЧНО\Новая папка\звоночек.gif"/>
          <p:cNvPicPr/>
          <p:nvPr/>
        </p:nvPicPr>
        <p:blipFill>
          <a:blip r:embed="rId2"/>
          <a:stretch/>
        </p:blipFill>
        <p:spPr>
          <a:xfrm>
            <a:off x="8043840" y="5383080"/>
            <a:ext cx="1022400" cy="1001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Рисунок 3" descr="0_8d705_4ec530c8_L.png"/>
          <p:cNvPicPr/>
          <p:nvPr/>
        </p:nvPicPr>
        <p:blipFill>
          <a:blip r:embed="rId1"/>
          <a:stretch/>
        </p:blipFill>
        <p:spPr>
          <a:xfrm>
            <a:off x="25560" y="115920"/>
            <a:ext cx="2430360" cy="15685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1"/>
          <p:cNvSpPr/>
          <p:nvPr/>
        </p:nvSpPr>
        <p:spPr>
          <a:xfrm>
            <a:off x="5003640" y="4149720"/>
            <a:ext cx="1554480" cy="19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8462e"/>
                </a:solidFill>
                <a:latin typeface="Calibri"/>
              </a:rPr>
              <a:t>предметные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052640"/>
          <a:ext cx="6624720" cy="4176720"/>
        </p:xfrm>
        <a:graphic>
          <a:graphicData uri="http://schemas.openxmlformats.org/drawingml/2006/table">
            <a:tbl>
              <a:tblPr/>
              <a:tblGrid>
                <a:gridCol w="546120"/>
                <a:gridCol w="544680"/>
                <a:gridCol w="5533920"/>
              </a:tblGrid>
              <a:tr h="3585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СТ НАБЛЮД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РАБОТЫ В ГРУПП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Я, ФАМИЛИЯ 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чередует говорение и слушани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задает уместные вопрос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58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говорит по тем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2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пытается полно отвечать на замечания и вопросы товарищей по работ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71" name="Объект 5" descr="0_5b0ab_31a270ea_XL.jpeg"/>
          <p:cNvPicPr/>
          <p:nvPr/>
        </p:nvPicPr>
        <p:blipFill>
          <a:blip r:embed="rId2"/>
          <a:stretch/>
        </p:blipFill>
        <p:spPr>
          <a:xfrm>
            <a:off x="6461280" y="5059440"/>
            <a:ext cx="2646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141560" y="260280"/>
          <a:ext cx="6526080" cy="4897440"/>
        </p:xfrm>
        <a:graphic>
          <a:graphicData uri="http://schemas.openxmlformats.org/drawingml/2006/table">
            <a:tbl>
              <a:tblPr/>
              <a:tblGrid>
                <a:gridCol w="566640"/>
                <a:gridCol w="568440"/>
                <a:gridCol w="5391000"/>
              </a:tblGrid>
              <a:tr h="37008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СТ НАБЛЮД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УСТНОЙ ПРЕЗЕНТ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наглядно передает содержание и структуру сообщ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выбирает доступное содерж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выбирает удачную форму подачи информации, помогающую понять смысл сообщ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привлекает аудиторию с помощью глазного контакта, уместных устных реплик и т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использует специальные слова и выраж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934b21"/>
                          </a:solidFill>
                          <a:latin typeface="Calibri"/>
                        </a:rPr>
                        <a:t>·        использует разнообразные предложения и словосочетания, которые оживляют реч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4" descr="C:\Users\ДНС\Desktop\knigi.png"/>
          <p:cNvPicPr/>
          <p:nvPr/>
        </p:nvPicPr>
        <p:blipFill>
          <a:blip r:embed="rId1"/>
          <a:stretch/>
        </p:blipFill>
        <p:spPr>
          <a:xfrm>
            <a:off x="7093080" y="492444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ДНС\Desktop\i.jpg"/>
          <p:cNvPicPr/>
          <p:nvPr/>
        </p:nvPicPr>
        <p:blipFill>
          <a:blip r:embed="rId2"/>
          <a:stretch/>
        </p:blipFill>
        <p:spPr>
          <a:xfrm>
            <a:off x="325440" y="4941720"/>
            <a:ext cx="1630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e2200"/>
                </a:solidFill>
                <a:latin typeface="Calibri"/>
              </a:rPr>
              <a:t>  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900000"/>
                </a:solidFill>
                <a:uFillTx/>
                <a:latin typeface="Arial"/>
                <a:ea typeface="Times New Roman"/>
              </a:rPr>
              <a:t>Формулировка вопросов, постановка проблем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C:\Users\ДНС\Desktop\globus-kolokolchik-knigi-300x300.png"/>
          <p:cNvPicPr/>
          <p:nvPr/>
        </p:nvPicPr>
        <p:blipFill>
          <a:blip r:embed="rId1"/>
          <a:stretch/>
        </p:blipFill>
        <p:spPr>
          <a:xfrm>
            <a:off x="7596360" y="4797360"/>
            <a:ext cx="1547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042920" y="1197000"/>
          <a:ext cx="6842160" cy="3887640"/>
        </p:xfrm>
        <a:graphic>
          <a:graphicData uri="http://schemas.openxmlformats.org/drawingml/2006/table">
            <a:tbl>
              <a:tblPr/>
              <a:tblGrid>
                <a:gridCol w="1886040"/>
                <a:gridCol w="2679840"/>
                <a:gridCol w="2276280"/>
              </a:tblGrid>
              <a:tr h="3060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Задает прост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Задавая вопрос, использует вопросительные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Задает конкретные вопросы, показывающие область интере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Пытается формулировать ясные вопросы по теме исслед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тавит исследовательски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Активно участвует в постановке вопросов по теме исслед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414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900000"/>
                </a:solidFill>
                <a:latin typeface="Calibri"/>
              </a:rPr>
              <a:t>Уровень развития способности</a:t>
            </a:r>
            <a:br>
              <a:rPr sz="3200"/>
            </a:br>
            <a:r>
              <a:rPr b="1" lang="ru-RU" sz="3200" spc="-1" strike="noStrike" u="sng">
                <a:solidFill>
                  <a:srgbClr val="900000"/>
                </a:solidFill>
                <a:uFillTx/>
                <a:latin typeface="Calibri"/>
              </a:rPr>
              <a:t>ПЛАНИРОВАНИ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00000" y="1268280"/>
          <a:ext cx="7488360" cy="3726000"/>
        </p:xfrm>
        <a:graphic>
          <a:graphicData uri="http://schemas.openxmlformats.org/drawingml/2006/table">
            <a:tbl>
              <a:tblPr/>
              <a:tblGrid>
                <a:gridCol w="2303640"/>
                <a:gridCol w="2736720"/>
                <a:gridCol w="2448000"/>
              </a:tblGrid>
              <a:tr h="372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тавит цель исследования с помощью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ледует плану, предложенному учител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Использует источники информации, рекомендованные учител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тавит цель исследования самостоятель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В целом представляет, как достичь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Пытается обнаружить способы получения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Самостоятельно ставит цель исследования и действует согласно этой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Планирует исследовательский проек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Знает, как получить необходимую информацию и использует разные способы ее полу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C:\Users\ДНС\Desktop\mini_1.jpg"/>
          <p:cNvPicPr/>
          <p:nvPr/>
        </p:nvPicPr>
        <p:blipFill>
          <a:blip r:embed="rId1"/>
          <a:stretch/>
        </p:blipFill>
        <p:spPr>
          <a:xfrm>
            <a:off x="6761160" y="5013360"/>
            <a:ext cx="2319480" cy="17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71640" y="4125960"/>
          <a:ext cx="7416720" cy="920880"/>
        </p:xfrm>
        <a:graphic>
          <a:graphicData uri="http://schemas.openxmlformats.org/drawingml/2006/table">
            <a:tbl>
              <a:tblPr/>
              <a:tblGrid>
                <a:gridCol w="2232000"/>
                <a:gridCol w="2736720"/>
                <a:gridCol w="2448000"/>
              </a:tblGrid>
              <a:tr h="67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2448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0262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404640"/>
            <a:ext cx="5904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Уровень развития способ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БОР И ОРГАНИЗАЦИЯ ДАННЫ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2060640"/>
          <a:ext cx="7559640" cy="3097080"/>
        </p:xfrm>
        <a:graphic>
          <a:graphicData uri="http://schemas.openxmlformats.org/drawingml/2006/table">
            <a:tbl>
              <a:tblPr/>
              <a:tblGrid>
                <a:gridCol w="2816280"/>
                <a:gridCol w="2468520"/>
                <a:gridCol w="2274840"/>
              </a:tblGrid>
              <a:tr h="30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В качестве источника информации использует только учеб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Описывает наблюдения с помощью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Пытается использовать различные источники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Описывает наблюдения, используя знакомые способ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Отбирает нужную информацию из большого ее масс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·        Описывает наблюдения, используя рисунки, пояснения, таблицы и граф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900000" y="4932360"/>
          <a:ext cx="7559640" cy="1004760"/>
        </p:xfrm>
        <a:graphic>
          <a:graphicData uri="http://schemas.openxmlformats.org/drawingml/2006/table">
            <a:tbl>
              <a:tblPr/>
              <a:tblGrid>
                <a:gridCol w="2816280"/>
                <a:gridCol w="2468520"/>
                <a:gridCol w="227484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58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6" name="Picture 2" descr="C:\Documents and Settings\Иятта\Рабочий стол\ЭТО СРОЧНО\Новая папка\звоночек.gif"/>
          <p:cNvPicPr/>
          <p:nvPr/>
        </p:nvPicPr>
        <p:blipFill>
          <a:blip r:embed="rId1"/>
          <a:stretch/>
        </p:blipFill>
        <p:spPr>
          <a:xfrm>
            <a:off x="7705800" y="5445000"/>
            <a:ext cx="1352520" cy="132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28:45Z</dcterms:created>
  <dc:creator>Iyatta</dc:creator>
  <dc:description/>
  <dc:language>en-US</dc:language>
  <cp:lastModifiedBy>Марина</cp:lastModifiedBy>
  <dcterms:modified xsi:type="dcterms:W3CDTF">2016-08-28T13:44:23Z</dcterms:modified>
  <cp:revision>85</cp:revision>
  <dc:subject/>
  <dc:title>Слайд 1</dc:title>
</cp:coreProperties>
</file>