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19.jpeg" ContentType="image/jpeg"/>
  <Override PartName="/ppt/media/image11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023-D454-459B-A223-CA6117F2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4DB-5E45-4AE8-9D5B-AD7D8135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44C-44A5-4859-AC37-FB2C7499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4E1-44F4-4995-B9D9-6EB53F3C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2A7-7A1C-4675-93E1-1D651459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C1C2-E405-42D0-8680-CAFB2BD9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2541-C6A8-49A3-A785-B5D1ABD6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F19F-C010-4C1A-8719-2960926E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6127-1E36-4D60-B2AF-507D2E2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9DBF-5780-4E7A-AED3-980FA325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C34-0AAB-48EE-B006-B5220149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0D5A-DA64-4855-A753-B021251E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9E03-3526-44F8-A230-0212E012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6ED2-A011-4FFA-A315-EA8CF6B8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0AC6-009C-4EA3-986A-99FFC535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E172-BA39-4D8D-8828-F14CC868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132B-443E-4CA7-B17E-F29397B9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B5A9-7720-436B-B653-AA28D9EE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B3F-071D-4DE8-A6B4-24CD7F53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E01-CD8B-459E-B9D0-FEC91655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3A3-F6A7-4958-BB5B-58A59643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6DF-2B3D-442D-B2E5-6CC562DE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D46-0DC6-4C23-855B-319B9E82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D93-F1DF-4BF7-864E-C6537FFA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06FD-7D47-4246-9752-C4378D978E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346"/>
          <p:cNvGrpSpPr/>
          <p:nvPr/>
        </p:nvGrpSpPr>
        <p:grpSpPr>
          <a:xfrm>
            <a:off x="-142920" y="5428800"/>
            <a:ext cx="1779840" cy="1596240"/>
            <a:chOff x="-142920" y="5428800"/>
            <a:chExt cx="1779840" cy="159624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7000"/>
              <a:ext cx="1461960" cy="105984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7520" y="6519960"/>
              <a:ext cx="59760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84560" y="5726880"/>
              <a:ext cx="702360" cy="8107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1800" y="572832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1880" y="579816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200" y="5931720"/>
              <a:ext cx="541800" cy="59976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83520" y="586332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1200" y="6583680"/>
              <a:ext cx="328680" cy="1044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67280" y="6361200"/>
              <a:ext cx="34164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46640" y="5940720"/>
              <a:ext cx="35100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08400" y="6156720"/>
              <a:ext cx="35100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9360" y="6015600"/>
              <a:ext cx="568800" cy="35532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56640" y="657900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5280" y="6424920"/>
              <a:ext cx="600480" cy="22824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06880" y="647892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0520" y="65743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1345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96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360" y="6235560"/>
              <a:ext cx="87120" cy="19836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80120" y="5786280"/>
              <a:ext cx="531720" cy="33480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4280" y="6631200"/>
              <a:ext cx="403200" cy="19512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760" y="5997240"/>
              <a:ext cx="571320" cy="39852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4200" y="6299280"/>
              <a:ext cx="495360" cy="34776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59560" y="6396120"/>
              <a:ext cx="137880" cy="16344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7040"/>
              <a:ext cx="303120" cy="16668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200" y="6755040"/>
              <a:ext cx="334800" cy="10296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880" y="6307200"/>
              <a:ext cx="47520" cy="9360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360" y="6539040"/>
              <a:ext cx="196560" cy="17280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840" y="6124320"/>
              <a:ext cx="196560" cy="18072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76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8960"/>
              <a:ext cx="193680" cy="11268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3640" y="6283080"/>
              <a:ext cx="177840" cy="20952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280" y="6003720"/>
              <a:ext cx="199800" cy="13176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560"/>
              <a:ext cx="19656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344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6" y="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34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343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04840" y="561456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0480" y="591336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82240" y="54097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2040" y="613584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37880" y="614988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69760" y="60354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4680" y="60922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5240" y="606888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63240" y="61750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276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0160" y="633384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5000" y="58960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600" y="556848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1840" y="600660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68400" y="626400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3680" y="59846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096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06640" y="60717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1998720" y="595296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85760" y="613692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87560" y="57830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342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9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94"/>
            <p:cNvGrpSpPr/>
            <p:nvPr/>
          </p:nvGrpSpPr>
          <p:grpSpPr>
            <a:xfrm>
              <a:off x="0" y="5715000"/>
              <a:ext cx="3499560" cy="1143000"/>
              <a:chOff x="0" y="5715000"/>
              <a:chExt cx="349956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440" y="6629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64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3964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960"/>
                <a:ext cx="36360" cy="9504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80160" y="6783480"/>
                <a:ext cx="47520" cy="7452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4880"/>
                <a:ext cx="1487880" cy="111312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760" y="5913000"/>
                <a:ext cx="803520" cy="94500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4280" y="6563160"/>
                <a:ext cx="14580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840" y="6617160"/>
                <a:ext cx="26028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3760" y="6598080"/>
                <a:ext cx="34452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3720" y="6829560"/>
                <a:ext cx="1080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000" y="6753600"/>
                <a:ext cx="53640" cy="10440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680" y="6655320"/>
                <a:ext cx="272880" cy="10116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89920" y="68248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120" y="684396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360" y="6812280"/>
                <a:ext cx="6120" cy="4572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8480" y="5715000"/>
                <a:ext cx="140184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600" y="6805800"/>
                <a:ext cx="14040" cy="5220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6160" y="6840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1840" y="6726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组合 95"/>
            <p:cNvGrpSpPr/>
            <p:nvPr/>
          </p:nvGrpSpPr>
          <p:grpSpPr>
            <a:xfrm>
              <a:off x="3501000" y="5715000"/>
              <a:ext cx="3499560" cy="1143000"/>
              <a:chOff x="3501000" y="5715000"/>
              <a:chExt cx="349956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7440" y="6629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647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1000" y="5814720"/>
                <a:ext cx="53964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1040" y="6762960"/>
                <a:ext cx="36360" cy="9504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1160" y="6783480"/>
                <a:ext cx="47520" cy="7452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680" y="5744880"/>
                <a:ext cx="1487880" cy="111312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760" y="5913000"/>
                <a:ext cx="803520" cy="94500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5280" y="6563160"/>
                <a:ext cx="14580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840" y="6617160"/>
                <a:ext cx="26028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4760" y="6598080"/>
                <a:ext cx="34452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4720" y="6829560"/>
                <a:ext cx="1080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600"/>
                <a:ext cx="53640" cy="10440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7680" y="6655320"/>
                <a:ext cx="272880" cy="10116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0920" y="68248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120" y="684396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2280"/>
                <a:ext cx="6120" cy="4572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400" y="68328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480" y="5715000"/>
                <a:ext cx="140184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5800"/>
                <a:ext cx="14040" cy="5220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7160" y="6840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2840" y="6726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117"/>
            <p:cNvGrpSpPr/>
            <p:nvPr/>
          </p:nvGrpSpPr>
          <p:grpSpPr>
            <a:xfrm>
              <a:off x="5644440" y="5715000"/>
              <a:ext cx="3499560" cy="1143000"/>
              <a:chOff x="5644440" y="5715000"/>
              <a:chExt cx="349956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880" y="6629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647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440" y="5814720"/>
                <a:ext cx="53964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480" y="6762960"/>
                <a:ext cx="36360" cy="9504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4600" y="6783480"/>
                <a:ext cx="47520" cy="7452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6120" y="5744880"/>
                <a:ext cx="1487880" cy="111312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2200" y="5913000"/>
                <a:ext cx="803520" cy="94500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8720" y="6563160"/>
                <a:ext cx="14580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8280" y="6617160"/>
                <a:ext cx="26028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200" y="6598080"/>
                <a:ext cx="34452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62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160" y="6829560"/>
                <a:ext cx="1080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600"/>
                <a:ext cx="53640" cy="10440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1120" y="6655320"/>
                <a:ext cx="272880" cy="10116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360" y="68248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560" y="684396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2280"/>
                <a:ext cx="6120" cy="4572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840" y="68328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2920" y="5715000"/>
                <a:ext cx="140184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5800"/>
                <a:ext cx="14040" cy="5220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80600" y="6840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280" y="6726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D0C1-6DAF-4A11-A0E1-1F9B826F2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jajtsa50"/>
          <p:cNvPicPr/>
          <p:nvPr/>
        </p:nvPicPr>
        <p:blipFill>
          <a:blip r:embed="rId2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jajtsa50"/>
          <p:cNvPicPr/>
          <p:nvPr/>
        </p:nvPicPr>
        <p:blipFill>
          <a:blip r:embed="rId3"/>
          <a:stretch/>
        </p:blipFill>
        <p:spPr>
          <a:xfrm>
            <a:off x="7373880" y="5300640"/>
            <a:ext cx="1770120" cy="1557360"/>
          </a:xfrm>
          <a:prstGeom prst="rect">
            <a:avLst/>
          </a:prstGeom>
          <a:ln w="0">
            <a:noFill/>
          </a:ln>
        </p:spPr>
      </p:pic>
      <p:sp>
        <p:nvSpPr>
          <p:cNvPr id="319" name="WordArt 6"/>
          <p:cNvSpPr txBox="1"/>
          <p:nvPr/>
        </p:nvSpPr>
        <p:spPr>
          <a:xfrm>
            <a:off x="1908000" y="1773360"/>
            <a:ext cx="51850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а с х а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5"/>
          <p:cNvSpPr/>
          <p:nvPr/>
        </p:nvSpPr>
        <p:spPr>
          <a:xfrm>
            <a:off x="642960" y="46432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собое место среди работ известнейшего русского ювелира Карла Фаберже занимают драгоценные пасхальные яйца-сувениры, изготовленные для российской императорской семьи. XIX - начало ХХ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42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2857680" y="214200"/>
            <a:ext cx="600048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кануне Пасхи во всех храмах проходят всенощные бдения и крестный ход вокруг церкви. К этому времени уже во всех домах испекли традиционную праздничную выпечку – куличи, которые символизируют собой тело Христа, и выкрасили яй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-main-pic" descr="Картинка 8 из 4803"/>
          <p:cNvPicPr/>
          <p:nvPr/>
        </p:nvPicPr>
        <p:blipFill>
          <a:blip r:embed="rId1"/>
          <a:stretch/>
        </p:blipFill>
        <p:spPr>
          <a:xfrm>
            <a:off x="214200" y="2786040"/>
            <a:ext cx="4429080" cy="3500640"/>
          </a:xfrm>
          <a:prstGeom prst="rect">
            <a:avLst/>
          </a:prstGeom>
          <a:ln w="0">
            <a:noFill/>
          </a:ln>
        </p:spPr>
      </p:pic>
      <p:pic>
        <p:nvPicPr>
          <p:cNvPr id="362" name="i-main-pic" descr="Картинка 1 из 4803"/>
          <p:cNvPicPr/>
          <p:nvPr/>
        </p:nvPicPr>
        <p:blipFill>
          <a:blip r:embed="rId2"/>
          <a:stretch/>
        </p:blipFill>
        <p:spPr>
          <a:xfrm>
            <a:off x="4788000" y="2997360"/>
            <a:ext cx="4176720" cy="325116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http://www.good-cook.ru/i/big/6/5/65f06ff035639556d83d7273a9a23876.jpg"/>
          <p:cNvPicPr/>
          <p:nvPr/>
        </p:nvPicPr>
        <p:blipFill>
          <a:blip r:embed="rId3"/>
          <a:stretch/>
        </p:blipFill>
        <p:spPr>
          <a:xfrm>
            <a:off x="142920" y="214200"/>
            <a:ext cx="26431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2786040" y="142920"/>
            <a:ext cx="6143760" cy="247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улич всегда выпекали из дрожжевого теста, высоким и круглым. Сверху кулич украшают изображением креста. Считается, что если пасхальный хлеб удался, то в семье все будет благополучно. При еде кулич разрезают не вдоль, а поперек, сохраняя верхушку целой, чтобы покрывать ее оставшуюся часть кулич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i-main-pic" descr="Картинка 50 из 11809"/>
          <p:cNvPicPr/>
          <p:nvPr/>
        </p:nvPicPr>
        <p:blipFill>
          <a:blip r:embed="rId1"/>
          <a:stretch/>
        </p:blipFill>
        <p:spPr>
          <a:xfrm>
            <a:off x="214200" y="376200"/>
            <a:ext cx="2428920" cy="1766880"/>
          </a:xfrm>
          <a:prstGeom prst="rect">
            <a:avLst/>
          </a:prstGeom>
          <a:ln w="0">
            <a:noFill/>
          </a:ln>
        </p:spPr>
      </p:pic>
      <p:pic>
        <p:nvPicPr>
          <p:cNvPr id="366" name="i-main-pic" descr="Картинка 13 из 96000"/>
          <p:cNvPicPr/>
          <p:nvPr/>
        </p:nvPicPr>
        <p:blipFill>
          <a:blip r:embed="rId2"/>
          <a:stretch/>
        </p:blipFill>
        <p:spPr>
          <a:xfrm>
            <a:off x="214200" y="2928960"/>
            <a:ext cx="4429080" cy="3571920"/>
          </a:xfrm>
          <a:prstGeom prst="rect">
            <a:avLst/>
          </a:prstGeom>
          <a:ln w="0">
            <a:noFill/>
          </a:ln>
        </p:spPr>
      </p:pic>
      <p:pic>
        <p:nvPicPr>
          <p:cNvPr id="367" name="i-main-pic" descr="Картинка 62 из 96000"/>
          <p:cNvPicPr/>
          <p:nvPr/>
        </p:nvPicPr>
        <p:blipFill>
          <a:blip r:embed="rId3"/>
          <a:stretch/>
        </p:blipFill>
        <p:spPr>
          <a:xfrm>
            <a:off x="4929120" y="2708280"/>
            <a:ext cx="359424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Calibri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-360" y="1356840"/>
            <a:ext cx="44290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орожную пасху  обычно украшают свечечками , пророщенными зернами  и искусственными цветами. Все это должно напоминать о  страданиях  и воскресении Христовом. Пасха –это символ гроба Господня. Раньше пасху делали в специально  деревянных формах  с рисунком в виде креста , буковок «ХВ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наментом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7" descr="C:\Documents and Settings\Света\Мои документы\Мои рисунки\пасха\Изображение 008.jpg"/>
          <p:cNvPicPr/>
          <p:nvPr/>
        </p:nvPicPr>
        <p:blipFill>
          <a:blip r:embed="rId1"/>
          <a:stretch/>
        </p:blipFill>
        <p:spPr>
          <a:xfrm>
            <a:off x="4357800" y="1214280"/>
            <a:ext cx="47862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3214800" y="142920"/>
            <a:ext cx="571500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рующие отправляются по домам с угощением, даря друг другу крашеные яйца, приговаривая при этом: «Христос воскрес!» - «Воистину воскрес!». Этот обычай приветствия-поздравления, сопровождаемый обниманиями и поцелуями, получил название «христосование». Праздник христианской Пасхи продолжается семь дней и называется Святой неделей или Седьмиц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373" name="i-main-pic" descr="Картинка 44 из 96000"/>
          <p:cNvPicPr/>
          <p:nvPr/>
        </p:nvPicPr>
        <p:blipFill>
          <a:blip r:embed="rId2"/>
          <a:stretch/>
        </p:blipFill>
        <p:spPr>
          <a:xfrm>
            <a:off x="179280" y="3122640"/>
            <a:ext cx="56880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i-main-pic" descr="Картинка 55 из 96000"/>
          <p:cNvPicPr/>
          <p:nvPr/>
        </p:nvPicPr>
        <p:blipFill>
          <a:blip r:embed="rId1"/>
          <a:stretch/>
        </p:blipFill>
        <p:spPr>
          <a:xfrm>
            <a:off x="500040" y="285840"/>
            <a:ext cx="77868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3636720" y="254880"/>
            <a:ext cx="566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Аполлон Николаевич Май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Повсюду благовест гудит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з всех церквей народ валит.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Заря глядит уже с небес…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С полей уж снят покров снегов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 реки рвутся из оков,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 зеленеет ближний лес...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от просыпается земля,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 одеваются поля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есна идет, полна чудес!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Христос воскрес!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Христос воскрес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lilia06"/>
          <p:cNvPicPr/>
          <p:nvPr/>
        </p:nvPicPr>
        <p:blipFill>
          <a:blip r:embed="rId3"/>
          <a:stretch/>
        </p:blipFill>
        <p:spPr>
          <a:xfrm>
            <a:off x="2484360" y="5686560"/>
            <a:ext cx="4392720" cy="1171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1"/>
          <p:cNvPicPr/>
          <p:nvPr/>
        </p:nvPicPr>
        <p:blipFill>
          <a:blip r:embed="rId4"/>
          <a:stretch/>
        </p:blipFill>
        <p:spPr>
          <a:xfrm>
            <a:off x="54000" y="2060640"/>
            <a:ext cx="360684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flovin18"/>
          <p:cNvPicPr/>
          <p:nvPr/>
        </p:nvPicPr>
        <p:blipFill>
          <a:blip r:embed="rId1"/>
          <a:stretch/>
        </p:blipFill>
        <p:spPr>
          <a:xfrm>
            <a:off x="179280" y="189000"/>
            <a:ext cx="6264360" cy="860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flovin18"/>
          <p:cNvPicPr/>
          <p:nvPr/>
        </p:nvPicPr>
        <p:blipFill>
          <a:blip r:embed="rId2"/>
          <a:stretch/>
        </p:blipFill>
        <p:spPr>
          <a:xfrm>
            <a:off x="2806560" y="5734080"/>
            <a:ext cx="6337440" cy="8697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6"/>
          <p:cNvSpPr/>
          <p:nvPr/>
        </p:nvSpPr>
        <p:spPr>
          <a:xfrm>
            <a:off x="175320" y="1122840"/>
            <a:ext cx="881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За неделю до Пасхи в  воскресенье праздн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праздник, иначе называемый </a:t>
            </a: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Вербным воскресением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Освящение вербы бывает  и в сам праздничный день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накануне - во время вечерней службы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Освящ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етви раздаются молящимся, и с ними, при возжё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свечах, верующие стоят до конца служб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315284444444"/>
          <p:cNvPicPr/>
          <p:nvPr/>
        </p:nvPicPr>
        <p:blipFill>
          <a:blip r:embed="rId3"/>
          <a:stretch/>
        </p:blipFill>
        <p:spPr>
          <a:xfrm>
            <a:off x="5651640" y="3500280"/>
            <a:ext cx="3025800" cy="202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2c28dbb7f212"/>
          <p:cNvPicPr/>
          <p:nvPr/>
        </p:nvPicPr>
        <p:blipFill>
          <a:blip r:embed="rId4"/>
          <a:stretch/>
        </p:blipFill>
        <p:spPr>
          <a:xfrm rot="2682600">
            <a:off x="826560" y="3573360"/>
            <a:ext cx="2386080" cy="30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4"/>
          <p:cNvSpPr/>
          <p:nvPr/>
        </p:nvSpPr>
        <p:spPr>
          <a:xfrm>
            <a:off x="3074760" y="1080"/>
            <a:ext cx="611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      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Александр Александрович Блок</a:t>
            </a:r>
            <a:r>
              <a:rPr b="1" i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Мальчики да девочки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Свечечки да вербочки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Понесли до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Огонечки теплятся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Прохожие крестятся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 пахнет вес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етерок удаленький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Дождик, дождик маленький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Не задуй огн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 Воскресенье Вербное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Завтра встану первая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Для святого 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pv10"/>
          <p:cNvPicPr/>
          <p:nvPr/>
        </p:nvPicPr>
        <p:blipFill>
          <a:blip r:embed="rId3"/>
          <a:stretch/>
        </p:blipFill>
        <p:spPr>
          <a:xfrm>
            <a:off x="684360" y="1341360"/>
            <a:ext cx="3249360" cy="5337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tsipa62"/>
          <p:cNvPicPr/>
          <p:nvPr/>
        </p:nvPicPr>
        <p:blipFill>
          <a:blip r:embed="rId4"/>
          <a:stretch/>
        </p:blipFill>
        <p:spPr>
          <a:xfrm>
            <a:off x="4572000" y="5084640"/>
            <a:ext cx="2521080" cy="15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2"/>
          <p:cNvSpPr/>
          <p:nvPr/>
        </p:nvSpPr>
        <p:spPr>
          <a:xfrm>
            <a:off x="1143000" y="357120"/>
            <a:ext cx="7821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бычай праздника -  дарить крашеные яй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i-main-pic" descr="Картинка 46 из 11809"/>
          <p:cNvPicPr/>
          <p:nvPr/>
        </p:nvPicPr>
        <p:blipFill>
          <a:blip r:embed="rId1"/>
          <a:stretch/>
        </p:blipFill>
        <p:spPr>
          <a:xfrm>
            <a:off x="1857240" y="1000080"/>
            <a:ext cx="489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-40323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why"/>
          <p:cNvPicPr/>
          <p:nvPr/>
        </p:nvPicPr>
        <p:blipFill>
          <a:blip r:embed="rId3"/>
          <a:stretch/>
        </p:blipFill>
        <p:spPr>
          <a:xfrm>
            <a:off x="250920" y="2332080"/>
            <a:ext cx="3035160" cy="43369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1042920" y="37332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Tahoma"/>
              </a:rPr>
              <a:t>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Times New Roman"/>
              </a:rPr>
              <a:t>На Пасху принято красить яйца разными красками, но среди разноцветных яиц </a:t>
            </a:r>
            <a:r>
              <a:rPr b="1" i="1" lang="ru-RU" sz="2400" spc="-1" strike="noStrike">
                <a:solidFill>
                  <a:srgbClr val="c0504d"/>
                </a:solidFill>
                <a:latin typeface="Arial"/>
                <a:ea typeface="Times New Roman"/>
              </a:rPr>
              <a:t>обязательно должны быть ярко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504d"/>
                </a:solidFill>
                <a:latin typeface="Arial"/>
                <a:ea typeface="Times New Roman"/>
              </a:rPr>
              <a:t>красные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Times New Roman"/>
              </a:rPr>
              <a:t>. Почему? История сохранила нам такое пред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jajtsa44"/>
          <p:cNvPicPr/>
          <p:nvPr/>
        </p:nvPicPr>
        <p:blipFill>
          <a:blip r:embed="rId4"/>
          <a:stretch/>
        </p:blipFill>
        <p:spPr>
          <a:xfrm>
            <a:off x="3768840" y="2643120"/>
            <a:ext cx="35416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jajtsa50"/>
          <p:cNvPicPr/>
          <p:nvPr/>
        </p:nvPicPr>
        <p:blipFill>
          <a:blip r:embed="rId2"/>
          <a:stretch/>
        </p:blipFill>
        <p:spPr>
          <a:xfrm>
            <a:off x="5072040" y="3276720"/>
            <a:ext cx="4071960" cy="35812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4"/>
          <p:cNvSpPr/>
          <p:nvPr/>
        </p:nvSpPr>
        <p:spPr>
          <a:xfrm>
            <a:off x="1150920" y="4287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- Христос воскрес из мёртвых! – с такой ве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бежала Мария Магдалина к римскому императору Тиберию и поднесла ему первое пасхальное яйцо. Этого не может быть, - усмехнулся император – Так же как и белое яйцо у тебя в руках никогда не станет ал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 в тот же миг куриное яйцо  - скромное подношение императору – стало ярко - красн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tsipa30"/>
          <p:cNvPicPr/>
          <p:nvPr/>
        </p:nvPicPr>
        <p:blipFill>
          <a:blip r:embed="rId3"/>
          <a:stretch/>
        </p:blipFill>
        <p:spPr>
          <a:xfrm>
            <a:off x="341280" y="3714840"/>
            <a:ext cx="437508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990960" cy="62200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4"/>
          <p:cNvSpPr/>
          <p:nvPr/>
        </p:nvSpPr>
        <p:spPr>
          <a:xfrm>
            <a:off x="4356000" y="404640"/>
            <a:ext cx="4572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80ec2"/>
                </a:solidFill>
                <a:latin typeface="Arial"/>
              </a:rPr>
              <a:t>Есть и другое преда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80ec2"/>
                </a:solidFill>
                <a:latin typeface="Arial"/>
              </a:rPr>
              <a:t>капли крови распятого Христа упали на землю, окаменели, приняли вид куриных яиц. А горячие слезы Богоматери оставили на них сл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80ec2"/>
                </a:solidFill>
                <a:latin typeface="Arial"/>
              </a:rPr>
              <a:t>в форме узор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Символически пасхальные яйца олицетворяют собой воскресение, так ка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из яй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рождается новое суще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1643040" y="146880"/>
            <a:ext cx="65008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азноцветные пасхальные 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071720" y="875160"/>
            <a:ext cx="1785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аш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5" descr="http://paskha.ru/kids/traditions/img/krashenki.jpg"/>
          <p:cNvPicPr/>
          <p:nvPr/>
        </p:nvPicPr>
        <p:blipFill>
          <a:blip r:embed="rId1"/>
          <a:stretch/>
        </p:blipFill>
        <p:spPr>
          <a:xfrm>
            <a:off x="357120" y="1214280"/>
            <a:ext cx="2571840" cy="18367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3143160" y="114948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ашен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т слова красить. Красить яйца можно по-раз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928800" y="3089880"/>
            <a:ext cx="2071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ап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7" descr="http://paskha.ru/kids/traditions/img/krapanki.jpg"/>
          <p:cNvPicPr/>
          <p:nvPr/>
        </p:nvPicPr>
        <p:blipFill>
          <a:blip r:embed="rId2"/>
          <a:stretch/>
        </p:blipFill>
        <p:spPr>
          <a:xfrm>
            <a:off x="357120" y="3571920"/>
            <a:ext cx="2500560" cy="17859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7"/>
          <p:cNvSpPr/>
          <p:nvPr/>
        </p:nvSpPr>
        <p:spPr>
          <a:xfrm>
            <a:off x="3143160" y="3016080"/>
            <a:ext cx="564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апан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т украинского слова «крапать», то есть покрывать капл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начала яйцо красят одним цветом, затем, когда оно высохнет и остынет, на него наносят капли горячего воска. Как только воск остынет, яйцо кладут в раствор другого цвета. После высыхания краски яйцо опускают в горячую воду. Воск тает, и выходит очень забавное яй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3" descr="http://paskha.ru/kids/traditions/img/drapanki.jpg"/>
          <p:cNvPicPr/>
          <p:nvPr/>
        </p:nvPicPr>
        <p:blipFill>
          <a:blip r:embed="rId1"/>
          <a:stretch/>
        </p:blipFill>
        <p:spPr>
          <a:xfrm>
            <a:off x="500040" y="1357200"/>
            <a:ext cx="2500200" cy="18781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"/>
          <p:cNvSpPr/>
          <p:nvPr/>
        </p:nvSpPr>
        <p:spPr>
          <a:xfrm>
            <a:off x="1000080" y="946800"/>
            <a:ext cx="15717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Драп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143160" y="1078560"/>
            <a:ext cx="535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рапанки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лучше брать яйца коричневого оттенка. Скорлупа таких яиц прочнее, чем белых.  Сначала яйца варят, затем красят в какой-нибудь цвет потемнее, потом сушат. Узор наносят на скорлупу острым предм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071720" y="3304080"/>
            <a:ext cx="1357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Пис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8" descr="http://paskha.ru/kids/traditions/img/pisanki.jpg"/>
          <p:cNvPicPr/>
          <p:nvPr/>
        </p:nvPicPr>
        <p:blipFill>
          <a:blip r:embed="rId2"/>
          <a:stretch/>
        </p:blipFill>
        <p:spPr>
          <a:xfrm>
            <a:off x="428760" y="3714840"/>
            <a:ext cx="2571480" cy="1928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3143160" y="2944440"/>
            <a:ext cx="600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исан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это искусно расписанные пасхальные яйца.  Писанки - настоящие произведения народного творчества.  Для рисунка писанки используют элементы растительного и животного мира, геометрические фиг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1928880" y="218160"/>
            <a:ext cx="65008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азноцветные пасхальные 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ЕРВЫЙ</dc:creator>
  <dc:description/>
  <dc:language>en-US</dc:language>
  <cp:lastModifiedBy>мама люда</cp:lastModifiedBy>
  <dcterms:modified xsi:type="dcterms:W3CDTF">2017-02-12T10:38:21Z</dcterms:modified>
  <cp:revision>125</cp:revision>
  <dc:subject/>
  <dc:title>Слайд 1</dc:title>
</cp:coreProperties>
</file>