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image16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26.jpeg" ContentType="image/jpeg"/>
  <Override PartName="/ppt/media/image25.png" ContentType="image/png"/>
  <Override PartName="/ppt/media/image1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13EC-8680-4B05-BC4F-FAB83E78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3E8-CF5F-4018-8A25-FBE23172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B06-D694-4A62-AD9A-860AA5CE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F64-0E1F-4214-8890-524CAC35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D4A7-7E9B-47C2-A55E-582D40C4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169-C536-4ACA-8AB0-B74D4873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81B2-8655-4E22-B87E-EAD43306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16D4-6055-4FE0-AB10-137BEEFB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551-7AEA-49B2-80D1-795DA6CD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69A-1429-46CD-BE00-ADAFC4A8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87A-0AE9-4069-AA17-2906C42B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17E1-5FD2-47F9-B7FB-97B38312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CEA9-39C4-40A0-A3A0-B6C6C00BDD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t16.privet.ru/lr/09102f4843a5a902a702649e403be81e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berks.redcross.org/images/fall%20leaf.jpg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berks.redcross.org/images/fall%20leaf.jpg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berks.redcross.org/images/fall%20leaf.jpg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3.png"/><Relationship Id="rId15" Type="http://schemas.openxmlformats.org/officeDocument/2006/relationships/slide" Target="slide2.xml"/><Relationship Id="rId16" Type="http://schemas.openxmlformats.org/officeDocument/2006/relationships/image" Target="../media/image26.jpe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3 из 9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571680"/>
            <a:ext cx="7500960" cy="5935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Картинка 3 из 1333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29720" y="5357880"/>
            <a:ext cx="1214280" cy="1500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Картинка 3 из 1333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143160"/>
            <a:ext cx="1214280" cy="150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Картинка 3 из 1333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000080"/>
            <a:ext cx="1214280" cy="1500120"/>
          </a:xfrm>
          <a:prstGeom prst="rect">
            <a:avLst/>
          </a:prstGeom>
          <a:ln w="0">
            <a:noFill/>
          </a:ln>
        </p:spPr>
      </p:pic>
      <p:sp>
        <p:nvSpPr>
          <p:cNvPr id="45" name="Горизонтальный свиток 7"/>
          <p:cNvSpPr/>
          <p:nvPr/>
        </p:nvSpPr>
        <p:spPr>
          <a:xfrm>
            <a:off x="1214280" y="4643280"/>
            <a:ext cx="6715440" cy="2214720"/>
          </a:xfrm>
          <a:prstGeom prst="horizontalScroll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Задания от белоч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782 -0.39325 C 0.40313 -0.39556 0.3981 -0.39695 0.39323 -0.39834 C 0.39133 -0.3981 0.37935 -0.3981 0.37483 -0.39579 C 0.37171 -0.39417 0.36928 -0.39209 0.36598 -0.3907 C 0.36251 -0.38746 0.35834 -0.38469 0.35435 -0.38284 C 0.35087 -0.37682 0.34827 -0.36965 0.34671 -0.36225 C 0.34584 -0.31529 0.35122 -0.31413 0.3408 -0.2873 C 0.33994 -0.28476 0.34028 -0.28129 0.33889 -0.27944 C 0.3349 -0.27412 0.32657 -0.26903 0.32136 -0.26648 C 0.31442 -0.26903 0.30712 -0.27041 0.30001 -0.27157 C 0.28924 -0.27666 0.27726 -0.27689 0.26598 -0.27944 C 0.25921 -0.28291 0.25087 -0.28314 0.24376 -0.28453 C 0.23108 -0.28406 0.21858 -0.28406 0.20591 -0.28337 C 0.20174 -0.28314 0.19514 -0.2755 0.19514 -0.2755 C 0.19445 -0.27412 0.19393 -0.27273 0.19323 -0.27157 C 0.19237 -0.27018 0.19098 -0.26926 0.19028 -0.26787 C 0.18976 -0.26671 0.18994 -0.26509 0.18942 -0.26394 C 0.18803 -0.2607 0.18455 -0.25492 0.18455 -0.25492 C 0.18247 -0.24682 0.1816 -0.23872 0.18056 -0.2304 C 0.1816 -0.19732 0.19376 -0.13579 0.16997 -0.11543 C 0.16216 -0.09901 0.1533 -0.08513 0.14948 -0.06593 C 0.14983 -0.05737 0.14896 -0.04303 0.15244 -0.03354 C 0.15643 -0.02244 0.1724 -0.01018 0.18056 -0.00648 C 0.18386 -0.00208 0.18803 0.00116 0.19219 0.0037 C 0.19445 0.00763 0.19636 0.01203 0.19914 0.01527 C 0.20192 0.02267 0.20573 0.02984 0.20782 0.03747 C 0.20903 0.04164 0.21077 0.05043 0.21077 0.05043 C 0.2099 0.06569 0.21008 0.07379 0.20192 0.08397 C 0.20157 0.08536 0.20174 0.08698 0.20105 0.0879 C 0.19879 0.09091 0.1882 0.0997 0.18542 0.10086 C 0.17639 0.10872 0.1606 0.10062 0.15053 0.09692 C 0.14619 0.09322 0.14271 0.09021 0.13785 0.0879 C 0.13438 0.0842 0.13126 0.08142 0.12726 0.07888 C 0.12171 0.06731 0.13039 0.0842 0.12049 0.07125 C 0.11893 0.06916 0.11893 0.06569 0.11754 0.06315 C 0.11233 0.05459 0.10869 0.04488 0.10487 0.03493 C 0.10226 0.02012 0.10608 0.03886 0.10192 0.02591 C 0.09775 0.01272 0.09636 -0.00139 0.09219 -0.01434 C 0.09098 -0.0236 0.08855 -0.03215 0.08733 -0.04141 C 0.0856 -0.05459 0.08386 -0.06755 0.08056 -0.08027 C 0.079 -0.09392 0.07761 -0.1078 0.07379 -0.12052 C 0.07188 -0.13741 0.07466 -0.11936 0.06997 -0.13463 C 0.06823 -0.14064 0.06876 -0.14342 0.06598 -0.14874 C 0.06476 -0.15614 0.06042 -0.16169 0.0573 -0.16817 C 0.04862 -0.18621 0.03508 -0.19986 0.01945 -0.20564 C 0.01598 -0.20865 0.01476 -0.21027 0.01077 -0.20819 C 0.00763 -0.2031 0.00521 -0.19986 0.00296 -0.19431 C 0.00192 -0.1913 -0.00086 -0.18621 -0.00086 -0.18621 C -0.00277 -0.17719 -0.00555 -0.17002 -0.00677 -0.16031 C -0.00624 -0.14249 -0.00885 -0.09507 -0.0019 -0.06847 C 8.88889E-006 -0.05251 0.00035 -0.04071 0.00105 -0.02336 C 0.0007 -0.0155 8.88889E-006 -3.38654E-006 8.88889E-006 -3.38654E-006 E">
                                      <p:cBhvr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782 -0.39325 C 0.40313 -0.39556 0.3981 -0.39695 0.39323 -0.39834 C 0.39133 -0.3981 0.37935 -0.3981 0.37483 -0.39579 C 0.37171 -0.39417 0.36928 -0.39209 0.36598 -0.3907 C 0.36251 -0.38746 0.35834 -0.38469 0.35435 -0.38284 C 0.35087 -0.37682 0.34827 -0.36965 0.34671 -0.36225 C 0.34584 -0.31529 0.35122 -0.31413 0.3408 -0.2873 C 0.33994 -0.28476 0.34028 -0.28129 0.33889 -0.27944 C 0.3349 -0.27412 0.32657 -0.26903 0.32136 -0.26648 C 0.31442 -0.26903 0.30712 -0.27041 0.30001 -0.27157 C 0.28924 -0.27666 0.27726 -0.27689 0.26598 -0.27944 C 0.25921 -0.28291 0.25087 -0.28314 0.24376 -0.28453 C 0.23108 -0.28406 0.21858 -0.28406 0.20591 -0.28337 C 0.20174 -0.28314 0.19514 -0.2755 0.19514 -0.2755 C 0.19445 -0.27412 0.19393 -0.27273 0.19323 -0.27157 C 0.19237 -0.27018 0.19098 -0.26926 0.19028 -0.26787 C 0.18976 -0.26671 0.18994 -0.26509 0.18942 -0.26394 C 0.18803 -0.2607 0.18455 -0.25492 0.18455 -0.25492 C 0.18247 -0.24682 0.1816 -0.23872 0.18056 -0.2304 C 0.1816 -0.19732 0.19376 -0.13579 0.16997 -0.11543 C 0.16216 -0.09901 0.1533 -0.08513 0.14948 -0.06593 C 0.14983 -0.05737 0.14896 -0.04303 0.15244 -0.03354 C 0.15643 -0.02244 0.1724 -0.01018 0.18056 -0.00648 C 0.18386 -0.00208 0.18803 0.00116 0.19219 0.0037 C 0.19445 0.00763 0.19636 0.01203 0.19914 0.01527 C 0.20192 0.02267 0.20573 0.02984 0.20782 0.03747 C 0.20903 0.04164 0.21077 0.05043 0.21077 0.05043 C 0.2099 0.06569 0.21008 0.07379 0.20192 0.08397 C 0.20157 0.08536 0.20174 0.08698 0.20105 0.0879 C 0.19879 0.09091 0.1882 0.0997 0.18542 0.10086 C 0.17639 0.10872 0.1606 0.10062 0.15053 0.09692 C 0.14619 0.09322 0.14271 0.09021 0.13785 0.0879 C 0.13438 0.0842 0.13126 0.08142 0.12726 0.07888 C 0.12171 0.06731 0.13039 0.0842 0.12049 0.07125 C 0.11893 0.06916 0.11893 0.06569 0.11754 0.06315 C 0.11233 0.05459 0.10869 0.04488 0.10487 0.03493 C 0.10226 0.02012 0.10608 0.03886 0.10192 0.02591 C 0.09775 0.01272 0.09636 -0.00139 0.09219 -0.01434 C 0.09098 -0.0236 0.08855 -0.03215 0.08733 -0.04141 C 0.0856 -0.05459 0.08386 -0.06755 0.08056 -0.08027 C 0.079 -0.09392 0.07761 -0.1078 0.07379 -0.12052 C 0.07188 -0.13741 0.07466 -0.11936 0.06997 -0.13463 C 0.06823 -0.14064 0.06876 -0.14342 0.06598 -0.14874 C 0.06476 -0.15614 0.06042 -0.16169 0.0573 -0.16817 C 0.04862 -0.18621 0.03508 -0.19986 0.01945 -0.20564 C 0.01598 -0.20865 0.01476 -0.21027 0.01077 -0.20819 C 0.00763 -0.2031 0.00521 -0.19986 0.00296 -0.19431 C 0.00192 -0.1913 -0.00086 -0.18621 -0.00086 -0.18621 C -0.00277 -0.17719 -0.00555 -0.17002 -0.00677 -0.16031 C -0.00624 -0.14249 -0.00885 -0.09507 -0.0019 -0.06847 C 8.88889E-006 -0.05251 0.00035 -0.04071 0.00105 -0.02336 C 0.0007 -0.0155 8.88889E-006 -3.38654E-006 8.88889E-006 -3.38654E-006 E">
                                      <p:cBhvr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782 -0.39325 C 0.40313 -0.39556 0.3981 -0.39695 0.39323 -0.39834 C 0.39133 -0.3981 0.37935 -0.3981 0.37483 -0.39579 C 0.37171 -0.39417 0.36928 -0.39209 0.36598 -0.3907 C 0.36251 -0.38746 0.35834 -0.38469 0.35435 -0.38284 C 0.35087 -0.37682 0.34827 -0.36965 0.34671 -0.36225 C 0.34584 -0.31529 0.35122 -0.31413 0.3408 -0.2873 C 0.33994 -0.28476 0.34028 -0.28129 0.33889 -0.27944 C 0.3349 -0.27412 0.32657 -0.26903 0.32136 -0.26648 C 0.31442 -0.26903 0.30712 -0.27041 0.30001 -0.27157 C 0.28924 -0.27666 0.27726 -0.27689 0.26598 -0.27944 C 0.25921 -0.28291 0.25087 -0.28314 0.24376 -0.28453 C 0.23108 -0.28406 0.21858 -0.28406 0.20591 -0.28337 C 0.20174 -0.28314 0.19514 -0.2755 0.19514 -0.2755 C 0.19445 -0.27412 0.19393 -0.27273 0.19323 -0.27157 C 0.19237 -0.27018 0.19098 -0.26926 0.19028 -0.26787 C 0.18976 -0.26671 0.18994 -0.26509 0.18942 -0.26394 C 0.18803 -0.2607 0.18455 -0.25492 0.18455 -0.25492 C 0.18247 -0.24682 0.1816 -0.23872 0.18056 -0.2304 C 0.1816 -0.19732 0.19376 -0.13579 0.16997 -0.11543 C 0.16216 -0.09901 0.1533 -0.08513 0.14948 -0.06593 C 0.14983 -0.05737 0.14896 -0.04303 0.15244 -0.03354 C 0.15643 -0.02244 0.1724 -0.01018 0.18056 -0.00648 C 0.18386 -0.00208 0.18803 0.00116 0.19219 0.0037 C 0.19445 0.00763 0.19636 0.01203 0.19914 0.01527 C 0.20192 0.02267 0.20573 0.02984 0.20782 0.03747 C 0.20903 0.04164 0.21077 0.05043 0.21077 0.05043 C 0.2099 0.06569 0.21008 0.07379 0.20192 0.08397 C 0.20157 0.08536 0.20174 0.08698 0.20105 0.0879 C 0.19879 0.09091 0.1882 0.0997 0.18542 0.10086 C 0.17639 0.10872 0.1606 0.10062 0.15053 0.09692 C 0.14619 0.09322 0.14271 0.09021 0.13785 0.0879 C 0.13438 0.0842 0.13126 0.08142 0.12726 0.07888 C 0.12171 0.06731 0.13039 0.0842 0.12049 0.07125 C 0.11893 0.06916 0.11893 0.06569 0.11754 0.06315 C 0.11233 0.05459 0.10869 0.04488 0.10487 0.03493 C 0.10226 0.02012 0.10608 0.03886 0.10192 0.02591 C 0.09775 0.01272 0.09636 -0.00139 0.09219 -0.01434 C 0.09098 -0.0236 0.08855 -0.03215 0.08733 -0.04141 C 0.0856 -0.05459 0.08386 -0.06755 0.08056 -0.08027 C 0.079 -0.09392 0.07761 -0.1078 0.07379 -0.12052 C 0.07188 -0.13741 0.07466 -0.11936 0.06997 -0.13463 C 0.06823 -0.14064 0.06876 -0.14342 0.06598 -0.14874 C 0.06476 -0.15614 0.06042 -0.16169 0.0573 -0.16817 C 0.04862 -0.18621 0.03508 -0.19986 0.01945 -0.20564 C 0.01598 -0.20865 0.01476 -0.21027 0.01077 -0.20819 C 0.00763 -0.2031 0.00521 -0.19986 0.00296 -0.19431 C 0.00192 -0.1913 -0.00086 -0.18621 -0.00086 -0.18621 C -0.00277 -0.17719 -0.00555 -0.17002 -0.00677 -0.16031 C -0.00624 -0.14249 -0.00885 -0.09507 -0.0019 -0.06847 C 8.88889E-006 -0.05251 0.00035 -0.04071 0.00105 -0.02336 C 0.0007 -0.0155 8.88889E-006 -3.38654E-006 8.88889E-006 -3.38654E-006 E">
                                      <p:cBhvr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5" descr="e5016a11eb85dc683b9201753804a6f2.gif"/>
          <p:cNvPicPr/>
          <p:nvPr/>
        </p:nvPicPr>
        <p:blipFill>
          <a:blip r:embed="rId1"/>
          <a:stretch/>
        </p:blipFill>
        <p:spPr>
          <a:xfrm>
            <a:off x="0" y="1214280"/>
            <a:ext cx="5643720" cy="5291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7" descr="1664.gif"/>
          <p:cNvPicPr/>
          <p:nvPr/>
        </p:nvPicPr>
        <p:blipFill>
          <a:blip r:embed="rId2"/>
          <a:stretch/>
        </p:blipFill>
        <p:spPr>
          <a:xfrm rot="13059600">
            <a:off x="711360" y="1351800"/>
            <a:ext cx="2055600" cy="16621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8" descr="1661.gif"/>
          <p:cNvPicPr/>
          <p:nvPr/>
        </p:nvPicPr>
        <p:blipFill>
          <a:blip r:embed="rId3"/>
          <a:stretch/>
        </p:blipFill>
        <p:spPr>
          <a:xfrm>
            <a:off x="571680" y="4286160"/>
            <a:ext cx="2214360" cy="1928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9" descr="1688.gif"/>
          <p:cNvPicPr/>
          <p:nvPr/>
        </p:nvPicPr>
        <p:blipFill>
          <a:blip r:embed="rId4">
            <a:lum contrast="30000"/>
          </a:blip>
          <a:stretch/>
        </p:blipFill>
        <p:spPr>
          <a:xfrm rot="19692600">
            <a:off x="3903840" y="4001760"/>
            <a:ext cx="1842840" cy="1942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7" descr="c0c534fda4e3487c1e3b6d102302b621.gif"/>
          <p:cNvPicPr/>
          <p:nvPr/>
        </p:nvPicPr>
        <p:blipFill>
          <a:blip r:embed="rId5"/>
          <a:stretch/>
        </p:blipFill>
        <p:spPr>
          <a:xfrm rot="14497800">
            <a:off x="5800320" y="1087560"/>
            <a:ext cx="1898640" cy="1488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6" descr="c0c534fda4e3487c1e3b6d102302b621.gif"/>
          <p:cNvPicPr/>
          <p:nvPr/>
        </p:nvPicPr>
        <p:blipFill>
          <a:blip r:embed="rId6"/>
          <a:stretch/>
        </p:blipFill>
        <p:spPr>
          <a:xfrm rot="15500400">
            <a:off x="6578280" y="3720600"/>
            <a:ext cx="1878120" cy="141120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5429160" y="500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Составь зада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Управляющая кнопка: назад 8"/>
          <p:cNvGrpSpPr/>
          <p:nvPr/>
        </p:nvGrpSpPr>
        <p:grpSpPr>
          <a:xfrm>
            <a:off x="225360" y="463680"/>
            <a:ext cx="755640" cy="536400"/>
            <a:chOff x="225360" y="463680"/>
            <a:chExt cx="755640" cy="536400"/>
          </a:xfrm>
        </p:grpSpPr>
        <p:pic>
          <p:nvPicPr>
            <p:cNvPr id="54" name="Управляющая кнопка: назад 8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225360" y="463680"/>
              <a:ext cx="755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0"/>
            <p:cNvSpPr/>
            <p:nvPr/>
          </p:nvSpPr>
          <p:spPr>
            <a:xfrm>
              <a:off x="285840" y="500040"/>
              <a:ext cx="64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9"/>
          <p:cNvSpPr/>
          <p:nvPr/>
        </p:nvSpPr>
        <p:spPr>
          <a:xfrm>
            <a:off x="5364000" y="5373720"/>
            <a:ext cx="357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Arial"/>
              </a:rPr>
              <a:t>3 + 2 =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1-zvuk-volshebnoy-palochki(muzofon.com).mp3" descr=""/>
          <p:cNvPicPr/>
          <p:nvPr/>
        </p:nvPicPr>
        <p:blipFill>
          <a:blip r:embed="rId8"/>
          <a:stretch/>
        </p:blipFill>
        <p:spPr>
          <a:xfrm>
            <a:off x="853272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9" name="chimes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2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523880" y="1214280"/>
          <a:ext cx="6096240" cy="5286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7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9" name="Группа 40"/>
          <p:cNvGrpSpPr/>
          <p:nvPr/>
        </p:nvGrpSpPr>
        <p:grpSpPr>
          <a:xfrm>
            <a:off x="1928520" y="1357200"/>
            <a:ext cx="1214280" cy="1500480"/>
            <a:chOff x="1928520" y="1357200"/>
            <a:chExt cx="1214280" cy="1500480"/>
          </a:xfrm>
        </p:grpSpPr>
        <p:sp>
          <p:nvSpPr>
            <p:cNvPr id="60" name="Трапеция 2"/>
            <p:cNvSpPr/>
            <p:nvPr/>
          </p:nvSpPr>
          <p:spPr>
            <a:xfrm rot="10800000">
              <a:off x="1928520" y="2286000"/>
              <a:ext cx="1214280" cy="571680"/>
            </a:xfrm>
            <a:prstGeom prst="pie">
              <a:avLst/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оугольный треугольник 17"/>
            <p:cNvSpPr/>
            <p:nvPr/>
          </p:nvSpPr>
          <p:spPr>
            <a:xfrm>
              <a:off x="2143080" y="1357200"/>
              <a:ext cx="785880" cy="9288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Кольцо 22"/>
            <p:cNvSpPr/>
            <p:nvPr/>
          </p:nvSpPr>
          <p:spPr>
            <a:xfrm>
              <a:off x="2214360" y="242892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44"/>
          <p:cNvGrpSpPr/>
          <p:nvPr/>
        </p:nvGrpSpPr>
        <p:grpSpPr>
          <a:xfrm>
            <a:off x="4071600" y="3143160"/>
            <a:ext cx="1214280" cy="1499760"/>
            <a:chOff x="4071600" y="3143160"/>
            <a:chExt cx="1214280" cy="1499760"/>
          </a:xfrm>
        </p:grpSpPr>
        <p:sp>
          <p:nvSpPr>
            <p:cNvPr id="64" name="Трапеция 8"/>
            <p:cNvSpPr/>
            <p:nvPr/>
          </p:nvSpPr>
          <p:spPr>
            <a:xfrm rot="10800000">
              <a:off x="4071600" y="4071600"/>
              <a:ext cx="1214280" cy="571320"/>
            </a:xfrm>
            <a:prstGeom prst="pie">
              <a:avLst/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Прямоугольный треугольник 18"/>
            <p:cNvSpPr/>
            <p:nvPr/>
          </p:nvSpPr>
          <p:spPr>
            <a:xfrm>
              <a:off x="4286160" y="3143160"/>
              <a:ext cx="785880" cy="9288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Кольцо 23"/>
            <p:cNvSpPr/>
            <p:nvPr/>
          </p:nvSpPr>
          <p:spPr>
            <a:xfrm>
              <a:off x="4572000" y="421488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Кольцо 24"/>
            <p:cNvSpPr/>
            <p:nvPr/>
          </p:nvSpPr>
          <p:spPr>
            <a:xfrm>
              <a:off x="4857840" y="421488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Кольцо 25"/>
            <p:cNvSpPr/>
            <p:nvPr/>
          </p:nvSpPr>
          <p:spPr>
            <a:xfrm>
              <a:off x="4286160" y="421488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Группа 43"/>
          <p:cNvGrpSpPr/>
          <p:nvPr/>
        </p:nvGrpSpPr>
        <p:grpSpPr>
          <a:xfrm>
            <a:off x="2000160" y="3143160"/>
            <a:ext cx="1214640" cy="1499760"/>
            <a:chOff x="2000160" y="3143160"/>
            <a:chExt cx="1214640" cy="1499760"/>
          </a:xfrm>
        </p:grpSpPr>
        <p:sp>
          <p:nvSpPr>
            <p:cNvPr id="70" name="Трапеция 5"/>
            <p:cNvSpPr/>
            <p:nvPr/>
          </p:nvSpPr>
          <p:spPr>
            <a:xfrm rot="10800000">
              <a:off x="2000160" y="4071600"/>
              <a:ext cx="1214640" cy="571320"/>
            </a:xfrm>
            <a:prstGeom prst="pie">
              <a:avLst/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Прямоугольный треугольник 16"/>
            <p:cNvSpPr/>
            <p:nvPr/>
          </p:nvSpPr>
          <p:spPr>
            <a:xfrm>
              <a:off x="2214360" y="3143160"/>
              <a:ext cx="785880" cy="92880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Кольцо 26"/>
            <p:cNvSpPr/>
            <p:nvPr/>
          </p:nvSpPr>
          <p:spPr>
            <a:xfrm>
              <a:off x="2428920" y="421488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Кольцо 27"/>
            <p:cNvSpPr/>
            <p:nvPr/>
          </p:nvSpPr>
          <p:spPr>
            <a:xfrm>
              <a:off x="2143080" y="421488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42"/>
          <p:cNvGrpSpPr/>
          <p:nvPr/>
        </p:nvGrpSpPr>
        <p:grpSpPr>
          <a:xfrm>
            <a:off x="5929200" y="1357200"/>
            <a:ext cx="1214640" cy="1500480"/>
            <a:chOff x="5929200" y="1357200"/>
            <a:chExt cx="1214640" cy="1500480"/>
          </a:xfrm>
        </p:grpSpPr>
        <p:sp>
          <p:nvSpPr>
            <p:cNvPr id="75" name="Трапеция 3"/>
            <p:cNvSpPr/>
            <p:nvPr/>
          </p:nvSpPr>
          <p:spPr>
            <a:xfrm rot="10800000">
              <a:off x="5929200" y="2286000"/>
              <a:ext cx="1214640" cy="571680"/>
            </a:xfrm>
            <a:prstGeom prst="pie">
              <a:avLst/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оугольный треугольник 15"/>
            <p:cNvSpPr/>
            <p:nvPr/>
          </p:nvSpPr>
          <p:spPr>
            <a:xfrm>
              <a:off x="6143400" y="1357200"/>
              <a:ext cx="785880" cy="92880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Кольцо 28"/>
            <p:cNvSpPr/>
            <p:nvPr/>
          </p:nvSpPr>
          <p:spPr>
            <a:xfrm>
              <a:off x="6715080" y="242892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Кольцо 29"/>
            <p:cNvSpPr/>
            <p:nvPr/>
          </p:nvSpPr>
          <p:spPr>
            <a:xfrm>
              <a:off x="6429240" y="242892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Кольцо 30"/>
            <p:cNvSpPr/>
            <p:nvPr/>
          </p:nvSpPr>
          <p:spPr>
            <a:xfrm>
              <a:off x="6143400" y="242892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Группа 41"/>
          <p:cNvGrpSpPr/>
          <p:nvPr/>
        </p:nvGrpSpPr>
        <p:grpSpPr>
          <a:xfrm>
            <a:off x="4000320" y="1357200"/>
            <a:ext cx="1214280" cy="1500480"/>
            <a:chOff x="4000320" y="1357200"/>
            <a:chExt cx="1214280" cy="1500480"/>
          </a:xfrm>
        </p:grpSpPr>
        <p:sp>
          <p:nvSpPr>
            <p:cNvPr id="81" name="Трапеция 4"/>
            <p:cNvSpPr/>
            <p:nvPr/>
          </p:nvSpPr>
          <p:spPr>
            <a:xfrm rot="10800000">
              <a:off x="4000320" y="2286000"/>
              <a:ext cx="1214280" cy="571680"/>
            </a:xfrm>
            <a:prstGeom prst="pie">
              <a:avLst/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Прямоугольный треугольник 13"/>
            <p:cNvSpPr/>
            <p:nvPr/>
          </p:nvSpPr>
          <p:spPr>
            <a:xfrm>
              <a:off x="4214880" y="1357200"/>
              <a:ext cx="785880" cy="928800"/>
            </a:xfrm>
            <a:prstGeom prst="rtTriangle">
              <a:avLst/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Кольцо 31"/>
            <p:cNvSpPr/>
            <p:nvPr/>
          </p:nvSpPr>
          <p:spPr>
            <a:xfrm>
              <a:off x="4500720" y="242892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Кольцо 32"/>
            <p:cNvSpPr/>
            <p:nvPr/>
          </p:nvSpPr>
          <p:spPr>
            <a:xfrm>
              <a:off x="4214880" y="242892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Группа 48"/>
          <p:cNvGrpSpPr/>
          <p:nvPr/>
        </p:nvGrpSpPr>
        <p:grpSpPr>
          <a:xfrm>
            <a:off x="6072120" y="4857840"/>
            <a:ext cx="1214640" cy="1499760"/>
            <a:chOff x="6072120" y="4857840"/>
            <a:chExt cx="1214640" cy="1499760"/>
          </a:xfrm>
        </p:grpSpPr>
        <p:sp>
          <p:nvSpPr>
            <p:cNvPr id="86" name="Трапеция 10"/>
            <p:cNvSpPr/>
            <p:nvPr/>
          </p:nvSpPr>
          <p:spPr>
            <a:xfrm rot="10800000">
              <a:off x="6072120" y="5786280"/>
              <a:ext cx="1214640" cy="571320"/>
            </a:xfrm>
            <a:prstGeom prst="pie">
              <a:avLst/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оугольный треугольник 19"/>
            <p:cNvSpPr/>
            <p:nvPr/>
          </p:nvSpPr>
          <p:spPr>
            <a:xfrm>
              <a:off x="6286320" y="4857840"/>
              <a:ext cx="785880" cy="9288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Кольцо 33"/>
            <p:cNvSpPr/>
            <p:nvPr/>
          </p:nvSpPr>
          <p:spPr>
            <a:xfrm>
              <a:off x="6500880" y="592956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Кольцо 34"/>
            <p:cNvSpPr/>
            <p:nvPr/>
          </p:nvSpPr>
          <p:spPr>
            <a:xfrm>
              <a:off x="6215040" y="592956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47"/>
          <p:cNvGrpSpPr/>
          <p:nvPr/>
        </p:nvGrpSpPr>
        <p:grpSpPr>
          <a:xfrm>
            <a:off x="4071600" y="4857840"/>
            <a:ext cx="1214280" cy="1499760"/>
            <a:chOff x="4071600" y="4857840"/>
            <a:chExt cx="1214280" cy="1499760"/>
          </a:xfrm>
        </p:grpSpPr>
        <p:sp>
          <p:nvSpPr>
            <p:cNvPr id="91" name="Трапеция 7"/>
            <p:cNvSpPr/>
            <p:nvPr/>
          </p:nvSpPr>
          <p:spPr>
            <a:xfrm rot="10800000">
              <a:off x="4071600" y="5786280"/>
              <a:ext cx="1214280" cy="571320"/>
            </a:xfrm>
            <a:prstGeom prst="pie">
              <a:avLst/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рямоугольный треугольник 14"/>
            <p:cNvSpPr/>
            <p:nvPr/>
          </p:nvSpPr>
          <p:spPr>
            <a:xfrm>
              <a:off x="4286160" y="4857840"/>
              <a:ext cx="785880" cy="92880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Кольцо 35"/>
            <p:cNvSpPr/>
            <p:nvPr/>
          </p:nvSpPr>
          <p:spPr>
            <a:xfrm>
              <a:off x="4357440" y="592956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Группа 46"/>
          <p:cNvGrpSpPr/>
          <p:nvPr/>
        </p:nvGrpSpPr>
        <p:grpSpPr>
          <a:xfrm>
            <a:off x="1857240" y="4857840"/>
            <a:ext cx="1214640" cy="1499760"/>
            <a:chOff x="1857240" y="4857840"/>
            <a:chExt cx="1214640" cy="1499760"/>
          </a:xfrm>
        </p:grpSpPr>
        <p:sp>
          <p:nvSpPr>
            <p:cNvPr id="95" name="Трапеция 6"/>
            <p:cNvSpPr/>
            <p:nvPr/>
          </p:nvSpPr>
          <p:spPr>
            <a:xfrm rot="10800000">
              <a:off x="1857240" y="5786280"/>
              <a:ext cx="1214640" cy="571320"/>
            </a:xfrm>
            <a:prstGeom prst="pie">
              <a:avLst/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оугольный треугольник 11"/>
            <p:cNvSpPr/>
            <p:nvPr/>
          </p:nvSpPr>
          <p:spPr>
            <a:xfrm>
              <a:off x="2071440" y="4857840"/>
              <a:ext cx="785880" cy="928800"/>
            </a:xfrm>
            <a:prstGeom prst="rtTriangle">
              <a:avLst/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Кольцо 36"/>
            <p:cNvSpPr/>
            <p:nvPr/>
          </p:nvSpPr>
          <p:spPr>
            <a:xfrm>
              <a:off x="2643120" y="592956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Кольцо 37"/>
            <p:cNvSpPr/>
            <p:nvPr/>
          </p:nvSpPr>
          <p:spPr>
            <a:xfrm>
              <a:off x="2357280" y="592956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Кольцо 38"/>
            <p:cNvSpPr/>
            <p:nvPr/>
          </p:nvSpPr>
          <p:spPr>
            <a:xfrm>
              <a:off x="2071440" y="592956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Группа 45"/>
          <p:cNvGrpSpPr/>
          <p:nvPr/>
        </p:nvGrpSpPr>
        <p:grpSpPr>
          <a:xfrm>
            <a:off x="6011640" y="3141720"/>
            <a:ext cx="1214280" cy="1499760"/>
            <a:chOff x="6011640" y="3141720"/>
            <a:chExt cx="1214280" cy="1499760"/>
          </a:xfrm>
        </p:grpSpPr>
        <p:sp>
          <p:nvSpPr>
            <p:cNvPr id="101" name="Трапеция 9"/>
            <p:cNvSpPr/>
            <p:nvPr/>
          </p:nvSpPr>
          <p:spPr>
            <a:xfrm rot="10800000">
              <a:off x="6011640" y="4070160"/>
              <a:ext cx="1214280" cy="571320"/>
            </a:xfrm>
            <a:prstGeom prst="pie">
              <a:avLst/>
            </a:prstGeom>
            <a:solidFill>
              <a:srgbClr val="eeece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оугольный треугольник 12"/>
            <p:cNvSpPr/>
            <p:nvPr/>
          </p:nvSpPr>
          <p:spPr>
            <a:xfrm>
              <a:off x="6226200" y="3141720"/>
              <a:ext cx="785880" cy="928800"/>
            </a:xfrm>
            <a:prstGeom prst="rtTriangle">
              <a:avLst/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Кольцо 39"/>
            <p:cNvSpPr/>
            <p:nvPr/>
          </p:nvSpPr>
          <p:spPr>
            <a:xfrm>
              <a:off x="6226200" y="4213440"/>
              <a:ext cx="214200" cy="214200"/>
            </a:xfrm>
            <a:prstGeom prst="pi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50"/>
          <p:cNvSpPr/>
          <p:nvPr/>
        </p:nvSpPr>
        <p:spPr>
          <a:xfrm>
            <a:off x="3286080" y="35712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Найди недостающие кора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Управляющая кнопка: назад 49"/>
          <p:cNvGrpSpPr/>
          <p:nvPr/>
        </p:nvGrpSpPr>
        <p:grpSpPr>
          <a:xfrm>
            <a:off x="365040" y="536400"/>
            <a:ext cx="903240" cy="536760"/>
            <a:chOff x="365040" y="536400"/>
            <a:chExt cx="903240" cy="536760"/>
          </a:xfrm>
        </p:grpSpPr>
        <p:pic>
          <p:nvPicPr>
            <p:cNvPr id="106" name="Управляющая кнопка: назад 4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65040" y="536400"/>
              <a:ext cx="9032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31"/>
            <p:cNvSpPr/>
            <p:nvPr/>
          </p:nvSpPr>
          <p:spPr>
            <a:xfrm>
              <a:off x="428760" y="571680"/>
              <a:ext cx="7855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  <p:sndAc>
      <p:stSnd>
        <p:snd r:embed="rId3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4572000" y="50004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йди правильный 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4200" y="1117440"/>
          <a:ext cx="4572000" cy="5241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Box 3"/>
          <p:cNvSpPr/>
          <p:nvPr/>
        </p:nvSpPr>
        <p:spPr>
          <a:xfrm>
            <a:off x="357120" y="107172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28760" y="2357280"/>
            <a:ext cx="78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28760" y="3643200"/>
            <a:ext cx="7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142920" y="5000760"/>
            <a:ext cx="157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1571760" y="1143000"/>
            <a:ext cx="7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1643040" y="2357280"/>
            <a:ext cx="64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1571760" y="3714840"/>
            <a:ext cx="7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1714680" y="4929120"/>
            <a:ext cx="64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143920" y="1285920"/>
          <a:ext cx="785880" cy="131112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143920" y="2571840"/>
          <a:ext cx="785880" cy="131112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8143920" y="3929040"/>
          <a:ext cx="785880" cy="131112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8143920" y="5214960"/>
          <a:ext cx="785880" cy="131112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2" name="Управляющая кнопка: назад 17"/>
          <p:cNvGrpSpPr/>
          <p:nvPr/>
        </p:nvGrpSpPr>
        <p:grpSpPr>
          <a:xfrm>
            <a:off x="365040" y="603360"/>
            <a:ext cx="762120" cy="542880"/>
            <a:chOff x="365040" y="603360"/>
            <a:chExt cx="762120" cy="542880"/>
          </a:xfrm>
        </p:grpSpPr>
        <p:pic>
          <p:nvPicPr>
            <p:cNvPr id="123" name="Управляющая кнопка: назад 17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65040" y="603360"/>
              <a:ext cx="7621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37"/>
            <p:cNvSpPr/>
            <p:nvPr/>
          </p:nvSpPr>
          <p:spPr>
            <a:xfrm>
              <a:off x="428760" y="642960"/>
              <a:ext cx="64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1-zvuk-volshebnoy-palochki(muzofon.com).mp3" descr=""/>
          <p:cNvPicPr/>
          <p:nvPr/>
        </p:nvPicPr>
        <p:blipFill>
          <a:blip r:embed="rId3"/>
          <a:stretch/>
        </p:blipFill>
        <p:spPr>
          <a:xfrm>
            <a:off x="824400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0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0.00694 L -0.33108 0.15379 E">
                                      <p:cBhvr>
                                        <p:cTn id="47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-0.00208 L -0.33108 0.16582 E">
                                      <p:cBhvr>
                                        <p:cTn id="5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-0.00046 L -0.33108 0.16721 E">
                                      <p:cBhvr>
                                        <p:cTn id="5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76 0.01156 L -0.34688 -0.60754 E">
                                      <p:cBhvr>
                                        <p:cTn id="6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5572080" y="50004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Что больше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786040" y="1285920"/>
          <a:ext cx="1428840" cy="524196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286240" y="1285920"/>
          <a:ext cx="1428840" cy="524196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Box 6"/>
          <p:cNvSpPr/>
          <p:nvPr/>
        </p:nvSpPr>
        <p:spPr>
          <a:xfrm>
            <a:off x="4214880" y="1357200"/>
            <a:ext cx="121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4429080" y="2500200"/>
            <a:ext cx="8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4572000" y="385776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4500720" y="5072040"/>
            <a:ext cx="100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357120" y="1357200"/>
            <a:ext cx="107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Управляющая кнопка: назад 11"/>
          <p:cNvGrpSpPr/>
          <p:nvPr/>
        </p:nvGrpSpPr>
        <p:grpSpPr>
          <a:xfrm>
            <a:off x="298440" y="749160"/>
            <a:ext cx="755640" cy="463680"/>
            <a:chOff x="298440" y="749160"/>
            <a:chExt cx="755640" cy="463680"/>
          </a:xfrm>
        </p:grpSpPr>
        <p:pic>
          <p:nvPicPr>
            <p:cNvPr id="135" name="Управляющая кнопка: назад 1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98440" y="749160"/>
              <a:ext cx="7556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19"/>
            <p:cNvSpPr/>
            <p:nvPr/>
          </p:nvSpPr>
          <p:spPr>
            <a:xfrm>
              <a:off x="357120" y="785880"/>
              <a:ext cx="642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  <p:sndAc>
      <p:stSnd>
        <p:snd r:embed="rId3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2" descr=""/>
          <p:cNvPicPr/>
          <p:nvPr/>
        </p:nvPicPr>
        <p:blipFill>
          <a:blip r:embed="rId1"/>
          <a:stretch/>
        </p:blipFill>
        <p:spPr>
          <a:xfrm>
            <a:off x="4614840" y="1328760"/>
            <a:ext cx="1749600" cy="156672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3" descr=""/>
          <p:cNvPicPr/>
          <p:nvPr/>
        </p:nvPicPr>
        <p:blipFill>
          <a:blip r:embed="rId2"/>
          <a:stretch/>
        </p:blipFill>
        <p:spPr>
          <a:xfrm>
            <a:off x="6126120" y="1328760"/>
            <a:ext cx="1749600" cy="156672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4" descr=""/>
          <p:cNvPicPr/>
          <p:nvPr/>
        </p:nvPicPr>
        <p:blipFill>
          <a:blip r:embed="rId3"/>
          <a:stretch/>
        </p:blipFill>
        <p:spPr>
          <a:xfrm>
            <a:off x="4614840" y="2541600"/>
            <a:ext cx="1749600" cy="156672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5" descr=""/>
          <p:cNvPicPr/>
          <p:nvPr/>
        </p:nvPicPr>
        <p:blipFill>
          <a:blip r:embed="rId4"/>
          <a:stretch/>
        </p:blipFill>
        <p:spPr>
          <a:xfrm>
            <a:off x="6126120" y="2541600"/>
            <a:ext cx="1749600" cy="156672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6" descr=""/>
          <p:cNvPicPr/>
          <p:nvPr/>
        </p:nvPicPr>
        <p:blipFill>
          <a:blip r:embed="rId5"/>
          <a:stretch/>
        </p:blipFill>
        <p:spPr>
          <a:xfrm>
            <a:off x="4614840" y="3754440"/>
            <a:ext cx="1749600" cy="156672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7" descr=""/>
          <p:cNvPicPr/>
          <p:nvPr/>
        </p:nvPicPr>
        <p:blipFill>
          <a:blip r:embed="rId6"/>
          <a:stretch/>
        </p:blipFill>
        <p:spPr>
          <a:xfrm>
            <a:off x="6126120" y="3754440"/>
            <a:ext cx="1749600" cy="156672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8" descr=""/>
          <p:cNvPicPr/>
          <p:nvPr/>
        </p:nvPicPr>
        <p:blipFill>
          <a:blip r:embed="rId7"/>
          <a:stretch/>
        </p:blipFill>
        <p:spPr>
          <a:xfrm>
            <a:off x="4614840" y="4973760"/>
            <a:ext cx="1749600" cy="156672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9" descr=""/>
          <p:cNvPicPr/>
          <p:nvPr/>
        </p:nvPicPr>
        <p:blipFill>
          <a:blip r:embed="rId8"/>
          <a:stretch/>
        </p:blipFill>
        <p:spPr>
          <a:xfrm>
            <a:off x="6126120" y="4973760"/>
            <a:ext cx="1749600" cy="1566720"/>
          </a:xfrm>
          <a:prstGeom prst="rect">
            <a:avLst/>
          </a:prstGeom>
          <a:ln w="0">
            <a:noFill/>
          </a:ln>
        </p:spPr>
      </p:pic>
      <p:sp>
        <p:nvSpPr>
          <p:cNvPr id="145" name="Равнобедренный треугольник 10"/>
          <p:cNvSpPr/>
          <p:nvPr/>
        </p:nvSpPr>
        <p:spPr>
          <a:xfrm>
            <a:off x="3851280" y="333360"/>
            <a:ext cx="4659480" cy="12859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42" descr=""/>
          <p:cNvPicPr/>
          <p:nvPr/>
        </p:nvPicPr>
        <p:blipFill>
          <a:blip r:embed="rId9"/>
          <a:stretch/>
        </p:blipFill>
        <p:spPr>
          <a:xfrm>
            <a:off x="-212760" y="-208080"/>
            <a:ext cx="5875200" cy="132408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3" descr=""/>
          <p:cNvPicPr/>
          <p:nvPr/>
        </p:nvPicPr>
        <p:blipFill>
          <a:blip r:embed="rId10"/>
          <a:stretch/>
        </p:blipFill>
        <p:spPr>
          <a:xfrm>
            <a:off x="5211720" y="36360"/>
            <a:ext cx="1920960" cy="1749600"/>
          </a:xfrm>
          <a:prstGeom prst="rect">
            <a:avLst/>
          </a:prstGeom>
          <a:ln w="0">
            <a:noFill/>
          </a:ln>
        </p:spPr>
      </p:pic>
      <p:sp>
        <p:nvSpPr>
          <p:cNvPr id="148" name="Управляющая кнопка: далее 49">
            <a:hlinkClick r:id="" action="ppaction://hlinkshowjump?jump=nextslide"/>
          </p:cNvPr>
          <p:cNvSpPr/>
          <p:nvPr/>
        </p:nvSpPr>
        <p:spPr>
          <a:xfrm>
            <a:off x="8172360" y="5877000"/>
            <a:ext cx="792360" cy="82692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26920"/>
              <a:gd name="textAreaBottom" fmla="*/ 775800 h 826920"/>
            </a:gdLst>
            <a:ahLst/>
            <a:rect l="textAreaLeft" t="textAreaTop" r="textAreaRight" b="textAreaBottom"/>
            <a:pathLst>
              <a:path w="21600" h="22542">
                <a:moveTo>
                  <a:pt x="0" y="0"/>
                </a:moveTo>
                <a:lnTo>
                  <a:pt x="21600" y="0"/>
                </a:lnTo>
                <a:lnTo>
                  <a:pt x="21600" y="22542"/>
                </a:lnTo>
                <a:lnTo>
                  <a:pt x="0" y="22542"/>
                </a:lnTo>
                <a:close/>
              </a:path>
              <a:path fill="lightenLess" w="21600" h="22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42">
                <a:moveTo>
                  <a:pt x="21600" y="0"/>
                </a:moveTo>
                <a:lnTo>
                  <a:pt x="21600" y="22542"/>
                </a:lnTo>
                <a:lnTo>
                  <a:pt x="20200" y="21142"/>
                </a:lnTo>
                <a:lnTo>
                  <a:pt x="20200" y="1400"/>
                </a:lnTo>
                <a:close/>
              </a:path>
              <a:path fill="darkenLess" w="21600" h="22542">
                <a:moveTo>
                  <a:pt x="21600" y="22542"/>
                </a:moveTo>
                <a:lnTo>
                  <a:pt x="0" y="22542"/>
                </a:lnTo>
                <a:lnTo>
                  <a:pt x="1400" y="21142"/>
                </a:lnTo>
                <a:lnTo>
                  <a:pt x="20200" y="21142"/>
                </a:lnTo>
                <a:close/>
              </a:path>
              <a:path fill="lighten" w="21600" h="22542">
                <a:moveTo>
                  <a:pt x="0" y="22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42"/>
                </a:lnTo>
                <a:close/>
              </a:path>
              <a:path fill="darken" w="21600" h="22542">
                <a:moveTo>
                  <a:pt x="3794" y="4264"/>
                </a:moveTo>
                <a:lnTo>
                  <a:pt x="17806" y="11271"/>
                </a:lnTo>
                <a:lnTo>
                  <a:pt x="3794" y="18277"/>
                </a:lnTo>
                <a:close/>
              </a:path>
            </a:pathLst>
          </a:custGeom>
          <a:solidFill>
            <a:srgbClr val="604a7b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Users\User\Pictures\алфавит со смешариками\дракоша\0_64c3b_4731d3c6_M.jpg.png"/>
          <p:cNvPicPr/>
          <p:nvPr/>
        </p:nvPicPr>
        <p:blipFill>
          <a:blip r:embed="rId11"/>
          <a:stretch/>
        </p:blipFill>
        <p:spPr>
          <a:xfrm>
            <a:off x="5867280" y="1557360"/>
            <a:ext cx="2017800" cy="13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User\Pictures\алфавит со смешариками\дракоша\0_64c3b_4731d3c6_M.jpg.png"/>
          <p:cNvPicPr/>
          <p:nvPr/>
        </p:nvPicPr>
        <p:blipFill>
          <a:blip r:embed="rId12"/>
          <a:stretch/>
        </p:blipFill>
        <p:spPr>
          <a:xfrm>
            <a:off x="6012000" y="4076640"/>
            <a:ext cx="1873080" cy="1292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Users\User\Pictures\алфавит со смешариками\дракоша\0_64c3b_4731d3c6_M.jpg.png"/>
          <p:cNvPicPr/>
          <p:nvPr/>
        </p:nvPicPr>
        <p:blipFill>
          <a:blip r:embed="rId13"/>
          <a:stretch/>
        </p:blipFill>
        <p:spPr>
          <a:xfrm flipH="1" rot="21109200">
            <a:off x="4442760" y="2773440"/>
            <a:ext cx="2016000" cy="1380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Users\User\Pictures\алфавит со смешариками\дракоша\0_64c3b_4731d3c6_M.jpg.png"/>
          <p:cNvPicPr/>
          <p:nvPr/>
        </p:nvPicPr>
        <p:blipFill>
          <a:blip r:embed="rId14"/>
          <a:stretch/>
        </p:blipFill>
        <p:spPr>
          <a:xfrm>
            <a:off x="4356000" y="5229360"/>
            <a:ext cx="2016360" cy="1380960"/>
          </a:xfrm>
          <a:prstGeom prst="rect">
            <a:avLst/>
          </a:prstGeom>
          <a:ln w="0">
            <a:noFill/>
          </a:ln>
        </p:spPr>
      </p:pic>
      <p:sp>
        <p:nvSpPr>
          <p:cNvPr id="153" name="Управляющая кнопка: в начало 22">
            <a:hlinkClick r:id="rId15" action="ppaction://hlinksldjump"/>
          </p:cNvPr>
          <p:cNvSpPr/>
          <p:nvPr/>
        </p:nvSpPr>
        <p:spPr>
          <a:xfrm>
            <a:off x="179280" y="5877000"/>
            <a:ext cx="792360" cy="79200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7306" y="10800"/>
                </a:moveTo>
                <a:lnTo>
                  <a:pt x="17811" y="3794"/>
                </a:lnTo>
                <a:lnTo>
                  <a:pt x="17811" y="17806"/>
                </a:lnTo>
                <a:close/>
              </a:path>
              <a:path fill="darken" w="21610" h="21600">
                <a:moveTo>
                  <a:pt x="3798" y="3794"/>
                </a:moveTo>
                <a:lnTo>
                  <a:pt x="5461" y="3794"/>
                </a:lnTo>
                <a:lnTo>
                  <a:pt x="5461" y="17806"/>
                </a:lnTo>
                <a:lnTo>
                  <a:pt x="3798" y="17806"/>
                </a:lnTo>
                <a:close/>
              </a:path>
            </a:pathLst>
          </a:custGeom>
          <a:solidFill>
            <a:srgbClr val="604a7b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0" descr="C:\Users\Админ\Desktop\Новая папка (3)\646.jpg"/>
          <p:cNvPicPr/>
          <p:nvPr/>
        </p:nvPicPr>
        <p:blipFill>
          <a:blip r:embed="rId16"/>
          <a:stretch/>
        </p:blipFill>
        <p:spPr>
          <a:xfrm>
            <a:off x="1000080" y="2857680"/>
            <a:ext cx="3730680" cy="3730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17" name="chimes.wav"/>
      </p:stSnd>
    </p:sndAc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detskie_pesni_-_uchat_v_shkole_(zaycev.net).mp3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Картинка 30 из 681"/>
          <p:cNvPicPr/>
          <p:nvPr/>
        </p:nvPicPr>
        <p:blipFill>
          <a:blip r:embed="rId2"/>
          <a:stretch/>
        </p:blipFill>
        <p:spPr>
          <a:xfrm>
            <a:off x="642960" y="571680"/>
            <a:ext cx="8072280" cy="5954400"/>
          </a:xfrm>
          <a:prstGeom prst="rect">
            <a:avLst/>
          </a:prstGeom>
          <a:ln w="0">
            <a:noFill/>
          </a:ln>
        </p:spPr>
      </p:pic>
      <p:pic>
        <p:nvPicPr>
          <p:cNvPr id="157" name="TextBox 5" descr=""/>
          <p:cNvPicPr/>
          <p:nvPr/>
        </p:nvPicPr>
        <p:blipFill>
          <a:blip r:embed="rId3"/>
          <a:stretch/>
        </p:blipFill>
        <p:spPr>
          <a:xfrm>
            <a:off x="2610000" y="4979880"/>
            <a:ext cx="4510080" cy="141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Картинка 3 из 13330"/>
          <p:cNvPicPr/>
          <p:nvPr/>
        </p:nvPicPr>
        <p:blipFill>
          <a:blip r:embed="rId4"/>
          <a:stretch/>
        </p:blipFill>
        <p:spPr>
          <a:xfrm>
            <a:off x="0" y="1000080"/>
            <a:ext cx="1214280" cy="1500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Картинка 3 из 13330"/>
          <p:cNvPicPr/>
          <p:nvPr/>
        </p:nvPicPr>
        <p:blipFill>
          <a:blip r:embed="rId5"/>
          <a:stretch/>
        </p:blipFill>
        <p:spPr>
          <a:xfrm>
            <a:off x="0" y="4786200"/>
            <a:ext cx="1214280" cy="1500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Картинка 3 из 13330"/>
          <p:cNvPicPr/>
          <p:nvPr/>
        </p:nvPicPr>
        <p:blipFill>
          <a:blip r:embed="rId6"/>
          <a:stretch/>
        </p:blipFill>
        <p:spPr>
          <a:xfrm>
            <a:off x="7929720" y="5357880"/>
            <a:ext cx="121428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7" name="chimes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782 -0.39325 C 0.40313 -0.39556 0.3981 -0.39695 0.39323 -0.39834 C 0.39133 -0.3981 0.37935 -0.3981 0.37483 -0.39579 C 0.37171 -0.39417 0.36928 -0.39209 0.36598 -0.3907 C 0.36251 -0.38746 0.35834 -0.38469 0.35435 -0.38284 C 0.35087 -0.37682 0.34827 -0.36965 0.34671 -0.36225 C 0.34584 -0.31529 0.35122 -0.31413 0.3408 -0.2873 C 0.33994 -0.28476 0.34028 -0.28129 0.33889 -0.27944 C 0.3349 -0.27412 0.32657 -0.26903 0.32136 -0.26648 C 0.31442 -0.26903 0.30712 -0.27041 0.30001 -0.27157 C 0.28924 -0.27666 0.27726 -0.27689 0.26598 -0.27944 C 0.25921 -0.28291 0.25087 -0.28314 0.24376 -0.28453 C 0.23108 -0.28406 0.21858 -0.28406 0.20591 -0.28337 C 0.20174 -0.28314 0.19514 -0.2755 0.19514 -0.2755 C 0.19445 -0.27412 0.19393 -0.27273 0.19323 -0.27157 C 0.19237 -0.27018 0.19098 -0.26926 0.19028 -0.26787 C 0.18976 -0.26671 0.18994 -0.26509 0.18942 -0.26394 C 0.18803 -0.2607 0.18455 -0.25492 0.18455 -0.25492 C 0.18247 -0.24682 0.1816 -0.23872 0.18056 -0.2304 C 0.1816 -0.19732 0.19376 -0.13579 0.16997 -0.11543 C 0.16216 -0.09901 0.1533 -0.08513 0.14948 -0.06593 C 0.14983 -0.05737 0.14896 -0.04303 0.15244 -0.03354 C 0.15643 -0.02244 0.1724 -0.01018 0.18056 -0.00648 C 0.18386 -0.00208 0.18803 0.00116 0.19219 0.0037 C 0.19445 0.00763 0.19636 0.01203 0.19914 0.01527 C 0.20192 0.02267 0.20573 0.02984 0.20782 0.03747 C 0.20903 0.04164 0.21077 0.05043 0.21077 0.05043 C 0.2099 0.06569 0.21008 0.07379 0.20192 0.08397 C 0.20157 0.08536 0.20174 0.08698 0.20105 0.0879 C 0.19879 0.09091 0.1882 0.0997 0.18542 0.10086 C 0.17639 0.10872 0.1606 0.10062 0.15053 0.09692 C 0.14619 0.09322 0.14271 0.09021 0.13785 0.0879 C 0.13438 0.0842 0.13126 0.08142 0.12726 0.07888 C 0.12171 0.06731 0.13039 0.0842 0.12049 0.07125 C 0.11893 0.06916 0.11893 0.06569 0.11754 0.06315 C 0.11233 0.05459 0.10869 0.04488 0.10487 0.03493 C 0.10226 0.02012 0.10608 0.03886 0.10192 0.02591 C 0.09775 0.01272 0.09636 -0.00139 0.09219 -0.01434 C 0.09098 -0.0236 0.08855 -0.03215 0.08733 -0.04141 C 0.0856 -0.05459 0.08386 -0.06755 0.08056 -0.08027 C 0.079 -0.09392 0.07761 -0.1078 0.07379 -0.12052 C 0.07188 -0.13741 0.07466 -0.11936 0.06997 -0.13463 C 0.06823 -0.14064 0.06876 -0.14342 0.06598 -0.14874 C 0.06476 -0.15614 0.06042 -0.16169 0.0573 -0.16817 C 0.04862 -0.18621 0.03508 -0.19986 0.01945 -0.20564 C 0.01598 -0.20865 0.01476 -0.21027 0.01077 -0.20819 C 0.00763 -0.2031 0.00521 -0.19986 0.00296 -0.19431 C 0.00192 -0.1913 -0.00086 -0.18621 -0.00086 -0.18621 C -0.00277 -0.17719 -0.00555 -0.17002 -0.00677 -0.16031 C -0.00624 -0.14249 -0.00885 -0.09507 -0.0019 -0.06847 C 8.88889E-006 -0.05251 0.00035 -0.04071 0.00105 -0.02336 C 0.0007 -0.0155 8.88889E-006 -3.38654E-006 8.88889E-006 -3.38654E-006 E">
                                      <p:cBhvr>
                                        <p:cTn id="114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782 -0.39325 C 0.40313 -0.39556 0.3981 -0.39695 0.39323 -0.39834 C 0.39133 -0.3981 0.37935 -0.3981 0.37483 -0.39579 C 0.37171 -0.39417 0.36928 -0.39209 0.36598 -0.3907 C 0.36251 -0.38746 0.35834 -0.38469 0.35435 -0.38284 C 0.35087 -0.37682 0.34827 -0.36965 0.34671 -0.36225 C 0.34584 -0.31529 0.35122 -0.31413 0.3408 -0.2873 C 0.33994 -0.28476 0.34028 -0.28129 0.33889 -0.27944 C 0.3349 -0.27412 0.32657 -0.26903 0.32136 -0.26648 C 0.31442 -0.26903 0.30712 -0.27041 0.30001 -0.27157 C 0.28924 -0.27666 0.27726 -0.27689 0.26598 -0.27944 C 0.25921 -0.28291 0.25087 -0.28314 0.24376 -0.28453 C 0.23108 -0.28406 0.21858 -0.28406 0.20591 -0.28337 C 0.20174 -0.28314 0.19514 -0.2755 0.19514 -0.2755 C 0.19445 -0.27412 0.19393 -0.27273 0.19323 -0.27157 C 0.19237 -0.27018 0.19098 -0.26926 0.19028 -0.26787 C 0.18976 -0.26671 0.18994 -0.26509 0.18942 -0.26394 C 0.18803 -0.2607 0.18455 -0.25492 0.18455 -0.25492 C 0.18247 -0.24682 0.1816 -0.23872 0.18056 -0.2304 C 0.1816 -0.19732 0.19376 -0.13579 0.16997 -0.11543 C 0.16216 -0.09901 0.1533 -0.08513 0.14948 -0.06593 C 0.14983 -0.05737 0.14896 -0.04303 0.15244 -0.03354 C 0.15643 -0.02244 0.1724 -0.01018 0.18056 -0.00648 C 0.18386 -0.00208 0.18803 0.00116 0.19219 0.0037 C 0.19445 0.00763 0.19636 0.01203 0.19914 0.01527 C 0.20192 0.02267 0.20573 0.02984 0.20782 0.03747 C 0.20903 0.04164 0.21077 0.05043 0.21077 0.05043 C 0.2099 0.06569 0.21008 0.07379 0.20192 0.08397 C 0.20157 0.08536 0.20174 0.08698 0.20105 0.0879 C 0.19879 0.09091 0.1882 0.0997 0.18542 0.10086 C 0.17639 0.10872 0.1606 0.10062 0.15053 0.09692 C 0.14619 0.09322 0.14271 0.09021 0.13785 0.0879 C 0.13438 0.0842 0.13126 0.08142 0.12726 0.07888 C 0.12171 0.06731 0.13039 0.0842 0.12049 0.07125 C 0.11893 0.06916 0.11893 0.06569 0.11754 0.06315 C 0.11233 0.05459 0.10869 0.04488 0.10487 0.03493 C 0.10226 0.02012 0.10608 0.03886 0.10192 0.02591 C 0.09775 0.01272 0.09636 -0.00139 0.09219 -0.01434 C 0.09098 -0.0236 0.08855 -0.03215 0.08733 -0.04141 C 0.0856 -0.05459 0.08386 -0.06755 0.08056 -0.08027 C 0.079 -0.09392 0.07761 -0.1078 0.07379 -0.12052 C 0.07188 -0.13741 0.07466 -0.11936 0.06997 -0.13463 C 0.06823 -0.14064 0.06876 -0.14342 0.06598 -0.14874 C 0.06476 -0.15614 0.06042 -0.16169 0.0573 -0.16817 C 0.04862 -0.18621 0.03508 -0.19986 0.01945 -0.20564 C 0.01598 -0.20865 0.01476 -0.21027 0.01077 -0.20819 C 0.00763 -0.2031 0.00521 -0.19986 0.00296 -0.19431 C 0.00192 -0.1913 -0.00086 -0.18621 -0.00086 -0.18621 C -0.00277 -0.17719 -0.00555 -0.17002 -0.00677 -0.16031 C -0.00624 -0.14249 -0.00885 -0.09507 -0.0019 -0.06847 C 8.88889E-006 -0.05251 0.00035 -0.04071 0.00105 -0.02336 C 0.0007 -0.0155 8.88889E-006 -3.38654E-006 8.88889E-006 -3.38654E-006 E">
                                      <p:cBhvr>
                                        <p:cTn id="116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782 -0.39325 C 0.40313 -0.39556 0.3981 -0.39695 0.39323 -0.39834 C 0.39133 -0.3981 0.37935 -0.3981 0.37483 -0.39579 C 0.37171 -0.39417 0.36928 -0.39209 0.36598 -0.3907 C 0.36251 -0.38746 0.35834 -0.38469 0.35435 -0.38284 C 0.35087 -0.37682 0.34827 -0.36965 0.34671 -0.36225 C 0.34584 -0.31529 0.35122 -0.31413 0.3408 -0.2873 C 0.33994 -0.28476 0.34028 -0.28129 0.33889 -0.27944 C 0.3349 -0.27412 0.32657 -0.26903 0.32136 -0.26648 C 0.31442 -0.26903 0.30712 -0.27041 0.30001 -0.27157 C 0.28924 -0.27666 0.27726 -0.27689 0.26598 -0.27944 C 0.25921 -0.28291 0.25087 -0.28314 0.24376 -0.28453 C 0.23108 -0.28406 0.21858 -0.28406 0.20591 -0.28337 C 0.20174 -0.28314 0.19514 -0.2755 0.19514 -0.2755 C 0.19445 -0.27412 0.19393 -0.27273 0.19323 -0.27157 C 0.19237 -0.27018 0.19098 -0.26926 0.19028 -0.26787 C 0.18976 -0.26671 0.18994 -0.26509 0.18942 -0.26394 C 0.18803 -0.2607 0.18455 -0.25492 0.18455 -0.25492 C 0.18247 -0.24682 0.1816 -0.23872 0.18056 -0.2304 C 0.1816 -0.19732 0.19376 -0.13579 0.16997 -0.11543 C 0.16216 -0.09901 0.1533 -0.08513 0.14948 -0.06593 C 0.14983 -0.05737 0.14896 -0.04303 0.15244 -0.03354 C 0.15643 -0.02244 0.1724 -0.01018 0.18056 -0.00648 C 0.18386 -0.00208 0.18803 0.00116 0.19219 0.0037 C 0.19445 0.00763 0.19636 0.01203 0.19914 0.01527 C 0.20192 0.02267 0.20573 0.02984 0.20782 0.03747 C 0.20903 0.04164 0.21077 0.05043 0.21077 0.05043 C 0.2099 0.06569 0.21008 0.07379 0.20192 0.08397 C 0.20157 0.08536 0.20174 0.08698 0.20105 0.0879 C 0.19879 0.09091 0.1882 0.0997 0.18542 0.10086 C 0.17639 0.10872 0.1606 0.10062 0.15053 0.09692 C 0.14619 0.09322 0.14271 0.09021 0.13785 0.0879 C 0.13438 0.0842 0.13126 0.08142 0.12726 0.07888 C 0.12171 0.06731 0.13039 0.0842 0.12049 0.07125 C 0.11893 0.06916 0.11893 0.06569 0.11754 0.06315 C 0.11233 0.05459 0.10869 0.04488 0.10487 0.03493 C 0.10226 0.02012 0.10608 0.03886 0.10192 0.02591 C 0.09775 0.01272 0.09636 -0.00139 0.09219 -0.01434 C 0.09098 -0.0236 0.08855 -0.03215 0.08733 -0.04141 C 0.0856 -0.05459 0.08386 -0.06755 0.08056 -0.08027 C 0.079 -0.09392 0.07761 -0.1078 0.07379 -0.12052 C 0.07188 -0.13741 0.07466 -0.11936 0.06997 -0.13463 C 0.06823 -0.14064 0.06876 -0.14342 0.06598 -0.14874 C 0.06476 -0.15614 0.06042 -0.16169 0.0573 -0.16817 C 0.04862 -0.18621 0.03508 -0.19986 0.01945 -0.20564 C 0.01598 -0.20865 0.01476 -0.21027 0.01077 -0.20819 C 0.00763 -0.2031 0.00521 -0.19986 0.00296 -0.19431 C 0.00192 -0.1913 -0.00086 -0.18621 -0.00086 -0.18621 C -0.00277 -0.17719 -0.00555 -0.17002 -0.00677 -0.16031 C -0.00624 -0.14249 -0.00885 -0.09507 -0.0019 -0.06847 C 8.88889E-006 -0.05251 0.00035 -0.04071 0.00105 -0.02336 C 0.0007 -0.0155 8.88889E-006 -3.38654E-006 8.88889E-006 -3.38654E-006 E">
                                      <p:cBhvr>
                                        <p:cTn id="118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61800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5:52:53Z</dcterms:created>
  <dc:creator>User</dc:creator>
  <dc:description/>
  <dc:language>en-US</dc:language>
  <cp:lastModifiedBy>Админ</cp:lastModifiedBy>
  <dcterms:modified xsi:type="dcterms:W3CDTF">2015-11-15T12:18:13Z</dcterms:modified>
  <cp:revision>50</cp:revision>
  <dc:subject/>
  <dc:title>Слайд 1</dc:title>
</cp:coreProperties>
</file>