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44C9-E3AA-4157-B1A7-74B70408AB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FC26-7B4F-4B53-A6D2-1CC38364CB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836-621D-4DCD-B779-CD6DCC64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9F2-7C0A-4497-A33F-827B5A95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9B1-DF67-4B98-AC8D-9BF941DA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5D5-D51B-4E3C-A5FA-3A960A4E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1BA-C27B-45D7-AB84-91236FC3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139-966B-4CF0-B1EB-1B296602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93A-8933-4863-BE71-9FC982F9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EF3-1C5E-42E0-8184-84D04028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749-04F8-4355-8F79-EB57BC2E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E0C-A2F6-4391-B1C6-FB541488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DF4-57BE-49A0-A31B-FACA6362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DE4-FC34-4E16-8C49-90019FBF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3D09-A7FF-4665-9094-13B93677BE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На пиру у Ивана Грозного"/>
          <p:cNvPicPr/>
          <p:nvPr/>
        </p:nvPicPr>
        <p:blipFill>
          <a:blip r:embed="rId1"/>
          <a:stretch/>
        </p:blipFill>
        <p:spPr>
          <a:xfrm>
            <a:off x="1892160" y="285840"/>
            <a:ext cx="4834080" cy="2500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684360" y="3105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ХОЖДЕНИЕ БОЛГАРО-ЧУВАШЕЙ В СОСТА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79280" y="357336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выдержа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х военных столкновений татаро-монголов и русских войск на своей территории и желая освободиться от власти Казани, болгаро-чуваши и марийцы обратились к русскому цар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Все лето 1551 года к Ивану Грозному от Чувашского края ездили делегации по 500-600 человек. Надо сказать, что царь устраивал для посланцев этих народов обильные пиры и дарил роскошные подарки. И летом этого же года чуваши вошли в состав России, что было закреплено царской грамотой с золотой печатью, а в 1552 году чуваши, марийцы и мордва помогли русским войскам взять Казань. Таким образом, Казанское ханство было разгромлено, а чуваши остались в составе Российского госуда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Времена Акрамовского восстания"/>
          <p:cNvPicPr/>
          <p:nvPr/>
        </p:nvPicPr>
        <p:blipFill>
          <a:blip r:embed="rId1"/>
          <a:stretch/>
        </p:blipFill>
        <p:spPr>
          <a:xfrm>
            <a:off x="179280" y="189000"/>
            <a:ext cx="3430800" cy="1773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395280" y="2133720"/>
            <a:ext cx="842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827 году вводится новая тяжелая повинность — «общественные запашки». Выделялись лучшие участки крестьянской земли, сообща обрабатывались, весь полученный урожай отправляли в столицу для царской семьи. А положение крестьян и без того было тяжелым. Часто повторялись неурожайные годы. В 1832, 1838, 1841, 1843 годах был сильный голод, многие крестьяне умерли, другие, распродав остатки земли и имущества, уходили в гор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Сопротивление введению «общественных запашек» было очень сильным. Во многих селениях начались восстания. Так, в мае 1842 года в селе Акрамово (Козьмодемьянский уезд) собралось до 8 тысяч крестьян, вооруженных вилами, топорами, косами, дубинками. Восставшими руководили опытные вояки — участники войны 1812 года с Наполеон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В Акрамово срочно прибыли правительственные отряды. Они ранили более 30 крестьян. Несколько сот человек арестовали. Солдаты начали избивать захваченных. В это время к Акрамово двинулись новые повстанцы — до 10 тысяч человек. Но вооруженные огнестрельным оружием солдаты подавили восстание. Около 36 человек было убито, более 250 ранено. Многих крестьян избили кнутами, более тысячи чувашских и марийских крестьян сослали на каторгу в Сибирь. Такой кровавой ценой крестьянам удалось отстоять свои земли — общественные запашки были отмен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Схематическая карта распространения восстания и оружие крестьян"/>
          <p:cNvPicPr/>
          <p:nvPr/>
        </p:nvPicPr>
        <p:blipFill>
          <a:blip r:embed="rId2"/>
          <a:stretch/>
        </p:blipFill>
        <p:spPr>
          <a:xfrm>
            <a:off x="3780000" y="96840"/>
            <a:ext cx="49212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50920" y="333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це XIX века в городах Чувашии становилось все больше заводов и мастерских. В основном это были предприятия по переработке сельскохозяйственной продукции: мельницы, маслобойки, спиртовые, лесопильные заводы. Но, по сравнению с другими регионами России, промышленность в Чувашии была развита очень слаб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Росло и количество людей в городах. Но чувашей среди них было всего 4%. Подавляющее большинство чувашей оставалось крестьянами. Больше половины жили в крайней бедности. Более-менее зажиточные составляли около 10%, середняки — 35%. Чтобы как-то прожить и платить высокие налоги, чуваши искали работу на стороне (а в это время всю мужскую работу по обработке земли и урожая приходилось выполнять женщинам, старикам, детям), продавали за бесценок продукты питания (хлеб, яйца), свои ремесленные издел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Очень мало было купцов и промышленников из чувашей, появились они лишь во 2-й половине XIX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24000" y="33336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и чувашей почти не было грамотных, просвещенных людей. Правительство старалось держать народ в невежестве, ведь такими людьми легче было помыкать. Лишь в XIX веке появились школы для чувашских де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Громадную роль в образовании чувашей сыграл Иван Яковлевич Яковлев. Он сумел создать в г. Симбирске школу для подготовки чувашских учителей, которые затем уезжали в деревни, где уже сами создавали школы для чувашей. Из Симбирской школы И. Я. Яковлева вышло около тысячи деятелей культуры и людей, прославивших чувашский наро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Но все же в целом чувашский край представлял собой отсталый регион России. Как отмечали этнографы тех времен, чуваши отличались своей добротой, бескорыстием и трудолюбием. Всю жизнь занимаясь постоянным и тяжелым трудом, чуваши могли бы жить достаточно обеспеченно, но жили они (как записано в одном документе той эпохи) «хуже, чем домашний скот в хорошем хозяйстве». Одной из причиной тому были чиновники, бессовестно обиравшие, обманывавшие крестьян и, конечно, непомерные налоги. Часто человек унижался только за то, что он чуваш и не понимает государственного языка, не умеет объясняться с властью. Чуваши-крестьяне боялись появления в деревне официального человека и часто, завидев на дороге следы от колес с шинами, старались убежать, спрятаться на время. Все это привело к тому, что в характере чувашей появились такие черты, как неуважение к своему языку, культуре, неверие в будущность. Некоторые чуваши, считая, что все «нечувашское» лучше, стали презрительно относиться к своему народ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Октябрьская революция круто изменила жизнь чува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Продукция предприятий Чувашии."/>
          <p:cNvPicPr/>
          <p:nvPr/>
        </p:nvPicPr>
        <p:blipFill>
          <a:blip r:embed="rId1"/>
          <a:stretch/>
        </p:blipFill>
        <p:spPr>
          <a:xfrm>
            <a:off x="3276720" y="260280"/>
            <a:ext cx="5688000" cy="141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Чебоксарская улица конца XIX века."/>
          <p:cNvPicPr/>
          <p:nvPr/>
        </p:nvPicPr>
        <p:blipFill>
          <a:blip r:embed="rId2"/>
          <a:stretch/>
        </p:blipFill>
        <p:spPr>
          <a:xfrm>
            <a:off x="250920" y="189000"/>
            <a:ext cx="2989080" cy="14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Продажа яиц."/>
          <p:cNvPicPr/>
          <p:nvPr/>
        </p:nvPicPr>
        <p:blipFill>
          <a:blip r:embed="rId3"/>
          <a:stretch/>
        </p:blipFill>
        <p:spPr>
          <a:xfrm>
            <a:off x="250920" y="2852640"/>
            <a:ext cx="315108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684360" y="170028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боксарская улица ко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XIX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324000" y="443700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ажа яиц. На торговле яйцами многие купцы сделали себе состояние, но крестьяне, у которых был куплен этот продукт, получали коп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6732720" y="1844640"/>
            <a:ext cx="223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убовую клепку для изготовления бочек вагонами отправляли во Францию. Музыкальные инструменты, изготов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нные чувашскими мастерами, продавали и в столичных магази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3492360" y="177336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укция предприятий Чуваш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Заработки чуваш в XIX веке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1440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324000" y="1916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ие чуваши, в том числе и женщины, бурлачили. Сотни чувашей работали на уральских зав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250920" y="508464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купцы Чувашии часть своих доходов направляли на благотворительнос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упнейшими меценатами были братья Таланцевы из г. Яд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Школа братьев Таланцевых"/>
          <p:cNvPicPr/>
          <p:nvPr/>
        </p:nvPicPr>
        <p:blipFill>
          <a:blip r:embed="rId2"/>
          <a:stretch/>
        </p:blipFill>
        <p:spPr>
          <a:xfrm>
            <a:off x="395280" y="2708280"/>
            <a:ext cx="2706840" cy="2016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8"/>
          <p:cNvSpPr/>
          <p:nvPr/>
        </p:nvSpPr>
        <p:spPr>
          <a:xfrm>
            <a:off x="3276720" y="278136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рисунке один из братьев, приехавший в школу, построенную на его средства, знакомится с учениками, проверяет их знания, выясняет нужды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Вывоз товаров"/>
          <p:cNvPicPr/>
          <p:nvPr/>
        </p:nvPicPr>
        <p:blipFill>
          <a:blip r:embed="rId3"/>
          <a:stretch/>
        </p:blipFill>
        <p:spPr>
          <a:xfrm>
            <a:off x="3780000" y="3933720"/>
            <a:ext cx="5040000" cy="12700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1"/>
          <p:cNvSpPr/>
          <p:nvPr/>
        </p:nvSpPr>
        <p:spPr>
          <a:xfrm>
            <a:off x="414036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возили в основном лес, хлеб, скот, яйца, мед, хм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В деревенской школе"/>
          <p:cNvPicPr/>
          <p:nvPr/>
        </p:nvPicPr>
        <p:blipFill>
          <a:blip r:embed="rId1"/>
          <a:stretch/>
        </p:blipFill>
        <p:spPr>
          <a:xfrm>
            <a:off x="324000" y="260280"/>
            <a:ext cx="3409920" cy="254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Сбор налогов в чувашской деревне."/>
          <p:cNvPicPr/>
          <p:nvPr/>
        </p:nvPicPr>
        <p:blipFill>
          <a:blip r:embed="rId2"/>
          <a:stretch/>
        </p:blipFill>
        <p:spPr>
          <a:xfrm>
            <a:off x="4643280" y="260280"/>
            <a:ext cx="3483000" cy="25574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468360" y="314172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еревенской школе. Обычно в таких школах учились дети раз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сидели в одном помещении. Девочек было намного меньше, чем мальч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859280" y="314172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бор налогов в чувашской дере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4"/>
          <p:cNvSpPr/>
          <p:nvPr/>
        </p:nvSpPr>
        <p:spPr>
          <a:xfrm>
            <a:off x="179280" y="260280"/>
            <a:ext cx="66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ует такая легенда о помощи чувашей при взятии Казаим: царь Иван IV со своим войском долго стоял у стен Казани и никак не мог взять ее. Тогда они решили сделать под стену подкоп и взорвать 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ует такая легенда о помощи чувашей при взятии Казаим: царь Иван IV со своим войском долго стоял у стен Казани и никак не мог взять ее. Тогда они решили сделать под стену подкоп и взорвать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Чуваши помогают советом"/>
          <p:cNvPicPr/>
          <p:nvPr/>
        </p:nvPicPr>
        <p:blipFill>
          <a:blip r:embed="rId1"/>
          <a:stretch/>
        </p:blipFill>
        <p:spPr>
          <a:xfrm>
            <a:off x="7308720" y="5084640"/>
            <a:ext cx="1621080" cy="158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Чуваш играет на гуслях, а товарищи считают его шаги."/>
          <p:cNvPicPr/>
          <p:nvPr/>
        </p:nvPicPr>
        <p:blipFill>
          <a:blip r:embed="rId2"/>
          <a:stretch/>
        </p:blipFill>
        <p:spPr>
          <a:xfrm>
            <a:off x="7164360" y="1700280"/>
            <a:ext cx="1644840" cy="1666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Подкоп под Казанскую крепость"/>
          <p:cNvPicPr/>
          <p:nvPr/>
        </p:nvPicPr>
        <p:blipFill>
          <a:blip r:embed="rId3"/>
          <a:stretch/>
        </p:blipFill>
        <p:spPr>
          <a:xfrm>
            <a:off x="7164360" y="0"/>
            <a:ext cx="1644840" cy="1611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Взрыв все же состоялся"/>
          <p:cNvPicPr/>
          <p:nvPr/>
        </p:nvPicPr>
        <p:blipFill>
          <a:blip r:embed="rId4"/>
          <a:stretch/>
        </p:blipFill>
        <p:spPr>
          <a:xfrm>
            <a:off x="7236000" y="3429000"/>
            <a:ext cx="1573200" cy="1509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6"/>
          <p:cNvSpPr/>
          <p:nvPr/>
        </p:nvSpPr>
        <p:spPr>
          <a:xfrm>
            <a:off x="250920" y="256536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солдаты, посланные измерять расстояние, погибли, не дойдя до стены. Тогда один чуваш взял гусли и, играя, пошел к стене. И защитники, и захватчики замерли, зачарованные чудесной и печальной мелодией. А в это время товарищи гусляра считали его шаг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иентируясь на это расстояние, сделали подкоп под стену, заложили туда порох, поставили на него свечку, зажгли ее, а наверху зажгли другую свечу, для сравнения. Эта свеча догорела - взрыва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арь, рассердившись, велел казнить солдата-зажигальщика. И в это время раздался взрыв (под землей из-за нехватки воздуха свеча горела медленнее). Стена разрушилась - Казань была вз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79280" y="189000"/>
            <a:ext cx="878544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 вхождения в Российское государство чувашские земли разделили на уезды. В каждом уезде на месте одного крупного поселения построили города-крепос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В 1551 г. — Свияжск, в 1555 г. — Чебоксары, в 1574 г. — Кокшайск, в 1589 г. — Цивильск, в 1590 г. — Ядрин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Уезды делились на волости. В каждой волости было десять или чуть больше деревен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В каждом уезде был глава — присланный из Москвы воевода. У него были помощники: дети боярские (начальники над военными), пушкари (обслуживали пушки), воротники (стояли у ворот города), оружейники (обслуживали и ремонтировали оружие), стрельцы (солдаты), подьячие (вели разные документы), сторожа, переводчики, палач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Кроме них в городах жили торговцы и ремесленники. В городах обязательны были тюрьмы и аманатные дворы, где жили аманатчики — заложники от крестьян, головой отвечавшие за поведение своих односельчан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В России тех времен крестьяне могли принадлежать государству, помещикам, церквам и монастырям, царской семье. Подавляющее большинство чувашей (более 80%) были государственны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Поначалу управляли ими чувашские князья — пӳ (пинпӳ — тысячник, çĕрпӳ — сотник, вунпӳ — десятник), тарханы. Эти князья были богаче, чем другие чуваши, имели много земли. Они пользовались льготами, подчинялись воеводе и часто служили вместе с его помощниками. Иногда и простые чуваши становилисьнад ними всегда был начальник из русски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Жители одной или нескольких деревень объединялись в общину. Общинники сообща владели землей, лесами, лугами, река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Сход, состоящий из всех взрослых мужчин общины, делил землю, распределял налоги, судил и наказывал провинившихся, то есть решал все важные вопросы крестьянской жизн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Община помогала вдовам, слугам, больным, объединяла людей на совместные работы на пользу всей деревни — ремонт мостов, дорог, очистку прудов и т.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Чуваши были очень трудолюбивы, дорожили мнением своей деревни, и осуждение односельчан считалось большим позо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Схематическая карта уездных центров чувашской территории."/>
          <p:cNvPicPr/>
          <p:nvPr/>
        </p:nvPicPr>
        <p:blipFill>
          <a:blip r:embed="rId1"/>
          <a:stretch/>
        </p:blipFill>
        <p:spPr>
          <a:xfrm>
            <a:off x="324000" y="0"/>
            <a:ext cx="8394480" cy="62373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468360" y="6165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хематическая карта уездных центров чувашской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Герб города Чебоксары."/>
          <p:cNvPicPr/>
          <p:nvPr/>
        </p:nvPicPr>
        <p:blipFill>
          <a:blip r:embed="rId1"/>
          <a:stretch/>
        </p:blipFill>
        <p:spPr>
          <a:xfrm>
            <a:off x="1547640" y="476280"/>
            <a:ext cx="914400" cy="112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Герб города Ядрина."/>
          <p:cNvPicPr/>
          <p:nvPr/>
        </p:nvPicPr>
        <p:blipFill>
          <a:blip r:embed="rId2"/>
          <a:stretch/>
        </p:blipFill>
        <p:spPr>
          <a:xfrm>
            <a:off x="6948360" y="549360"/>
            <a:ext cx="914400" cy="107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Герб города Цивильска."/>
          <p:cNvPicPr/>
          <p:nvPr/>
        </p:nvPicPr>
        <p:blipFill>
          <a:blip r:embed="rId3"/>
          <a:stretch/>
        </p:blipFill>
        <p:spPr>
          <a:xfrm>
            <a:off x="4643280" y="549360"/>
            <a:ext cx="914400" cy="109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971640" y="260280"/>
          <a:ext cx="7632720" cy="1563840"/>
        </p:xfrm>
        <a:graphic>
          <a:graphicData uri="http://schemas.openxmlformats.org/drawingml/2006/table">
            <a:tbl>
              <a:tblPr/>
              <a:tblGrid>
                <a:gridCol w="3143160"/>
                <a:gridCol w="2244600"/>
                <a:gridCol w="2244960"/>
              </a:tblGrid>
              <a:tr h="34092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рбы город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бокс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д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виль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Box 6"/>
          <p:cNvSpPr/>
          <p:nvPr/>
        </p:nvSpPr>
        <p:spPr>
          <a:xfrm>
            <a:off x="0" y="1989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179280" y="1989000"/>
            <a:ext cx="896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емля, которую обрабатывало большинство крестьян, считалась гоcударственной и за это надо было платить налоги — деньгами и зерном. На конец XVIII века, в год это составляло по восемь пудов ржи, овса и денег, полученных с продажи 20 пудов рж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Отдельно приходилось платить за места, где ловили рыбу, охотились, устанавливались мельницы, за пчелиные места в лесах, за свадьбы, куплю-продажу товаров, за оформление документов и т. 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С крестьян же собирали деньги на содержание помощников воевод и других государственных служб. К тому же была очень высокой цена на соль и другие товары, почти не доступные простому люд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Для простого крестьянина все это вместе составляло весьма обременительную сумму. И в неурожайные годы положение чувашей особенно ухудшалос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И кроме всего этого существовало много повинностей: заставляли бесплатно перевозить государственные грузы и людей, воинские команды, из своего материала строить и ремонтировать дороги и мосты, работать на казенных заводах, служить на оборонных линиях. На войну с каждых 6 дворов чуваши должны были отправлять одного полностью обеспеченного всем необходимым, в том числе и конем, солдат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Во время сборов налогов помощники воевод всячески обманывали и обворовывали крестьян, унижали и издевались над ними. Заступиться за крестьянина было некому. Все делопроизводство велось на русском языке. И часто бедный крестьянин-чуваш не мог добиться справедливости и оставался ни с ч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50920" y="333360"/>
            <a:ext cx="8497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ы крепче держать нерусских крестьян в повиновении, царское правительство решило их христианизировать, то есть заставить верить в единого бога и сына его Иисуса Христа. Такие попытки были еще при Иване IV. Окрестившимся давали разные льготы. При Петре I было издано несколько указов, где за принятие христианства давали награды, освобождали от налогов и рекрутской повинности на 3 года. Но все это мало помогало. Крестились только богатые и приближенные к власти чуваши, т. к. священники объясняли суть христианского учения на русском языке, не понятном для чувашей, а сами чуваши прекрасно видели, что под строительство церквей и монастырей отводили их земли, их же заставляли работать и платить дополнительные налоги. К тому же уничтожались священные рощи чувашей и унижалась их старинная вера. Все это настраивало против христианизации, а часть чувашей даже стала принимать ислам и отатарива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Тогда царское правительство решило насильственно окрестить чувашей. Было решено, что за крещеных крестьян, освобождаемых от налогов и рекрутства на 3 года, будут платить и поставлять солдат — некрещеные. Попы, чиновники, солдаты приезжали в чувашские деревни, избивали крестьян, сгоняли их в озера или реки, давали новые имена, вешали на шею крест. Таким образом, к середине XIX века большинство чувашей было окреще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За счет крестьян в чувашских деревнях было построено более 100 церквей, в них служили более 1000 попов и дьяков. Только в конце XIX века, когда православное христианское учение стали проповедовать на чувашском языке, чуваши стали по-настоящему принимать это 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Христианизация чуваш."/>
          <p:cNvPicPr/>
          <p:nvPr/>
        </p:nvPicPr>
        <p:blipFill>
          <a:blip r:embed="rId1"/>
          <a:srcRect l="6171" t="2439" r="0" b="2439"/>
          <a:stretch/>
        </p:blipFill>
        <p:spPr>
          <a:xfrm>
            <a:off x="179280" y="620640"/>
            <a:ext cx="8859960" cy="2879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476360" y="422100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истиан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вашского на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Уничтожение киреметищ и священных рощ."/>
          <p:cNvPicPr/>
          <p:nvPr/>
        </p:nvPicPr>
        <p:blipFill>
          <a:blip r:embed="rId1"/>
          <a:stretch/>
        </p:blipFill>
        <p:spPr>
          <a:xfrm>
            <a:off x="4643280" y="0"/>
            <a:ext cx="4373640" cy="2095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179280" y="2205000"/>
            <a:ext cx="43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рковь Покрова Пресвятой Богородицы построена в XVII веке, окончательно разоб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1980 году в связи с затоплением водами Чебоксарского водохранилищ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Церковь Покрова Пресвятой Богородицы, построенная в XVII веке."/>
          <p:cNvPicPr/>
          <p:nvPr/>
        </p:nvPicPr>
        <p:blipFill>
          <a:blip r:embed="rId2"/>
          <a:stretch/>
        </p:blipFill>
        <p:spPr>
          <a:xfrm>
            <a:off x="250920" y="0"/>
            <a:ext cx="4390920" cy="2133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6"/>
          <p:cNvSpPr/>
          <p:nvPr/>
        </p:nvSpPr>
        <p:spPr>
          <a:xfrm>
            <a:off x="5003640" y="2276640"/>
            <a:ext cx="388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сильственная христианизация несла в себе уничто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ятых для чувашей мест — киреметищ, священных рощ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Христианство и старая вера чуваш."/>
          <p:cNvPicPr/>
          <p:nvPr/>
        </p:nvPicPr>
        <p:blipFill>
          <a:blip r:embed="rId3"/>
          <a:stretch/>
        </p:blipFill>
        <p:spPr>
          <a:xfrm>
            <a:off x="961920" y="3429000"/>
            <a:ext cx="67928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Чебоксары в VII веке."/>
          <p:cNvPicPr/>
          <p:nvPr/>
        </p:nvPicPr>
        <p:blipFill>
          <a:blip r:embed="rId1"/>
          <a:stretch/>
        </p:blipFill>
        <p:spPr>
          <a:xfrm>
            <a:off x="611280" y="189000"/>
            <a:ext cx="3295440" cy="1555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Чуваши-крестьяне"/>
          <p:cNvPicPr/>
          <p:nvPr/>
        </p:nvPicPr>
        <p:blipFill>
          <a:blip r:embed="rId2"/>
          <a:stretch/>
        </p:blipFill>
        <p:spPr>
          <a:xfrm>
            <a:off x="324000" y="1989000"/>
            <a:ext cx="4557600" cy="223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Чувашский князь."/>
          <p:cNvPicPr/>
          <p:nvPr/>
        </p:nvPicPr>
        <p:blipFill>
          <a:blip r:embed="rId3"/>
          <a:stretch/>
        </p:blipFill>
        <p:spPr>
          <a:xfrm>
            <a:off x="539640" y="4508640"/>
            <a:ext cx="2762280" cy="1323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Деревенский сход."/>
          <p:cNvPicPr/>
          <p:nvPr/>
        </p:nvPicPr>
        <p:blipFill>
          <a:blip r:embed="rId4"/>
          <a:stretch/>
        </p:blipFill>
        <p:spPr>
          <a:xfrm>
            <a:off x="5364000" y="4076640"/>
            <a:ext cx="2762280" cy="21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Наказание вора."/>
          <p:cNvPicPr/>
          <p:nvPr/>
        </p:nvPicPr>
        <p:blipFill>
          <a:blip r:embed="rId5"/>
          <a:stretch/>
        </p:blipFill>
        <p:spPr>
          <a:xfrm>
            <a:off x="5724360" y="189000"/>
            <a:ext cx="2824200" cy="2116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539640" y="602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увашский кн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5219640" y="6308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евенский с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5435640" y="249228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казание вора. На него одевали ворованное и так водили по деревенским ул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06:38:41Z</dcterms:created>
  <dc:creator>МОУ</dc:creator>
  <dc:description/>
  <dc:language>en-US</dc:language>
  <cp:lastModifiedBy>Admin</cp:lastModifiedBy>
  <dcterms:modified xsi:type="dcterms:W3CDTF">2017-02-10T15:38:06Z</dcterms:modified>
  <cp:revision>28</cp:revision>
  <dc:subject/>
  <dc:title>Слайд 1</dc:title>
</cp:coreProperties>
</file>