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335-B578-42B9-93A2-D295E70B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E9DB-6812-42AD-AED1-E93A2CB0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913-F812-46E1-B3C3-3F62941B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92A-DC26-4D85-BE9D-023A3A92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8C44-B86F-40DE-A473-BB2CA988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9485-7A71-4637-8491-F821AE36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6E08-BE4C-4C43-B719-31966E0D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80E5-ED87-403D-9B92-A84CE458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DBC3-3D34-46B4-8B4D-C455A918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0643-F630-4B78-837F-8E75BC28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6277-0B4F-4177-9812-D9A44C02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12D-65B0-4828-9DA0-6146D97A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1A5C-DA59-44FD-87AE-98BEBFA1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01CD-0219-4E2E-ADCF-9B1D8855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D018-F103-48E6-8305-4A1D980C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F838-B594-4C38-B7E5-9D1FF664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6DBF-01E0-4107-A9B4-72DEE35E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249-14BD-40AB-8EFA-037442A9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3A2-C76B-410F-8D6A-0ED02B98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070-E58D-42A1-B851-B60833F3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51F-0D90-408C-84BF-B47569AB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E90-5092-4273-8840-B7A5D7AF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C227-30E1-4E94-A1ED-FE322465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117-7F9D-4CDA-8497-9AB1E252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5E46-A94B-4B10-8087-F7A70EAD3B3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FC59-36FF-4061-9EF2-0258B0A1ED2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609480" y="76320"/>
            <a:ext cx="8001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latino Linotype"/>
              </a:rPr>
              <a:t>По страницам сказок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609480" y="0"/>
            <a:ext cx="8001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latino Linotype"/>
              </a:rPr>
              <a:t>До свидания, сказка!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5880" y="1523880"/>
            <a:ext cx="2895840" cy="121932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494160" y="1752480"/>
            <a:ext cx="2525760" cy="327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0" y="3276720"/>
            <a:ext cx="3124080" cy="2382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352680" y="4800600"/>
            <a:ext cx="2743200" cy="121932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2057400"/>
            <a:ext cx="2438280" cy="114300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248520" y="2895480"/>
            <a:ext cx="2651040" cy="3353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228600"/>
            <a:ext cx="7696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latino Linotype"/>
              </a:rPr>
              <a:t>Игра: "Угадай и назов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20824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Palatino Linotype"/>
              </a:rPr>
              <a:t>Если б Петя-простота не выглянул в окошк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Palatino Linotype"/>
              </a:rPr>
              <a:t>Не унесла б его лиса  за темные ле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98680" y="4875120"/>
            <a:ext cx="2905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Verdana"/>
              </a:rPr>
              <a:t>Девочка зашла в избушк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Verdana"/>
              </a:rPr>
              <a:t>Видит, стоит стол, три сту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Verdana"/>
              </a:rPr>
              <a:t>На каждом стуле посиде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Verdana"/>
              </a:rPr>
              <a:t>Мишуткину похлебку съела</a:t>
            </a:r>
            <a:r>
              <a:rPr b="0" lang="ru-RU" sz="14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72200" y="1491840"/>
            <a:ext cx="2819520" cy="1372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Хитрая плутовка отправила его  ловить рыбу хвос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Хвост примерз, и в результате он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остался без хво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>
            <a:lum contrast="36000"/>
          </a:blip>
          <a:srcRect l="6521" t="5407" r="4921" b="7013"/>
          <a:stretch/>
        </p:blipFill>
        <p:spPr>
          <a:xfrm>
            <a:off x="4343400" y="2743200"/>
            <a:ext cx="3962520" cy="2854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48320" y="1447920"/>
            <a:ext cx="3733560" cy="14475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4800600"/>
            <a:ext cx="3352680" cy="1295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4875120"/>
            <a:ext cx="327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Мама деточек учил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дверь чужим не открыват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не послушались детишки и попали к волку в па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304920" y="1828800"/>
            <a:ext cx="3962160" cy="2832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48320" y="1622520"/>
            <a:ext cx="3733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На болоте оба жи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Друг к другу свататься ходи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Но не смогли договорить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Упрямство свойственно и птиц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362320" y="6095880"/>
            <a:ext cx="4572000" cy="685800"/>
          </a:xfrm>
          <a:prstGeom prst="horizontalScroll">
            <a:avLst>
              <a:gd name="adj" fmla="val 125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5410080"/>
            <a:ext cx="4572000" cy="685800"/>
          </a:xfrm>
          <a:prstGeom prst="horizontalScroll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4648320"/>
            <a:ext cx="4572000" cy="761760"/>
          </a:xfrm>
          <a:prstGeom prst="horizontalScrol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>
            <a:lum contrast="18000"/>
          </a:blip>
          <a:srcRect l="16381" t="4321" r="13599" b="541"/>
          <a:stretch/>
        </p:blipFill>
        <p:spPr>
          <a:xfrm>
            <a:off x="6324480" y="1600200"/>
            <a:ext cx="2819520" cy="2300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362320" y="3886200"/>
            <a:ext cx="4572000" cy="762120"/>
          </a:xfrm>
          <a:prstGeom prst="horizontalScrol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0" y="1523880"/>
            <a:ext cx="274320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3048120" y="1676520"/>
            <a:ext cx="2743200" cy="20304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600" y="380880"/>
            <a:ext cx="8686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latino Linotype"/>
              </a:rPr>
              <a:t>Игра: « Найди иллюстрацию  сказки, к которой подходит пословица»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/>
          <a:srcRect l="5745" t="8871" r="8980" b="9860"/>
          <a:stretch/>
        </p:blipFill>
        <p:spPr>
          <a:xfrm>
            <a:off x="7086600" y="4038480"/>
            <a:ext cx="2057400" cy="2667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>
            <a:lum contrast="42000"/>
          </a:blip>
          <a:srcRect l="7266" t="9373" r="0" b="0"/>
          <a:stretch/>
        </p:blipFill>
        <p:spPr>
          <a:xfrm>
            <a:off x="0" y="3886200"/>
            <a:ext cx="2279520" cy="2590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660400" y="405216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Дурака пошли,  да сам следом иди</a:t>
            </a:r>
            <a:r>
              <a:rPr b="0" lang="en-US" sz="1800" spc="-1" strike="noStrike">
                <a:solidFill>
                  <a:srgbClr val="33cc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481428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рупу жалеть - и каши не свар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424840"/>
            <a:ext cx="46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Глупый киснет, а умный всё промысл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1760" y="6185880"/>
            <a:ext cx="39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На вид простак, а в душе хитря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228600"/>
            <a:ext cx="8915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latino Linotype"/>
              </a:rPr>
              <a:t>Игра: «Из какой сказки волшебный предмет?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1905120"/>
            <a:ext cx="5105520" cy="3633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105520" y="1981080"/>
            <a:ext cx="3733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Финист Ясный Сокол"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181480" y="3200400"/>
            <a:ext cx="3810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Царевна Лягушка"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229360" y="4305240"/>
            <a:ext cx="3762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Летучий корабль"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52280" y="228600"/>
            <a:ext cx="8915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latino Linotype"/>
              </a:rPr>
              <a:t>Игра: «Из какой сказки волшебный предмет?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304920" y="2313000"/>
            <a:ext cx="4267080" cy="3021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800600" y="2819520"/>
            <a:ext cx="35528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Гуси-лебеди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Елена Премудрая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Пастушья дудочка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28600" y="228600"/>
            <a:ext cx="8915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latino Linotype"/>
              </a:rPr>
              <a:t>Игра: «Из какой сказки волшебный предмет?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191120" y="2590920"/>
            <a:ext cx="442908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"Теремок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"Волшебное кольц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"Баба-Яг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2562480" cy="2666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133720" y="3886200"/>
            <a:ext cx="29718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28600" y="228600"/>
            <a:ext cx="8915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latino Linotype"/>
              </a:rPr>
              <a:t>Игра: «Из какой сказки волшебный предмет?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0" y="2666880"/>
            <a:ext cx="4048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Тетерев и лиса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Василиса Прекрасн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Царь-Девица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447920" y="2209680"/>
            <a:ext cx="2492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324480" y="3962520"/>
            <a:ext cx="2819520" cy="1981080"/>
          </a:xfrm>
          <a:prstGeom prst="wedgeRoundRectCallout">
            <a:avLst>
              <a:gd name="adj1" fmla="val -39527"/>
              <a:gd name="adj2" fmla="val 67708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5410080"/>
            <a:ext cx="3581640" cy="10670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191120"/>
            <a:ext cx="3200400" cy="1143000"/>
          </a:xfrm>
          <a:prstGeom prst="wedgeRoundRectCallout">
            <a:avLst>
              <a:gd name="adj1" fmla="val -45087"/>
              <a:gd name="adj2" fmla="val 61944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19320" y="45720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latino Linotype"/>
              </a:rPr>
              <a:t>Проблемная ситуац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rcRect l="377" t="46018" r="5047" b="1770"/>
          <a:stretch/>
        </p:blipFill>
        <p:spPr>
          <a:xfrm>
            <a:off x="0" y="1752480"/>
            <a:ext cx="3505320" cy="2322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608280" y="1676520"/>
            <a:ext cx="2411640" cy="3657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095880" y="1676520"/>
            <a:ext cx="3048120" cy="2171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4051440"/>
            <a:ext cx="267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А если бы  Иван-Царевич не был бы таким нетерпеливым,  и не сжег лягушечью шкуру 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 rot="10812600">
            <a:off x="0" y="405396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если бы Терешечка не был таким находчивым, 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548460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А если бы Иван-Царевич     был более осторожным и слушался  серого волка то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3T09:01:52Z</dcterms:created>
  <dc:creator>Ленчик</dc:creator>
  <dc:description/>
  <dc:language>en-US</dc:language>
  <cp:lastModifiedBy>Анна</cp:lastModifiedBy>
  <dcterms:modified xsi:type="dcterms:W3CDTF">2013-07-04T16:51:3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