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B9F-638A-49E1-9009-DC0E6EE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B5E-9EA4-4713-AFEC-C12DC547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98E-D0D7-4AE4-982B-25A5CE13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0B5-26BC-4EE7-A73D-089DB85C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926D-5438-4CF5-9BC5-3AA0D5E7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BBF-8E1B-42F5-9444-09D80F7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E2AF-FEFB-4AD2-B130-8D30162D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7B6-4CD0-4C96-A6A9-B96CB52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DB44-B442-4BE2-A86E-EF28F9F5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553-B1B5-472F-9A38-1E62221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C2E9-565A-4812-9B95-CDF8678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BB9-B32C-49EA-8983-A280C02A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1D6E-0FCD-48A0-8318-61773A7B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2EC-AE0E-4934-BF96-858E831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7EA-E776-4430-854B-299873D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9214-3A08-47F3-89A3-B7B0565B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E0C-6157-4AB0-9174-970C280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20B-A6E0-4B3F-88A0-6C0B6D9B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5FD-2426-407E-A3BC-8E2AFEF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763-005C-4960-847F-03385562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3BD-0863-4569-AA12-78FB34C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D19-948B-434F-A255-8E8A623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768-3FEF-433E-851F-51044AA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7B9-6002-4888-A1F2-4B715EC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EB5-1A00-438E-AB84-1130A91F07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BB3-3CBF-4640-8F34-3441FA548A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09480" y="7632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По страницам сказок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09480" y="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До свидания, сказка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1523880"/>
            <a:ext cx="2895840" cy="1219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494160" y="1752480"/>
            <a:ext cx="252576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3276720"/>
            <a:ext cx="312408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52680" y="4800600"/>
            <a:ext cx="2743200" cy="1219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057400"/>
            <a:ext cx="2438280" cy="11430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248520" y="2895480"/>
            <a:ext cx="2651040" cy="335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22860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"Угадай и назов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824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Palatino Linotype"/>
              </a:rPr>
              <a:t>Если б Петя-простота не выглянул в окош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Palatino Linotype"/>
              </a:rPr>
              <a:t>Не унесла б его лиса  за темные 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98680" y="4875120"/>
            <a:ext cx="290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Девочка зашла в избуш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Видит, стоит стол, три ст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На каждом стуле посиде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Мишуткину похлебку съела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1491840"/>
            <a:ext cx="2819520" cy="1372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Хитрая плутовка отправила его  ловить рыбу хво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Хвост примерз, и в результате он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остался без хв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contrast="36000"/>
          </a:blip>
          <a:srcRect l="6521" t="5407" r="4921" b="7013"/>
          <a:stretch/>
        </p:blipFill>
        <p:spPr>
          <a:xfrm>
            <a:off x="4343400" y="2743200"/>
            <a:ext cx="3962520" cy="2854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1447920"/>
            <a:ext cx="3733560" cy="14475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800600"/>
            <a:ext cx="335268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5120"/>
            <a:ext cx="32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Мама деточек учил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дверь чужим не открыв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е послушались детишки и попали к волку в п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04920" y="1828800"/>
            <a:ext cx="3962160" cy="283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8320" y="1622520"/>
            <a:ext cx="3733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а болоте оба ж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Друг к другу свататься ход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о не смогли договори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Упрямство свойственно и птиц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2320" y="6095880"/>
            <a:ext cx="4572000" cy="685800"/>
          </a:xfrm>
          <a:prstGeom prst="horizontalScroll">
            <a:avLst>
              <a:gd name="adj" fmla="val 125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5410080"/>
            <a:ext cx="4572000" cy="685800"/>
          </a:xfrm>
          <a:prstGeom prst="horizont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648320"/>
            <a:ext cx="4572000" cy="76176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rcRect l="16381" t="4321" r="13599" b="541"/>
          <a:stretch/>
        </p:blipFill>
        <p:spPr>
          <a:xfrm>
            <a:off x="6324480" y="1600200"/>
            <a:ext cx="2819520" cy="230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3886200"/>
            <a:ext cx="4572000" cy="76212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523880"/>
            <a:ext cx="27432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048120" y="1676520"/>
            <a:ext cx="274320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380880"/>
            <a:ext cx="8686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 Найди иллюстрацию  сказки, к которой подходит пословица»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rcRect l="5745" t="8871" r="8980" b="9860"/>
          <a:stretch/>
        </p:blipFill>
        <p:spPr>
          <a:xfrm>
            <a:off x="7086600" y="4038480"/>
            <a:ext cx="205740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>
            <a:lum contrast="42000"/>
          </a:blip>
          <a:srcRect l="7266" t="9373" r="0" b="0"/>
          <a:stretch/>
        </p:blipFill>
        <p:spPr>
          <a:xfrm>
            <a:off x="0" y="3886200"/>
            <a:ext cx="22795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0400" y="40521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Дурака пошли,  да сам следом иди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81428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рупу жалеть - и каши не сва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424840"/>
            <a:ext cx="46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Глупый киснет, а умный всё промыс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1760" y="618588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 вид простак, а в душе хитр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905120"/>
            <a:ext cx="5105520" cy="363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105520" y="198108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Финист Ясный Сокол"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81480" y="320040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аревна Лягушка"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29360" y="4305240"/>
            <a:ext cx="376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Летучий корабль"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04920" y="2313000"/>
            <a:ext cx="4267080" cy="302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800600" y="2819520"/>
            <a:ext cx="35528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и-лебеди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Елена Премудрая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астушья дудочка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91120" y="2590920"/>
            <a:ext cx="44290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Терем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Волшебное кольц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Баба-Яг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56248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133720" y="3886200"/>
            <a:ext cx="2971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0" y="2666880"/>
            <a:ext cx="4048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Тетерев и лис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асилиса Прекрас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Царь-Девиц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2492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24480" y="3962520"/>
            <a:ext cx="2819520" cy="1981080"/>
          </a:xfrm>
          <a:prstGeom prst="wedgeRoundRectCallout">
            <a:avLst>
              <a:gd name="adj1" fmla="val -39527"/>
              <a:gd name="adj2" fmla="val 67708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410080"/>
            <a:ext cx="3581640" cy="1067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3200400" cy="1143000"/>
          </a:xfrm>
          <a:prstGeom prst="wedgeRoundRectCallout">
            <a:avLst>
              <a:gd name="adj1" fmla="val -45087"/>
              <a:gd name="adj2" fmla="val 61944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Проблемная ситу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377" t="46018" r="5047" b="1770"/>
          <a:stretch/>
        </p:blipFill>
        <p:spPr>
          <a:xfrm>
            <a:off x="0" y="1752480"/>
            <a:ext cx="3505320" cy="232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08280" y="1676520"/>
            <a:ext cx="24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095880" y="1676520"/>
            <a:ext cx="3048120" cy="2171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4051440"/>
            <a:ext cx="267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 если бы  Иван-Царевич не был бы таким нетерпеливым,  и не сжег лягушечью шкуру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812600">
            <a:off x="0" y="40539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если бы Терешечка не был таким находчивым,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484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 если бы Иван-Царевич     был более осторожным и слушался  серого волка то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09:01:52Z</dcterms:created>
  <dc:creator>Ленчик</dc:creator>
  <dc:description/>
  <dc:language>en-US</dc:language>
  <cp:lastModifiedBy>Анна</cp:lastModifiedBy>
  <dcterms:modified xsi:type="dcterms:W3CDTF">2013-07-04T16:51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