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7C09E-5516-409B-BA59-F806758CE9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CE37D-B4FA-4A0B-9EF0-6D69DF242C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6101E-C0E8-4385-99D8-1B90B6DDB1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AC8DB-3DE7-45B4-AA31-F19B40173A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D6412-4B6E-4FA6-B854-22F431B99C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C4B69-4775-489C-B216-E252CF893E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125A3-8787-48A7-983B-F704A594CF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9CFC1-7410-4D11-91AB-08C9FC3938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AD7EE-C867-4C45-B260-20943077F6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49148-D0A3-42B8-9332-9719C5F8BA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B59D2-93E1-4693-BB3F-157F0BB21C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8FDE-3600-4B78-969B-1856A2AC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340-8350-4A29-A278-469F4778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A67A-15DA-4761-B2B3-3D8BA107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6467-AFC1-4BA6-BAAB-8706AD6C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FDE-011E-49BD-9DE7-5D416214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08B-4930-4711-A03B-FB83E056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2D4-8D0B-455A-8F00-CE1FC525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DFDA-7E52-4DB9-9E02-499FA874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8972-F485-4B95-8520-9B049DA4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115-814E-46CF-91CF-0AD4D3C3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0CBF-7EAF-4A77-B4E3-68FC8DFB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165-1F77-447E-BD51-2FEE218D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5C8FAB-A0A1-408A-9CCA-EF893E6DAF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980640"/>
            <a:ext cx="9070920" cy="59086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ентация на тему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Прогулка в зимний период.Требования к одежде ребенка зимой.»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 воспитатель МБДОУ № 30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Иванова Т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230640" y="1871640"/>
            <a:ext cx="3897360" cy="51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6000" y="203040"/>
            <a:ext cx="9713880" cy="72853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303640" y="573120"/>
            <a:ext cx="71420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Прогул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– важный ритуал для здоровья малыша. Многие родители прекращают гулять с ребенком, с наступлением зимы, опасаясь за здоровье крохи. На самом деле прогулки по снегу и даже в сильный мороз не навредят ребенку, если вы его правильно одене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247840" y="2859120"/>
            <a:ext cx="749304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роз, если его грамотно «принимать», стимулирует развитие систем и органов, является профилактикой вирусных заболев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-38160"/>
            <a:ext cx="10125000" cy="7597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60360" y="2085840"/>
            <a:ext cx="945180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ение докторов!!!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, чтобы малыш хорошо себя чувствовал в любую погоду, его надо тренировать и приучать к холоду с раннего детства – это один из видов закаливания. Тогда его сосуды будут правильно и адекватно реагировать на холодное время года. во время воздействия холода кровь перераспределяется и приливает к внутренним органам, за счет этого активируются все защитные силы орг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улки зимой насыщают кровь кислородом, повышают настроение и аппетит. Формируется иммунитет, который сможет защитить ребенка от вредоносных вирусов и бактерий. Важность пребывания на улице для здоровья ребенка сложно переоцен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125000" cy="7597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303640" y="1957320"/>
            <a:ext cx="65512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 ребенком все в порядке, когда у него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25440" y="2136600"/>
            <a:ext cx="8534520" cy="34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него румяные щеки, а стало быть, кровь у него циркулиру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__Ребенок  не жалуется на хол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ребенка прохладная спина , прохладные кисти рук, но не ледя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него прохладные щеки и нос, но не ледя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2540160" y="4208400"/>
            <a:ext cx="5038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жно определить, что ребенок замерз по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611280" y="4780080"/>
            <a:ext cx="503856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бледным щекам и красному но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холодной шее, переносице и руки чуть выше ки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одные ноги т.к часто охлаждаются, потому что тесная обу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ок говорит, что замер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-195120" y="0"/>
            <a:ext cx="10283760" cy="75978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144360" y="647640"/>
            <a:ext cx="9945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 одевать ребенка  в детский сад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аступлении холодов, главной задачей для родителей является выбор зимней одежды для своего ребенка. Как же одевать ребенка зимой так, что бы он ни замерз и в тоже время не перегрелся в зимнее время года? Есть несколько рекомендаций, которые помогут вам в этой непростой задач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1886040" y="2489040"/>
            <a:ext cx="6159240" cy="51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195120" y="0"/>
            <a:ext cx="10283760" cy="7597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-11160" y="309600"/>
            <a:ext cx="10245600" cy="70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о время движения организм ребенка начинает выделять пот. Если базовым слоем одежды будет майка из, например, хлопка, то влага быстро впитается в ткань, и малыш замерзнет. В такие моменты и необходимо термобель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Одежда не должна жать ребенку, т.к будет нарушено кровообращение и малыш быстрее замерз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Варежки желательны тоже из непромокаемой ткани, которые прикрепл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рез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Обувь ребенка так же должна быть из натуральных материалов, и строго по размеру. Т.к слишком тесная обувь, будет нарушать кровоснабжение сосудов нижних конечностей, тем самым переохлаждение не заставит себя долго ждать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нурки для обуви снабдите фиксаторами (можно купить в любом магазине тканей). Ребенку не придется завязывать "бантики" - это во-первых - а во вторых, шнурки не развяжутся во время прогу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36560"/>
            <a:ext cx="93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При выборе шапки, лучшим вариантом будет шапка-шлем, которая плотно прикрывает уши ребенка, и удобна в использовании самим малышом, он без труда наденет эту шапку, даже без помощи взрос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2600" y="0"/>
            <a:ext cx="10283760" cy="7597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482760" y="277920"/>
            <a:ext cx="88772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68360" y="2136600"/>
            <a:ext cx="8640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!!!У ребенка должны быть запасные вещи: трусики, носочки, колготки, футболка.т.к во время зимней прогулки одежда может промокнуть, и воспитателю потребуется сухая и теплая одежда для предупреждения переохлаждения организм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754200" y="493560"/>
            <a:ext cx="1224000" cy="1224000"/>
          </a:xfrm>
          <a:prstGeom prst="smileyFace">
            <a:avLst>
              <a:gd name="adj" fmla="val 9282"/>
            </a:avLst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-195120" y="0"/>
            <a:ext cx="10283760" cy="7597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25440" y="1368360"/>
            <a:ext cx="989820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ремя препровождение малышей, возрастом до 4 лет, отменяется, если на улице скорость ветра составляет более 15 м/с, а температура воздуха ниже –150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ходы малышей от 5 до 7 лет отменяются, если дует ветер со скоростью более 15 м/с, а температура ниже –200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зимний период нужно выходить гулять 2 раза по 2 часа. Если температура воздуха опускается до –150С, а скорость ветра до 7 м/с, то длительность похода на улицу сокращается до 15–20 мину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погода не позволяет выйти на свежий воздух, то организовывается досуг в групповой комнате. Дошкольники надевают куртки, шапки, сапожки, а воспитатели открывают окна и малыши играют в помещении. Длится мероприятие до 30 мину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295280" y="517680"/>
            <a:ext cx="73440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бования СанПиН к организации прогу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етском са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41400"/>
            <a:ext cx="10026720" cy="7518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2603520" y="360360"/>
            <a:ext cx="71168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илактика детского травматизма в зимне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160720" y="922320"/>
            <a:ext cx="79200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ололе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вольно частое атмосферное явление зимой, является причиной множества травм и переломов. Во-первых, правильно подберите ребенку обувь: предпочтение лучше отдать обуви с ребристой подошвой, произведенной из мягкой рез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182680" y="2208240"/>
            <a:ext cx="811548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же очень  распространенной травмой зимой является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моро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бморожению подвергаются чаще всего пальцы рук и ног, щеки, нос, 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039760" y="5780160"/>
            <a:ext cx="748836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!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морожения чаще всего наступают необходимо обращать внимание на цвет румянца у ребенка (нормальный румянец – нежно-розового цвета, если он стал неравномерный, с ярко-красными или белыми пятнами — это обмор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2111400" y="3137040"/>
            <a:ext cx="730548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забывайте одеть на ребенка шарф, варежки, шапку. Варежки также лучше приобрести с верхней непромокаемой тканью и мехом внут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вь малыша должна быть не тесной, обязательно с теплой стель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ний комбинезон не должен быть толстым. Современные изделия изнутри имеют специальный слой (изософт или полифайбер), который хорошо впитывает влагу и способен «выпустить пар» изнутри, что дает возможность малышу прийти с прогулки сухим и не замерзш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4T11:52:24Z</dcterms:created>
  <dc:creator>Acer</dc:creator>
  <dc:description/>
  <dc:language>en-US</dc:language>
  <cp:lastModifiedBy>Acer</cp:lastModifiedBy>
  <dcterms:modified xsi:type="dcterms:W3CDTF">2017-02-12T08:45:32Z</dcterms:modified>
  <cp:revision>9</cp:revision>
  <dc:subject/>
  <dc:title>Презентация на тему: « Прогулка в зимний период.Требования к одежде ребенка зимой.»                            подготовила воспитатель МБДОУ № 30.                                                                                                    Иванова Т.В.</dc:title>
</cp:coreProperties>
</file>