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761-FBC1-487F-A93C-14989DBA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FC0-43DD-4C47-8CF6-91EEEBF7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09F-C69E-4502-966F-72A23701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DE4-8B27-416D-B9CC-39F1FE9C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B0F-3F76-4B06-A6FF-29BABDD1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AFD-6F9A-452D-B087-3E26AB08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D2F-1BDF-44DE-99C9-1785CC41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024-3892-44A6-B656-A4BEC333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9B1-BA66-4561-AF71-13A5C8DE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2E6-1579-4B26-A708-A86F0705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66E-8976-4280-84E3-A870DD3B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A48-F4C4-4958-B117-E3FEB0F4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235B-0591-4970-811F-37389CEE17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288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вликова Татьян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208080" y="774720"/>
            <a:ext cx="8802720" cy="116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 отца с матерью было 100 тенге. Отец купил колесо для телеги за 10 тенге. Мать купила ткань за 20 тенге на сарафан. Сколько денег осталось у родителей на сладости детям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Группа 11"/>
          <p:cNvGrpSpPr/>
          <p:nvPr/>
        </p:nvGrpSpPr>
        <p:grpSpPr>
          <a:xfrm>
            <a:off x="428760" y="3860640"/>
            <a:ext cx="2214360" cy="2824920"/>
            <a:chOff x="428760" y="3860640"/>
            <a:chExt cx="2214360" cy="2824920"/>
          </a:xfrm>
        </p:grpSpPr>
        <p:pic>
          <p:nvPicPr>
            <p:cNvPr id="61" name="Рисунок 3" descr="431580066.jpg"/>
            <p:cNvPicPr/>
            <p:nvPr/>
          </p:nvPicPr>
          <p:blipFill>
            <a:blip r:embed="rId2"/>
            <a:stretch/>
          </p:blipFill>
          <p:spPr>
            <a:xfrm>
              <a:off x="428760" y="3860640"/>
              <a:ext cx="2214360" cy="23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4"/>
            <p:cNvSpPr/>
            <p:nvPr/>
          </p:nvSpPr>
          <p:spPr>
            <a:xfrm>
              <a:off x="642960" y="6286680"/>
              <a:ext cx="157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 тенг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Рисунок 5" descr="%20whaxhemxbeygpx.jpg"/>
          <p:cNvPicPr/>
          <p:nvPr/>
        </p:nvPicPr>
        <p:blipFill>
          <a:blip r:embed="rId3"/>
          <a:stretch/>
        </p:blipFill>
        <p:spPr>
          <a:xfrm>
            <a:off x="3286080" y="3929040"/>
            <a:ext cx="2571840" cy="2197080"/>
          </a:xfrm>
          <a:prstGeom prst="rect">
            <a:avLst/>
          </a:prstGeom>
          <a:ln w="0">
            <a:noFill/>
          </a:ln>
        </p:spPr>
      </p:pic>
      <p:sp>
        <p:nvSpPr>
          <p:cNvPr id="64" name="Левая фигурная скобка 6"/>
          <p:cNvSpPr/>
          <p:nvPr/>
        </p:nvSpPr>
        <p:spPr>
          <a:xfrm rot="5400000">
            <a:off x="4302000" y="-341280"/>
            <a:ext cx="539640" cy="7715520"/>
          </a:xfrm>
          <a:custGeom>
            <a:avLst/>
            <a:gdLst>
              <a:gd name="textAreaLeft" fmla="*/ 344880 w 539640"/>
              <a:gd name="textAreaRight" fmla="*/ 540000 w 539640"/>
              <a:gd name="textAreaTop" fmla="*/ 0 h 7715520"/>
              <a:gd name="textAreaBottom" fmla="*/ 7715880 h 771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413"/>
                </a:lnTo>
                <a:cubicBezTo>
                  <a:pt x="10800" y="10413"/>
                  <a:pt x="5400" y="10413"/>
                  <a:pt x="0" y="10413"/>
                </a:cubicBezTo>
                <a:cubicBezTo>
                  <a:pt x="5400" y="10413"/>
                  <a:pt x="10800" y="10413"/>
                  <a:pt x="10800" y="1041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3357720" y="271476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тен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429000" y="62866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тен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Группа 12"/>
          <p:cNvGrpSpPr/>
          <p:nvPr/>
        </p:nvGrpSpPr>
        <p:grpSpPr>
          <a:xfrm>
            <a:off x="6643800" y="3929040"/>
            <a:ext cx="2143080" cy="2795400"/>
            <a:chOff x="6643800" y="3929040"/>
            <a:chExt cx="2143080" cy="2795400"/>
          </a:xfrm>
        </p:grpSpPr>
        <p:pic>
          <p:nvPicPr>
            <p:cNvPr id="68" name="Рисунок 9" descr="baa833b488dd.jpg"/>
            <p:cNvPicPr/>
            <p:nvPr/>
          </p:nvPicPr>
          <p:blipFill>
            <a:blip r:embed="rId4"/>
            <a:stretch/>
          </p:blipFill>
          <p:spPr>
            <a:xfrm>
              <a:off x="6643800" y="3929040"/>
              <a:ext cx="2143080" cy="21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Box 10"/>
            <p:cNvSpPr/>
            <p:nvPr/>
          </p:nvSpPr>
          <p:spPr>
            <a:xfrm>
              <a:off x="7072200" y="6143040"/>
              <a:ext cx="142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 яблоне  растет  </a:t>
            </a:r>
            <a:r>
              <a:rPr b="1" i="1" lang="ru-RU" sz="36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55 </a:t>
            </a: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леных яблок и  </a:t>
            </a:r>
            <a:r>
              <a:rPr b="1" i="1" lang="ru-RU" sz="36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46</a:t>
            </a: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расных яблок. Сколько всего яблок на яблоне?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Группа 7"/>
          <p:cNvGrpSpPr/>
          <p:nvPr/>
        </p:nvGrpSpPr>
        <p:grpSpPr>
          <a:xfrm>
            <a:off x="642960" y="2071800"/>
            <a:ext cx="3333600" cy="3632400"/>
            <a:chOff x="642960" y="2071800"/>
            <a:chExt cx="3333600" cy="3632400"/>
          </a:xfrm>
        </p:grpSpPr>
        <p:pic>
          <p:nvPicPr>
            <p:cNvPr id="72" name="Рисунок 3" descr="03.jpg"/>
            <p:cNvPicPr/>
            <p:nvPr/>
          </p:nvPicPr>
          <p:blipFill>
            <a:blip r:embed="rId2"/>
            <a:stretch/>
          </p:blipFill>
          <p:spPr>
            <a:xfrm>
              <a:off x="642960" y="2071800"/>
              <a:ext cx="3333600" cy="2666880"/>
            </a:xfrm>
            <a:prstGeom prst="rect">
              <a:avLst/>
            </a:prstGeom>
            <a:ln w="12600">
              <a:solidFill>
                <a:srgbClr val="f2f2f2"/>
              </a:solidFill>
              <a:miter/>
            </a:ln>
          </p:spPr>
        </p:pic>
        <p:sp>
          <p:nvSpPr>
            <p:cNvPr id="73" name="TextBox 5"/>
            <p:cNvSpPr/>
            <p:nvPr/>
          </p:nvSpPr>
          <p:spPr>
            <a:xfrm>
              <a:off x="1643040" y="50007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8"/>
          <p:cNvGrpSpPr/>
          <p:nvPr/>
        </p:nvGrpSpPr>
        <p:grpSpPr>
          <a:xfrm>
            <a:off x="5286240" y="2071800"/>
            <a:ext cx="3071880" cy="3704040"/>
            <a:chOff x="5286240" y="2071800"/>
            <a:chExt cx="3071880" cy="3704040"/>
          </a:xfrm>
        </p:grpSpPr>
        <p:pic>
          <p:nvPicPr>
            <p:cNvPr id="75" name="Рисунок 4" descr="elma_apple2.jpg"/>
            <p:cNvPicPr/>
            <p:nvPr/>
          </p:nvPicPr>
          <p:blipFill>
            <a:blip r:embed="rId3"/>
            <a:stretch/>
          </p:blipFill>
          <p:spPr>
            <a:xfrm>
              <a:off x="5286240" y="2071800"/>
              <a:ext cx="3071880" cy="2669400"/>
            </a:xfrm>
            <a:prstGeom prst="rect">
              <a:avLst/>
            </a:prstGeom>
            <a:ln w="12600">
              <a:solidFill>
                <a:srgbClr val="f2f2f2"/>
              </a:solidFill>
              <a:miter/>
            </a:ln>
          </p:spPr>
        </p:pic>
        <p:sp>
          <p:nvSpPr>
            <p:cNvPr id="76" name="TextBox 6"/>
            <p:cNvSpPr/>
            <p:nvPr/>
          </p:nvSpPr>
          <p:spPr>
            <a:xfrm>
              <a:off x="6357600" y="5072400"/>
              <a:ext cx="857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Правая фигурная скобка 9"/>
          <p:cNvSpPr/>
          <p:nvPr/>
        </p:nvSpPr>
        <p:spPr>
          <a:xfrm rot="5400000">
            <a:off x="4024080" y="2095200"/>
            <a:ext cx="857520" cy="7524720"/>
          </a:xfrm>
          <a:custGeom>
            <a:avLst/>
            <a:gdLst>
              <a:gd name="textAreaLeft" fmla="*/ 0 w 857520"/>
              <a:gd name="textAreaRight" fmla="*/ 309600 w 857520"/>
              <a:gd name="textAreaTop" fmla="*/ 134640 h 7524720"/>
              <a:gd name="textAreaBottom" fmla="*/ 7390080 h 752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18"/>
                  <a:pt x="10800" y="1236"/>
                </a:cubicBezTo>
                <a:lnTo>
                  <a:pt x="10800" y="9286"/>
                </a:lnTo>
                <a:cubicBezTo>
                  <a:pt x="10800" y="9904"/>
                  <a:pt x="16200" y="10522"/>
                  <a:pt x="21600" y="10522"/>
                </a:cubicBezTo>
                <a:cubicBezTo>
                  <a:pt x="16200" y="10522"/>
                  <a:pt x="10800" y="11140"/>
                  <a:pt x="10800" y="11758"/>
                </a:cubicBezTo>
                <a:lnTo>
                  <a:pt x="10800" y="20364"/>
                </a:lnTo>
                <a:cubicBezTo>
                  <a:pt x="10800" y="2098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4286160" y="63342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4286160" y="492912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28440" y="274680"/>
            <a:ext cx="74293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 Бабы-Яги возле избушки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усей-лебедей. 5 гусей улетело за Ванюшей. Сколько  гусей осталось возле избушки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2" descr="5155_4-300x225.jpg"/>
          <p:cNvPicPr/>
          <p:nvPr/>
        </p:nvPicPr>
        <p:blipFill>
          <a:blip r:embed="rId2"/>
          <a:stretch/>
        </p:blipFill>
        <p:spPr>
          <a:xfrm>
            <a:off x="1143000" y="2000160"/>
            <a:ext cx="6715080" cy="4429080"/>
          </a:xfrm>
          <a:prstGeom prst="rect">
            <a:avLst/>
          </a:prstGeom>
          <a:ln w="19080">
            <a:solidFill>
              <a:srgbClr val="d9d9d9"/>
            </a:solidFill>
            <a:miter/>
          </a:ln>
        </p:spPr>
      </p:pic>
      <p:sp>
        <p:nvSpPr>
          <p:cNvPr id="82" name="TextBox 3"/>
          <p:cNvSpPr/>
          <p:nvPr/>
        </p:nvSpPr>
        <p:spPr>
          <a:xfrm>
            <a:off x="5072040" y="5000760"/>
            <a:ext cx="25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−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fmt_53_id_33091_jpg.jpg"/>
          <p:cNvPicPr/>
          <p:nvPr/>
        </p:nvPicPr>
        <p:blipFill>
          <a:blip r:embed="rId2"/>
          <a:stretch/>
        </p:blipFill>
        <p:spPr>
          <a:xfrm>
            <a:off x="2286000" y="2071800"/>
            <a:ext cx="4738680" cy="40003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2571840" y="50004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_AlgeriusBlw"/>
              </a:rPr>
              <a:t>ТУТ И СКАЗОЧКЕ КОН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_AlgeriusBlw"/>
              </a:rPr>
              <a:t>КТО РАБОТАЛ – 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crazymama.ru/cartoon.php?id_cartoon=17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фоновая картинка к слайду 1;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warbandgame.ru/showthread.php?t=48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фоновая картинка к слайду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telecafe.ru/schedule?tz=5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артинка к слайду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divodvd.ru/index.php?productID=606&amp;screen=ye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фоновая картинка к слайду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images.yandex.ru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артинки к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763640" y="6206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спользова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928800" y="500040"/>
            <a:ext cx="7715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бщающий урок «Арифметические действ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 КРО клас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епить изученные вычислительные приемы, умение самостоятельно анализировать и решать составные задачи; развивать познавательные проце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23 апреля. Четверг.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Georgia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00720" y="3886200"/>
            <a:ext cx="4286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иготовили тетрад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ели ровно, не спеш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пишите день недел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е забудьте про числ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классе места нет для лен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 уже не малыши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5"/>
          <p:cNvGrpSpPr/>
          <p:nvPr/>
        </p:nvGrpSpPr>
        <p:grpSpPr>
          <a:xfrm>
            <a:off x="364320" y="3018240"/>
            <a:ext cx="4059720" cy="2982960"/>
            <a:chOff x="364320" y="3018240"/>
            <a:chExt cx="4059720" cy="2982960"/>
          </a:xfrm>
        </p:grpSpPr>
        <p:pic>
          <p:nvPicPr>
            <p:cNvPr id="47" name="Рисунок 3" descr="13516.jpg"/>
            <p:cNvPicPr/>
            <p:nvPr/>
          </p:nvPicPr>
          <p:blipFill>
            <a:blip r:embed="rId2"/>
            <a:stretch/>
          </p:blipFill>
          <p:spPr>
            <a:xfrm rot="20357400">
              <a:off x="713880" y="3286080"/>
              <a:ext cx="1942560" cy="2333520"/>
            </a:xfrm>
            <a:prstGeom prst="rect">
              <a:avLst/>
            </a:prstGeom>
            <a:ln w="9360">
              <a:solidFill>
                <a:srgbClr val="00b050"/>
              </a:solidFill>
              <a:miter/>
            </a:ln>
          </p:spPr>
        </p:pic>
        <p:pic>
          <p:nvPicPr>
            <p:cNvPr id="48" name="Рисунок 4" descr="13516.jpg"/>
            <p:cNvPicPr/>
            <p:nvPr/>
          </p:nvPicPr>
          <p:blipFill>
            <a:blip r:embed="rId3"/>
            <a:stretch/>
          </p:blipFill>
          <p:spPr>
            <a:xfrm rot="791400">
              <a:off x="2240640" y="3476880"/>
              <a:ext cx="1942560" cy="2333520"/>
            </a:xfrm>
            <a:prstGeom prst="rect">
              <a:avLst/>
            </a:prstGeom>
            <a:ln w="9360">
              <a:solidFill>
                <a:srgbClr val="00b050"/>
              </a:solidFill>
              <a:miter/>
            </a:ln>
          </p:spPr>
        </p:pic>
      </p:grpSp>
    </p:spTree>
  </p:cSld>
  <p:transition spd="slow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43280" y="4285800"/>
            <a:ext cx="450072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ратца Маша позабы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подружку навести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имо птицы пролет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мальчишку увид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садили на крыл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летели далек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4286160" y="500040"/>
            <a:ext cx="47149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 ∙ 2+7) – 3 ∙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∙ 5 + 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 - 4 ∙ 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5+ 5):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+4) ∙ 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∙ 2-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3396600" y="-720"/>
            <a:ext cx="23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Calibri"/>
              </a:rPr>
              <a:t>(20 : 2 + 7) − 3 ∙ 3 + 27 : 9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Calibri"/>
              </a:rPr>
              <a:t>45 : 9 + 3 ∙ 6 =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396600" y="-720"/>
            <a:ext cx="23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Calibri"/>
              </a:rPr>
              <a:t>(20 : 2 + 7) − 3 ∙ 3 + 27 : 9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Calibri"/>
              </a:rPr>
              <a:t>45 : 9 + 3 ∙ 6 =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8680" y="47520"/>
            <a:ext cx="23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Calibri"/>
              </a:rPr>
              <a:t>(20 : 2 + 7) − 3 ∙ 3 + 27 : 9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120" y="0"/>
            <a:ext cx="2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Georgia"/>
                <a:ea typeface="Calibri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9720" y="499680"/>
            <a:ext cx="72867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анюше – 3 года, а Машенька в 4 раза старше. Сколько лет Машеньке?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mt_53_id_33091_jpg.jpg"/>
          <p:cNvPicPr/>
          <p:nvPr/>
        </p:nvPicPr>
        <p:blipFill>
          <a:blip r:embed="rId2"/>
          <a:stretch/>
        </p:blipFill>
        <p:spPr>
          <a:xfrm>
            <a:off x="1928880" y="2428920"/>
            <a:ext cx="4857840" cy="3643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57" name="TextBox 4"/>
          <p:cNvSpPr/>
          <p:nvPr/>
        </p:nvSpPr>
        <p:spPr>
          <a:xfrm>
            <a:off x="1643040" y="62150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572000" y="6087960"/>
            <a:ext cx="24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20:12:03Z</dcterms:created>
  <dc:creator>ЛАРИСА</dc:creator>
  <dc:description/>
  <dc:language>en-US</dc:language>
  <cp:lastModifiedBy>Александр</cp:lastModifiedBy>
  <dcterms:modified xsi:type="dcterms:W3CDTF">2017-02-12T09:04:09Z</dcterms:modified>
  <cp:revision>80</cp:revision>
  <dc:subject/>
  <dc:title>Слайд 1</dc:title>
</cp:coreProperties>
</file>