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12.jpeg" ContentType="image/jpeg"/>
  <Override PartName="/ppt/media/image37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8.jpeg" ContentType="image/jpeg"/>
  <Override PartName="/ppt/media/image44.jpeg" ContentType="image/jpeg"/>
  <Override PartName="/ppt/media/image35.jpeg" ContentType="image/jpeg"/>
  <Override PartName="/ppt/media/image29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1.jpeg" ContentType="image/jpeg"/>
  <Override PartName="/ppt/media/image8.jpeg" ContentType="image/jpeg"/>
  <Override PartName="/ppt/media/image39.jpeg" ContentType="image/jpeg"/>
  <Override PartName="/ppt/media/image43.jpeg" ContentType="image/jpeg"/>
  <Override PartName="/ppt/media/image40.jpeg" ContentType="image/jpeg"/>
  <Override PartName="/ppt/media/image13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5314-F9C2-4149-A8A4-6512E1D0F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AAC8-CF3D-41C2-8BFB-2E5FFA81C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1D7CCA-87DA-4BE4-9B5D-F5F26FA16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05226E-BCF5-4D4B-A26D-EF7752707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46589C-0E40-461C-87FA-6CCB50406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2AFE86-E17D-43E7-8C1D-DE85255B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5CC412-8D9B-46DC-855A-DA6AB716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2657C8-5D65-44AA-8F97-E1EA38FA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85257F-84EA-4BED-A742-19BADC312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AD091A-8F75-42BB-A5F8-409C518C4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5B3D3E-1F57-4088-A790-922229770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DDF52A-AB62-44DD-9D30-235923541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4390-0ECA-448C-88A7-610B73175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FB1178-BF67-4D4A-864C-397C95833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6D24A7-AE2C-442A-AC79-2A06A9BEC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8AEC4F-9CC0-4F00-B8AD-C7161BF8D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D44D5A-5F2A-435A-AA45-562C202D1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6DEF7B-D48F-4188-B617-E162770BE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2DE2AE-151C-40E4-B573-F67B7737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F5A7A4-9BBA-4647-9A1D-68D1F0CE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399B59-226C-422C-AEF9-0BB63165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64B36F-A70F-43C8-A1CB-CD381B80A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A6B128-DD89-4071-9E82-FCAA42611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6726-D2C7-421A-A52C-9DC71959A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E6D8BB-40C3-4BB9-B7A7-89C9DD32D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90A625-B342-4E82-84DC-6A7ABD193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E33A78-D659-4E8F-9DFC-F6D930813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6921B3-8A18-4E75-8F15-2C3C5CF00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AD938E-5866-4585-A0B7-DB74FBC49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59E982-3478-4CDC-B598-C3CC87D1D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6CE4B6-022B-4B3D-84D3-B6A2DA02B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413426-0E02-4AAF-944E-A8E2A671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C78340-1534-4FDC-B339-3FAE8822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3EB171-D053-4335-BBDE-63CEC53D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E527B-A734-445E-BACA-642F35964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74DA01-CCB7-4786-8DEC-D1F559CF4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B40F2C-8A0F-4C82-85A1-1B670AA9B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3AC72B-EFA6-4438-8CF7-EF6B5A24D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7AC74-F51B-4BC1-AE7D-C1C2797E4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BD759-AA45-4078-9AC7-6EC03B21B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B4439-7EA1-4E53-B48F-510E31E0D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9B29E-58F3-494C-AEDB-FB3D932C6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B0D8B-7CFE-4C88-8ABC-FDBCA996F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953A4-EA36-4326-9DD7-E464032B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8738-785D-4744-B75C-8FF5D7D21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41679-83CF-497E-BB55-F6E4F42E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ACA0A-1789-47FC-944D-D4BD6479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63185-6ADC-403C-BC2E-7C3EA1F44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91E4B-A30B-491D-B53C-FB21C6D27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7CCF4-1C01-4102-919B-663E677EB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719FC-54AC-4CD6-993E-51DB6EE19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6BDA9-8465-4F1B-8D9D-F8188C4B1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B82C5-F618-485A-B7A3-0782305B7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4C6B4-7EED-4249-AA97-D359DF972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0D873-54DC-4B9E-83A8-88ACFC6EC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26F1-A722-43C7-A922-E4EE71E02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1BD92-DA8C-4365-85AF-9E43071C9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7E3D1-3127-4607-B61A-31631EF5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BE45E-2CCB-4881-93C9-869EA187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7B7E2-8C75-4A6F-8562-7415FBF0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C9113-C242-4391-A488-AC1E7B95E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3C74B-4E13-4BD3-BECD-12EF4541D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40C7A-9D8E-476E-953C-D2F1ED0E3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98717-794C-4562-982B-22750D081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2742D-2E91-4B0F-B03B-474C4E3DB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2148B-8B49-46C5-9840-5DC62D8DC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0D6A-8648-4D83-8C89-F3E9E52D7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F20F9-26E1-4E37-8B85-03FA90AF1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7039E-0B16-4681-BC8F-326566D97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51E3F-4845-4B95-819C-B24A5609F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AB01B-3BAE-4AD4-996C-EC1E8276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DD6FE-60BD-42BE-A64D-DD0E6670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ECDB5-2385-483A-BD3A-646D52A3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D0858-B4AD-434E-9F7A-7C41AEF8F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FB6DC-645F-4B94-B2B8-6E292E80A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A1818-0464-4A1F-935E-A7F7902E8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E6295-9CF6-4F8B-8E3A-7A595447F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9D67-B613-4EBF-B34D-39D5DCD0F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286BC-65AE-4205-A0B9-EEF9D2371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AC383-BBF6-42E7-A9CB-3F28F000E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9B2EC-A0A8-4EAE-A683-C3E19D63D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112E9-195C-499E-B07F-6F4D73EF4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A5EE3-019A-4E11-8411-31B4A35B8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2E424-A5DC-44D7-9228-FE487025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A68CA-706D-463E-A1BD-42535D9B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85002-0093-40FF-84E2-81D228F2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DC512-AF13-4BC1-913F-2CCA9A690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5C7F6-8ED1-4A6C-A2BD-AF8CEE151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C9F3-74DC-4853-A1CE-16C4A548F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270A5-DC45-4C1E-A709-F042EEB97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15C79-F79D-4259-B02A-B8C1B60A5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5881C-4EF5-409E-870D-497797733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826975-2CB4-4103-A9CB-F63A1AA3E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9506A-CAF8-4A7E-9007-BC2F300EB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0A22F-9AEE-4E4D-9E9C-E315AC9FF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9A5C2-00B4-43D5-9B53-12C24D958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497F2-2CE5-4B1F-86BE-835D3FEC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05DAB-287A-4F52-9B94-BB4D97E5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17BE4-3895-43E5-9C9B-C05EB6E7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BE9B-75AA-4A0E-91E4-1F33166D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C9DFE-58DE-4998-ABFE-DFFCDC52C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AEEAB5-70B8-48D0-B5C5-549DA3646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AFB7E-BBED-4E4F-8F65-AAA34CDF4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CA62AD-148C-4A6A-8D31-FCFE94062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75A85C-532C-4307-894F-A1C5AA712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518B10-A748-4F1D-8B65-D6211A558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6AEDD-1BC5-4984-80DE-C97C63F38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A90DAA-2F2A-4003-B621-88D40683B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0E421-C68C-4A7F-8E6A-875B919D9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250782-ACF0-4660-8607-FBD5D0D1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BC8A-A9DC-48E2-BCFF-C8082BEB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E60D47-81BB-419A-98A4-7AC9365A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A8C03-A940-4B31-B04D-1AD0C202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1B415B-E208-4BCB-88AA-82E510A90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08BFF3-164F-4EBB-92A3-863842953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F21FAB-FB9B-41B4-8E42-25A0B89DA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30C53A-7420-411E-A19E-F250BF4F0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F06E25-8EEC-46A3-B8EA-9D1AAFD33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33D6B2-F943-4342-9A2F-CF2AC6B13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9232C8-E00C-4C65-A0B0-F7B65FAF2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974FBE-A681-479E-ABCB-728C5C165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E300-0FDA-4F77-8A4B-C1E1E3C8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E09DE8-6DD0-4EF2-81FC-795F1A96D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95BF01-DAE3-4CCE-B612-1D335A74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66606B-3D60-4F6D-8ED2-1E06C861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898B50-2EC5-4DE8-9A85-07C50C86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A04545-896B-41DF-8B89-73483CA80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958079-2165-42C6-A9E6-045581B78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0DBD33-9B68-4D6D-85E9-0F08CE120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08ECA3-8F17-4652-9912-52289FEEE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0230AE-3A65-46B9-BEAC-02A55A6AF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F861F3-387A-46D4-90E6-DE992D2D1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EA4F0-6370-4067-BB20-9510358FA9F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5AE4-4A0A-4908-BE7B-7E7AF9418E07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3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3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sldNum" idx="3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3DEBB-CEA2-4FE6-9AD4-6A5C12135C3D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2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1CE70-84CB-4144-8138-F9C263F98066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49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0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53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534EF-7C2F-4D14-A338-73518C4B8E97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7B434-96B4-4F86-80B5-8F38C34150BF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74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77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80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183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B83D1-DAE8-4255-ADCA-A364A07F5FAF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27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30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33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9C80A-8998-4C67-80B1-5EE741D0D7D4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77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80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83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286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CC071-4828-440A-9BA5-F0BB029CDEED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3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3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33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339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F107B-BE62-4116-8606-E7B9BA1BA457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3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6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389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392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B6995-7983-492A-99A6-5A49D36C2211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sinalefa2.files.wordpress.com/2009/06/logotolerancia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hyperlink" Target="http://beslan-2004.front.ru/beslan-18.jpg" TargetMode="External"/><Relationship Id="rId4" Type="http://schemas.openxmlformats.org/officeDocument/2006/relationships/image" Target="../media/image15.jpeg"/><Relationship Id="rId5" Type="http://schemas.openxmlformats.org/officeDocument/2006/relationships/hyperlink" Target="http://www.k-istine.ru/images/faith/illbaby-2.jpg" TargetMode="External"/><Relationship Id="rId6" Type="http://schemas.openxmlformats.org/officeDocument/2006/relationships/image" Target="../media/image16.jpeg"/><Relationship Id="rId7" Type="http://schemas.openxmlformats.org/officeDocument/2006/relationships/hyperlink" Target="http://umdb.org.ua/images/imgs/__local10061/impsize/1248813386619.jpg" TargetMode="External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open.az/uploads/posts/2010-02/1267282401_familie_9576952_m2.jpg" TargetMode="External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megalife.com.ua/uploads/posts/1188964036_11.jpg" TargetMode="External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tatic2.aif.ru/public/article/697/f450cc906f13346529d8aed7a26d045f_big.jpg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living-stones.narod.ru/11disciple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picfor.bildero.net/001B345A/Peace-Love-and-LightReikiAna-peace-love-and-light-animals-inside-tags-Sammy-labrujita-ceca-Love-this-for-me-nature_large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Gothic"/>
              </a:rPr>
              <a:t>Родительское собрание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entury Gothic"/>
              </a:rPr>
              <a:t>«Как воспитать толерантного человека»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18" name="Picture 5" descr="Картинка 68 из 228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27280" y="3213000"/>
            <a:ext cx="329580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Прямоугольник 1"/>
          <p:cNvSpPr/>
          <p:nvPr/>
        </p:nvSpPr>
        <p:spPr>
          <a:xfrm>
            <a:off x="971640" y="750960"/>
            <a:ext cx="72723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едрассудок 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 негативное отношение к человеку ли какой-нибудь группе людей, о которых вы на самом деле ничего не знаете. Это также негативное отношение на основании не личного знакомства с человеком, а мнения (стереотипа) по поводу группы, к которой он принадлежит. Он обычно появляется у нас благодаря тому, что уже принят в том обществе или группе, где мы находимся. Существуют разные виды предрассудков. Они могут быть связаны с полом, возрастом, национальной принадлежностью, приверженностью к определенной религии, происхождением, уровнем дохода, сексуальной ориентацией или инвалидностью человек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Прямоугольник 3"/>
          <p:cNvSpPr/>
          <p:nvPr/>
        </p:nvSpPr>
        <p:spPr>
          <a:xfrm>
            <a:off x="179280" y="1773360"/>
            <a:ext cx="856944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8684e"/>
                </a:solidFill>
                <a:latin typeface="Arial"/>
              </a:rPr>
              <a:t>КАК ВОСПИТАТЬ ТОЛЕРАНТНОГО ЧЕЛОВЕКА?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95280" y="404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одители должны: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о-первых, не обижать ребёнка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о-вторых, выслушивать его мнение и считаться с ним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-третьих, уметь прощать обиды и просить прощения у ребенка. Это самый сложный момент, но, в то же время, и самый важный, поскольку у детей обостренное чувство справедливости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-четвертых, уметь договариваться без ссор и разрушительных конфликтов. Под словосочетанием «разрушительный конфликт» подразумевается противостояние, которое наносит «противнику» ущерб, моральный или физический. Разумеется, что в повседневной жизни невозможно избежать противоречий интересов, желаний и мнений. Задача – обратить конфликт в конструктивный, вызвав ребенка к разговору о возникших противоречиях и к совместному принятию компромиссных решений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-пятых, нельзя унижать достоинство ребенка – игнорировать его, проявлять неуважение к его увлечениям и т.п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-шестых, не стоит заставлять ребенка с помощью силы делать то, что хочется вам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324000" y="836640"/>
            <a:ext cx="85168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ест для родителей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«Пытаетесь ли Вы понять своего ребенка?»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з трех ответов на каждый вопрос выберите один, затем подсчитайте, каких ответов больше всего – А, Б, В.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1. Ребенок капризничает. Не ест суп, хотя всегда ел. Вы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) дадите ему другое блюдо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б) разрешите выйти ему из-за стола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) не выпустите его из-за стола до тех пор, пока не съест все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2. Ваш ребенок во дворе «круто» поссорился со сверстниками. Вы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) идете во двор и разбираетесь с детьми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б) советуете ребенку самому уладить конфликт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) предлагаете остаться дома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Прямоугольник 1"/>
          <p:cNvSpPr/>
          <p:nvPr/>
        </p:nvSpPr>
        <p:spPr>
          <a:xfrm>
            <a:off x="900000" y="620640"/>
            <a:ext cx="78487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3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. Ваш ребенок смотрит фильм, вместо того, чтобы делать уроки В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) начнете его ругать, крича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б) попытаетесь выяснить, почему он не делает уроки, возможно, сяде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ядом и разберете вместе с ним домашнее зад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) без слов выключите телевиз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4. Ваш ребенок скрыл от Вас полученные двой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) вы в гневе и за двойки, и за их сокрытие, запрещаете все, кроме уро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б) пытаетесь помочь исправить полож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) физически или как-нибудь иначе наказываете подрост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5. Ваш сын (дочь) гораздо позже назначенного времени вернулся (ась) домо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) не выяснив причины, начинаете руга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б) обсудите случившееся, выясните, почему задержался и договоритес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что впредь опозданий не буде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) накаже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Прямоугольник 1"/>
          <p:cNvSpPr/>
          <p:nvPr/>
        </p:nvSpPr>
        <p:spPr>
          <a:xfrm>
            <a:off x="1042920" y="1444680"/>
            <a:ext cx="748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д каждой буквой прочтите мнение о себ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– это тип авторитарного родителя, который мало доверяет своему ребенку, мало понимает его потреб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Б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– это тип родителя, признающего право ребенка на личный опыт, даже ошибки, и пытающегося научить его отвечать за себя и свои поступ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– тип родителя, не пытающегося понять ребенка, основным его методом воспитания является порицание и наказ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Прямоугольник 1"/>
          <p:cNvSpPr/>
          <p:nvPr/>
        </p:nvSpPr>
        <p:spPr>
          <a:xfrm>
            <a:off x="1042920" y="620640"/>
            <a:ext cx="712944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авила воспит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Если ребенка постоянно критиковать, он учи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енавиде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Если ребенок живет во вражде, он учи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грессив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Если ребенка высмеивают, он станови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замкнут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Если ребенок растет в упреках, он учится жи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 чувством в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Если ребенок растет в терпимости, он учи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нимать друг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Если ребенка подбадривают, он учи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ерить в себ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Если ребенок растет в честности, он учи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быть справедлив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Если ребенок растет в безопасности, он учи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ерить в себ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Если ребенок живет в понимании и дружелюбии, он учи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ходить любовь в этом ми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999720" y="0"/>
            <a:ext cx="7086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3152"/>
                </a:solidFill>
                <a:latin typeface="Century Gothic"/>
              </a:rPr>
              <a:t>БЫВАЮТ ДНИ, ГОДЫ, ДЕСЯТИЛЕТИЯ</a:t>
            </a:r>
            <a:r>
              <a:rPr b="1" lang="ru-RU" sz="4000" spc="-1" strike="noStrike">
                <a:solidFill>
                  <a:srgbClr val="403152"/>
                </a:solidFill>
                <a:latin typeface="Century Gothic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53" name="Picture 4" descr="C:\Documents and Settings\user\Рабочий стол\толерантн\Дети\54264.jpg"/>
          <p:cNvPicPr/>
          <p:nvPr/>
        </p:nvPicPr>
        <p:blipFill>
          <a:blip r:embed="rId1"/>
          <a:stretch/>
        </p:blipFill>
        <p:spPr>
          <a:xfrm>
            <a:off x="5580000" y="1197000"/>
            <a:ext cx="2757600" cy="2143080"/>
          </a:xfrm>
          <a:prstGeom prst="rect">
            <a:avLst/>
          </a:prstGeom>
          <a:ln w="0">
            <a:noFill/>
          </a:ln>
        </p:spPr>
      </p:pic>
      <p:pic>
        <p:nvPicPr>
          <p:cNvPr id="554" name="120609.mp3" descr=""/>
          <p:cNvPicPr/>
          <p:nvPr/>
        </p:nvPicPr>
        <p:blipFill>
          <a:blip r:embed="rId2"/>
          <a:stretch/>
        </p:blipFill>
        <p:spPr>
          <a:xfrm>
            <a:off x="8839080" y="6858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6" descr="http://beslan-2004.front.ru/beslan-18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92720" y="3789360"/>
            <a:ext cx="3117960" cy="234000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12" descr="http://www.k-istine.ru/images/faith/illbaby-2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1125360"/>
            <a:ext cx="3238560" cy="221940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16" descr="Картинка 42 из 4603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84360" y="3429000"/>
            <a:ext cx="4052880" cy="2700360"/>
          </a:xfrm>
          <a:prstGeom prst="rect">
            <a:avLst/>
          </a:prstGeom>
          <a:ln w="0">
            <a:noFill/>
          </a:ln>
        </p:spPr>
      </p:pic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10920" y="5857920"/>
            <a:ext cx="708660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403152"/>
                </a:solidFill>
                <a:latin typeface="Century Gothic"/>
              </a:rPr>
              <a:t>когда сложно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3152"/>
                </a:solidFill>
                <a:latin typeface="Arial Unicode MS"/>
                <a:ea typeface="Arial Unicode MS"/>
              </a:rPr>
              <a:t>Бывают секунды. Минуты…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0" y="5643720"/>
            <a:ext cx="9144000" cy="66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3152"/>
                </a:solidFill>
                <a:latin typeface="Arial Unicode MS"/>
                <a:ea typeface="Arial Unicode MS"/>
              </a:rPr>
              <a:t>от которых зависит очень многое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61" name="Picture 2" descr="C:\Documents and Settings\user\Рабочий стол\толерантн\Дети\сс.jpeg"/>
          <p:cNvPicPr/>
          <p:nvPr/>
        </p:nvPicPr>
        <p:blipFill>
          <a:blip r:embed="rId1"/>
          <a:stretch/>
        </p:blipFill>
        <p:spPr>
          <a:xfrm>
            <a:off x="500040" y="1285920"/>
            <a:ext cx="1730520" cy="171432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4" descr="C:\Documents and Settings\user\Рабочий стол\толерантн\Дети\ссора.jpeg"/>
          <p:cNvPicPr/>
          <p:nvPr/>
        </p:nvPicPr>
        <p:blipFill>
          <a:blip r:embed="rId2"/>
          <a:stretch/>
        </p:blipFill>
        <p:spPr>
          <a:xfrm>
            <a:off x="6875640" y="1268280"/>
            <a:ext cx="1438200" cy="175104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5" descr="C:\Documents and Settings\user\Рабочий стол\толерантн\Дети\ссо.jpeg"/>
          <p:cNvPicPr/>
          <p:nvPr/>
        </p:nvPicPr>
        <p:blipFill>
          <a:blip r:embed="rId3"/>
          <a:srcRect l="0" t="11127" r="0" b="0"/>
          <a:stretch/>
        </p:blipFill>
        <p:spPr>
          <a:xfrm>
            <a:off x="5072040" y="3357720"/>
            <a:ext cx="2143080" cy="186984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8" descr="C:\Documents and Settings\user\Рабочий стол\внеклассная работа\семь\3184.jpg"/>
          <p:cNvPicPr/>
          <p:nvPr/>
        </p:nvPicPr>
        <p:blipFill>
          <a:blip r:embed="rId4"/>
          <a:stretch/>
        </p:blipFill>
        <p:spPr>
          <a:xfrm>
            <a:off x="1749600" y="3357720"/>
            <a:ext cx="2798640" cy="185724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2" descr="C:\Documents and Settings\user\Рабочий стол\толерантн\Дети\сс.jpeg"/>
          <p:cNvPicPr/>
          <p:nvPr/>
        </p:nvPicPr>
        <p:blipFill>
          <a:blip r:embed="rId5"/>
          <a:stretch/>
        </p:blipFill>
        <p:spPr>
          <a:xfrm>
            <a:off x="611280" y="1268280"/>
            <a:ext cx="173016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3152"/>
                </a:solidFill>
                <a:latin typeface="Arial Unicode MS"/>
                <a:ea typeface="Arial Unicode MS"/>
              </a:rPr>
              <a:t>И в эти секунды нельзя допустить ошибку…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642960" y="5357880"/>
            <a:ext cx="8143920" cy="110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3152"/>
                </a:solidFill>
                <a:latin typeface="Arial Unicode MS"/>
                <a:ea typeface="Arial Unicode MS"/>
              </a:rPr>
              <a:t>иначе после этого не останется ничего, кроме боли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68" name="Picture 6" descr="C:\Documents and Settings\user\Рабочий стол\внеклассная работа\семь\c160a7a9c204756937b9d235034_prev.jpg"/>
          <p:cNvPicPr/>
          <p:nvPr/>
        </p:nvPicPr>
        <p:blipFill>
          <a:blip r:embed="rId1"/>
          <a:stretch/>
        </p:blipFill>
        <p:spPr>
          <a:xfrm>
            <a:off x="5076720" y="2565360"/>
            <a:ext cx="3357720" cy="246240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2" descr="Картинка 3 из 99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5640" y="2492280"/>
            <a:ext cx="3836880" cy="25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2" descr="http://studproekt.stavsu.ru/images/9/9a/%D0%9F%D1%80%D0%BE%D0%B5%D0%BA%D1%82_%D0%97%D0%B0%D1%85%D0%B0%D1%80%D0%BE%D0%B2%D0%BE%D0%B9%D0%A1%D0%90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3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3152"/>
                </a:solidFill>
                <a:latin typeface="Arial Unicode MS"/>
                <a:ea typeface="Arial Unicode MS"/>
              </a:rPr>
              <a:t>И в эти минуты так важно сказать главные слова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1428840" y="5357520"/>
            <a:ext cx="64008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3152"/>
                </a:solidFill>
                <a:latin typeface="Arial Unicode MS"/>
                <a:ea typeface="Arial Unicode MS"/>
              </a:rPr>
              <a:t>вспомнить, что есть нечто большее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72" name="Picture 2" descr="C:\Documents and Settings\user\Рабочий стол\толерантн\Дети\сс1.jpeg"/>
          <p:cNvPicPr/>
          <p:nvPr/>
        </p:nvPicPr>
        <p:blipFill>
          <a:blip r:embed="rId1"/>
          <a:stretch/>
        </p:blipFill>
        <p:spPr>
          <a:xfrm>
            <a:off x="285840" y="1643040"/>
            <a:ext cx="1825560" cy="192888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3" descr="C:\Documents and Settings\user\Рабочий стол\толерантн\Дети\св.jpeg"/>
          <p:cNvPicPr/>
          <p:nvPr/>
        </p:nvPicPr>
        <p:blipFill>
          <a:blip r:embed="rId2"/>
          <a:stretch/>
        </p:blipFill>
        <p:spPr>
          <a:xfrm>
            <a:off x="571680" y="4143240"/>
            <a:ext cx="2035080" cy="135252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4" descr="C:\Documents and Settings\user\Рабочий стол\толерантн\Дети\4444.jpeg"/>
          <p:cNvPicPr/>
          <p:nvPr/>
        </p:nvPicPr>
        <p:blipFill>
          <a:blip r:embed="rId3"/>
          <a:stretch/>
        </p:blipFill>
        <p:spPr>
          <a:xfrm>
            <a:off x="6500880" y="4000680"/>
            <a:ext cx="2365200" cy="154908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5" descr="C:\Documents and Settings\user\Рабочий стол\толерантн\Дети\2651363.jpg"/>
          <p:cNvPicPr/>
          <p:nvPr/>
        </p:nvPicPr>
        <p:blipFill>
          <a:blip r:embed="rId4"/>
          <a:stretch/>
        </p:blipFill>
        <p:spPr>
          <a:xfrm>
            <a:off x="3357720" y="314316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6" descr="C:\Documents and Settings\user\Рабочий стол\толерантн\Дети\deti1_4.jpg"/>
          <p:cNvPicPr/>
          <p:nvPr/>
        </p:nvPicPr>
        <p:blipFill>
          <a:blip r:embed="rId5"/>
          <a:stretch/>
        </p:blipFill>
        <p:spPr>
          <a:xfrm>
            <a:off x="6643800" y="1643040"/>
            <a:ext cx="228276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3152"/>
                </a:solidFill>
                <a:latin typeface="Arial Unicode MS"/>
                <a:ea typeface="Arial Unicode MS"/>
              </a:rPr>
              <a:t>Любовь к человеку просто за то…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78" name="Picture 2" descr="C:\Documents and Settings\user\Рабочий стол\толерантн\Дети\img_37744038_9722_1.jpg"/>
          <p:cNvPicPr/>
          <p:nvPr/>
        </p:nvPicPr>
        <p:blipFill>
          <a:blip r:embed="rId1"/>
          <a:stretch/>
        </p:blipFill>
        <p:spPr>
          <a:xfrm>
            <a:off x="3492360" y="4508640"/>
            <a:ext cx="2691000" cy="161424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4" descr="Картинка 54 из 6400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3789360"/>
            <a:ext cx="3006720" cy="226692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8" descr="Картинка 58 из 64000"/>
          <p:cNvPicPr/>
          <p:nvPr/>
        </p:nvPicPr>
        <p:blipFill>
          <a:blip r:embed="rId4"/>
          <a:stretch/>
        </p:blipFill>
        <p:spPr>
          <a:xfrm>
            <a:off x="6659640" y="3213000"/>
            <a:ext cx="2185920" cy="334800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14" descr="Картинка 151 из 64000"/>
          <p:cNvPicPr/>
          <p:nvPr/>
        </p:nvPicPr>
        <p:blipFill>
          <a:blip r:embed="rId5"/>
          <a:stretch/>
        </p:blipFill>
        <p:spPr>
          <a:xfrm>
            <a:off x="5796000" y="836640"/>
            <a:ext cx="3097080" cy="2087640"/>
          </a:xfrm>
          <a:prstGeom prst="rect">
            <a:avLst/>
          </a:prstGeom>
          <a:ln w="0">
            <a:noFill/>
          </a:ln>
        </p:spPr>
      </p:pic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900000" y="5877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403152"/>
                </a:solidFill>
                <a:latin typeface="Arial Unicode MS"/>
                <a:ea typeface="Arial Unicode MS"/>
              </a:rPr>
              <a:t>что он человек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83" name="Picture 18" descr="Картинка 15 из 64000"/>
          <p:cNvPicPr/>
          <p:nvPr/>
        </p:nvPicPr>
        <p:blipFill>
          <a:blip r:embed="rId6"/>
          <a:stretch/>
        </p:blipFill>
        <p:spPr>
          <a:xfrm>
            <a:off x="0" y="1052640"/>
            <a:ext cx="3449520" cy="230328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24" descr="Картинка 11 из 64000"/>
          <p:cNvPicPr/>
          <p:nvPr/>
        </p:nvPicPr>
        <p:blipFill>
          <a:blip r:embed="rId7"/>
          <a:stretch/>
        </p:blipFill>
        <p:spPr>
          <a:xfrm>
            <a:off x="3276720" y="2276640"/>
            <a:ext cx="3079800" cy="205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57120" y="214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3152"/>
                </a:solidFill>
                <a:latin typeface="Arial Unicode MS"/>
                <a:ea typeface="Arial Unicode MS"/>
              </a:rPr>
              <a:t>Ради поколений мы жмём друг другу руки  и строим мосты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86" name="Picture 2" descr="C:\Documents and Settings\user\Рабочий стол\толерантн\Дети\р1.jpeg"/>
          <p:cNvPicPr/>
          <p:nvPr/>
        </p:nvPicPr>
        <p:blipFill>
          <a:blip r:embed="rId1"/>
          <a:stretch/>
        </p:blipFill>
        <p:spPr>
          <a:xfrm>
            <a:off x="4071960" y="3071880"/>
            <a:ext cx="1784160" cy="271440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4" descr="C:\Documents and Settings\user\Рабочий стол\толерантн\Дети\112.jpeg"/>
          <p:cNvPicPr/>
          <p:nvPr/>
        </p:nvPicPr>
        <p:blipFill>
          <a:blip r:embed="rId2"/>
          <a:stretch/>
        </p:blipFill>
        <p:spPr>
          <a:xfrm>
            <a:off x="6286680" y="4572000"/>
            <a:ext cx="2571480" cy="205740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6" descr="C:\Documents and Settings\user\Рабочий стол\толерантн\Дети\23102105.jpg"/>
          <p:cNvPicPr/>
          <p:nvPr/>
        </p:nvPicPr>
        <p:blipFill>
          <a:blip r:embed="rId3"/>
          <a:stretch/>
        </p:blipFill>
        <p:spPr>
          <a:xfrm>
            <a:off x="428760" y="207180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7" descr="C:\Documents and Settings\user\Рабочий стол\толерантн\Дети\8.jpeg"/>
          <p:cNvPicPr/>
          <p:nvPr/>
        </p:nvPicPr>
        <p:blipFill>
          <a:blip r:embed="rId4"/>
          <a:stretch/>
        </p:blipFill>
        <p:spPr>
          <a:xfrm>
            <a:off x="6237360" y="2286000"/>
            <a:ext cx="2582640" cy="192888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8" descr="C:\Documents and Settings\user\Рабочий стол\толерантн\Дети\1957410.jpg"/>
          <p:cNvPicPr/>
          <p:nvPr/>
        </p:nvPicPr>
        <p:blipFill>
          <a:blip r:embed="rId5"/>
          <a:stretch/>
        </p:blipFill>
        <p:spPr>
          <a:xfrm>
            <a:off x="428760" y="4500720"/>
            <a:ext cx="2863800" cy="19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6" descr="Картинка 12 из 45183"/>
          <p:cNvPicPr/>
          <p:nvPr/>
        </p:nvPicPr>
        <p:blipFill>
          <a:blip r:embed="rId1"/>
          <a:stretch/>
        </p:blipFill>
        <p:spPr>
          <a:xfrm>
            <a:off x="4716360" y="3500280"/>
            <a:ext cx="4268880" cy="320544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8" descr="Картинка 47 из 45183"/>
          <p:cNvPicPr/>
          <p:nvPr/>
        </p:nvPicPr>
        <p:blipFill>
          <a:blip r:embed="rId2"/>
          <a:stretch/>
        </p:blipFill>
        <p:spPr>
          <a:xfrm>
            <a:off x="4643280" y="189000"/>
            <a:ext cx="4318200" cy="324000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10" descr="Картинка 12 из 22800"/>
          <p:cNvPicPr/>
          <p:nvPr/>
        </p:nvPicPr>
        <p:blipFill>
          <a:blip r:embed="rId3"/>
          <a:stretch/>
        </p:blipFill>
        <p:spPr>
          <a:xfrm>
            <a:off x="108000" y="3357720"/>
            <a:ext cx="4695840" cy="3382920"/>
          </a:xfrm>
          <a:prstGeom prst="rect">
            <a:avLst/>
          </a:prstGeom>
          <a:ln w="0">
            <a:noFill/>
          </a:ln>
        </p:spPr>
      </p:pic>
      <p:sp>
        <p:nvSpPr>
          <p:cNvPr id="594" name="TextBox 5"/>
          <p:cNvSpPr/>
          <p:nvPr/>
        </p:nvSpPr>
        <p:spPr>
          <a:xfrm>
            <a:off x="468360" y="260280"/>
            <a:ext cx="3816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Россия – наша общая Родин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Наши дети - наша жизнь! Их жизнь в наших руках. Поможем им не быть вовлеченными в бессмысленные агрессивные действия провокаторов и сохранить свои хрупкие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229600" cy="19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Наша земля – это место, где мы можем любить друг друга, соблюдать традиции и продолжать начатую нами </a:t>
            </a:r>
            <a:r>
              <a:rPr b="1" lang="ru-RU" sz="36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историю,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1187280" y="563400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Century Gothic"/>
              </a:rPr>
              <a:t>основанную на принципах толерантности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97" name="Picture 2" descr="Картинка 51 из 63199"/>
          <p:cNvPicPr/>
          <p:nvPr/>
        </p:nvPicPr>
        <p:blipFill>
          <a:blip r:embed="rId1"/>
          <a:stretch/>
        </p:blipFill>
        <p:spPr>
          <a:xfrm>
            <a:off x="1908000" y="1700280"/>
            <a:ext cx="446436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Прямоугольник 4"/>
          <p:cNvSpPr/>
          <p:nvPr/>
        </p:nvSpPr>
        <p:spPr>
          <a:xfrm>
            <a:off x="826920" y="333360"/>
            <a:ext cx="6913800" cy="167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Мы получим больше, чем отдадим, если будем чаще вспоминать про то, что нас соединяет, про то, что человек становится Человеком только благодаря другому человеку.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ы живем, потому что мы раз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2" descr="Картинка 40 из 22800"/>
          <p:cNvPicPr/>
          <p:nvPr/>
        </p:nvPicPr>
        <p:blipFill>
          <a:blip r:embed="rId1"/>
          <a:stretch/>
        </p:blipFill>
        <p:spPr>
          <a:xfrm>
            <a:off x="1476360" y="2205000"/>
            <a:ext cx="650412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есурсы: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http://pedsovet.su/load/12-1-0-3714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utube.ru/tracks/1963820.htm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ttp://www.lovestuff.ru/relationship/livingtogether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4" descr="Картинка 16 из 644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260280"/>
            <a:ext cx="8642160" cy="6193080"/>
          </a:xfrm>
          <a:prstGeom prst="rect">
            <a:avLst/>
          </a:prstGeom>
          <a:ln w="0">
            <a:noFill/>
          </a:ln>
        </p:spPr>
      </p:pic>
      <p:sp>
        <p:nvSpPr>
          <p:cNvPr id="521" name="Прямоугольник 3"/>
          <p:cNvSpPr/>
          <p:nvPr/>
        </p:nvSpPr>
        <p:spPr>
          <a:xfrm>
            <a:off x="324000" y="1052640"/>
            <a:ext cx="8569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Ксенофобия – это «основная психологическая движущая сила самых кровавых и бессмысленных конфликтов в истории человечества. Она — психологический механизм всех религиозных и межнациональных войн, геноцида, погромов и этнических чисток…Ксенофобия — цепная реакция, быстро становящаяся неуправляемой, кислота, разъедающая общество. Ее легко разжечь, остановить же практически невозможно» А.С.Штембер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3"/>
          <p:cNvSpPr/>
          <p:nvPr/>
        </p:nvSpPr>
        <p:spPr>
          <a:xfrm>
            <a:off x="324000" y="574920"/>
            <a:ext cx="83516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нтолерантность - 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етерпимость основывается на убеждении, что твои взгляды, твой образ жизни правильнее других. Нетерпимость – не просто отсутствие чувства солидарности, это неприятие другого за то, что он чувствует. Интолерантные личности делят мир на черный и белый. Для них есть только два вида людей – хорошие и плохие и только один правильный путь в жизни. Они не могут относиться к чему – то нейтрально и все происходящее либо одобряют, либо н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Прямоугольник 3"/>
          <p:cNvSpPr/>
          <p:nvPr/>
        </p:nvSpPr>
        <p:spPr>
          <a:xfrm>
            <a:off x="447984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179280" y="6840"/>
            <a:ext cx="8785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f6228"/>
                </a:solidFill>
                <a:latin typeface="Arial Unicode MS"/>
                <a:ea typeface="Arial Unicode MS"/>
              </a:rPr>
              <a:t>Толерантность – признание, уважение и соблюдение прав и свобод всех людей без различения социальных, классовых, религиозных, этнических и иных особенностей</a:t>
            </a:r>
            <a:r>
              <a:rPr b="1" lang="ru-RU" sz="3600" spc="-1" strike="noStrike">
                <a:solidFill>
                  <a:srgbClr val="4f6228"/>
                </a:solidFill>
                <a:latin typeface="Calibri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7" descr="Картинка 53 из 228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11280" y="3213000"/>
            <a:ext cx="470088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1"/>
          <p:cNvSpPr/>
          <p:nvPr/>
        </p:nvSpPr>
        <p:spPr>
          <a:xfrm>
            <a:off x="468360" y="-136800"/>
            <a:ext cx="806436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сновными составляющими системы толерантности являютс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• </a:t>
            </a: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езумпция личности 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 оценка каждого человека по его конкретным чертам и поступкам, а не на основе его национальной, религиозной и других характеристик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• </a:t>
            </a: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езумпция прав человека 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 каждый человек имеет право на любые проявления национальных, религиозных и других характеристик в своем поведении и высказываниях, если они не противоречат нормам права и морали общества и общност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• </a:t>
            </a: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риентация на терпимость 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 недостаткам, слабостям и ошибкам других людей, если они не противоречат нормам морали и права говоря другим языком, готовность прощать людям все их грехи за исключением особенно тяжких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• </a:t>
            </a: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ценность согласия и ненасильственного разрешения конфликтов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• </a:t>
            </a: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ценность человеческой жизни 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отсутствия физических страдани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• </a:t>
            </a: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ценность следования нормам прав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• </a:t>
            </a: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ценность сострадания, сопереживания, сочувствия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3" descr="C:\Users\ishimova\Desktop\MP900422987.JPG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8" name="Овал 25"/>
          <p:cNvSpPr/>
          <p:nvPr/>
        </p:nvSpPr>
        <p:spPr>
          <a:xfrm>
            <a:off x="2411280" y="2205000"/>
            <a:ext cx="3600720" cy="20876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Group 86"/>
          <p:cNvGrpSpPr/>
          <p:nvPr/>
        </p:nvGrpSpPr>
        <p:grpSpPr>
          <a:xfrm>
            <a:off x="0" y="188280"/>
            <a:ext cx="9322560" cy="6480360"/>
            <a:chOff x="0" y="188280"/>
            <a:chExt cx="9322560" cy="6480360"/>
          </a:xfrm>
        </p:grpSpPr>
        <p:sp>
          <p:nvSpPr>
            <p:cNvPr id="530" name="Text Box 74"/>
            <p:cNvSpPr/>
            <p:nvPr/>
          </p:nvSpPr>
          <p:spPr>
            <a:xfrm>
              <a:off x="2556000" y="2853360"/>
              <a:ext cx="3520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33cc"/>
                  </a:solidFill>
                  <a:latin typeface="Times New Roman"/>
                </a:rPr>
                <a:t>Толерантност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 Box 75"/>
            <p:cNvSpPr/>
            <p:nvPr/>
          </p:nvSpPr>
          <p:spPr>
            <a:xfrm>
              <a:off x="3904200" y="844560"/>
              <a:ext cx="1309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Text Box 77"/>
            <p:cNvSpPr/>
            <p:nvPr/>
          </p:nvSpPr>
          <p:spPr>
            <a:xfrm flipV="1" rot="5400000">
              <a:off x="3216600" y="966240"/>
              <a:ext cx="201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000"/>
                  </a:solidFill>
                  <a:latin typeface="Times New Roman"/>
                </a:rPr>
                <a:t>Прощ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 Box 78"/>
            <p:cNvSpPr/>
            <p:nvPr/>
          </p:nvSpPr>
          <p:spPr>
            <a:xfrm rot="5400000">
              <a:off x="3382200" y="5286960"/>
              <a:ext cx="230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c000"/>
                  </a:solidFill>
                  <a:latin typeface="Times New Roman"/>
                </a:rPr>
                <a:t> </a:t>
              </a:r>
              <a:r>
                <a:rPr b="1" lang="ru-RU" sz="2400" spc="-1" strike="noStrike">
                  <a:solidFill>
                    <a:srgbClr val="ffc000"/>
                  </a:solidFill>
                  <a:latin typeface="Times New Roman"/>
                </a:rPr>
                <a:t>Милосерд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Text Box 79"/>
            <p:cNvSpPr/>
            <p:nvPr/>
          </p:nvSpPr>
          <p:spPr>
            <a:xfrm>
              <a:off x="0" y="3283560"/>
              <a:ext cx="241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000"/>
                  </a:solidFill>
                  <a:latin typeface="Times New Roman"/>
                </a:rPr>
                <a:t>Сострада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 Box 80"/>
            <p:cNvSpPr/>
            <p:nvPr/>
          </p:nvSpPr>
          <p:spPr>
            <a:xfrm rot="2105400">
              <a:off x="120240" y="1535400"/>
              <a:ext cx="274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000"/>
                  </a:solidFill>
                  <a:latin typeface="Times New Roman"/>
                </a:rPr>
                <a:t>Терпимо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Text Box 81"/>
            <p:cNvSpPr/>
            <p:nvPr/>
          </p:nvSpPr>
          <p:spPr>
            <a:xfrm rot="19110600">
              <a:off x="5533200" y="1465200"/>
              <a:ext cx="267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000"/>
                  </a:solidFill>
                  <a:latin typeface="Times New Roman"/>
                </a:rPr>
                <a:t>Сочувств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 Box 82"/>
            <p:cNvSpPr/>
            <p:nvPr/>
          </p:nvSpPr>
          <p:spPr>
            <a:xfrm rot="2068800">
              <a:off x="5353920" y="4698360"/>
              <a:ext cx="248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000"/>
                  </a:solidFill>
                  <a:latin typeface="Times New Roman"/>
                </a:rPr>
                <a:t>Уваж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83"/>
            <p:cNvSpPr/>
            <p:nvPr/>
          </p:nvSpPr>
          <p:spPr>
            <a:xfrm rot="19128600">
              <a:off x="286560" y="4845960"/>
              <a:ext cx="262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000"/>
                  </a:solidFill>
                  <a:latin typeface="Times New Roman"/>
                </a:rPr>
                <a:t>Содейств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84"/>
            <p:cNvSpPr/>
            <p:nvPr/>
          </p:nvSpPr>
          <p:spPr>
            <a:xfrm>
              <a:off x="5939280" y="3207240"/>
              <a:ext cx="338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000"/>
                  </a:solidFill>
                  <a:latin typeface="Times New Roman"/>
                </a:rPr>
                <a:t>Взаимопонима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4"/>
          <p:cNvSpPr/>
          <p:nvPr/>
        </p:nvSpPr>
        <p:spPr>
          <a:xfrm>
            <a:off x="395280" y="324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Какими же чертами должен обладать толерантный человек, а какие черты личности мешают быть таковым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3" descr="Рисунок3"/>
          <p:cNvPicPr/>
          <p:nvPr/>
        </p:nvPicPr>
        <p:blipFill>
          <a:blip r:embed="rId1"/>
          <a:stretch/>
        </p:blipFill>
        <p:spPr>
          <a:xfrm>
            <a:off x="250920" y="692280"/>
            <a:ext cx="849780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6" descr="Картинка 34 из 5280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260280"/>
            <a:ext cx="3589560" cy="2700360"/>
          </a:xfrm>
          <a:prstGeom prst="rect">
            <a:avLst/>
          </a:prstGeom>
          <a:ln w="0">
            <a:noFill/>
          </a:ln>
        </p:spPr>
      </p:pic>
      <p:sp>
        <p:nvSpPr>
          <p:cNvPr id="543" name="TextBox 4"/>
          <p:cNvSpPr/>
          <p:nvPr/>
        </p:nvSpPr>
        <p:spPr>
          <a:xfrm>
            <a:off x="108000" y="2421000"/>
            <a:ext cx="871200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ТЕРЕОТИПЫ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- это неправомочные обобщения, которые мы делаем по поводу тех, о ком мы мало знаем. Человеческий мозг устроен таким образом, что он постоянно классифицирует все, что встречает в реальности. Когда у нас не хватает информации о каком-то предмете, мы относим его к определенной категории и приписываем ему определенные качества. Так мы решаем, что «все русские много пьют», а «все подростки употребляют наркотики».</a:t>
            </a:r>
            <a:br>
              <a:rPr sz="16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5"/>
          <p:cNvSpPr/>
          <p:nvPr/>
        </p:nvSpPr>
        <p:spPr>
          <a:xfrm>
            <a:off x="179280" y="260280"/>
            <a:ext cx="475308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олерантности мешают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тереотипы и предрассудки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7T17:28:58Z</dcterms:created>
  <dc:creator>ishimova</dc:creator>
  <dc:description/>
  <dc:language>en-US</dc:language>
  <cp:lastModifiedBy>Гость</cp:lastModifiedBy>
  <dcterms:modified xsi:type="dcterms:W3CDTF">2015-11-17T09:04:14Z</dcterms:modified>
  <cp:revision>83</cp:revision>
  <dc:subject/>
  <dc:title>Слайд 1</dc:title>
</cp:coreProperties>
</file>