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12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8.jpeg" ContentType="image/jpeg"/>
  <Override PartName="/ppt/media/image44.jpeg" ContentType="image/jpeg"/>
  <Override PartName="/ppt/media/image35.jpeg" ContentType="image/jpeg"/>
  <Override PartName="/ppt/media/image29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1.jpeg" ContentType="image/jpeg"/>
  <Override PartName="/ppt/media/image8.jpeg" ContentType="image/jpeg"/>
  <Override PartName="/ppt/media/image39.jpeg" ContentType="image/jpeg"/>
  <Override PartName="/ppt/media/image43.jpeg" ContentType="image/jpeg"/>
  <Override PartName="/ppt/media/image40.jpeg" ContentType="image/jpeg"/>
  <Override PartName="/ppt/media/image13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ECE5-9223-4BFB-852A-C31D3517F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BEF1-A843-457A-AE97-D848F907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CBB35-CB29-4F97-B5FE-335A5967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6B78F0-AEE6-491F-A9FB-6C2C5939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41AAB-0BA0-4EF5-A637-7FACB3A0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CC2AD-99B2-452B-971E-ABE0DF24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20E67-5DE2-4E02-8C7E-504F1C96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428B2F-C0D2-4BF8-8F3C-778AF9BC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4BF18-192C-42C7-815B-4F9ECE1E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32E1F-8BFD-45D4-820D-E47647E53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8937AC-416A-42F3-B3CD-251DD7556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02CAEC-C4A2-41E9-8C09-CC2ECB1E8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DDAD-850A-425D-B6BF-11671BC5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10AAD-9D0E-4825-B72F-4510779A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9796A6-8FEA-456B-8CEC-37AE40F0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A56EF3-1396-4F6E-97A7-69745AA0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FD9915-6656-4FA8-B467-50F2D810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3FD92A-914E-4A6C-8DF5-5B8E13D7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5D83ED-1D5D-422E-AC33-55485F72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B9BAF-B446-454F-AD41-887CA792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2CB3C-6B4A-493D-948C-C6B9FDB5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CDCD9C-DDB0-40FB-8DED-CE5AE5BB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7CE7B-1E78-4D09-B44B-987268151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0645-FE1C-4B7A-9C42-00CEE7D58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657F12-735B-408D-9A9E-40F89A1F1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C696B-E7E1-4A28-B0AC-3031BC1A6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89BAC-35E4-4B27-BDBD-8ED81419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3437C-E8F5-48AA-95DA-532C8B9D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6DE02-4319-48B0-850A-B1620CC0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191C0-B418-4E56-B27C-C4FC2D69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10C56-F75B-4370-8B78-D5D63C25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25EA9-2D52-4DD8-A2BE-99EC3361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9EC35-6638-4D23-904C-691D61CF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1C797-BBB7-407A-8296-8B980E7E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952C4-BB48-4160-B28F-0706A2575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97993C-AC24-491A-B6AA-055B8AFB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6A4F3-54B4-430A-AFFB-B0604F112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8543E-0C3F-4549-9684-C34231403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0FD6-A7A4-4770-AD10-61DBFE9C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A0A3-6259-4186-BCAF-261732A6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6D21-9B3C-4A5D-BBBC-9888229A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B474-13CE-4B35-8E02-B8BE0613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28E5-16F5-4E60-B67F-B30814FE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97ED-02F4-4D97-A307-A9FF6C06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2B4C-04D3-42C3-A1AF-BE424FBC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5DE7-AA00-499B-846B-33998FED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F8D2-05DC-4697-B75C-26583131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24FD-68E6-4315-9DC1-808BF968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94B2-A0AD-4017-8DAE-B26A2F545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4D11-5CAD-4E3F-9F6B-005C10163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98E20-CF32-47ED-977F-0EA3D6B45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87E14-7885-43CA-A4AE-479ABC35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DE244-805C-41B8-ACDD-BAA5225A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7D8E0-0786-4203-A449-FF2F750A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38C83-1A8D-4B46-9067-5D618B0A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C155-4CC5-4A36-91A3-FC601CDE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72AED-4D87-4462-8E67-DC4B9656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2D681-891C-4777-B7EA-7707F9D2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586FA-3419-4ED1-89FA-2EBB66D7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796A4-A42D-4C6F-A5F6-E9550752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CDD94-0702-425A-A1CA-628821E0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25EC6-ED10-499D-98CC-BF837042A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359D2-9F81-4042-AD99-F8D8C75DC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1FFD6-E26D-4A8C-8632-9A691E615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6AC66-5D3C-44CF-B357-61371900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B44B7-710D-44CC-99CD-EF791B27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8984-05E7-4D65-BE4F-C1144DA6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E837D-FB2B-4F7B-B901-7DA950E9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7D3C2-3B35-4C67-A8CA-A14AE005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749D8-261F-46C5-BC2D-593AB53B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475FA-A6F1-41FE-A86B-D5E1CE00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E479D-2F33-466E-9280-CC7B689F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20AAA-5C48-4C98-98ED-FBB73621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16C6C-73A5-43F8-8618-60EB2CBA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99A22-C6CF-46EF-A151-901DFF2F3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B3085-0FBC-4FE1-BC9F-7FECCE05C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07741-E7CD-4DC2-8E2D-81B790AB5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71D8-5E3D-4342-B070-E29ADA54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55534-1BBB-42C1-8B24-55F7714B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57428-A6E2-4DB4-B8A0-7897069A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337CB-8235-43EF-8E52-D036C6BC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C5866-9C3B-4800-A5BE-17B8EAE4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77C36-857F-407F-9012-30D743E3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1C4DF-7BCA-44D2-A64E-35177941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840BF-7C10-4697-B980-19D0EAAE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3D353-93A8-47D6-A702-21B3A966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ACC33-AA94-4455-8349-6AE5BAA9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C1797-1C22-4E6A-9964-A4795FEA5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D62F-CE35-49F0-8907-10764B93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EB4D9-B9BD-4CDC-A052-3DCA4A993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5F794-332C-4D94-AF8B-308374C18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641C4-88AB-4640-A5C2-BB74A168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42241-8E9D-4082-A52D-0D0F6654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F0746-496D-4125-BA92-8396CFD4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ACD0B-925E-4CD3-A5BD-46A8F74A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1FE7C-2DAA-4679-AD2A-8A15FFC3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6F42D-325B-450C-A8DA-80BADA68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EA887-8F6D-4B04-B164-CD2EE95F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DDD72-6C7F-4CD9-A9C8-B27EC16A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62D4-8730-4A8D-97A1-E1DF9EDF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FB3EE-8119-40DC-B0F6-BCED3866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53051-8265-488F-B5C2-5F9DF2888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C65E0-C685-487B-BDBD-357DA00A1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42807-7E4C-4D2A-A1EE-46C709085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2DB59-B9E4-47FF-9253-A71D722C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77FA7-07E9-4E5C-81AC-07E76A90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B78C1-BB37-43AF-B72C-9A7DEF3D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3F2FB-833D-4F88-85C5-A2493DF8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8461F-D84A-4E34-82DF-D7401754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E15B2-CE08-47C2-9095-770D7B31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41DB-8AE4-491C-85E8-8D198EEF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81331-15F9-4B51-BCB5-0D855CD8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AC7F9-A3C5-4E38-96F6-FB2C98AD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82AA8-EB71-40E3-8208-230F0FC8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9697F-98ED-412C-AFA8-A5E7F48FF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EA51C-2E59-4729-BC2B-96324C61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F95B7-AFBF-46E1-9ED8-AABC22E9B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B8D48-F6A1-499A-8809-A01473D7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24BD4-A27A-4323-840F-2B24D5DF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D0EE6-E6DD-42FB-BD0E-536F774C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38AEB-C54F-4437-9C9D-DC8B3E8B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A63B-37FE-4969-9799-14DD9D86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CCE02-A24A-41D7-BABB-C5FBBCCC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E66B0-942D-48B8-99D4-87305962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B5D81-9D9F-4F85-94D9-699153B4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0DEE3-CAF9-4BC1-A806-2A814EB4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1E49A-29AE-4B4D-89AB-EEE4231F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82D89-19ED-440B-A823-6E442A04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65EF7-8931-4A17-B39C-52F49E664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BB6E1-BF75-4136-8AA5-20DDF6F2D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6470B-075C-4948-8F5D-2D7FF4E1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4AD43-C7AA-4BB4-BF1E-33D5EB32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6625-6F01-46A3-B0AB-79F73357E1E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34D9-2C51-4D40-84A9-793C605A6079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3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2C14-653F-46C4-B5F3-5F8D4AB69380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2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356A-E70F-4D43-A9C4-DA18D9F98E79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49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8DDC-F36F-4882-A524-5E9B55470B50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A333-3FF6-4BEB-BE81-00F0197B6C93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7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7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8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183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A125-84EA-47C5-900C-8B2A7F711BB0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27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3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3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7432-862C-4E94-979C-60A08A45F08A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77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8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286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6525-937A-4E5F-91A1-C1303526C905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3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3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3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339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447A-EEC2-4527-82A5-44CD4759EB66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3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6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9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392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5234-627E-416D-BB3C-6B91B5668E1B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inalefa2.files.wordpress.com/2009/06/logotolerancia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hyperlink" Target="http://beslan-2004.front.ru/beslan-18.jpg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www.k-istine.ru/images/faith/illbaby-2.jpg" TargetMode="External"/><Relationship Id="rId6" Type="http://schemas.openxmlformats.org/officeDocument/2006/relationships/image" Target="../media/image16.jpeg"/><Relationship Id="rId7" Type="http://schemas.openxmlformats.org/officeDocument/2006/relationships/hyperlink" Target="http://umdb.org.ua/images/imgs/__local10061/impsize/1248813386619.jpg" TargetMode="External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open.az/uploads/posts/2010-02/1267282401_familie_9576952_m2.jpg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megalife.com.ua/uploads/posts/1188964036_11.jpg" TargetMode="External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tatic2.aif.ru/public/article/697/f450cc906f13346529d8aed7a26d045f_big.jpg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living-stones.narod.ru/11disciple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picfor.bildero.net/001B345A/Peace-Love-and-LightReikiAna-peace-love-and-light-animals-inside-tags-Sammy-labrujita-ceca-Love-this-for-me-nature_large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Gothic"/>
              </a:rPr>
              <a:t>Родительское собрани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entury Gothic"/>
              </a:rPr>
              <a:t>«Как воспитать толерантного человека»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18" name="Picture 5" descr="Картинка 68 из 228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3213000"/>
            <a:ext cx="32958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Прямоугольник 1"/>
          <p:cNvSpPr/>
          <p:nvPr/>
        </p:nvSpPr>
        <p:spPr>
          <a:xfrm>
            <a:off x="971640" y="750960"/>
            <a:ext cx="7272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едрассудок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негативное отношение к человеку ли какой-нибудь группе людей, о которых вы на самом деле ничего не знаете. Это также негативное отношение на основании не личного знакомства с человеком, а мнения (стереотипа) по поводу группы, к которой он принадлежит. Он обычно появляется у нас благодаря тому, что уже принят в том обществе или группе, где мы находимся. Существуют разные виды предрассудков. Они могут быть связаны с полом, возрастом, национальной принадлежностью, приверженностью к определенной религии, происхождением, уровнем дохода, сексуальной ориентацией или инвалидностью человек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Прямоугольник 3"/>
          <p:cNvSpPr/>
          <p:nvPr/>
        </p:nvSpPr>
        <p:spPr>
          <a:xfrm>
            <a:off x="179280" y="1773360"/>
            <a:ext cx="85694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8684e"/>
                </a:solidFill>
                <a:latin typeface="Arial"/>
              </a:rPr>
              <a:t>КАК ВОСПИТАТЬ ТОЛЕРАНТНОГО ЧЕЛОВЕКА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95280" y="404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одители должны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-первых, не обижать ребёнка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-вторых, выслушивать его мнение и считаться с ним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-третьих, уметь прощать обиды и просить прощения у ребенка. Это самый сложный момент, но, в то же время, и самый важный, поскольку у детей обостренное чувство справедливости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-четвертых, уметь договариваться без ссор и разрушительных конфликтов. Под словосочетанием «разрушительный конфликт» подразумевается противостояние, которое наносит «противнику» ущерб, моральный или физический. Разумеется, что в повседневной жизни невозможно избежать противоречий интересов, желаний и мнений. Задача – обратить конфликт в конструктивный, вызвав ребенка к разговору о возникших противоречиях и к совместному принятию компромиссных решений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-пятых, нельзя унижать достоинство ребенка – игнорировать его, проявлять неуважение к его увлечениям и т.п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-шестых, не стоит заставлять ребенка с помощью силы делать то, что хочется вам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324000" y="836640"/>
            <a:ext cx="85168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ест для родителей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Пытаетесь ли Вы понять своего ребенка?»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з трех ответов на каждый вопрос выберите один, затем подсчитайте, каких ответов больше всего – А, Б, В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1. Ребенок капризничает. Не ест суп, хотя всегда ел. Вы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) дадите ему другое блюдо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) разрешите выйти ему из-за стола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) не выпустите его из-за стола до тех пор, пока не съест все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2. Ваш ребенок во дворе «круто» поссорился со сверстниками. Вы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) идете во двор и разбираетесь с детьми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) советуете ребенку самому уладить конфликт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) предлагаете остаться дома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Прямоугольник 1"/>
          <p:cNvSpPr/>
          <p:nvPr/>
        </p:nvSpPr>
        <p:spPr>
          <a:xfrm>
            <a:off x="900000" y="620640"/>
            <a:ext cx="7848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3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. Ваш ребенок смотрит фильм, вместо того, чтобы делать уроки В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) начнете его ругать, крича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) попытаетесь выяснить, почему он не делает уроки, возможно, сяд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ядом и разберете вместе с ним домашнее зад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) без слов выключите телевиз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4. Ваш ребенок скрыл от Вас полученные двой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) вы в гневе и за двойки, и за их сокрытие, запрещаете все, кроме уро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) пытаетесь помочь исправить полож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) физически или как-нибудь иначе наказываете подрост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5. Ваш сын (дочь) гораздо позже назначенного времени вернулся (ась) дом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) не выяснив причины, начинаете руга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) обсудите случившееся, выясните, почему задержался и договоритес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что впредь опозданий не буд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) накаж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Прямоугольник 1"/>
          <p:cNvSpPr/>
          <p:nvPr/>
        </p:nvSpPr>
        <p:spPr>
          <a:xfrm>
            <a:off x="1042920" y="1444680"/>
            <a:ext cx="748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д каждой буквой прочтите мнение о себ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– это тип авторитарного родителя, который мало доверяет своему ребенку, мало понимает его потреб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– это тип родителя, признающего право ребенка на личный опыт, даже ошибки, и пытающегося научить его отвечать за себя и свои поступ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– тип родителя, не пытающегося понять ребенка, основным его методом воспитания является порицание и наказ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Прямоугольник 1"/>
          <p:cNvSpPr/>
          <p:nvPr/>
        </p:nvSpPr>
        <p:spPr>
          <a:xfrm>
            <a:off x="1042920" y="620640"/>
            <a:ext cx="71294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авила восп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ребенка постоянно критиковать, он учи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навиде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ребенок живет во вражде, он учи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грессив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ребенка высмеивают, он станови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мкнут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ребенок растет в упреках, он учится ж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 чувством в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ребенок растет в терпимости, он учи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нимать друг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ребенка подбадривают, он учи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ерить в с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ребенок растет в честности, он учи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ыть справедли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ребенок растет в безопасности, он учи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ерить в с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ребенок живет в понимании и дружелюбии, он учи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ходить любовь в этом м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99720" y="0"/>
            <a:ext cx="7086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3152"/>
                </a:solidFill>
                <a:latin typeface="Century Gothic"/>
              </a:rPr>
              <a:t>БЫВАЮТ ДНИ, ГОДЫ, ДЕСЯТИЛЕТИЯ</a:t>
            </a:r>
            <a:r>
              <a:rPr b="1" lang="ru-RU" sz="4000" spc="-1" strike="noStrike">
                <a:solidFill>
                  <a:srgbClr val="403152"/>
                </a:solidFill>
                <a:latin typeface="Century Gothic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53" name="Picture 4" descr="C:\Documents and Settings\user\Рабочий стол\толерантн\Дети\54264.jpg"/>
          <p:cNvPicPr/>
          <p:nvPr/>
        </p:nvPicPr>
        <p:blipFill>
          <a:blip r:embed="rId1"/>
          <a:stretch/>
        </p:blipFill>
        <p:spPr>
          <a:xfrm>
            <a:off x="5580000" y="1197000"/>
            <a:ext cx="2757600" cy="2143080"/>
          </a:xfrm>
          <a:prstGeom prst="rect">
            <a:avLst/>
          </a:prstGeom>
          <a:ln w="0">
            <a:noFill/>
          </a:ln>
        </p:spPr>
      </p:pic>
      <p:pic>
        <p:nvPicPr>
          <p:cNvPr id="554" name="120609.mp3" descr=""/>
          <p:cNvPicPr/>
          <p:nvPr/>
        </p:nvPicPr>
        <p:blipFill>
          <a:blip r:embed="rId2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6" descr="http://beslan-2004.front.ru/beslan-18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3789360"/>
            <a:ext cx="3117960" cy="23400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2" descr="http://www.k-istine.ru/images/faith/illbaby-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1125360"/>
            <a:ext cx="3238560" cy="22194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6" descr="Картинка 42 из 4603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4360" y="3429000"/>
            <a:ext cx="4052880" cy="270036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10920" y="5857920"/>
            <a:ext cx="70866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403152"/>
                </a:solidFill>
                <a:latin typeface="Century Gothic"/>
              </a:rPr>
              <a:t>когда сложно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3152"/>
                </a:solidFill>
                <a:latin typeface="Arial Unicode MS"/>
                <a:ea typeface="Arial Unicode MS"/>
              </a:rPr>
              <a:t>Бывают секунды. Минуты…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0" y="5643720"/>
            <a:ext cx="914400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3152"/>
                </a:solidFill>
                <a:latin typeface="Arial Unicode MS"/>
                <a:ea typeface="Arial Unicode MS"/>
              </a:rPr>
              <a:t>от которых зависит очень многое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61" name="Picture 2" descr="C:\Documents and Settings\user\Рабочий стол\толерантн\Дети\сс.jpeg"/>
          <p:cNvPicPr/>
          <p:nvPr/>
        </p:nvPicPr>
        <p:blipFill>
          <a:blip r:embed="rId1"/>
          <a:stretch/>
        </p:blipFill>
        <p:spPr>
          <a:xfrm>
            <a:off x="500040" y="1285920"/>
            <a:ext cx="1730520" cy="17143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C:\Documents and Settings\user\Рабочий стол\толерантн\Дети\ссора.jpeg"/>
          <p:cNvPicPr/>
          <p:nvPr/>
        </p:nvPicPr>
        <p:blipFill>
          <a:blip r:embed="rId2"/>
          <a:stretch/>
        </p:blipFill>
        <p:spPr>
          <a:xfrm>
            <a:off x="6875640" y="1268280"/>
            <a:ext cx="1438200" cy="17510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5" descr="C:\Documents and Settings\user\Рабочий стол\толерантн\Дети\ссо.jpeg"/>
          <p:cNvPicPr/>
          <p:nvPr/>
        </p:nvPicPr>
        <p:blipFill>
          <a:blip r:embed="rId3"/>
          <a:srcRect l="0" t="11127" r="0" b="0"/>
          <a:stretch/>
        </p:blipFill>
        <p:spPr>
          <a:xfrm>
            <a:off x="5072040" y="3357720"/>
            <a:ext cx="2143080" cy="18698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8" descr="C:\Documents and Settings\user\Рабочий стол\внеклассная работа\семь\3184.jpg"/>
          <p:cNvPicPr/>
          <p:nvPr/>
        </p:nvPicPr>
        <p:blipFill>
          <a:blip r:embed="rId4"/>
          <a:stretch/>
        </p:blipFill>
        <p:spPr>
          <a:xfrm>
            <a:off x="1749600" y="3357720"/>
            <a:ext cx="2798640" cy="18572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2" descr="C:\Documents and Settings\user\Рабочий стол\толерантн\Дети\сс.jpeg"/>
          <p:cNvPicPr/>
          <p:nvPr/>
        </p:nvPicPr>
        <p:blipFill>
          <a:blip r:embed="rId5"/>
          <a:stretch/>
        </p:blipFill>
        <p:spPr>
          <a:xfrm>
            <a:off x="611280" y="1268280"/>
            <a:ext cx="173016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3152"/>
                </a:solidFill>
                <a:latin typeface="Arial Unicode MS"/>
                <a:ea typeface="Arial Unicode MS"/>
              </a:rPr>
              <a:t>И в эти секунды нельзя допустить ошибку…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642960" y="5357880"/>
            <a:ext cx="8143920" cy="11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3152"/>
                </a:solidFill>
                <a:latin typeface="Arial Unicode MS"/>
                <a:ea typeface="Arial Unicode MS"/>
              </a:rPr>
              <a:t>иначе после этого не останется ничего, кроме боли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68" name="Picture 6" descr="C:\Documents and Settings\user\Рабочий стол\внеклассная работа\семь\c160a7a9c204756937b9d235034_prev.jpg"/>
          <p:cNvPicPr/>
          <p:nvPr/>
        </p:nvPicPr>
        <p:blipFill>
          <a:blip r:embed="rId1"/>
          <a:stretch/>
        </p:blipFill>
        <p:spPr>
          <a:xfrm>
            <a:off x="5076720" y="2565360"/>
            <a:ext cx="3357720" cy="24624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" descr="Картинка 3 из 99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2492280"/>
            <a:ext cx="3836880" cy="25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http://studproekt.stavsu.ru/images/9/9a/%D0%9F%D1%80%D0%BE%D0%B5%D0%BA%D1%82_%D0%97%D0%B0%D1%85%D0%B0%D1%80%D0%BE%D0%B2%D0%BE%D0%B9%D0%A1%D0%90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3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3152"/>
                </a:solidFill>
                <a:latin typeface="Arial Unicode MS"/>
                <a:ea typeface="Arial Unicode MS"/>
              </a:rPr>
              <a:t>И в эти минуты так важно сказать главные слова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1428840" y="535752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3152"/>
                </a:solidFill>
                <a:latin typeface="Arial Unicode MS"/>
                <a:ea typeface="Arial Unicode MS"/>
              </a:rPr>
              <a:t>вспомнить, что есть нечто большее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72" name="Picture 2" descr="C:\Documents and Settings\user\Рабочий стол\толерантн\Дети\сс1.jpeg"/>
          <p:cNvPicPr/>
          <p:nvPr/>
        </p:nvPicPr>
        <p:blipFill>
          <a:blip r:embed="rId1"/>
          <a:stretch/>
        </p:blipFill>
        <p:spPr>
          <a:xfrm>
            <a:off x="285840" y="1643040"/>
            <a:ext cx="1825560" cy="19288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3" descr="C:\Documents and Settings\user\Рабочий стол\толерантн\Дети\св.jpeg"/>
          <p:cNvPicPr/>
          <p:nvPr/>
        </p:nvPicPr>
        <p:blipFill>
          <a:blip r:embed="rId2"/>
          <a:stretch/>
        </p:blipFill>
        <p:spPr>
          <a:xfrm>
            <a:off x="571680" y="4143240"/>
            <a:ext cx="2035080" cy="13525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4" descr="C:\Documents and Settings\user\Рабочий стол\толерантн\Дети\4444.jpeg"/>
          <p:cNvPicPr/>
          <p:nvPr/>
        </p:nvPicPr>
        <p:blipFill>
          <a:blip r:embed="rId3"/>
          <a:stretch/>
        </p:blipFill>
        <p:spPr>
          <a:xfrm>
            <a:off x="6500880" y="4000680"/>
            <a:ext cx="2365200" cy="15490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5" descr="C:\Documents and Settings\user\Рабочий стол\толерантн\Дети\2651363.jpg"/>
          <p:cNvPicPr/>
          <p:nvPr/>
        </p:nvPicPr>
        <p:blipFill>
          <a:blip r:embed="rId4"/>
          <a:stretch/>
        </p:blipFill>
        <p:spPr>
          <a:xfrm>
            <a:off x="3357720" y="314316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6" descr="C:\Documents and Settings\user\Рабочий стол\толерантн\Дети\deti1_4.jpg"/>
          <p:cNvPicPr/>
          <p:nvPr/>
        </p:nvPicPr>
        <p:blipFill>
          <a:blip r:embed="rId5"/>
          <a:stretch/>
        </p:blipFill>
        <p:spPr>
          <a:xfrm>
            <a:off x="6643800" y="1643040"/>
            <a:ext cx="228276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3152"/>
                </a:solidFill>
                <a:latin typeface="Arial Unicode MS"/>
                <a:ea typeface="Arial Unicode MS"/>
              </a:rPr>
              <a:t>Любовь к человеку просто за то…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78" name="Picture 2" descr="C:\Documents and Settings\user\Рабочий стол\толерантн\Дети\img_37744038_9722_1.jpg"/>
          <p:cNvPicPr/>
          <p:nvPr/>
        </p:nvPicPr>
        <p:blipFill>
          <a:blip r:embed="rId1"/>
          <a:stretch/>
        </p:blipFill>
        <p:spPr>
          <a:xfrm>
            <a:off x="3492360" y="4508640"/>
            <a:ext cx="2691000" cy="161424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4" descr="Картинка 54 из 64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3789360"/>
            <a:ext cx="3006720" cy="22669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8" descr="Картинка 58 из 64000"/>
          <p:cNvPicPr/>
          <p:nvPr/>
        </p:nvPicPr>
        <p:blipFill>
          <a:blip r:embed="rId4"/>
          <a:stretch/>
        </p:blipFill>
        <p:spPr>
          <a:xfrm>
            <a:off x="6659640" y="3213000"/>
            <a:ext cx="2185920" cy="33480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4" descr="Картинка 151 из 64000"/>
          <p:cNvPicPr/>
          <p:nvPr/>
        </p:nvPicPr>
        <p:blipFill>
          <a:blip r:embed="rId5"/>
          <a:stretch/>
        </p:blipFill>
        <p:spPr>
          <a:xfrm>
            <a:off x="5796000" y="836640"/>
            <a:ext cx="3097080" cy="208764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900000" y="587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03152"/>
                </a:solidFill>
                <a:latin typeface="Arial Unicode MS"/>
                <a:ea typeface="Arial Unicode MS"/>
              </a:rPr>
              <a:t>что он человек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83" name="Picture 18" descr="Картинка 15 из 64000"/>
          <p:cNvPicPr/>
          <p:nvPr/>
        </p:nvPicPr>
        <p:blipFill>
          <a:blip r:embed="rId6"/>
          <a:stretch/>
        </p:blipFill>
        <p:spPr>
          <a:xfrm>
            <a:off x="0" y="1052640"/>
            <a:ext cx="3449520" cy="23032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4" descr="Картинка 11 из 64000"/>
          <p:cNvPicPr/>
          <p:nvPr/>
        </p:nvPicPr>
        <p:blipFill>
          <a:blip r:embed="rId7"/>
          <a:stretch/>
        </p:blipFill>
        <p:spPr>
          <a:xfrm>
            <a:off x="3276720" y="2276640"/>
            <a:ext cx="3079800" cy="20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3152"/>
                </a:solidFill>
                <a:latin typeface="Arial Unicode MS"/>
                <a:ea typeface="Arial Unicode MS"/>
              </a:rPr>
              <a:t>Ради поколений мы жмём друг другу руки  и строим мосты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86" name="Picture 2" descr="C:\Documents and Settings\user\Рабочий стол\толерантн\Дети\р1.jpeg"/>
          <p:cNvPicPr/>
          <p:nvPr/>
        </p:nvPicPr>
        <p:blipFill>
          <a:blip r:embed="rId1"/>
          <a:stretch/>
        </p:blipFill>
        <p:spPr>
          <a:xfrm>
            <a:off x="4071960" y="3071880"/>
            <a:ext cx="1784160" cy="27144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4" descr="C:\Documents and Settings\user\Рабочий стол\толерантн\Дети\112.jpeg"/>
          <p:cNvPicPr/>
          <p:nvPr/>
        </p:nvPicPr>
        <p:blipFill>
          <a:blip r:embed="rId2"/>
          <a:stretch/>
        </p:blipFill>
        <p:spPr>
          <a:xfrm>
            <a:off x="6286680" y="4572000"/>
            <a:ext cx="2571480" cy="20574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6" descr="C:\Documents and Settings\user\Рабочий стол\толерантн\Дети\23102105.jpg"/>
          <p:cNvPicPr/>
          <p:nvPr/>
        </p:nvPicPr>
        <p:blipFill>
          <a:blip r:embed="rId3"/>
          <a:stretch/>
        </p:blipFill>
        <p:spPr>
          <a:xfrm>
            <a:off x="428760" y="207180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7" descr="C:\Documents and Settings\user\Рабочий стол\толерантн\Дети\8.jpeg"/>
          <p:cNvPicPr/>
          <p:nvPr/>
        </p:nvPicPr>
        <p:blipFill>
          <a:blip r:embed="rId4"/>
          <a:stretch/>
        </p:blipFill>
        <p:spPr>
          <a:xfrm>
            <a:off x="6237360" y="2286000"/>
            <a:ext cx="2582640" cy="192888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8" descr="C:\Documents and Settings\user\Рабочий стол\толерантн\Дети\1957410.jpg"/>
          <p:cNvPicPr/>
          <p:nvPr/>
        </p:nvPicPr>
        <p:blipFill>
          <a:blip r:embed="rId5"/>
          <a:stretch/>
        </p:blipFill>
        <p:spPr>
          <a:xfrm>
            <a:off x="428760" y="4500720"/>
            <a:ext cx="2863800" cy="19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6" descr="Картинка 12 из 45183"/>
          <p:cNvPicPr/>
          <p:nvPr/>
        </p:nvPicPr>
        <p:blipFill>
          <a:blip r:embed="rId1"/>
          <a:stretch/>
        </p:blipFill>
        <p:spPr>
          <a:xfrm>
            <a:off x="4716360" y="3500280"/>
            <a:ext cx="4268880" cy="32054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8" descr="Картинка 47 из 45183"/>
          <p:cNvPicPr/>
          <p:nvPr/>
        </p:nvPicPr>
        <p:blipFill>
          <a:blip r:embed="rId2"/>
          <a:stretch/>
        </p:blipFill>
        <p:spPr>
          <a:xfrm>
            <a:off x="4643280" y="189000"/>
            <a:ext cx="4318200" cy="32400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0" descr="Картинка 12 из 22800"/>
          <p:cNvPicPr/>
          <p:nvPr/>
        </p:nvPicPr>
        <p:blipFill>
          <a:blip r:embed="rId3"/>
          <a:stretch/>
        </p:blipFill>
        <p:spPr>
          <a:xfrm>
            <a:off x="108000" y="3357720"/>
            <a:ext cx="4695840" cy="3382920"/>
          </a:xfrm>
          <a:prstGeom prst="rect">
            <a:avLst/>
          </a:prstGeom>
          <a:ln w="0">
            <a:noFill/>
          </a:ln>
        </p:spPr>
      </p:pic>
      <p:sp>
        <p:nvSpPr>
          <p:cNvPr id="594" name="TextBox 5"/>
          <p:cNvSpPr/>
          <p:nvPr/>
        </p:nvSpPr>
        <p:spPr>
          <a:xfrm>
            <a:off x="468360" y="260280"/>
            <a:ext cx="381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Россия – наша общая Родин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Наши дети - наша жизнь! Их жизнь в наших руках. Поможем им не быть вовлеченными в бессмысленные агрессивные действия провокаторов и сохранить свои хрупкие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229600" cy="19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Наша земля – это место, где мы можем любить друг друга, соблюдать традиции и продолжать начатую нами </a:t>
            </a:r>
            <a:r>
              <a:rPr b="1" lang="ru-RU" sz="36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историю,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1187280" y="563400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entury Gothic"/>
              </a:rPr>
              <a:t>основанную на принципах толерантности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97" name="Picture 2" descr="Картинка 51 из 63199"/>
          <p:cNvPicPr/>
          <p:nvPr/>
        </p:nvPicPr>
        <p:blipFill>
          <a:blip r:embed="rId1"/>
          <a:stretch/>
        </p:blipFill>
        <p:spPr>
          <a:xfrm>
            <a:off x="1908000" y="1700280"/>
            <a:ext cx="446436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Прямоугольник 4"/>
          <p:cNvSpPr/>
          <p:nvPr/>
        </p:nvSpPr>
        <p:spPr>
          <a:xfrm>
            <a:off x="826920" y="333360"/>
            <a:ext cx="6913800" cy="167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ы получим больше, чем отдадим, если будем чаще вспоминать про то, что нас соединяет, про то, что человек становится Человеком только благодаря другому человеку.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ы живем, потому что мы раз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2" descr="Картинка 40 из 22800"/>
          <p:cNvPicPr/>
          <p:nvPr/>
        </p:nvPicPr>
        <p:blipFill>
          <a:blip r:embed="rId1"/>
          <a:stretch/>
        </p:blipFill>
        <p:spPr>
          <a:xfrm>
            <a:off x="1476360" y="2205000"/>
            <a:ext cx="650412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есурсы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http://pedsovet.su/load/12-1-0-3714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utube.ru/tracks/1963820.htm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ttp://www.lovestuff.ru/relationship/livingtogether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4" descr="Картинка 16 из 644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6193080"/>
          </a:xfrm>
          <a:prstGeom prst="rect">
            <a:avLst/>
          </a:prstGeom>
          <a:ln w="0">
            <a:noFill/>
          </a:ln>
        </p:spPr>
      </p:pic>
      <p:sp>
        <p:nvSpPr>
          <p:cNvPr id="521" name="Прямоугольник 3"/>
          <p:cNvSpPr/>
          <p:nvPr/>
        </p:nvSpPr>
        <p:spPr>
          <a:xfrm>
            <a:off x="324000" y="1052640"/>
            <a:ext cx="8569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Ксенофобия – это «основная психологическая движущая сила самых кровавых и бессмысленных конфликтов в истории человечества. Она — психологический механизм всех религиозных и межнациональных войн, геноцида, погромов и этнических чисток…Ксенофобия — цепная реакция, быстро становящаяся неуправляемой, кислота, разъедающая общество. Ее легко разжечь, остановить же практически невозможно» А.С.Штембер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3"/>
          <p:cNvSpPr/>
          <p:nvPr/>
        </p:nvSpPr>
        <p:spPr>
          <a:xfrm>
            <a:off x="324000" y="574920"/>
            <a:ext cx="8351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толерантность -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терпимость основывается на убеждении, что твои взгляды, твой образ жизни правильнее других. Нетерпимость – не просто отсутствие чувства солидарности, это неприятие другого за то, что он чувствует. Интолерантные личности делят мир на черный и белый. Для них есть только два вида людей – хорошие и плохие и только один правильный путь в жизни. Они не могут относиться к чему – то нейтрально и все происходящее либо одобряют, либо 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Прямоугольник 3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179280" y="6840"/>
            <a:ext cx="878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228"/>
                </a:solidFill>
                <a:latin typeface="Arial Unicode MS"/>
                <a:ea typeface="Arial Unicode MS"/>
              </a:rPr>
              <a:t>Толерантность – признание, уважение и соблюдение прав и свобод всех людей без различения социальных, классовых, религиозных, этнических и иных особенностей</a:t>
            </a:r>
            <a:r>
              <a:rPr b="1" lang="ru-RU" sz="3600" spc="-1" strike="noStrike">
                <a:solidFill>
                  <a:srgbClr val="4f6228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7" descr="Картинка 53 из 228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3213000"/>
            <a:ext cx="470088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1"/>
          <p:cNvSpPr/>
          <p:nvPr/>
        </p:nvSpPr>
        <p:spPr>
          <a:xfrm>
            <a:off x="468360" y="-136800"/>
            <a:ext cx="806436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сновными составляющими системы толерантности являю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•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езумпция личности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оценка каждого человека по его конкретным чертам и поступкам, а не на основе его национальной, религиозной и других характеристик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•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езумпция прав человека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каждый человек имеет право на любые проявления национальных, религиозных и других характеристик в своем поведении и высказываниях, если они не противоречат нормам права и морали общества и общно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•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риентация на терпимость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 недостаткам, слабостям и ошибкам других людей, если они не противоречат нормам морали и права говоря другим языком, готовность прощать людям все их грехи за исключением особенно тяжки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•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ценность согласия и ненасильственного разрешения конфликтов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•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ценность человеческой жизни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отсутствия физических страдан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•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ценность следования нормам прав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•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ценность сострадания, сопереживания, сочувствия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3" descr="C:\Users\ishimova\Desktop\MP900422987.JP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8" name="Овал 25"/>
          <p:cNvSpPr/>
          <p:nvPr/>
        </p:nvSpPr>
        <p:spPr>
          <a:xfrm>
            <a:off x="2411280" y="2205000"/>
            <a:ext cx="3600720" cy="2087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86"/>
          <p:cNvGrpSpPr/>
          <p:nvPr/>
        </p:nvGrpSpPr>
        <p:grpSpPr>
          <a:xfrm>
            <a:off x="0" y="188280"/>
            <a:ext cx="9322560" cy="6480360"/>
            <a:chOff x="0" y="188280"/>
            <a:chExt cx="9322560" cy="6480360"/>
          </a:xfrm>
        </p:grpSpPr>
        <p:sp>
          <p:nvSpPr>
            <p:cNvPr id="530" name="Text Box 74"/>
            <p:cNvSpPr/>
            <p:nvPr/>
          </p:nvSpPr>
          <p:spPr>
            <a:xfrm>
              <a:off x="2556000" y="2853360"/>
              <a:ext cx="352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33cc"/>
                  </a:solidFill>
                  <a:latin typeface="Times New Roman"/>
                </a:rPr>
                <a:t>Толерантност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75"/>
            <p:cNvSpPr/>
            <p:nvPr/>
          </p:nvSpPr>
          <p:spPr>
            <a:xfrm>
              <a:off x="3904200" y="844560"/>
              <a:ext cx="1309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 Box 77"/>
            <p:cNvSpPr/>
            <p:nvPr/>
          </p:nvSpPr>
          <p:spPr>
            <a:xfrm flipV="1" rot="5400000">
              <a:off x="3216600" y="966240"/>
              <a:ext cx="20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000"/>
                  </a:solidFill>
                  <a:latin typeface="Times New Roman"/>
                </a:rPr>
                <a:t>Прощ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78"/>
            <p:cNvSpPr/>
            <p:nvPr/>
          </p:nvSpPr>
          <p:spPr>
            <a:xfrm rot="5400000">
              <a:off x="3382200" y="5286960"/>
              <a:ext cx="23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0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ffc000"/>
                  </a:solidFill>
                  <a:latin typeface="Times New Roman"/>
                </a:rPr>
                <a:t>Милосерд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79"/>
            <p:cNvSpPr/>
            <p:nvPr/>
          </p:nvSpPr>
          <p:spPr>
            <a:xfrm>
              <a:off x="0" y="3283560"/>
              <a:ext cx="241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000"/>
                  </a:solidFill>
                  <a:latin typeface="Times New Roman"/>
                </a:rPr>
                <a:t>Сострад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80"/>
            <p:cNvSpPr/>
            <p:nvPr/>
          </p:nvSpPr>
          <p:spPr>
            <a:xfrm rot="2105400">
              <a:off x="120240" y="1535400"/>
              <a:ext cx="274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000"/>
                  </a:solidFill>
                  <a:latin typeface="Times New Roman"/>
                </a:rPr>
                <a:t>Терпим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 Box 81"/>
            <p:cNvSpPr/>
            <p:nvPr/>
          </p:nvSpPr>
          <p:spPr>
            <a:xfrm rot="19110600">
              <a:off x="5533200" y="1465200"/>
              <a:ext cx="267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000"/>
                  </a:solidFill>
                  <a:latin typeface="Times New Roman"/>
                </a:rPr>
                <a:t>Сочувств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82"/>
            <p:cNvSpPr/>
            <p:nvPr/>
          </p:nvSpPr>
          <p:spPr>
            <a:xfrm rot="2068800">
              <a:off x="5353920" y="4698360"/>
              <a:ext cx="248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000"/>
                  </a:solidFill>
                  <a:latin typeface="Times New Roman"/>
                </a:rPr>
                <a:t>Уваж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83"/>
            <p:cNvSpPr/>
            <p:nvPr/>
          </p:nvSpPr>
          <p:spPr>
            <a:xfrm rot="19128600">
              <a:off x="286560" y="4845960"/>
              <a:ext cx="262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000"/>
                  </a:solidFill>
                  <a:latin typeface="Times New Roman"/>
                </a:rPr>
                <a:t>Содейств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84"/>
            <p:cNvSpPr/>
            <p:nvPr/>
          </p:nvSpPr>
          <p:spPr>
            <a:xfrm>
              <a:off x="5939280" y="3207240"/>
              <a:ext cx="338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000"/>
                  </a:solidFill>
                  <a:latin typeface="Times New Roman"/>
                </a:rPr>
                <a:t>Взаимопоним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4"/>
          <p:cNvSpPr/>
          <p:nvPr/>
        </p:nvSpPr>
        <p:spPr>
          <a:xfrm>
            <a:off x="395280" y="324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кими же чертами должен обладать толерантный человек, а какие черты личности мешают быть таковым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3" descr="Рисунок3"/>
          <p:cNvPicPr/>
          <p:nvPr/>
        </p:nvPicPr>
        <p:blipFill>
          <a:blip r:embed="rId1"/>
          <a:stretch/>
        </p:blipFill>
        <p:spPr>
          <a:xfrm>
            <a:off x="250920" y="692280"/>
            <a:ext cx="84978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6" descr="Картинка 34 из 528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260280"/>
            <a:ext cx="3589560" cy="2700360"/>
          </a:xfrm>
          <a:prstGeom prst="rect">
            <a:avLst/>
          </a:prstGeom>
          <a:ln w="0">
            <a:noFill/>
          </a:ln>
        </p:spPr>
      </p:pic>
      <p:sp>
        <p:nvSpPr>
          <p:cNvPr id="543" name="TextBox 4"/>
          <p:cNvSpPr/>
          <p:nvPr/>
        </p:nvSpPr>
        <p:spPr>
          <a:xfrm>
            <a:off x="108000" y="2421000"/>
            <a:ext cx="87120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ТЕРЕОТИПЫ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- это неправомочные обобщения, которые мы делаем по поводу тех, о ком мы мало знаем. Человеческий мозг устроен таким образом, что он постоянно классифицирует все, что встречает в реальности. Когда у нас не хватает информации о каком-то предмете, мы относим его к определенной категории и приписываем ему определенные качества. Так мы решаем, что «все русские много пьют», а «все подростки употребляют наркотики».</a:t>
            </a:r>
            <a:br>
              <a:rPr sz="1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5"/>
          <p:cNvSpPr/>
          <p:nvPr/>
        </p:nvSpPr>
        <p:spPr>
          <a:xfrm>
            <a:off x="179280" y="260280"/>
            <a:ext cx="475308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олерантности мешают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тереотипы и предрассудки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17:28:58Z</dcterms:created>
  <dc:creator>ishimova</dc:creator>
  <dc:description/>
  <dc:language>en-US</dc:language>
  <cp:lastModifiedBy>Гость</cp:lastModifiedBy>
  <dcterms:modified xsi:type="dcterms:W3CDTF">2015-11-17T09:04:14Z</dcterms:modified>
  <cp:revision>83</cp:revision>
  <dc:subject/>
  <dc:title>Слайд 1</dc:title>
</cp:coreProperties>
</file>