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862-0E62-473A-A223-FAACC94E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3AB-F5E7-40F9-95F9-3F149A67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B38-5DAA-4A3B-9D84-6D1A01E6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C59-99B4-4EA1-A8F6-90EF6C2B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8C6B-7FD3-444F-9E21-674CC872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8089-4CBB-40E2-9340-79048649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1BB1-A92A-481D-A8ED-F55D3FCD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14FC-E026-45AC-B1FA-A761EE9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0F75-8B35-4E34-9AC9-6D48DC3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DAFC-E7AF-406C-AC68-0E6840FF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7C63-457E-4C35-AEEA-9E59224F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B84-4DE4-4068-A8E7-CE13223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87B2-6FBF-414A-ADB7-B8C965AD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943-0475-41C3-97E9-69C0DDB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4D20-34D6-41D5-A024-87EC0A87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CE08-149D-4BA5-9383-2E7E3CD8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721E-ADE0-4E93-9668-5B320AD1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3B3C-B8AF-4ABF-B781-CE054797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A9DB-7123-475F-AB05-0D2F1284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28B8-CFB3-460D-9DE9-9B583B2E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833B-D734-42E3-93B2-C003CB33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99F6-C331-45D6-8098-9B0AB81F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919-F9B0-40BB-BA0D-00D216B3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1F92-6756-41BA-ABBC-4121CC1F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2BBF-D451-442B-A3B9-490A91F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419C-5304-4119-9D85-300CE23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8E58-6FFC-4B8C-B96A-9685BA9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7848-5E4E-42D4-A380-9710EDA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93A5-E0FF-4DD0-ABFA-83AF809C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7220-89EA-43EC-95D1-A9838E64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3562-6A92-486D-9277-58B34569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734F-B4F5-4B2C-B306-C7467A6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3DE3-5C42-4601-9E0A-B7478C9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687-1E43-46DF-ABB8-F4E3E1A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77D3-9CB5-4764-93CB-8FC251C8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4C87-2B0C-46D4-B028-DA56DB08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F090-50FA-483D-BDBA-462E195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8297-4D1C-4B46-9B1C-BD9D29F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C83C-F693-45DC-9827-AFAC7BC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2055-2566-431A-8D79-14932C0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2DF8-E541-40FD-B4F7-7E121681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F857-19FE-4227-B5D7-6FBDEE2C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4279-92B7-490A-8927-49616FDF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6DE1-26A3-406D-B125-048D82D4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088-95D1-4547-AEEB-0666D437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92812-BA16-44B0-AD57-55DD4390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D6FA-D639-47CE-84C2-DF38DD1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11D7-84A6-4ECC-AC09-E345D9C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C149F-2095-428A-A340-60715B6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04C6-FAFE-4B56-BD1B-436CAB9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0F06-B622-42CC-A102-9FB0126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494EF-E1D5-46AC-816B-6B41E60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596A-30A8-49A5-8D08-019C000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0B58D-1365-4087-BBBA-57393D1A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0219-BCD4-49B7-9911-BAD94890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9C5-489A-415A-8CB5-84FD6446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142B5-4B2E-465A-8E10-7255F7BA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CF9-6473-4223-AB1F-03588966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5C3-D127-4562-AB75-3A65D69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C9E-BE7E-4999-B9A4-58DE1D8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75D-DE8B-4B9F-B55F-1FC8AD210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AEF0-F7B9-4061-89C3-FF9723047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75EB-FAB8-4418-AFC4-2E2CD2CFF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B635-0A05-4DFB-8E90-681133F1A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A84-6B28-48D7-8370-70AE163AE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684360" y="549360"/>
            <a:ext cx="7920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рок литературы в 5 классе по повести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.Королен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В дурном обществ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«Жизнь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емьи Тыбурция среди серых камней. Общение Васи с Валеком и Марус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7" descr="3a8bf-000000000324592655202.jpg"/>
          <p:cNvPicPr/>
          <p:nvPr/>
        </p:nvPicPr>
        <p:blipFill>
          <a:blip r:embed="rId2"/>
          <a:stretch/>
        </p:blipFill>
        <p:spPr>
          <a:xfrm>
            <a:off x="5500800" y="1285920"/>
            <a:ext cx="2857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7"/>
          <p:cNvSpPr/>
          <p:nvPr/>
        </p:nvSpPr>
        <p:spPr>
          <a:xfrm>
            <a:off x="716040" y="4508640"/>
            <a:ext cx="28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вол жестоких, несправедливых законов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8"/>
          <p:cNvSpPr/>
          <p:nvPr/>
        </p:nvSpPr>
        <p:spPr>
          <a:xfrm>
            <a:off x="4735440" y="46148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сов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9"/>
          <p:cNvSpPr/>
          <p:nvPr/>
        </p:nvSpPr>
        <p:spPr>
          <a:xfrm>
            <a:off x="920880" y="54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ый камень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4938120" y="54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ческое серд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11"/>
          <p:cNvSpPr/>
          <p:nvPr/>
        </p:nvSpPr>
        <p:spPr>
          <a:xfrm>
            <a:off x="885240" y="1120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896040" y="14619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Хо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902520" y="1803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Б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905040" y="317196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Ст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897480" y="282888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Уж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908640" y="21463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Безжалост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907200" y="24876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Черств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904680" y="35132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Равнодуш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901080" y="38545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5059080" y="112068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б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5058000" y="15447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Чут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5064840" y="19699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остр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5062320" y="23954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илосерд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5064840" y="32446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ним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5061600" y="282096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ушевное теп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5065560" y="367020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ая соединительная линия 30"/>
          <p:cNvSpPr/>
          <p:nvPr/>
        </p:nvSpPr>
        <p:spPr>
          <a:xfrm>
            <a:off x="539640" y="1009800"/>
            <a:ext cx="799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35"/>
          <p:cNvSpPr/>
          <p:nvPr/>
        </p:nvSpPr>
        <p:spPr>
          <a:xfrm>
            <a:off x="4067280" y="260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милосердия и любви к люд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5000760" y="1428840"/>
            <a:ext cx="392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чем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я и Соня приходили на могилку Марус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тому что для них образ Маруси стал символом любви и человеческого страд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14040" y="428400"/>
            <a:ext cx="7800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го главного глазами не увидишь. Зорко одно лишь серд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нтуан де-Сент Экзюп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285840" y="455040"/>
            <a:ext cx="85723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машнее задание (по выбор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ереписать финал повести («Я хочу, чтобы Маруся была жива…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Написать продолжение повести               ( «Прошло несколько лет…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Мини–сочинение  «Как оставаться человеком в трудных ситуаци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33"/>
                </a:solidFill>
                <a:latin typeface="Calibri"/>
                <a:ea typeface="Times New Roman"/>
              </a:rPr>
              <a:t>4. Ответы на вопросы (стр.48-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55736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внутренние духовные качества, которыми руководствуется человек; правила поведения, определяемые этими качеств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чувств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отзывчивое, участливое отношение к переживаниям, несчастью друг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страдан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жалость, сочувствие, вызываемые чьим-нибудь несчастьем, гор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илосерди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й цвет создаёт образ город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0722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 СЦЕНУ ЯВЛЯЕТСЯ   ПАН  ТЫБУ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H:\короленко\тыбурция драп.jpg"/>
          <p:cNvPicPr/>
          <p:nvPr/>
        </p:nvPicPr>
        <p:blipFill>
          <a:blip r:embed="rId1"/>
          <a:stretch/>
        </p:blipFill>
        <p:spPr>
          <a:xfrm>
            <a:off x="2214720" y="1285920"/>
            <a:ext cx="47862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57760" y="-1793880"/>
            <a:ext cx="32868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85800" y="1071360"/>
            <a:ext cx="4643640" cy="4143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Это было бледное, крошечное создание, напоминавшее цветок, выросший без лучей солнца.  Несмотря на свои четыре года, она ходила еще плохо, неуверенно ступая кривыми ножками и шатаясь, как былинка; руки ее были тонки и прозрачны; головка покачивалась на тонкой шее, как головка полевого колокольчика...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3714840" cy="5429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6" name="Блок-схема: процесс 6"/>
          <p:cNvSpPr/>
          <p:nvPr/>
        </p:nvSpPr>
        <p:spPr>
          <a:xfrm>
            <a:off x="4929120" y="5500800"/>
            <a:ext cx="3286080" cy="857160"/>
          </a:xfrm>
          <a:prstGeom prst="flowChart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ру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400" y="785520"/>
            <a:ext cx="4329000" cy="4143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худой и тонкий, как тростинка. Одет он был в грязную рубашонку, руки держал в карманах узких и коротких штанишек. Темные курчавые волосы лохматились над черными задумчивыми глаза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5214960" y="785880"/>
            <a:ext cx="3530520" cy="52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9" name="Блок-схема: процесс 7" descr=""/>
          <p:cNvPicPr/>
          <p:nvPr/>
        </p:nvPicPr>
        <p:blipFill>
          <a:blip r:embed="rId3"/>
          <a:stretch/>
        </p:blipFill>
        <p:spPr>
          <a:xfrm>
            <a:off x="1158840" y="5089680"/>
            <a:ext cx="2827440" cy="1025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72320" y="-5764320"/>
            <a:ext cx="1141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Мы каждый день выносили Марусю наверх, и здесь она как будто оживал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357280" y="1357200"/>
            <a:ext cx="4219560" cy="5221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Рис. Г.Фитингофа к повести В.Короленко «Дети подземелья»."/>
          <p:cNvPicPr/>
          <p:nvPr/>
        </p:nvPicPr>
        <p:blipFill>
          <a:blip r:embed="rId2"/>
          <a:stretch/>
        </p:blipFill>
        <p:spPr>
          <a:xfrm>
            <a:off x="285840" y="351000"/>
            <a:ext cx="8572320" cy="60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кла сотворила чу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86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1680" y="428760"/>
            <a:ext cx="361476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нились ли отношения Васи и отца после посещения  Тыбурция? Ка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42908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51:07Z</dcterms:created>
  <dc:creator>Валера</dc:creator>
  <dc:description/>
  <dc:language>en-US</dc:language>
  <cp:lastModifiedBy>User</cp:lastModifiedBy>
  <dcterms:modified xsi:type="dcterms:W3CDTF">2017-02-12T09:10:43Z</dcterms:modified>
  <cp:revision>21</cp:revision>
  <dc:subject/>
  <dc:title>Владимир Галактионович Короленко (1853 – 1921)</dc:title>
</cp:coreProperties>
</file>