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995-BF1D-4E94-849F-849205D2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D7A-2BA6-49FA-8F68-E69F94F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0E4-C25B-4309-8CD5-2D8AAB1F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3BF-7A39-40FD-9CAB-9BB17642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49EB-B16D-4AEE-923D-D7AFF1D6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BAFD-EE98-4BB1-A533-6720A58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94D4-9837-4364-B497-95CD2D7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93A-233F-4A6B-9CBA-B3F8ACA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87E-1528-4BD6-92EB-4CB00BE6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A33-15FC-4FE4-A312-08C535D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72B-ACCE-441D-8340-C302D5A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97B-25A4-4C3D-A0E6-F05140FA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761-F9D5-4BB7-9591-8A4849B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E71-12BC-4647-9C6F-D11CA28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AB3-0BD9-4B89-A378-7B0E68E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D112-8A98-4B70-B92D-8E9696FF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B97-A79E-4CFE-85CD-22E2444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CA75-E7D9-46DC-AE39-90F4B561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D84F-28AE-4A3C-B39E-E8161A7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A43A-9690-4ADD-A07F-169FEBC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FFB8-1F87-42C8-9691-DB26202C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6E8B-D1FB-41E5-B4D3-FB2E02D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12F-8999-42A7-82B8-CE06B18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D8A6-A5AB-484B-B48D-DEE283B5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98DC-56E7-4907-9BC6-9F2B7C6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245D-CA3F-44B7-BC68-D5F77FD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FF7B-B38C-407D-8EB8-7AA8659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B801-2138-48D5-A14B-E4B02B3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AAE3-61BC-4B4C-8653-CE1D55E0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E1A3-E42E-4F05-BC09-E7E4131B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40CC-B501-4B9C-B226-5639ED4E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AE27-7DE9-40C2-B925-40414F62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DEC9-7023-463C-A00F-41D461A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5DD-0035-4263-B20D-B33330A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ECA2-6C76-4C1A-B479-E0990E9A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1BC7-0CE5-47C3-92B0-E01252F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CB3A-E9E3-4B65-955D-7067A2E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42EFB-B1D4-433A-B4E3-543B886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CE1A-F314-4714-8BFF-FE80A74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21F5B-8F8A-4839-9F07-2BF4354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593E-F42B-4394-A508-01DDBE5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DD4A-9317-4AE6-A56E-FD004829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EF31-2A17-4D83-88AC-B8E2242B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23F1-ADD0-4EEC-A623-568B8F80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FFC-FD3A-455C-A705-073E17F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6829-F4C4-4884-8CDD-EF039D9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1DBC-7115-4AE4-9C1A-BE6A830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184A-C7B1-4679-9F2B-B65868B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9270-C879-45E8-8EEB-E80FCB6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EF29-DF03-4621-8C47-EAFA2851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B26A-89C8-4C25-BF3E-D035306C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8B47-47DC-4AE1-B445-0D23E0B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B5DE-DEE2-414A-9459-71171C5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C17F-7175-4F4F-B6AE-1DBD8DE7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32CB-D8EE-47F3-A828-862E504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DAB-5AAC-4A7D-89EF-CADCA97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109D-BF30-478C-81D4-DA615DB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874-E1F4-44D1-8816-A482FE8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B97-B3C6-4706-BECD-EC77863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A87-9FF5-4941-9222-B2EFDF3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B1B-77EA-469D-9940-FD3C1890C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51BC-55BB-4B99-86F0-4E6FB5736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2041-9A29-47F9-9589-C1BAA8038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78AA-5AE5-4F37-BEF2-4180E5C5E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E09D-DB1B-4526-89E2-B4A8EC9FB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684360" y="549360"/>
            <a:ext cx="7920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рок литературы в 5 классе по повести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.Королен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В дурном обществ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Жизнь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мьи Тыбурция среди серых камней. Общение Васи с Валеком и Марус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7" descr="3a8bf-000000000324592655202.jpg"/>
          <p:cNvPicPr/>
          <p:nvPr/>
        </p:nvPicPr>
        <p:blipFill>
          <a:blip r:embed="rId2"/>
          <a:stretch/>
        </p:blipFill>
        <p:spPr>
          <a:xfrm>
            <a:off x="5500800" y="1285920"/>
            <a:ext cx="2857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7"/>
          <p:cNvSpPr/>
          <p:nvPr/>
        </p:nvSpPr>
        <p:spPr>
          <a:xfrm>
            <a:off x="716040" y="4508640"/>
            <a:ext cx="28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вол жестоких, несправедливых законов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4735440" y="46148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со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920880" y="54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ый камень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4938120" y="54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ческое серд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885240" y="1120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96040" y="14619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Х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902520" y="1803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Б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905040" y="31719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Ст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897480" y="28288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Уж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908640" y="2146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Безжалост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907200" y="24876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Черств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904680" y="35132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Равноду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901080" y="38545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5059080" y="11206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б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5058000" y="15447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Чут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5064840" y="19699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остр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5062320" y="23954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ило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064840" y="32446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ним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5061600" y="282096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ушевное теп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5065560" y="36702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ая соединительная линия 30"/>
          <p:cNvSpPr/>
          <p:nvPr/>
        </p:nvSpPr>
        <p:spPr>
          <a:xfrm>
            <a:off x="539640" y="100980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35"/>
          <p:cNvSpPr/>
          <p:nvPr/>
        </p:nvSpPr>
        <p:spPr>
          <a:xfrm>
            <a:off x="4067280" y="260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милосердия и любви к люд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5000760" y="1428840"/>
            <a:ext cx="392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чем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и Соня приходили на могилку Марус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тому что для них образ Маруси стал символом любви и человеческого страд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14040" y="428400"/>
            <a:ext cx="780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го главного глазами не увидишь. Зорко одно лишь серд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туан де-Сент Экзюп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285840" y="455040"/>
            <a:ext cx="85723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шнее задание (по выбор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ереписать финал повести («Я хочу, чтобы Маруся была жива…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Написать продолжение повести               ( «Прошло несколько лет…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Мини–сочинение  «Как оставаться человеком в трудных ситуаци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4. Ответы на вопросы (стр.48-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55736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внутренние духовные качества, которыми руководствуется человек; правила поведения, определяемые этими качеств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чувств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отзывчивое, участливое отношение к переживаниям, несчастью друг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жалость, сочувствие, вызываемые чьим-нибудь несчастьем, гор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лосерд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й цвет создаёт образ город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0722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 СЦЕНУ ЯВЛЯЕТСЯ   ПАН  ТЫБУ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H:\короленко\тыбурция драп.jpg"/>
          <p:cNvPicPr/>
          <p:nvPr/>
        </p:nvPicPr>
        <p:blipFill>
          <a:blip r:embed="rId1"/>
          <a:stretch/>
        </p:blipFill>
        <p:spPr>
          <a:xfrm>
            <a:off x="2214720" y="1285920"/>
            <a:ext cx="47862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57760" y="-1793880"/>
            <a:ext cx="32868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5800" y="1071360"/>
            <a:ext cx="4643640" cy="4143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Это было бледное, крошечное создание, напоминавшее цветок, выросший без лучей солнца.  Несмотря на свои четыре года, она ходила еще плохо, неуверенно ступая кривыми ножками и шатаясь, как былинка; руки ее были тонки и прозрачны; головка покачивалась на тонкой шее, как головка полевого колокольчика...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371484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6" name="Блок-схема: процесс 6"/>
          <p:cNvSpPr/>
          <p:nvPr/>
        </p:nvSpPr>
        <p:spPr>
          <a:xfrm>
            <a:off x="4929120" y="5500800"/>
            <a:ext cx="3286080" cy="857160"/>
          </a:xfrm>
          <a:prstGeom prst="flowChart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ру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400" y="785520"/>
            <a:ext cx="4329000" cy="4143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худой и тонкий, как тростинка. Одет он был в грязную рубашонку, руки держал в карманах узких и коротких штанишек. Темные курчавые волосы лохматились над черными задумчивыми глаза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5214960" y="785880"/>
            <a:ext cx="353052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9" name="Блок-схема: процесс 7" descr=""/>
          <p:cNvPicPr/>
          <p:nvPr/>
        </p:nvPicPr>
        <p:blipFill>
          <a:blip r:embed="rId3"/>
          <a:stretch/>
        </p:blipFill>
        <p:spPr>
          <a:xfrm>
            <a:off x="1158840" y="5089680"/>
            <a:ext cx="2827440" cy="1025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2320" y="-5764320"/>
            <a:ext cx="114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Мы каждый день выносили Марусю наверх, и здесь она как будто оживал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357280" y="1357200"/>
            <a:ext cx="4219560" cy="522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Рис. Г.Фитингофа к повести В.Короленко «Дети подземелья»."/>
          <p:cNvPicPr/>
          <p:nvPr/>
        </p:nvPicPr>
        <p:blipFill>
          <a:blip r:embed="rId2"/>
          <a:stretch/>
        </p:blipFill>
        <p:spPr>
          <a:xfrm>
            <a:off x="285840" y="351000"/>
            <a:ext cx="857232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кла сотворила чу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86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1680" y="428760"/>
            <a:ext cx="36147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ились ли отношения Васи и отца после посещения  Тыбурция? Ка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42908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51:07Z</dcterms:created>
  <dc:creator>Валера</dc:creator>
  <dc:description/>
  <dc:language>en-US</dc:language>
  <cp:lastModifiedBy>User</cp:lastModifiedBy>
  <dcterms:modified xsi:type="dcterms:W3CDTF">2017-02-12T09:10:43Z</dcterms:modified>
  <cp:revision>21</cp:revision>
  <dc:subject/>
  <dc:title>Владимир Галактионович Короленко (1853 – 1921)</dc:title>
</cp:coreProperties>
</file>