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5E130-383B-4304-8811-A8FEB9440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3CF6D-345C-47BD-975A-21E993E97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618A5-4A8A-4D04-B92B-F412D86D0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53916-74E8-4D7A-B49F-E2D09DB4F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6F0B5-7BA9-4A59-BE0E-DD3FD0F44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D7A5E-6DBD-4870-B54E-D87EC55A3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47FDD-E576-47E3-BAA2-EA8A941FC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F57AB-3D49-4567-8AEA-8CF348BCA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E13AF-61DA-4A03-B2D0-C8427F287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ABA37-E6A2-4834-AE7F-9857DDC2A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2F69B-7C23-4A84-B7B3-2222DCF8B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AB10D-20E4-4EEB-9B34-1EC6DC472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37E76-F4E1-4920-B0F6-0E1381DCD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F2B7E-7A4D-47EE-AEB8-D54986CE1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84F2E-0502-4986-896C-6868DA978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56C2A-F410-47DD-A8CE-0B26ECB3D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13A99-837E-43C8-812F-651299DD5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5FCC101-6BDE-4C02-82D3-A899AC132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6AC257-320A-4CDA-B6DC-9B5DB538B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CF47040-2D5C-4793-B055-06D730B65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A4E59EC-9497-46B0-8881-4A66A4F5B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A72221-C950-4B79-930E-4F14631CA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328B4-5100-4B19-A13C-5289EEB3D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B7F9B9E-1500-4ECA-8D83-EC01C82BC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9A615B9-6362-4BF9-A21A-60A719413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766CD61-8FD9-45F2-B962-BB02CEDEE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6D1226-269C-4C7F-B41D-B5CD5A156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269078D-0C47-439C-BBAF-62CCB7014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5A0F32C-8B2C-4764-998F-49B22222D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695528A-E713-470D-9850-53B2BB2CD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693715-967F-4EFC-9D40-B0272FA41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29D569-0087-466F-81A4-70F3E2578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D440B7-4918-4346-AB85-C71CF21F8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6F8C4-7185-4118-9B2C-91A559E08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14836A-299E-42C1-B0AC-978C028D6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EAC116-AD07-4EE4-9644-BCD5BE41D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DF20A7-DF32-42C9-B1AA-240CD1500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C8F7CE-426B-4E5C-ACFB-3E3885032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4A8EA4-1E6D-4BAC-B928-7B1394FA1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B37EC3-7ED0-45C2-9C7E-9499346ED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3AED40-F7FE-4CEF-8505-80B90695F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601239-4D16-4D40-9FF4-E6C623284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D37B92-A329-4862-A72B-F83D94ED3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884F9-828F-4F30-A0BD-E21942D46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B8A62-2B77-4709-9882-F8DEB57A8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965B4-CD23-4889-9EB9-788821C1A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70408-D792-4382-9C3D-B0740C85C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60ADE-64B5-4969-9E20-154B21F6A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7D439-DE6B-4DB9-94C9-343CF588EEA9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Скругленный прямоугольник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Скругленный прямоугольник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19037-1F4E-4A6D-9C83-4460270E6E07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28EE7-B6EB-4CC1-9FB6-C40F58E9F853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041E5-AB36-4AE1-9AC8-68CFCEB75F5D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4015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rebuchet MS"/>
              </a:rPr>
              <a:t>Электрический ток в металлах</a:t>
            </a: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457200" y="3900600"/>
            <a:ext cx="4952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24456"/>
                </a:solidFill>
                <a:latin typeface="Georgia"/>
              </a:rPr>
              <a:t>11 класс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24456"/>
                </a:solidFill>
                <a:latin typeface="Georgia"/>
              </a:rPr>
              <a:t>Учитель Кечкина Н.И.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24456"/>
                </a:solidFill>
                <a:latin typeface="Georgia"/>
              </a:rPr>
              <a:t>МБОУ «Средняя школа № 12»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24456"/>
                </a:solidFill>
                <a:latin typeface="Georgia"/>
              </a:rPr>
              <a:t>г. Дзержинск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57120" y="50472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Закон Ома с точи зрения электронной теории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99680" y="1571760"/>
            <a:ext cx="3971880" cy="189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Электрический ток в металлах обусловлен движением свободных электронов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18" name="Picture 2" descr="https://fs00.infourok.ru/images/doc/2/1716/hello_html_117b46ca.png"/>
          <p:cNvPicPr/>
          <p:nvPr/>
        </p:nvPicPr>
        <p:blipFill>
          <a:blip r:embed="rId1"/>
          <a:stretch/>
        </p:blipFill>
        <p:spPr>
          <a:xfrm>
            <a:off x="5000760" y="2143080"/>
            <a:ext cx="3929040" cy="1643040"/>
          </a:xfrm>
          <a:prstGeom prst="rect">
            <a:avLst/>
          </a:prstGeom>
          <a:ln w="0">
            <a:noFill/>
          </a:ln>
        </p:spPr>
      </p:pic>
      <p:sp>
        <p:nvSpPr>
          <p:cNvPr id="219" name="Выгнутая влево стрелка 5"/>
          <p:cNvSpPr/>
          <p:nvPr/>
        </p:nvSpPr>
        <p:spPr>
          <a:xfrm rot="924600">
            <a:off x="5070240" y="1536840"/>
            <a:ext cx="428400" cy="1143000"/>
          </a:xfrm>
          <a:custGeom>
            <a:avLst/>
            <a:gdLst>
              <a:gd name="textAreaLeft" fmla="*/ 57240 w 428400"/>
              <a:gd name="textAreaRight" fmla="*/ 371160 w 428400"/>
              <a:gd name="textAreaTop" fmla="*/ 245520 h 1143000"/>
              <a:gd name="textAreaBottom" fmla="*/ 84384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281" stAng="-5400000" swAng="-5400000"/>
                <a:lnTo>
                  <a:pt x="0" y="11307"/>
                </a:lnTo>
                <a:arcTo wR="21600" hR="9281" stAng="10800000" swAng="-3539862"/>
                <a:lnTo>
                  <a:pt x="16200" y="21305"/>
                </a:lnTo>
                <a:lnTo>
                  <a:pt x="21600" y="19575"/>
                </a:lnTo>
                <a:lnTo>
                  <a:pt x="16200" y="17255"/>
                </a:lnTo>
                <a:lnTo>
                  <a:pt x="16200" y="18267"/>
                </a:lnTo>
                <a:arcTo wR="21600" hR="9281" stAng="7260138" swAng="3377789"/>
                <a:lnTo>
                  <a:pt x="129" y="10294"/>
                </a:lnTo>
                <a:arcTo wR="21600" hR="9281" stAng="-10637927" swAng="5237927"/>
                <a:close/>
              </a:path>
              <a:path fill="darkenLess" w="21600" h="21600">
                <a:moveTo>
                  <a:pt x="21600" y="0"/>
                </a:moveTo>
                <a:arcTo wR="21600" hR="9281" stAng="-5400000" swAng="-5400000"/>
                <a:lnTo>
                  <a:pt x="0" y="9281"/>
                </a:lnTo>
                <a:arcTo wR="21600" hR="9281" stAng="10800000" swAng="-162073"/>
                <a:lnTo>
                  <a:pt x="129" y="10294"/>
                </a:lnTo>
                <a:arcTo wR="21600" hR="9281" stAng="-10637927" swAng="5237927"/>
                <a:close/>
              </a:path>
            </a:pathLst>
          </a:custGeom>
          <a:solidFill>
            <a:srgbClr val="53548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6"/>
          <p:cNvSpPr/>
          <p:nvPr/>
        </p:nvSpPr>
        <p:spPr>
          <a:xfrm>
            <a:off x="5572080" y="785880"/>
            <a:ext cx="3429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Опыт Э. Рикк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Результат: проникнов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меди в алюмини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не обнаружен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3" descr=""/>
          <p:cNvPicPr/>
          <p:nvPr/>
        </p:nvPicPr>
        <p:blipFill>
          <a:blip r:embed="rId2"/>
          <a:stretch/>
        </p:blipFill>
        <p:spPr>
          <a:xfrm>
            <a:off x="285840" y="3643200"/>
            <a:ext cx="2390760" cy="2357640"/>
          </a:xfrm>
          <a:prstGeom prst="rect">
            <a:avLst/>
          </a:prstGeom>
          <a:ln w="0">
            <a:noFill/>
          </a:ln>
        </p:spPr>
      </p:pic>
      <p:sp>
        <p:nvSpPr>
          <p:cNvPr id="222" name="TextBox 8"/>
          <p:cNvSpPr/>
          <p:nvPr/>
        </p:nvSpPr>
        <p:spPr>
          <a:xfrm>
            <a:off x="2643120" y="3825720"/>
            <a:ext cx="65008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Опы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Л.И. Мандельштам и Н.Д. Папалекси 1912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Р. Толмен и Т. Стюарт 1916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Ц- цилиндр; Щ – щетки (контакты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ОО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’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– изолированные полуос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Результат: при остановке стрелка гальванометра отклонялась, фиксируя ток. По направлению тока определили – по инерции движутся отрицательные частицы. По величине заряда – электро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139680" y="4292640"/>
            <a:ext cx="443232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Длина свободного пробега </a:t>
            </a:r>
            <a:r>
              <a:rPr b="1" lang="el-GR" sz="2000" spc="-1" strike="noStrike">
                <a:solidFill>
                  <a:srgbClr val="000000"/>
                </a:solidFill>
                <a:latin typeface="Georgia"/>
              </a:rPr>
              <a:t>λ</a:t>
            </a: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– среднее расстояние между двумя последовательными столкновениями электронов с дефектами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TextBox 8"/>
          <p:cNvSpPr/>
          <p:nvPr/>
        </p:nvSpPr>
        <p:spPr>
          <a:xfrm>
            <a:off x="108000" y="476280"/>
            <a:ext cx="4248000" cy="31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Электрическое сопротивл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нарушение периодичности кристаллической решет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Причин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тепловое движение атом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наличие примес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Рассеивание электрон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Стрелка вниз 1"/>
          <p:cNvSpPr/>
          <p:nvPr/>
        </p:nvSpPr>
        <p:spPr>
          <a:xfrm>
            <a:off x="2050920" y="836640"/>
            <a:ext cx="289080" cy="360360"/>
          </a:xfrm>
          <a:prstGeom prst="downArrow">
            <a:avLst>
              <a:gd name="adj1" fmla="val 50000"/>
              <a:gd name="adj2" fmla="val 49972"/>
            </a:avLst>
          </a:prstGeom>
          <a:solidFill>
            <a:srgbClr val="53548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Стрелка вниз 5"/>
          <p:cNvSpPr/>
          <p:nvPr/>
        </p:nvSpPr>
        <p:spPr>
          <a:xfrm>
            <a:off x="2050920" y="1773360"/>
            <a:ext cx="289080" cy="360360"/>
          </a:xfrm>
          <a:prstGeom prst="downArrow">
            <a:avLst>
              <a:gd name="adj1" fmla="val 50000"/>
              <a:gd name="adj2" fmla="val 49972"/>
            </a:avLst>
          </a:prstGeom>
          <a:solidFill>
            <a:srgbClr val="53548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Стрелка вниз 6"/>
          <p:cNvSpPr/>
          <p:nvPr/>
        </p:nvSpPr>
        <p:spPr>
          <a:xfrm>
            <a:off x="2050920" y="2997360"/>
            <a:ext cx="289080" cy="360360"/>
          </a:xfrm>
          <a:prstGeom prst="downArrow">
            <a:avLst>
              <a:gd name="adj1" fmla="val 50000"/>
              <a:gd name="adj2" fmla="val 49972"/>
            </a:avLst>
          </a:prstGeom>
          <a:solidFill>
            <a:srgbClr val="53548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Стрелка вниз 7"/>
          <p:cNvSpPr/>
          <p:nvPr/>
        </p:nvSpPr>
        <p:spPr>
          <a:xfrm>
            <a:off x="2036880" y="3645000"/>
            <a:ext cx="287280" cy="660240"/>
          </a:xfrm>
          <a:prstGeom prst="downArrow">
            <a:avLst>
              <a:gd name="adj1" fmla="val 50000"/>
              <a:gd name="adj2" fmla="val 49997"/>
            </a:avLst>
          </a:prstGeom>
          <a:solidFill>
            <a:srgbClr val="53548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Box 2"/>
          <p:cNvSpPr/>
          <p:nvPr/>
        </p:nvSpPr>
        <p:spPr>
          <a:xfrm>
            <a:off x="2252520" y="3780000"/>
            <a:ext cx="161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Мера рассеи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Box 8"/>
          <p:cNvSpPr/>
          <p:nvPr/>
        </p:nvSpPr>
        <p:spPr>
          <a:xfrm>
            <a:off x="4788000" y="549360"/>
            <a:ext cx="4248000" cy="35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Классическая электронная теория Лоренца (электрическая проводимость металлов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В проводнике имеются свободные электроны, которые движутся непрерывно и хаотично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Каждый атом теряет 1 электрон, превращаясь в ион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Georgia"/>
              </a:rPr>
              <a:t>λ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 равна расстоянию между ионами в кристаллической решетке проводник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2" name="Объект 8"/>
              <p:cNvSpPr txBox="1"/>
              <p:nvPr/>
            </p:nvSpPr>
            <p:spPr>
              <a:xfrm>
                <a:off x="5791320" y="3281400"/>
                <a:ext cx="2189160" cy="113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nλ</m:t>
                        </m:r>
                      </m:num>
                      <m:den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mu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E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3" name="TextBox 8"/>
          <p:cNvSpPr/>
          <p:nvPr/>
        </p:nvSpPr>
        <p:spPr>
          <a:xfrm>
            <a:off x="5219640" y="4365720"/>
            <a:ext cx="3924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eorgia"/>
              </a:rPr>
              <a:t>e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 – 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заряд электрона, К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eorgia"/>
              </a:rPr>
              <a:t>n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– количество электронов, прошедших через поперечное сечение проводника в ед. време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eorgia"/>
              </a:rPr>
              <a:t>m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– масса электрона, к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eorgia"/>
              </a:rPr>
              <a:t>u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 - 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средняя квадратичная скорость беспорядочного движения электронов, м/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Овал 12"/>
          <p:cNvSpPr/>
          <p:nvPr/>
        </p:nvSpPr>
        <p:spPr>
          <a:xfrm>
            <a:off x="6357960" y="3286080"/>
            <a:ext cx="1143000" cy="1143000"/>
          </a:xfrm>
          <a:prstGeom prst="ellipse">
            <a:avLst/>
          </a:prstGeom>
          <a:noFill/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Стрелка вправо с вырезом 13"/>
          <p:cNvSpPr/>
          <p:nvPr/>
        </p:nvSpPr>
        <p:spPr>
          <a:xfrm rot="8923200">
            <a:off x="7462800" y="3269880"/>
            <a:ext cx="571680" cy="285840"/>
          </a:xfrm>
          <a:custGeom>
            <a:avLst/>
            <a:gdLst>
              <a:gd name="textAreaLeft" fmla="*/ 71280 w 571680"/>
              <a:gd name="textAreaRight" fmla="*/ 500400 w 571680"/>
              <a:gd name="textAreaTop" fmla="*/ 71280 h 285840"/>
              <a:gd name="textAreaBottom" fmla="*/ 214560 h 2858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53548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Box 14"/>
          <p:cNvSpPr/>
          <p:nvPr/>
        </p:nvSpPr>
        <p:spPr>
          <a:xfrm>
            <a:off x="7990920" y="2857680"/>
            <a:ext cx="44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0000"/>
                </a:solidFill>
                <a:latin typeface="Georgia"/>
              </a:rPr>
              <a:t>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4" descr=""/>
          <p:cNvPicPr/>
          <p:nvPr/>
        </p:nvPicPr>
        <p:blipFill>
          <a:blip r:embed="rId1"/>
          <a:stretch/>
        </p:blipFill>
        <p:spPr>
          <a:xfrm>
            <a:off x="7175520" y="3857760"/>
            <a:ext cx="1754280" cy="1143000"/>
          </a:xfrm>
          <a:prstGeom prst="rect">
            <a:avLst/>
          </a:prstGeom>
          <a:ln w="0">
            <a:noFill/>
          </a:ln>
        </p:spPr>
      </p:pic>
      <p:sp>
        <p:nvSpPr>
          <p:cNvPr id="238" name="Овал 17"/>
          <p:cNvSpPr/>
          <p:nvPr/>
        </p:nvSpPr>
        <p:spPr>
          <a:xfrm>
            <a:off x="8389800" y="4500720"/>
            <a:ext cx="285840" cy="571320"/>
          </a:xfrm>
          <a:prstGeom prst="ellipse">
            <a:avLst/>
          </a:prstGeom>
          <a:noFill/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57120" y="50472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Закон Джоуля-Ленца с точи зрения электронной теории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Объект 8"/>
              <p:cNvSpPr txBox="1"/>
              <p:nvPr/>
            </p:nvSpPr>
            <p:spPr>
              <a:xfrm>
                <a:off x="306360" y="1785960"/>
                <a:ext cx="2577960" cy="113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nλ</m:t>
                        </m:r>
                      </m:num>
                      <m:den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mu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41" name="Овал 5"/>
          <p:cNvSpPr/>
          <p:nvPr/>
        </p:nvSpPr>
        <p:spPr>
          <a:xfrm>
            <a:off x="1071720" y="1785960"/>
            <a:ext cx="1285560" cy="1214280"/>
          </a:xfrm>
          <a:prstGeom prst="ellipse">
            <a:avLst/>
          </a:prstGeom>
          <a:noFill/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Стрелка вправо с вырезом 6"/>
          <p:cNvSpPr/>
          <p:nvPr/>
        </p:nvSpPr>
        <p:spPr>
          <a:xfrm rot="18157200">
            <a:off x="1131840" y="3031560"/>
            <a:ext cx="571320" cy="285840"/>
          </a:xfrm>
          <a:custGeom>
            <a:avLst/>
            <a:gdLst>
              <a:gd name="textAreaLeft" fmla="*/ 71280 w 571320"/>
              <a:gd name="textAreaRight" fmla="*/ 500040 w 571320"/>
              <a:gd name="textAreaTop" fmla="*/ 71280 h 285840"/>
              <a:gd name="textAreaBottom" fmla="*/ 214560 h 2858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53548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714240" y="2928960"/>
            <a:ext cx="42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0000"/>
                </a:solidFill>
                <a:latin typeface="Georgia"/>
              </a:rPr>
              <a:t>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Box 8"/>
          <p:cNvSpPr/>
          <p:nvPr/>
        </p:nvSpPr>
        <p:spPr>
          <a:xfrm>
            <a:off x="3071880" y="1928880"/>
            <a:ext cx="5072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Закон джоуля-Ленца в дифференциальной форм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Box 8"/>
          <p:cNvSpPr/>
          <p:nvPr/>
        </p:nvSpPr>
        <p:spPr>
          <a:xfrm>
            <a:off x="285840" y="3643200"/>
            <a:ext cx="34290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Классическая электронная теория Лоренца объясняет законы Ома и Джоуля-Ленца, которые подтверждаются экспериментальн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Box 8"/>
          <p:cNvSpPr/>
          <p:nvPr/>
        </p:nvSpPr>
        <p:spPr>
          <a:xfrm>
            <a:off x="5500800" y="3000240"/>
            <a:ext cx="3429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Ряд выводов не подтверждается экспериментальн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7" name="Прямая со стрелкой 12"/>
          <p:cNvCxnSpPr/>
          <p:nvPr/>
        </p:nvCxnSpPr>
        <p:spPr>
          <a:xfrm>
            <a:off x="3857760" y="4714920"/>
            <a:ext cx="1429200" cy="2160"/>
          </a:xfrm>
          <a:prstGeom prst="straightConnector1">
            <a:avLst/>
          </a:prstGeom>
          <a:ln w="38160">
            <a:solidFill>
              <a:srgbClr val="53548a"/>
            </a:solidFill>
            <a:miter/>
            <a:tailEnd len="med" type="arrow" w="med"/>
          </a:ln>
        </p:spPr>
      </p:cxnSp>
      <p:sp>
        <p:nvSpPr>
          <p:cNvPr id="248" name="TextBox 13"/>
          <p:cNvSpPr/>
          <p:nvPr/>
        </p:nvSpPr>
        <p:spPr>
          <a:xfrm>
            <a:off x="4370760" y="4295880"/>
            <a:ext cx="42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Georgia"/>
              </a:rPr>
              <a:t>Н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3" descr=""/>
          <p:cNvPicPr/>
          <p:nvPr/>
        </p:nvPicPr>
        <p:blipFill>
          <a:blip r:embed="rId2"/>
          <a:stretch/>
        </p:blipFill>
        <p:spPr>
          <a:xfrm>
            <a:off x="5357880" y="4071960"/>
            <a:ext cx="1843200" cy="857160"/>
          </a:xfrm>
          <a:prstGeom prst="rect">
            <a:avLst/>
          </a:prstGeom>
          <a:ln w="0">
            <a:noFill/>
          </a:ln>
        </p:spPr>
      </p:pic>
      <p:sp>
        <p:nvSpPr>
          <p:cNvPr id="250" name="Овал 16"/>
          <p:cNvSpPr/>
          <p:nvPr/>
        </p:nvSpPr>
        <p:spPr>
          <a:xfrm>
            <a:off x="6786720" y="4214880"/>
            <a:ext cx="285480" cy="571320"/>
          </a:xfrm>
          <a:prstGeom prst="ellipse">
            <a:avLst/>
          </a:prstGeom>
          <a:noFill/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Правая фигурная скобка 18"/>
          <p:cNvSpPr/>
          <p:nvPr/>
        </p:nvSpPr>
        <p:spPr>
          <a:xfrm rot="5400000">
            <a:off x="7030440" y="4113000"/>
            <a:ext cx="357120" cy="1989000"/>
          </a:xfrm>
          <a:custGeom>
            <a:avLst/>
            <a:gdLst>
              <a:gd name="textAreaLeft" fmla="*/ 0 w 357120"/>
              <a:gd name="textAreaRight" fmla="*/ 128880 w 357120"/>
              <a:gd name="textAreaTop" fmla="*/ 9000 h 1989000"/>
              <a:gd name="textAreaBottom" fmla="*/ 1980000 h 1989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62"/>
                  <a:pt x="10800" y="323"/>
                </a:cubicBezTo>
                <a:lnTo>
                  <a:pt x="10800" y="10477"/>
                </a:lnTo>
                <a:cubicBezTo>
                  <a:pt x="10800" y="10639"/>
                  <a:pt x="16200" y="10800"/>
                  <a:pt x="21600" y="10800"/>
                </a:cubicBezTo>
                <a:cubicBezTo>
                  <a:pt x="16200" y="10800"/>
                  <a:pt x="10800" y="10962"/>
                  <a:pt x="10800" y="11123"/>
                </a:cubicBezTo>
                <a:lnTo>
                  <a:pt x="10800" y="21277"/>
                </a:lnTo>
                <a:cubicBezTo>
                  <a:pt x="10800" y="21439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5354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Box 8"/>
          <p:cNvSpPr/>
          <p:nvPr/>
        </p:nvSpPr>
        <p:spPr>
          <a:xfrm>
            <a:off x="4929120" y="5357880"/>
            <a:ext cx="4000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Удельное сопротивление (величина обратная проводимости), пропорциональна корню квадратному из абсолютной температур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Прямая соединительная линия 21"/>
          <p:cNvSpPr/>
          <p:nvPr/>
        </p:nvSpPr>
        <p:spPr>
          <a:xfrm>
            <a:off x="5000760" y="5286240"/>
            <a:ext cx="3857400" cy="1428840"/>
          </a:xfrm>
          <a:prstGeom prst="line">
            <a:avLst/>
          </a:prstGeom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Прямая соединительная линия 23"/>
          <p:cNvSpPr/>
          <p:nvPr/>
        </p:nvSpPr>
        <p:spPr>
          <a:xfrm flipV="1">
            <a:off x="5000760" y="5357880"/>
            <a:ext cx="3571920" cy="1357200"/>
          </a:xfrm>
          <a:prstGeom prst="line">
            <a:avLst/>
          </a:prstGeom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Стрелка вправо с вырезом 24"/>
          <p:cNvSpPr/>
          <p:nvPr/>
        </p:nvSpPr>
        <p:spPr>
          <a:xfrm rot="10800000">
            <a:off x="3928680" y="5928840"/>
            <a:ext cx="1071720" cy="500040"/>
          </a:xfrm>
          <a:custGeom>
            <a:avLst/>
            <a:gdLst>
              <a:gd name="textAreaLeft" fmla="*/ 124920 w 1071720"/>
              <a:gd name="textAreaRight" fmla="*/ 946800 w 1071720"/>
              <a:gd name="textAreaTop" fmla="*/ 124920 h 500040"/>
              <a:gd name="textAreaBottom" fmla="*/ 375120 h 5000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560" y="5400"/>
                </a:lnTo>
                <a:lnTo>
                  <a:pt x="16560" y="0"/>
                </a:lnTo>
                <a:lnTo>
                  <a:pt x="21600" y="10800"/>
                </a:lnTo>
                <a:lnTo>
                  <a:pt x="16560" y="21600"/>
                </a:lnTo>
                <a:lnTo>
                  <a:pt x="16560" y="16200"/>
                </a:lnTo>
                <a:lnTo>
                  <a:pt x="0" y="16200"/>
                </a:lnTo>
                <a:lnTo>
                  <a:pt x="252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53548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Box 8"/>
          <p:cNvSpPr/>
          <p:nvPr/>
        </p:nvSpPr>
        <p:spPr>
          <a:xfrm>
            <a:off x="500040" y="5715000"/>
            <a:ext cx="3429000" cy="1313640"/>
          </a:xfrm>
          <a:prstGeom prst="rect">
            <a:avLst/>
          </a:prstGeom>
          <a:noFill/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Классическая электронная теория Лоренца имеет границы применим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Box 29"/>
          <p:cNvSpPr/>
          <p:nvPr/>
        </p:nvSpPr>
        <p:spPr>
          <a:xfrm>
            <a:off x="3929040" y="528336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Опы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ρ~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1-21T03:26:23Z</dcterms:created>
  <dc:creator>Наталия</dc:creator>
  <dc:description/>
  <dc:language>en-US</dc:language>
  <cp:lastModifiedBy>Наталия</cp:lastModifiedBy>
  <dcterms:modified xsi:type="dcterms:W3CDTF">2016-11-21T19:27:15Z</dcterms:modified>
  <cp:revision>24</cp:revision>
  <dc:subject/>
  <dc:title>Электрический ток в металлах</dc:title>
</cp:coreProperties>
</file>