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D329-861A-4C5B-8AD7-7DDF0C81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CEDA-E453-4D9C-A4E9-344FC673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C952-0934-4987-B824-ED171794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2E5-B4E5-4333-9A2D-982BC3A8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E01E-84BE-403F-A9A9-6F9BE3E8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575F-6DF5-4DEE-B142-C569EF29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0AC0-1F3B-4F27-8813-09807186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BE5F-D901-4BC6-8EAD-7F1AE58D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3BB8-9F76-4478-8A20-B8804F2E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D00B-F647-47FA-833D-475A8643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5DC5-9482-4D49-91B2-9425F37B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FD76-2E03-484A-80DC-FDE1B876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FB8E-38EB-40FF-A8A1-D99906E2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93AB-0374-4413-A70E-9AA7D07F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DC74-7831-443B-B4F0-15ACF3D3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3600-6F93-493A-BC20-3784EC71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BF79-3268-4CA2-81B3-D44A06A8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37676-FE7B-4F3F-BC4C-AE00EB59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A08A4-E6D9-4055-9A54-09709E8F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A438A-253F-40AA-A81C-19D16E63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D61D1-1E1D-46B8-9A2E-59079422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ECEA2-93F7-44C3-8341-59C45C22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29F-B737-4D3F-B47F-AC6344C1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2B72F-EB4C-4D57-A77A-3F8DC092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C7211-59A2-4783-BA60-C0313095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D1B5F-A97E-4DCF-8669-F4DA383F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95974-8E85-4235-9CD3-493B32AC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BF65A-0A6B-4545-90EE-FAABC76B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42D63-5BD0-414B-9232-BA5C30AE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B3331-1952-4728-9315-F7B2F189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2F027-37D1-4E83-AE44-20B9500F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2D75D-C0A5-46AA-AC3C-5D4F83DF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0E21E-4017-4643-9E50-AADBF97D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F838-8EB2-4176-BF1D-8AF1B14C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F4717-BBBD-43EF-85BE-3C4723C6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989F7-8ED5-4AAA-97F8-0A5A79DD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260CD-E054-45E0-8D9D-3EB23FBC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587A1-63CD-4FE0-ACC5-9E9EA907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5D1F7-416E-4144-80DC-69FCF489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E65A7-AFFB-4E5F-A0E8-420B538D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2183E-BB74-4CDA-BEFB-417B88DD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3DAEE-A187-4CA8-ABE2-2684A833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834BA-9D24-4FA1-BE31-B03DAC53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A05-3AF2-4FA1-BD90-1119ACF7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B0E-1E0A-498A-AF0E-89512B12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DDFF-136C-43EB-91F4-6D1D1D81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9BE4-2749-47DC-8C8D-BEEB2355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F516-7056-49D5-8839-2EA8EA22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2C58-FFE7-4052-86AD-B5631910EC2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01E9-5DD1-4A21-BDD8-E6B2F9B0F2B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3983-11AC-4393-A624-228535684CD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EAEB-73D7-4954-8B58-290B57A61FE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Электрический ток в металлах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11 класс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Учитель Кечкина Н.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МБОУ «Средняя школа № 12»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г. Дзержинск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Закон Ома с точи зрения электронной теори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99680" y="1571760"/>
            <a:ext cx="3971880" cy="18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лектрический ток в металлах обусловлен движением свободных электрон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2" descr="https://fs00.infourok.ru/images/doc/2/1716/hello_html_117b46ca.png"/>
          <p:cNvPicPr/>
          <p:nvPr/>
        </p:nvPicPr>
        <p:blipFill>
          <a:blip r:embed="rId1"/>
          <a:stretch/>
        </p:blipFill>
        <p:spPr>
          <a:xfrm>
            <a:off x="5000760" y="2143080"/>
            <a:ext cx="3929040" cy="1643040"/>
          </a:xfrm>
          <a:prstGeom prst="rect">
            <a:avLst/>
          </a:prstGeom>
          <a:ln w="0">
            <a:noFill/>
          </a:ln>
        </p:spPr>
      </p:pic>
      <p:sp>
        <p:nvSpPr>
          <p:cNvPr id="219" name="Выгнутая влево стрелка 5"/>
          <p:cNvSpPr/>
          <p:nvPr/>
        </p:nvSpPr>
        <p:spPr>
          <a:xfrm rot="924600">
            <a:off x="5070240" y="1536840"/>
            <a:ext cx="428400" cy="1143000"/>
          </a:xfrm>
          <a:custGeom>
            <a:avLst/>
            <a:gdLst>
              <a:gd name="textAreaLeft" fmla="*/ 57240 w 428400"/>
              <a:gd name="textAreaRight" fmla="*/ 371160 w 428400"/>
              <a:gd name="textAreaTop" fmla="*/ 245520 h 1143000"/>
              <a:gd name="textAreaBottom" fmla="*/ 8438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81" stAng="-5400000" swAng="-5400000"/>
                <a:lnTo>
                  <a:pt x="0" y="11307"/>
                </a:lnTo>
                <a:arcTo wR="21600" hR="9281" stAng="10800000" swAng="-3539862"/>
                <a:lnTo>
                  <a:pt x="16200" y="21305"/>
                </a:lnTo>
                <a:lnTo>
                  <a:pt x="21600" y="19575"/>
                </a:lnTo>
                <a:lnTo>
                  <a:pt x="16200" y="17255"/>
                </a:lnTo>
                <a:lnTo>
                  <a:pt x="16200" y="18267"/>
                </a:lnTo>
                <a:arcTo wR="21600" hR="9281" stAng="7260138" swAng="3377789"/>
                <a:lnTo>
                  <a:pt x="129" y="10294"/>
                </a:lnTo>
                <a:arcTo wR="21600" hR="9281" stAng="-10637927" swAng="5237927"/>
                <a:close/>
              </a:path>
              <a:path fill="darkenLess" w="21600" h="21600">
                <a:moveTo>
                  <a:pt x="21600" y="0"/>
                </a:moveTo>
                <a:arcTo wR="21600" hR="9281" stAng="-5400000" swAng="-5400000"/>
                <a:lnTo>
                  <a:pt x="0" y="9281"/>
                </a:lnTo>
                <a:arcTo wR="21600" hR="9281" stAng="10800000" swAng="-162073"/>
                <a:lnTo>
                  <a:pt x="129" y="10294"/>
                </a:lnTo>
                <a:arcTo wR="21600" hR="9281" stAng="-10637927" swAng="5237927"/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5572080" y="7858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пыт Э. Рик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зультат: проникнов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ди в алюми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обнаруже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285840" y="3643200"/>
            <a:ext cx="2390760" cy="23576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8"/>
          <p:cNvSpPr/>
          <p:nvPr/>
        </p:nvSpPr>
        <p:spPr>
          <a:xfrm>
            <a:off x="2643120" y="3825720"/>
            <a:ext cx="6500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пы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Л.И. Мандельштам и Н.Д. Папалекси 191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. Толмен и Т. Стюарт 19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- цилиндр; Щ – щетки (контак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О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изолированные полуо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зультат: при остановке стрелка гальванометра отклонялась, фиксируя ток. По направлению тока определили – по инерции движутся отрицательные частицы. По величине заряда – элект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39680" y="4292640"/>
            <a:ext cx="44323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лина свободного пробега </a:t>
            </a:r>
            <a:r>
              <a:rPr b="1" lang="el-GR" sz="2000" spc="-1" strike="noStrike">
                <a:solidFill>
                  <a:srgbClr val="000000"/>
                </a:solidFill>
                <a:latin typeface="Georgia"/>
              </a:rPr>
              <a:t>λ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среднее расстояние между двумя последовательными столкновениями электронов с дефекта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108000" y="476280"/>
            <a:ext cx="424800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лектрическое сопроти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рушение периодичности кристаллической реше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ч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епловое движение атом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личие примес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ссеивание электр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трелка вниз 1"/>
          <p:cNvSpPr/>
          <p:nvPr/>
        </p:nvSpPr>
        <p:spPr>
          <a:xfrm>
            <a:off x="2050920" y="836640"/>
            <a:ext cx="289080" cy="3603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трелка вниз 5"/>
          <p:cNvSpPr/>
          <p:nvPr/>
        </p:nvSpPr>
        <p:spPr>
          <a:xfrm>
            <a:off x="2050920" y="1773360"/>
            <a:ext cx="289080" cy="3603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трелка вниз 6"/>
          <p:cNvSpPr/>
          <p:nvPr/>
        </p:nvSpPr>
        <p:spPr>
          <a:xfrm>
            <a:off x="2050920" y="2997360"/>
            <a:ext cx="289080" cy="3603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трелка вниз 7"/>
          <p:cNvSpPr/>
          <p:nvPr/>
        </p:nvSpPr>
        <p:spPr>
          <a:xfrm>
            <a:off x="2036880" y="3645000"/>
            <a:ext cx="287280" cy="66024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2252520" y="3780000"/>
            <a:ext cx="161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ера рассе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4788000" y="549360"/>
            <a:ext cx="4248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лассическая электронная теория Лоренца (электрическая проводимость металло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проводнике имеются свободные электроны, которые движутся непрерывно и хаотич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аждый атом теряет 1 электрон, превращаясь в ио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Georgia"/>
              </a:rPr>
              <a:t>λ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равна расстоянию между ионами в кристаллической решетке провод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8"/>
              <p:cNvSpPr txBox="1"/>
              <p:nvPr/>
            </p:nvSpPr>
            <p:spPr>
              <a:xfrm>
                <a:off x="5791320" y="3281400"/>
                <a:ext cx="218916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u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TextBox 8"/>
          <p:cNvSpPr/>
          <p:nvPr/>
        </p:nvSpPr>
        <p:spPr>
          <a:xfrm>
            <a:off x="5219640" y="4365720"/>
            <a:ext cx="39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ряд электрона,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количество электронов, прошедших через поперечное сечение проводника в ед.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масса электрона,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няя квадратичная скорость беспорядочного движения электронов, 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12"/>
          <p:cNvSpPr/>
          <p:nvPr/>
        </p:nvSpPr>
        <p:spPr>
          <a:xfrm>
            <a:off x="6357960" y="3286080"/>
            <a:ext cx="1143000" cy="11430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трелка вправо с вырезом 13"/>
          <p:cNvSpPr/>
          <p:nvPr/>
        </p:nvSpPr>
        <p:spPr>
          <a:xfrm rot="8923200">
            <a:off x="7462800" y="3269880"/>
            <a:ext cx="571680" cy="285840"/>
          </a:xfrm>
          <a:custGeom>
            <a:avLst/>
            <a:gdLst>
              <a:gd name="textAreaLeft" fmla="*/ 71280 w 571680"/>
              <a:gd name="textAreaRight" fmla="*/ 500400 w 57168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4"/>
          <p:cNvSpPr/>
          <p:nvPr/>
        </p:nvSpPr>
        <p:spPr>
          <a:xfrm>
            <a:off x="7990920" y="28576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Georgia"/>
              </a:rPr>
              <a:t>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7175520" y="3857760"/>
            <a:ext cx="1754280" cy="1143000"/>
          </a:xfrm>
          <a:prstGeom prst="rect">
            <a:avLst/>
          </a:prstGeom>
          <a:ln w="0">
            <a:noFill/>
          </a:ln>
        </p:spPr>
      </p:pic>
      <p:sp>
        <p:nvSpPr>
          <p:cNvPr id="238" name="Овал 17"/>
          <p:cNvSpPr/>
          <p:nvPr/>
        </p:nvSpPr>
        <p:spPr>
          <a:xfrm>
            <a:off x="8389800" y="4500720"/>
            <a:ext cx="285840" cy="57132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Закон Джоуля-Ленца с точи зрения электронной теори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Объект 8"/>
              <p:cNvSpPr txBox="1"/>
              <p:nvPr/>
            </p:nvSpPr>
            <p:spPr>
              <a:xfrm>
                <a:off x="306360" y="1785960"/>
                <a:ext cx="257796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u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1" name="Овал 5"/>
          <p:cNvSpPr/>
          <p:nvPr/>
        </p:nvSpPr>
        <p:spPr>
          <a:xfrm>
            <a:off x="1071720" y="1785960"/>
            <a:ext cx="1285560" cy="121428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трелка вправо с вырезом 6"/>
          <p:cNvSpPr/>
          <p:nvPr/>
        </p:nvSpPr>
        <p:spPr>
          <a:xfrm rot="18157200">
            <a:off x="1131840" y="3031560"/>
            <a:ext cx="571320" cy="285840"/>
          </a:xfrm>
          <a:custGeom>
            <a:avLst/>
            <a:gdLst>
              <a:gd name="textAreaLeft" fmla="*/ 71280 w 571320"/>
              <a:gd name="textAreaRight" fmla="*/ 500040 w 57132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714240" y="2928960"/>
            <a:ext cx="4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Georgia"/>
              </a:rPr>
              <a:t>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3071880" y="1928880"/>
            <a:ext cx="50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он джоуля-Ленца в дифференциаль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285840" y="3643200"/>
            <a:ext cx="3429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лассическая электронная теория Лоренца объясняет законы Ома и Джоуля-Ленца, которые подтверждаются эксперимент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5500800" y="300024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яд выводов не подтверждается эксперимент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Прямая со стрелкой 12"/>
          <p:cNvCxnSpPr/>
          <p:nvPr/>
        </p:nvCxnSpPr>
        <p:spPr>
          <a:xfrm>
            <a:off x="3857760" y="4714920"/>
            <a:ext cx="1429200" cy="2160"/>
          </a:xfrm>
          <a:prstGeom prst="straightConnector1">
            <a:avLst/>
          </a:prstGeom>
          <a:ln w="381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48" name="TextBox 13"/>
          <p:cNvSpPr/>
          <p:nvPr/>
        </p:nvSpPr>
        <p:spPr>
          <a:xfrm>
            <a:off x="4370760" y="429588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5357880" y="4071960"/>
            <a:ext cx="1843200" cy="857160"/>
          </a:xfrm>
          <a:prstGeom prst="rect">
            <a:avLst/>
          </a:prstGeom>
          <a:ln w="0">
            <a:noFill/>
          </a:ln>
        </p:spPr>
      </p:pic>
      <p:sp>
        <p:nvSpPr>
          <p:cNvPr id="250" name="Овал 16"/>
          <p:cNvSpPr/>
          <p:nvPr/>
        </p:nvSpPr>
        <p:spPr>
          <a:xfrm>
            <a:off x="6786720" y="4214880"/>
            <a:ext cx="285480" cy="57132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авая фигурная скобка 18"/>
          <p:cNvSpPr/>
          <p:nvPr/>
        </p:nvSpPr>
        <p:spPr>
          <a:xfrm rot="5400000">
            <a:off x="7030440" y="4113000"/>
            <a:ext cx="357120" cy="198900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1989000"/>
              <a:gd name="textAreaBottom" fmla="*/ 1980000 h 19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2"/>
                  <a:pt x="10800" y="323"/>
                </a:cubicBezTo>
                <a:lnTo>
                  <a:pt x="10800" y="10477"/>
                </a:lnTo>
                <a:cubicBezTo>
                  <a:pt x="10800" y="10639"/>
                  <a:pt x="16200" y="10800"/>
                  <a:pt x="21600" y="10800"/>
                </a:cubicBezTo>
                <a:cubicBezTo>
                  <a:pt x="16200" y="10800"/>
                  <a:pt x="10800" y="10962"/>
                  <a:pt x="10800" y="11123"/>
                </a:cubicBezTo>
                <a:lnTo>
                  <a:pt x="10800" y="21277"/>
                </a:lnTo>
                <a:cubicBezTo>
                  <a:pt x="10800" y="2143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4929120" y="5357880"/>
            <a:ext cx="400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дельное сопротивление (величина обратная проводимости), пропорциональна корню квадратному из абсолютной темп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21"/>
          <p:cNvSpPr/>
          <p:nvPr/>
        </p:nvSpPr>
        <p:spPr>
          <a:xfrm>
            <a:off x="5000760" y="5286240"/>
            <a:ext cx="3857400" cy="14288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23"/>
          <p:cNvSpPr/>
          <p:nvPr/>
        </p:nvSpPr>
        <p:spPr>
          <a:xfrm flipV="1">
            <a:off x="5000760" y="5357880"/>
            <a:ext cx="3571920" cy="1357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трелка вправо с вырезом 24"/>
          <p:cNvSpPr/>
          <p:nvPr/>
        </p:nvSpPr>
        <p:spPr>
          <a:xfrm rot="10800000">
            <a:off x="3928680" y="5928840"/>
            <a:ext cx="1071720" cy="500040"/>
          </a:xfrm>
          <a:custGeom>
            <a:avLst/>
            <a:gdLst>
              <a:gd name="textAreaLeft" fmla="*/ 124920 w 1071720"/>
              <a:gd name="textAreaRight" fmla="*/ 946800 w 107172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560" y="5400"/>
                </a:lnTo>
                <a:lnTo>
                  <a:pt x="16560" y="0"/>
                </a:lnTo>
                <a:lnTo>
                  <a:pt x="21600" y="10800"/>
                </a:lnTo>
                <a:lnTo>
                  <a:pt x="16560" y="21600"/>
                </a:lnTo>
                <a:lnTo>
                  <a:pt x="16560" y="16200"/>
                </a:lnTo>
                <a:lnTo>
                  <a:pt x="0" y="16200"/>
                </a:lnTo>
                <a:lnTo>
                  <a:pt x="252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500040" y="5715000"/>
            <a:ext cx="3429000" cy="131364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лассическая электронная теория Лоренца имеет границы примен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9"/>
          <p:cNvSpPr/>
          <p:nvPr/>
        </p:nvSpPr>
        <p:spPr>
          <a:xfrm>
            <a:off x="3929040" y="52833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пы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ρ~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1T03:26:23Z</dcterms:created>
  <dc:creator>Наталия</dc:creator>
  <dc:description/>
  <dc:language>en-US</dc:language>
  <cp:lastModifiedBy>Наталия</cp:lastModifiedBy>
  <dcterms:modified xsi:type="dcterms:W3CDTF">2016-11-21T19:27:15Z</dcterms:modified>
  <cp:revision>24</cp:revision>
  <dc:subject/>
  <dc:title>Электрический ток в металлах</dc:title>
</cp:coreProperties>
</file>