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ED7-2E91-407A-AB81-1060A626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121-6DA7-4DF3-9E46-45E8D8F8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53E-1B82-4B1C-9DC7-6B1E6381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731-7149-4337-8C95-75C0DCC6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7C1-4522-4244-9D79-F090C66E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32A-BB7A-4113-991C-4010325E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82D-F81D-406E-B2F4-093F88A5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3F1-0E25-445E-8BF9-D93898F2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6E5B-7E93-4DD4-9F3B-C1DC7954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8C5-703A-4059-B0C4-02B564E3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591-E888-4827-A7D0-122768BF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CC0-2C48-441A-A979-2624366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18AB-26A3-4192-A868-C537A2A6D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выра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 как и все живые организмы состоят из 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ая клетка имеет 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 представителей разных царств между собой 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тельной чертой растительной клетки является наличие  ……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0736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00000" y="2708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4572000" y="2708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843280" y="3500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Б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572000" y="3470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30072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90480" y="1052640"/>
            <a:ext cx="7635960" cy="4680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3322800" y="31734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  Е       Е В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492360" y="16970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 В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317760" y="26240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Л О       О Ф И Л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476520" y="21589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О В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754360" y="3635280"/>
            <a:ext cx="46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У С Т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 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298600" y="4097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 О Д 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 Ж Н 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18360" cy="3959280"/>
          </a:xfrm>
          <a:prstGeom prst="rect">
            <a:avLst/>
          </a:prstGeom>
          <a:ln w="0">
            <a:noFill/>
          </a:ln>
        </p:spPr>
      </p:pic>
      <p:sp>
        <p:nvSpPr>
          <p:cNvPr id="55" name="Овал 1"/>
          <p:cNvSpPr/>
          <p:nvPr/>
        </p:nvSpPr>
        <p:spPr>
          <a:xfrm>
            <a:off x="611280" y="1484280"/>
            <a:ext cx="1800000" cy="1724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6516720" y="1395360"/>
            <a:ext cx="1800360" cy="181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3"/>
          <p:cNvSpPr/>
          <p:nvPr/>
        </p:nvSpPr>
        <p:spPr>
          <a:xfrm>
            <a:off x="5148360" y="2301840"/>
            <a:ext cx="1584360" cy="19908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5280" y="210960"/>
            <a:ext cx="834876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Изображение 118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71640" y="2421000"/>
            <a:ext cx="6480000" cy="424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1835280" y="3500280"/>
            <a:ext cx="4537080" cy="14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е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684360" y="907920"/>
            <a:ext cx="6265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тительн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Изображение 1292"/>
          <p:cNvPicPr/>
          <p:nvPr/>
        </p:nvPicPr>
        <p:blipFill>
          <a:blip r:embed="rId1">
            <a:lum contrast="18000"/>
          </a:blip>
          <a:srcRect l="15651" t="13064" r="17970" b="16590"/>
          <a:stretch/>
        </p:blipFill>
        <p:spPr>
          <a:xfrm>
            <a:off x="468360" y="476280"/>
            <a:ext cx="266544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95280" y="4149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Изображение 1293"/>
          <p:cNvPicPr/>
          <p:nvPr/>
        </p:nvPicPr>
        <p:blipFill>
          <a:blip r:embed="rId2"/>
          <a:srcRect l="0" t="5218" r="4047" b="5369"/>
          <a:stretch/>
        </p:blipFill>
        <p:spPr>
          <a:xfrm>
            <a:off x="2771640" y="4221000"/>
            <a:ext cx="3159360" cy="2159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411280" y="5516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Изображение 1295"/>
          <p:cNvPicPr/>
          <p:nvPr/>
        </p:nvPicPr>
        <p:blipFill>
          <a:blip r:embed="rId3">
            <a:lum contrast="18000"/>
          </a:blip>
          <a:srcRect l="0" t="25000" r="32310" b="13635"/>
          <a:stretch/>
        </p:blipFill>
        <p:spPr>
          <a:xfrm>
            <a:off x="6659640" y="3933720"/>
            <a:ext cx="2271600" cy="266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Изображение 1294"/>
          <p:cNvPicPr/>
          <p:nvPr/>
        </p:nvPicPr>
        <p:blipFill>
          <a:blip r:embed="rId4">
            <a:lum contrast="18000"/>
          </a:blip>
          <a:srcRect l="2039" t="7235" r="1552" b="8845"/>
          <a:stretch/>
        </p:blipFill>
        <p:spPr>
          <a:xfrm>
            <a:off x="4284720" y="907920"/>
            <a:ext cx="3456000" cy="1657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4211640" y="90792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81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203640" y="6237360"/>
            <a:ext cx="287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684360" y="26028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тель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932360" y="40464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076720" y="404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териальная кл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6804000" y="357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бные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Изображение 1292"/>
          <p:cNvPicPr/>
          <p:nvPr/>
        </p:nvPicPr>
        <p:blipFill>
          <a:blip r:embed="rId1">
            <a:lum contrast="18000"/>
          </a:blip>
          <a:srcRect l="7791" t="8834" r="4303" b="8784"/>
          <a:stretch/>
        </p:blipFill>
        <p:spPr>
          <a:xfrm>
            <a:off x="250920" y="404640"/>
            <a:ext cx="8569080" cy="5904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Изображение 1291"/>
          <p:cNvPicPr/>
          <p:nvPr/>
        </p:nvPicPr>
        <p:blipFill>
          <a:blip r:embed="rId1">
            <a:lum contrast="36000"/>
          </a:blip>
          <a:srcRect l="17257" t="0" r="0" b="0"/>
          <a:stretch/>
        </p:blipFill>
        <p:spPr>
          <a:xfrm>
            <a:off x="5548320" y="3726000"/>
            <a:ext cx="3384720" cy="201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Изображение 1290"/>
          <p:cNvPicPr/>
          <p:nvPr/>
        </p:nvPicPr>
        <p:blipFill>
          <a:blip r:embed="rId2">
            <a:lum contrast="12000"/>
          </a:blip>
          <a:srcRect l="21078" t="12193" r="-8031" b="0"/>
          <a:stretch/>
        </p:blipFill>
        <p:spPr>
          <a:xfrm>
            <a:off x="6156360" y="33336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Изображение 1289"/>
          <p:cNvPicPr/>
          <p:nvPr/>
        </p:nvPicPr>
        <p:blipFill>
          <a:blip r:embed="rId3"/>
          <a:stretch/>
        </p:blipFill>
        <p:spPr>
          <a:xfrm>
            <a:off x="428760" y="3286080"/>
            <a:ext cx="3049560" cy="2519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2411280" y="3429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Изображение 1288"/>
          <p:cNvPicPr/>
          <p:nvPr/>
        </p:nvPicPr>
        <p:blipFill>
          <a:blip r:embed="rId4"/>
          <a:srcRect l="15703" t="13411" r="4646" b="10555"/>
          <a:stretch/>
        </p:blipFill>
        <p:spPr>
          <a:xfrm>
            <a:off x="539640" y="189000"/>
            <a:ext cx="3097440" cy="2808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3419640" y="2276640"/>
            <a:ext cx="57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327480" y="589752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300720" y="5734080"/>
            <a:ext cx="37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651640" y="2060640"/>
            <a:ext cx="50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3:05:31Z</dcterms:created>
  <dc:creator>Customer</dc:creator>
  <dc:description/>
  <dc:language>en-US</dc:language>
  <cp:lastModifiedBy>саблина </cp:lastModifiedBy>
  <cp:lastPrinted>2015-08-03T08:10:05Z</cp:lastPrinted>
  <dcterms:modified xsi:type="dcterms:W3CDTF">2015-09-21T09:35:28Z</dcterms:modified>
  <cp:revision>18</cp:revision>
  <dc:subject/>
  <dc:title>  </dc:title>
</cp:coreProperties>
</file>