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8C58-0F59-4F80-B404-E46EA416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C470-BE1B-4540-822E-908C3F2B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C3CC-C4A3-4D85-B914-6E04E082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2F30-FF34-4B40-813A-A476B42CB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A743-711E-4C19-909D-13AF3E98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8C7-5354-4C04-A6A9-E88D6E2C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FC9F-FD5B-4EDD-943A-8DD2EC10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F6A3-2E38-40A8-B66D-507DC721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E4F7-6F00-4021-BFB0-FDCF5371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13EA-9781-4710-9BE8-9720C918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A6B7-65B4-4B1C-BBDD-01F8FB31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4DCE-9C36-4133-9C70-2BA633E7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3CE4-529C-47EF-B659-AB087D56FA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ончите выраж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ения как и все живые организмы состоят из …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ая клетка имеет ……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и представителей разных царств между собой ……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ичительной чертой растительной клетки является наличие  ……………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407360" cy="4319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900000" y="2708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4572000" y="2708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Б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2843280" y="3500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Б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4572000" y="34704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6300720" y="3500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90480" y="1052640"/>
            <a:ext cx="7635960" cy="4680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3322800" y="31734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  Е       Е В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492360" y="169704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 В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317760" y="26240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 Л О       О Ф И Л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476520" y="2158920"/>
            <a:ext cx="32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 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 О В 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754360" y="3635280"/>
            <a:ext cx="46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У С Т 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 И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2298600" y="4097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 О Д 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 Ж Н И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118360" cy="3959280"/>
          </a:xfrm>
          <a:prstGeom prst="rect">
            <a:avLst/>
          </a:prstGeom>
          <a:ln w="0">
            <a:noFill/>
          </a:ln>
        </p:spPr>
      </p:pic>
      <p:sp>
        <p:nvSpPr>
          <p:cNvPr id="55" name="Овал 1"/>
          <p:cNvSpPr/>
          <p:nvPr/>
        </p:nvSpPr>
        <p:spPr>
          <a:xfrm>
            <a:off x="611280" y="1484280"/>
            <a:ext cx="1800000" cy="17240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2"/>
          <p:cNvSpPr/>
          <p:nvPr/>
        </p:nvSpPr>
        <p:spPr>
          <a:xfrm>
            <a:off x="6516720" y="1395360"/>
            <a:ext cx="1800360" cy="18129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3"/>
          <p:cNvSpPr/>
          <p:nvPr/>
        </p:nvSpPr>
        <p:spPr>
          <a:xfrm>
            <a:off x="5148360" y="2301840"/>
            <a:ext cx="1584360" cy="199080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95280" y="210960"/>
            <a:ext cx="834876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Изображение 1184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971640" y="2421000"/>
            <a:ext cx="6480000" cy="424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6"/>
          <p:cNvSpPr txBox="1"/>
          <p:nvPr/>
        </p:nvSpPr>
        <p:spPr>
          <a:xfrm>
            <a:off x="1835280" y="3500280"/>
            <a:ext cx="4537080" cy="14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ет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WordArt 7"/>
          <p:cNvSpPr txBox="1"/>
          <p:nvPr/>
        </p:nvSpPr>
        <p:spPr>
          <a:xfrm>
            <a:off x="684360" y="907920"/>
            <a:ext cx="62658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астительны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Изображение 1292"/>
          <p:cNvPicPr/>
          <p:nvPr/>
        </p:nvPicPr>
        <p:blipFill>
          <a:blip r:embed="rId1">
            <a:lum contrast="18000"/>
          </a:blip>
          <a:srcRect l="15651" t="13064" r="17970" b="16590"/>
          <a:stretch/>
        </p:blipFill>
        <p:spPr>
          <a:xfrm>
            <a:off x="468360" y="476280"/>
            <a:ext cx="2665440" cy="3672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395280" y="4149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Изображение 1293"/>
          <p:cNvPicPr/>
          <p:nvPr/>
        </p:nvPicPr>
        <p:blipFill>
          <a:blip r:embed="rId2"/>
          <a:srcRect l="0" t="5218" r="4047" b="5369"/>
          <a:stretch/>
        </p:blipFill>
        <p:spPr>
          <a:xfrm>
            <a:off x="2771640" y="4221000"/>
            <a:ext cx="3159360" cy="2159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2411280" y="5516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Изображение 1295"/>
          <p:cNvPicPr/>
          <p:nvPr/>
        </p:nvPicPr>
        <p:blipFill>
          <a:blip r:embed="rId3">
            <a:lum contrast="18000"/>
          </a:blip>
          <a:srcRect l="0" t="25000" r="32310" b="13635"/>
          <a:stretch/>
        </p:blipFill>
        <p:spPr>
          <a:xfrm>
            <a:off x="6659640" y="3933720"/>
            <a:ext cx="2271600" cy="2665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Изображение 1294"/>
          <p:cNvPicPr/>
          <p:nvPr/>
        </p:nvPicPr>
        <p:blipFill>
          <a:blip r:embed="rId4">
            <a:lum contrast="18000"/>
          </a:blip>
          <a:srcRect l="2039" t="7235" r="1552" b="8845"/>
          <a:stretch/>
        </p:blipFill>
        <p:spPr>
          <a:xfrm>
            <a:off x="4284720" y="907920"/>
            <a:ext cx="3456000" cy="1657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"/>
          <p:cNvSpPr/>
          <p:nvPr/>
        </p:nvSpPr>
        <p:spPr>
          <a:xfrm>
            <a:off x="4211640" y="907920"/>
            <a:ext cx="64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7812000" y="47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3203640" y="6237360"/>
            <a:ext cx="287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тная кл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684360" y="260280"/>
            <a:ext cx="25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ительная кл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4932360" y="40464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5076720" y="404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ктериальная кл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6804000" y="357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ибные кле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Изображение 1292"/>
          <p:cNvPicPr/>
          <p:nvPr/>
        </p:nvPicPr>
        <p:blipFill>
          <a:blip r:embed="rId1">
            <a:lum contrast="18000"/>
          </a:blip>
          <a:srcRect l="7791" t="8834" r="4303" b="8784"/>
          <a:stretch/>
        </p:blipFill>
        <p:spPr>
          <a:xfrm>
            <a:off x="250920" y="404640"/>
            <a:ext cx="8569080" cy="5904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Изображение 1291"/>
          <p:cNvPicPr/>
          <p:nvPr/>
        </p:nvPicPr>
        <p:blipFill>
          <a:blip r:embed="rId1">
            <a:lum contrast="36000"/>
          </a:blip>
          <a:srcRect l="17257" t="0" r="0" b="0"/>
          <a:stretch/>
        </p:blipFill>
        <p:spPr>
          <a:xfrm>
            <a:off x="5548320" y="3726000"/>
            <a:ext cx="3384720" cy="2017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Изображение 1290"/>
          <p:cNvPicPr/>
          <p:nvPr/>
        </p:nvPicPr>
        <p:blipFill>
          <a:blip r:embed="rId2">
            <a:lum contrast="12000"/>
          </a:blip>
          <a:srcRect l="21078" t="12193" r="-8031" b="0"/>
          <a:stretch/>
        </p:blipFill>
        <p:spPr>
          <a:xfrm>
            <a:off x="6156360" y="333360"/>
            <a:ext cx="3166920" cy="244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Изображение 1289"/>
          <p:cNvPicPr/>
          <p:nvPr/>
        </p:nvPicPr>
        <p:blipFill>
          <a:blip r:embed="rId3"/>
          <a:stretch/>
        </p:blipFill>
        <p:spPr>
          <a:xfrm>
            <a:off x="428760" y="3286080"/>
            <a:ext cx="3049560" cy="2519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2411280" y="342900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Изображение 1288"/>
          <p:cNvPicPr/>
          <p:nvPr/>
        </p:nvPicPr>
        <p:blipFill>
          <a:blip r:embed="rId4"/>
          <a:srcRect l="15703" t="13411" r="4646" b="10555"/>
          <a:stretch/>
        </p:blipFill>
        <p:spPr>
          <a:xfrm>
            <a:off x="539640" y="189000"/>
            <a:ext cx="3097440" cy="2808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3419640" y="2276640"/>
            <a:ext cx="57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327480" y="5897520"/>
            <a:ext cx="7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300720" y="5734080"/>
            <a:ext cx="37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651640" y="2060640"/>
            <a:ext cx="504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3:05:31Z</dcterms:created>
  <dc:creator>Customer</dc:creator>
  <dc:description/>
  <dc:language>en-US</dc:language>
  <cp:lastModifiedBy>саблина </cp:lastModifiedBy>
  <cp:lastPrinted>2015-08-03T08:10:05Z</cp:lastPrinted>
  <dcterms:modified xsi:type="dcterms:W3CDTF">2015-09-21T09:35:28Z</dcterms:modified>
  <cp:revision>18</cp:revision>
  <dc:subject/>
  <dc:title>  </dc:title>
</cp:coreProperties>
</file>