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C87A-523F-44A7-81B5-7896CE314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A6C3-D4BD-4F3E-A87D-DDD8B791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8DE9-70DA-4B58-B752-571910CDE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C39F-8F67-4BD1-BED4-D444D8083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6CF8-F547-4B46-9D1B-7501A5DF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EFEA-EDAC-47C9-A9E9-18A77727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E320-A9FA-441A-B7BE-D4A81757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143B-0EC6-487F-977B-13325B96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BC51-0396-4CE1-AE82-F3CF2476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9546-673C-44C3-82EC-870FF78A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72C8-3026-43C8-A94B-4BFEBB6D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0780-CF38-4781-8CD4-3A835404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2CBE-3A7A-4E1B-BC00-ABEF76282A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321264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Forte"/>
              </a:rPr>
              <a:t>Приспособление нашего организма к условиям существ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1187280" y="620640"/>
            <a:ext cx="676944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даптац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Picture 5" descr="lud3322"/>
          <p:cNvPicPr/>
          <p:nvPr/>
        </p:nvPicPr>
        <p:blipFill>
          <a:blip r:embed="rId1"/>
          <a:stretch/>
        </p:blipFill>
        <p:spPr>
          <a:xfrm>
            <a:off x="6948360" y="4581360"/>
            <a:ext cx="17607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За чем должен проследить родитель, если он хочет помочь ребенку учить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ая главная задача родителей во время школьного обучения ребенка — не стать учителями-дублерами, а остаться родителями, принимающими, понимающими и любящими своего ребенка, невзирая на его школьные успехи или неудачи. Поэтому и следить родитель должен, в первую очередь, за уровнем самостоятельности ребенка в домашних делах (в том числе и в выполнении школьного домашнего задания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703a1a7b021366888b6ef1243654601b"/>
          <p:cNvPicPr/>
          <p:nvPr/>
        </p:nvPicPr>
        <p:blipFill>
          <a:blip r:embed="rId1"/>
          <a:stretch/>
        </p:blipFill>
        <p:spPr>
          <a:xfrm>
            <a:off x="7451640" y="5445000"/>
            <a:ext cx="151308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Значительному сокращению сроков адаптации способствуют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рмальный (соответствующий возрасту ребенка) уровень физического и психического развития, речи, познавательных процессов; моторных функций. Упражнения, направленные на их сохранение и дальнейшее развит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жим дня ребенка дома и в школе, особенно важно установить время занятий, отдыха, активной прогулки питания и с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рошее состояние здоровья, высокая общая работоспособность приобретенные до школ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пешность в решении задач учебной деятельности. Профессиональная поддержка, спокойная и последовательная работа над ошиб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28036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тивация ребенка и его родителей на               овладение все большим кругом знаний, учебной деятельностью, преодоление трудностей в учебе, на саморазвит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ление доверительных и доброжелательных отношений с учителем и сверстниками в шко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имание к трудностям в овладении учебной программой, характеру складывающихся у ребенка отношений с учителем и классом, поведению ребенка в школе и до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условная любовь родителей, принятие ребенка таким, каков он есть, забота, внимание к его проблемам. Понимание и конкретная помощь со стороны родителей, хорошие условия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итивные взаимоотнош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емь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7950afd813b2aa07cbcdb1e0378de45b"/>
          <p:cNvPicPr/>
          <p:nvPr/>
        </p:nvPicPr>
        <p:blipFill>
          <a:blip r:embed="rId1"/>
          <a:stretch/>
        </p:blipFill>
        <p:spPr>
          <a:xfrm>
            <a:off x="6804000" y="4797360"/>
            <a:ext cx="2127240" cy="1844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d34b3d115e3a1f932f67ecfaf28c4471"/>
          <p:cNvPicPr/>
          <p:nvPr/>
        </p:nvPicPr>
        <p:blipFill>
          <a:blip r:embed="rId2"/>
          <a:stretch/>
        </p:blipFill>
        <p:spPr>
          <a:xfrm>
            <a:off x="611280" y="0"/>
            <a:ext cx="136836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Чем опасно затягивание сроков адаптац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енок с трудом и без удовольствия овладевает программой начальной школы, оценивается как неуспевающ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никает стойкое негативное самооценивание, которое нередко камуфлируется под цинизм, деструктивные формы поведения и взаимоотнош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никают неврозы, психичес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лон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8f28dd3418b497e4d5a4dc60d410bd35"/>
          <p:cNvPicPr/>
          <p:nvPr/>
        </p:nvPicPr>
        <p:blipFill>
          <a:blip r:embed="rId1"/>
          <a:stretch/>
        </p:blipFill>
        <p:spPr>
          <a:xfrm>
            <a:off x="6948360" y="4797360"/>
            <a:ext cx="18176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Результаты диагнос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900000" y="1125360"/>
          <a:ext cx="6408720" cy="5559480"/>
        </p:xfrm>
        <a:graphic>
          <a:graphicData uri="http://schemas.openxmlformats.org/drawingml/2006/table">
            <a:tbl>
              <a:tblPr/>
              <a:tblGrid>
                <a:gridCol w="3302280"/>
                <a:gridCol w="1804680"/>
                <a:gridCol w="13017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Сф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Гр. риска</a:t>
                      </a:r>
                      <a:r>
                        <a:rPr b="0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кол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аптац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.дезадапт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задапт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апт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.дезадапт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задапт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лиц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аптац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.дезадапт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задапт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82090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ы надеемся, что в вашей семье этого не произойдет, ведь "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предупрежден - значит, вооружен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"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авайте поможем нашим первоклассникам успешно преодолеть первые школьные трудности, стать более взрослыми и уверенными в себ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d9836d1a2ab57c3b23a8510866fdbccb"/>
          <p:cNvPicPr/>
          <p:nvPr/>
        </p:nvPicPr>
        <p:blipFill>
          <a:blip r:embed="rId1"/>
          <a:stretch/>
        </p:blipFill>
        <p:spPr>
          <a:xfrm>
            <a:off x="2050920" y="5734080"/>
            <a:ext cx="52578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9712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иологическа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циально-психологическ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сихологическ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4"/>
          <p:cNvSpPr txBox="1"/>
          <p:nvPr/>
        </p:nvSpPr>
        <p:spPr>
          <a:xfrm>
            <a:off x="468360" y="476280"/>
            <a:ext cx="82072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ные виды адаптац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42472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ение социальной адаптации возрастает в условиях кардинальной смены деятельности и социального окружения человека. У учащихся первых  классов меняется их социальное окружение (новый состав класса и учителей) и система деятельности (содержание новой ступени образования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туация новизны всегда является для человека в той или иной степени тревожной. Ребенок же переживает в таких условиях эмоциональный дискомфорт из-за неопределенности представлений о требованиях учителей, особенностях и условиях обучения, о ценностях и нормах поведения в коллективе класса и пр. Такое состояние часто сопровождается внутренней напряженностью, иногда затрудняющей принятие как интеллектуальных, так и личностных реш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lud334"/>
          <p:cNvPicPr/>
          <p:nvPr/>
        </p:nvPicPr>
        <p:blipFill>
          <a:blip r:embed="rId1"/>
          <a:stretch/>
        </p:blipFill>
        <p:spPr>
          <a:xfrm>
            <a:off x="7164360" y="5157720"/>
            <a:ext cx="172872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2803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статочно длительное психическое напряжение может закончиться школьной дезадаптацией и ребенок становится тогда недисциплинированным, невнимательным, безответственным, отстает в учебе, быстро утомляется и уже не хочет идти в шко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матически ослабленные дети (а их количество увеличивается) являются наиболее подверженными возникновению дезадапт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dc6d7df1ffb952cc44a251a4c6e192c"/>
          <p:cNvPicPr/>
          <p:nvPr/>
        </p:nvPicPr>
        <p:blipFill>
          <a:blip r:embed="rId1"/>
          <a:stretch/>
        </p:blipFill>
        <p:spPr>
          <a:xfrm>
            <a:off x="7164360" y="1268280"/>
            <a:ext cx="169380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07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Каковы типичные проявления </a:t>
            </a:r>
            <a:r>
              <a:rPr b="1" lang="ru-RU" sz="4000" spc="-1" strike="noStrike">
                <a:solidFill>
                  <a:srgbClr val="333399"/>
                </a:solidFill>
                <a:latin typeface="Arial Black"/>
              </a:rPr>
              <a:t>стресса и дезадаптации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68000" y="1699920"/>
            <a:ext cx="8064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енок часто плачет (больше, чем обычно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него, в отличие от обычного, подавленное или, наоборот, возбужденное состояние (хуже засыпает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енок проявляет необоснованную агрессию (ругается, налетает, отвечает агрессивно, лезет в драку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енок отказывается идти в школ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a7d2bfc2f21d0db6577ab93229d440b3"/>
          <p:cNvPicPr/>
          <p:nvPr/>
        </p:nvPicPr>
        <p:blipFill>
          <a:blip r:embed="rId1"/>
          <a:stretch/>
        </p:blipFill>
        <p:spPr>
          <a:xfrm>
            <a:off x="6877080" y="4292640"/>
            <a:ext cx="17272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Как можно снимать стресс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ть ритмичную жизнь и порядок дома (здесь очень важен собственный пример и подражание ему ребенком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жна теплая, естественная, спокойная манера поведения взрослых дома (без срывов, повышенного тон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бходимо на какое-то время продолжение традиционных "детских" ритуалов укладывания, еды, умывания, совместной игры-обнимания, чтения на ночь, которые были приняты в дошкольном детстве ребен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нимают напряжение игры с водой, песком, рисование красками (с разрешением пачкания — отсутствием критики или осуждения за испачканную одежду, пол!), изготовление коллажей в "рваной" технике (рвать цветную бумагу, старые журналы и клеить из них картины), спортивные игры на воздухе (мяч, скакалки, "классики" и пр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резвычайно важно отсутствие лишних постоянных раздражителей (телевизор, приемник, компьютер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бходимо давать ребенку возмож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ытывать время от времени настоящу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скую радость (праздник, театр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многих лучше всего снимает напряжение отдых на природе (особенно, труд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76f7822532939a391e860945cedb95dc"/>
          <p:cNvPicPr/>
          <p:nvPr/>
        </p:nvPicPr>
        <p:blipFill>
          <a:blip r:embed="rId1"/>
          <a:stretch/>
        </p:blipFill>
        <p:spPr>
          <a:xfrm>
            <a:off x="7020000" y="4292640"/>
            <a:ext cx="19144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Какие необычные проявления ребенка требуют обращения к специалисту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хи (ночные страхи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нурез (недержание мочи), особенно если перед школой этого уже не был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ызение ногтей, заикание или подергивание века, лицевых мышц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рко выраженная агресс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532f2e9ed6eb0bcd0f57eae1e63ff7fb"/>
          <p:cNvPicPr/>
          <p:nvPr/>
        </p:nvPicPr>
        <p:blipFill>
          <a:blip r:embed="rId1"/>
          <a:stretch/>
        </p:blipFill>
        <p:spPr>
          <a:xfrm>
            <a:off x="7020000" y="5157720"/>
            <a:ext cx="17287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роблемы школьной адаптаци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м хочется, чтобы обучение было успешным и доставляло поменьше неприятностей. На вопрос: "Как ты будешь учиться в школе?" - будущие первоклассники уверенно отвечают: "На пять!". И хотя само понятие успешности относительно, действительно важно, чтобы дела в школе бы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пеш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4ac3c9baa4b3136679c7aa0621a8c8c1"/>
          <p:cNvPicPr/>
          <p:nvPr/>
        </p:nvPicPr>
        <p:blipFill>
          <a:blip r:embed="rId1"/>
          <a:stretch/>
        </p:blipFill>
        <p:spPr>
          <a:xfrm>
            <a:off x="7020000" y="4724280"/>
            <a:ext cx="158112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79280" y="476280"/>
            <a:ext cx="8569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вовремя не обратить внимания на затруднения детей и не оказать действенной помощи в период адаптации, проблемы в обучении будут все больше нарастать. Если оставить ребенка без родительского внимания и корректной профессиональной поддержки, период приспособления к новым условиям, новым людям, предъявляемым требованиям затягивается, его проявления приобретают стойкий негативный характер. В последние годы отмечается резкое увеличение числа детей с тяжелыми нарушениями процесса адаптации к школе, с выраженны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ольными трудност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1d412f049f5a9144cbea02ddcac4bfc9"/>
          <p:cNvPicPr/>
          <p:nvPr/>
        </p:nvPicPr>
        <p:blipFill>
          <a:blip r:embed="rId1"/>
          <a:stretch/>
        </p:blipFill>
        <p:spPr>
          <a:xfrm>
            <a:off x="7380360" y="4941720"/>
            <a:ext cx="14396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04:23:49Z</dcterms:created>
  <dc:creator>Psiholog</dc:creator>
  <dc:description/>
  <dc:language>en-US</dc:language>
  <cp:lastModifiedBy>Shaman</cp:lastModifiedBy>
  <dcterms:modified xsi:type="dcterms:W3CDTF">2010-05-12T16:57:47Z</dcterms:modified>
  <cp:revision>2</cp:revision>
  <dc:subject/>
  <dc:title>Каковы типичные проявления стресса и дезадаптации?</dc:title>
</cp:coreProperties>
</file>