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E79-8B33-407F-9C5B-FD4B1C79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655-0000-4EA4-9DC0-2ABEBF00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888-25E9-40FA-B408-C2A6BC66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BC9-00D3-4D3C-9B1B-8FB7108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629-BC49-442C-ABD0-3D49D06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F7D-43FC-46AE-8EA7-8970E74C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E02-25A6-4DEF-AEB8-96C1411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B69-8126-4470-95AC-B7CAFF4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BB0-F80A-4AFE-BEB6-B3CF1655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233-52A0-469D-9803-A0B3DB8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4C3-27A6-4A34-9E62-96BF00F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52A-879C-4251-A5B9-4D9C4F1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14EB-5F46-4420-B5FC-8BBB9F750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Forte"/>
              </a:rPr>
              <a:t>Приспособление нашего организма к условиям существ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87280" y="620640"/>
            <a:ext cx="6769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lud3322"/>
          <p:cNvPicPr/>
          <p:nvPr/>
        </p:nvPicPr>
        <p:blipFill>
          <a:blip r:embed="rId1"/>
          <a:stretch/>
        </p:blipFill>
        <p:spPr>
          <a:xfrm>
            <a:off x="6948360" y="4581360"/>
            <a:ext cx="1760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 чем должен проследить родитель, если он хочет помочь ребенку 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главная задача родителей во время школьного обучения ребенка — не стать учителями-дублерами, а остаться родителями, принимающими, понимающими и любящими своего ребенка, невзирая на его школьные успехи или неудачи. Поэтому и следить родитель должен, в первую очередь, за уровнем самостоятельности ребенка в домашних делах (в том числе и в выполнении школьного домашнего зада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703a1a7b021366888b6ef1243654601b"/>
          <p:cNvPicPr/>
          <p:nvPr/>
        </p:nvPicPr>
        <p:blipFill>
          <a:blip r:embed="rId1"/>
          <a:stretch/>
        </p:blipFill>
        <p:spPr>
          <a:xfrm>
            <a:off x="7451640" y="5445000"/>
            <a:ext cx="1513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начительному сокращению сроков адаптации способствуют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ый (соответствующий возрасту ребенка) уровень физического и психического развития, речи, познавательных процессов; моторных функций. Упражнения, направленные на их сохранение и дальнейшее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дня ребенка дома и в школе, особенно важно установить время занятий, отдыха, активной прогулки питания и с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ее состояние здоровья, высокая общая работоспособность приобретенные до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сть в решении задач учебной деятельности. Профессиональная поддержка, спокойная и последовательная работа над оши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я ребенка и его родителей на               овладение все большим кругом знаний, учебной деятельностью, преодоление трудностей в учебе, на само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верительных и доброжелательных отношений с учителем и сверстниками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ие к трудностям в овладении учебной программой, характеру складывающихся у ребенка отношений с учителем и классом, поведению ребенка в школе и д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ая любовь родителей, принятие ребенка таким, каков он есть, забота, внимание к его проблемам. Понимание и конкретная помощь со стороны родителей, хорошие услов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тивные взаимо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7950afd813b2aa07cbcdb1e0378de45b"/>
          <p:cNvPicPr/>
          <p:nvPr/>
        </p:nvPicPr>
        <p:blipFill>
          <a:blip r:embed="rId1"/>
          <a:stretch/>
        </p:blipFill>
        <p:spPr>
          <a:xfrm>
            <a:off x="6804000" y="4797360"/>
            <a:ext cx="2127240" cy="184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34b3d115e3a1f932f67ecfaf28c4471"/>
          <p:cNvPicPr/>
          <p:nvPr/>
        </p:nvPicPr>
        <p:blipFill>
          <a:blip r:embed="rId2"/>
          <a:stretch/>
        </p:blipFill>
        <p:spPr>
          <a:xfrm>
            <a:off x="611280" y="0"/>
            <a:ext cx="13683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ем опасно затягивание сроков адапт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с трудом и без удовольствия овладевает программой начальной школы, оценивается как неуспевающ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ет стойкое негативное самооценивание, которое нередко камуфлируется под цинизм, деструктивные формы поведения и взаимоотно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т неврозы, псих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о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8f28dd3418b497e4d5a4dc60d410bd35"/>
          <p:cNvPicPr/>
          <p:nvPr/>
        </p:nvPicPr>
        <p:blipFill>
          <a:blip r:embed="rId1"/>
          <a:stretch/>
        </p:blipFill>
        <p:spPr>
          <a:xfrm>
            <a:off x="6948360" y="4797360"/>
            <a:ext cx="181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00000" y="1125360"/>
          <a:ext cx="6408720" cy="5559480"/>
        </p:xfrm>
        <a:graphic>
          <a:graphicData uri="http://schemas.openxmlformats.org/drawingml/2006/table">
            <a:tbl>
              <a:tblPr/>
              <a:tblGrid>
                <a:gridCol w="3302280"/>
                <a:gridCol w="1804680"/>
                <a:gridCol w="1301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ф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Гр. риска</a:t>
                      </a:r>
                      <a:r>
                        <a:rPr b="0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иц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.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адап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надеемся, что в вашей семье этого не произойдет, ведь "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дупрежден - значит, вооруж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вайте поможем нашим первоклассникам успешно преодолеть первые школьные трудности, стать более взрослыми и уверенными в с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9836d1a2ab57c3b23a8510866fdbccb"/>
          <p:cNvPicPr/>
          <p:nvPr/>
        </p:nvPicPr>
        <p:blipFill>
          <a:blip r:embed="rId1"/>
          <a:stretch/>
        </p:blipFill>
        <p:spPr>
          <a:xfrm>
            <a:off x="2050920" y="5734080"/>
            <a:ext cx="52578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ологическ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псих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68360" y="476280"/>
            <a:ext cx="820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виды адаптац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социальной адаптации возрастает в условиях кардинальной смены деятельности и социального окружения человека. У учащихся первых  классов меняется их социальное окружение (новый состав класса и учителей) и система деятельности (содержание новой ступени образов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новизны всегда является для человека в той или иной степени тревожной. Ребенок же переживает в таких условиях эмоциональный дискомфорт из-за неопределенности представлений о требованиях учителей, особенностях и условиях обучения, о ценностях и нормах поведения в коллективе класса и пр. Такое состояние часто сопровождается внутренней напряженностью, иногда затрудняющей принятие как интеллектуальных, так и личностных ре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lud334"/>
          <p:cNvPicPr/>
          <p:nvPr/>
        </p:nvPicPr>
        <p:blipFill>
          <a:blip r:embed="rId1"/>
          <a:stretch/>
        </p:blipFill>
        <p:spPr>
          <a:xfrm>
            <a:off x="7164360" y="5157720"/>
            <a:ext cx="1728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точно длительное психическое напряжение может закончиться школьной дезадаптацией и ребенок становится тогда недисциплинированным, невнимательным, безответственным, отстает в учебе, быстро утомляется и уже не хочет идти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матически ослабленные дети (а их количество увеличивается) являются наиболее подверженными возникновению дезадап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dc6d7df1ffb952cc44a251a4c6e192c"/>
          <p:cNvPicPr/>
          <p:nvPr/>
        </p:nvPicPr>
        <p:blipFill>
          <a:blip r:embed="rId1"/>
          <a:stretch/>
        </p:blipFill>
        <p:spPr>
          <a:xfrm>
            <a:off x="7164360" y="1268280"/>
            <a:ext cx="16938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овы типичные проявления </a:t>
            </a: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стресса и дезадаптаци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часто плачет (больше, чем обычн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, в отличие от обычного, подавленное или, наоборот, возбужденное состояние (хуже засыпае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проявляет необоснованную агрессию (ругается, налетает, отвечает агрессивно, лезет в драк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отказывается идти в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7d2bfc2f21d0db6577ab93229d440b3"/>
          <p:cNvPicPr/>
          <p:nvPr/>
        </p:nvPicPr>
        <p:blipFill>
          <a:blip r:embed="rId1"/>
          <a:stretch/>
        </p:blipFill>
        <p:spPr>
          <a:xfrm>
            <a:off x="6877080" y="4292640"/>
            <a:ext cx="1727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 можно снимать стре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ритмичную жизнь и порядок дома (здесь очень важен собственный пример и подражание ему ребенко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а теплая, естественная, спокойная манера поведения взрослых дома (без срывов, повышенного то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на какое-то время продолжение традиционных "детских" ритуалов укладывания, еды, умывания, совместной игры-обнимания, чтения на ночь, которые были приняты в дошкольном детстве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мают напряжение игры с водой, песком, рисование красками (с разрешением пачкания — отсутствием критики или осуждения за испачканную одежду, пол!), изготовление коллажей в "рваной" технике (рвать цветную бумагу, старые журналы и клеить из них картины), спортивные игры на воздухе (мяч, скакалки, "классики" и п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звычайно важно отсутствие лишних постоянных раздражителей (телевизор, приемник, компьюте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давать ребенку возмож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ытывать время от времени настоящ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ую радость (праздник, теат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многих лучше всего снимает напряжение отдых на природе (особенно, труд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f7822532939a391e860945cedb95dc"/>
          <p:cNvPicPr/>
          <p:nvPr/>
        </p:nvPicPr>
        <p:blipFill>
          <a:blip r:embed="rId1"/>
          <a:stretch/>
        </p:blipFill>
        <p:spPr>
          <a:xfrm>
            <a:off x="7020000" y="4292640"/>
            <a:ext cx="1914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ие необычные проявления ребенка требуют обращения к специалисту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(ночные страх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урез (недержание мочи), особенно если перед школой этого уже не бы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ызение ногтей, заикание или подергивание века, лицевых мыш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о выраженная агрес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32f2e9ed6eb0bcd0f57eae1e63ff7fb"/>
          <p:cNvPicPr/>
          <p:nvPr/>
        </p:nvPicPr>
        <p:blipFill>
          <a:blip r:embed="rId1"/>
          <a:stretch/>
        </p:blipFill>
        <p:spPr>
          <a:xfrm>
            <a:off x="7020000" y="515772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облемы школьной адаптац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хочется, чтобы обучение было успешным и доставляло поменьше неприятностей. На вопрос: "Как ты будешь учиться в школе?" - будущие первоклассники уверенно отвечают: "На пять!". И хотя само понятие успешности относительно, действительно важно, чтобы дела в школе 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4ac3c9baa4b3136679c7aa0621a8c8c1"/>
          <p:cNvPicPr/>
          <p:nvPr/>
        </p:nvPicPr>
        <p:blipFill>
          <a:blip r:embed="rId1"/>
          <a:stretch/>
        </p:blipFill>
        <p:spPr>
          <a:xfrm>
            <a:off x="7020000" y="4724280"/>
            <a:ext cx="15811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6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овремя не обратить внимания на затруднения детей и не оказать действенной помощи в период адаптации, проблемы в обучении будут все больше нарастать. Если оставить ребенка без родительского внимания и корректной профессиональной поддержки, период приспособления к новым условиям, новым людям, предъявляемым требованиям затягивается, его проявления приобретают стойкий негативный характер. В последние годы отмечается резкое увеличение числа детей с тяжелыми нарушениями процесса адаптации к школе, с выражен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ыми труд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d412f049f5a9144cbea02ddcac4bfc9"/>
          <p:cNvPicPr/>
          <p:nvPr/>
        </p:nvPicPr>
        <p:blipFill>
          <a:blip r:embed="rId1"/>
          <a:stretch/>
        </p:blipFill>
        <p:spPr>
          <a:xfrm>
            <a:off x="7380360" y="4941720"/>
            <a:ext cx="1439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4:23:49Z</dcterms:created>
  <dc:creator>Psiholog</dc:creator>
  <dc:description/>
  <dc:language>en-US</dc:language>
  <cp:lastModifiedBy>Shaman</cp:lastModifiedBy>
  <dcterms:modified xsi:type="dcterms:W3CDTF">2010-05-12T16:57:47Z</dcterms:modified>
  <cp:revision>2</cp:revision>
  <dc:subject/>
  <dc:title>Каковы типичные проявления стресса и дезадаптации?</dc:title>
</cp:coreProperties>
</file>