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53341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1532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290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Microsoft Sans Serif"/>
              </a:rPr>
              <a:t>Электроизмерительные приборы</a:t>
            </a:r>
            <a:endParaRPr b="0" lang="en-US" sz="5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240" y="5562360"/>
            <a:ext cx="42670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2904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cc"/>
                </a:solidFill>
                <a:latin typeface="Microsoft Sans Serif"/>
              </a:rPr>
              <a:t>Основы электротехники</a:t>
            </a:r>
            <a:endParaRPr b="0" lang="en-US" sz="23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icrosoft Sans Serif"/>
              </a:rPr>
              <a:t>Электросчетчик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icrosoft Sans Serif"/>
              </a:rPr>
              <a:t>Различаются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Microsoft Sans Serif"/>
              </a:rPr>
              <a:t>I.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Microsoft Sans Serif"/>
              </a:rPr>
              <a:t>по принципу действия</a:t>
            </a:r>
            <a:r>
              <a:rPr b="1" lang="ru-RU" sz="2400" spc="-1" strike="noStrike">
                <a:solidFill>
                  <a:srgbClr val="0033cc"/>
                </a:solidFill>
                <a:latin typeface="Microsoft Sans Serif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Microsoft Sans Serif"/>
              </a:rPr>
              <a:t>1.электромеханические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icrosoft Sans Serif"/>
              </a:rPr>
              <a:t>      </a:t>
            </a:r>
            <a:r>
              <a:rPr b="1" lang="ru-RU" sz="2000" spc="-1" strike="noStrike">
                <a:solidFill>
                  <a:srgbClr val="0033cc"/>
                </a:solidFill>
                <a:latin typeface="Microsoft Sans Serif"/>
              </a:rPr>
              <a:t>-магнитоэлектрические;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icrosoft Sans Serif"/>
              </a:rPr>
              <a:t>     </a:t>
            </a:r>
            <a:r>
              <a:rPr b="1" lang="ru-RU" sz="2000" spc="-1" strike="noStrike">
                <a:solidFill>
                  <a:srgbClr val="0033cc"/>
                </a:solidFill>
                <a:latin typeface="Microsoft Sans Serif"/>
              </a:rPr>
              <a:t>- электромагнитные;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icrosoft Sans Serif"/>
              </a:rPr>
              <a:t>-электродинамические;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icrosoft Sans Serif"/>
              </a:rPr>
              <a:t>-электростатические;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icrosoft Sans Serif"/>
              </a:rPr>
              <a:t>-ферродинамические;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icrosoft Sans Serif"/>
              </a:rPr>
              <a:t>-индукционные;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icrosoft Sans Serif"/>
              </a:rPr>
              <a:t>-магнитодинамические;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Microsoft Sans Serif"/>
              </a:rPr>
              <a:t>2.электронные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Microsoft Sans Serif"/>
              </a:rPr>
              <a:t>3.термоэлектрические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Microsoft Sans Serif"/>
              </a:rPr>
              <a:t>4.электрохимические</a:t>
            </a:r>
            <a:r>
              <a:rPr b="0" lang="ru-RU" sz="2400" spc="-1" strike="noStrike">
                <a:solidFill>
                  <a:srgbClr val="0033cc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Microsoft Sans Serif"/>
              </a:rPr>
              <a:t>II</a:t>
            </a:r>
            <a:r>
              <a:rPr b="1" lang="ru-RU" sz="2400" spc="-1" strike="noStrike">
                <a:solidFill>
                  <a:srgbClr val="0033cc"/>
                </a:solidFill>
                <a:latin typeface="Microsoft Sans Serif"/>
              </a:rPr>
              <a:t>.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Microsoft Sans Serif"/>
              </a:rPr>
              <a:t>по роду измеряемого тока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533520"/>
            <a:ext cx="3886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423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362320" y="380880"/>
            <a:ext cx="6476760" cy="6251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5400000">
            <a:off x="-1943280" y="2705040"/>
            <a:ext cx="6096240" cy="144792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словные обозначения 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лектроизмерительных прибор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33720" y="533520"/>
          <a:ext cx="6171840" cy="5943240"/>
        </p:xfrm>
        <a:graphic>
          <a:graphicData uri="http://schemas.openxmlformats.org/drawingml/2006/table">
            <a:tbl>
              <a:tblPr/>
              <a:tblGrid>
                <a:gridCol w="1953000"/>
                <a:gridCol w="2265840"/>
                <a:gridCol w="1953000"/>
              </a:tblGrid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Microsoft Sans Serif"/>
                        </a:rPr>
                        <a:t>Обозна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Microsoft Sans Serif"/>
                        </a:rPr>
                        <a:t>Наименование приб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Microsoft Sans Serif"/>
                        </a:rPr>
                        <a:t>Физическая велич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 txBox="1"/>
          <p:nvPr/>
        </p:nvSpPr>
        <p:spPr>
          <a:xfrm rot="5400000">
            <a:off x="-2062440" y="3205080"/>
            <a:ext cx="6019920" cy="523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полни таблиц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752760"/>
            <a:ext cx="7315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438280" y="228600"/>
            <a:ext cx="5486400" cy="6276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 rot="5400000">
            <a:off x="-1605240" y="3129120"/>
            <a:ext cx="5715000" cy="523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icrosoft Sans Serif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152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290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837720"/>
            <a:ext cx="73152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icrosoft Sans Serif"/>
              </a:rPr>
              <a:t>Электроизмерительные приборы</a:t>
            </a:r>
            <a:r>
              <a:rPr b="0" lang="ru-RU" sz="3200" spc="-1" strike="noStrike">
                <a:solidFill>
                  <a:srgbClr val="0033cc"/>
                </a:solidFill>
                <a:latin typeface="Microsoft Sans Serif"/>
              </a:rPr>
              <a:t> — класс устройств, применяемых для 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Microsoft Sans Serif"/>
              </a:rPr>
              <a:t>измерения </a:t>
            </a:r>
            <a:r>
              <a:rPr b="0" lang="ru-RU" sz="3200" spc="-1" strike="noStrike">
                <a:solidFill>
                  <a:srgbClr val="0033cc"/>
                </a:solidFill>
                <a:latin typeface="Microsoft Sans Serif"/>
              </a:rPr>
              <a:t>различных электрических 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Microsoft Sans Serif"/>
              </a:rPr>
              <a:t>величин</a:t>
            </a:r>
            <a:r>
              <a:rPr b="0" lang="ru-RU" sz="3200" spc="-1" strike="noStrike">
                <a:solidFill>
                  <a:srgbClr val="0033cc"/>
                </a:solidFill>
                <a:latin typeface="Microsoft Sans Serif"/>
              </a:rPr>
              <a:t>. 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76720" y="2971800"/>
            <a:ext cx="3886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33301"/>
                </a:solidFill>
                <a:latin typeface="Microsoft Sans Serif"/>
              </a:rPr>
              <a:t>ЗАПОМНИ!</a:t>
            </a:r>
            <a:endParaRPr b="0" lang="en-US" sz="7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icrosoft Sans Serif"/>
              </a:rPr>
              <a:t>АМПЕРМЕТРЫ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810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81480" y="685800"/>
            <a:ext cx="2863800" cy="3124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4920" y="1371600"/>
            <a:ext cx="2919240" cy="3124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133720" y="4191120"/>
            <a:ext cx="6648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icrosoft Sans Serif"/>
              </a:rPr>
              <a:t>Вольтметры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cc"/>
              </a:solidFill>
              <a:latin typeface="Microsoft Sans Serif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7800" y="3505320"/>
            <a:ext cx="2629080" cy="2628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426708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876920" y="914400"/>
            <a:ext cx="3943080" cy="167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Microsoft Sans Serif"/>
              </a:rPr>
              <a:t>Омметр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2520" y="190476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cc"/>
              </a:solidFill>
              <a:latin typeface="Microsoft Sans Serif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4267080" cy="3028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41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icrosoft Sans Serif"/>
              </a:rPr>
              <a:t>Ваттметры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34000" y="3808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3981600" cy="298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724280" y="4267080"/>
            <a:ext cx="3353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Microsoft Sans Serif"/>
              </a:rPr>
              <a:t>Частотометр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4120" y="53352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3398760" cy="3467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286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Admin</cp:lastModifiedBy>
  <dcterms:modified xsi:type="dcterms:W3CDTF">2017-02-13T06:23:28Z</dcterms:modified>
  <cp:revision>357</cp:revision>
  <dc:subject/>
  <dc:title>Name of presentation</dc:title>
</cp:coreProperties>
</file>