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4987-072E-44B9-A297-6F376953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BBA7-D320-4028-99C6-A66BC102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8C8B-6EE6-4DFE-9D6E-4EAEAECF5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71C4-DE09-44DF-AE26-2C82281F0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4E60-E756-4142-A9AD-8A2223CD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D482-6103-4D8F-8AAE-FA74E11C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12AC-A87D-4724-92FD-E0291899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FEB8-CE72-4D47-B55B-F1C2C230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3159-7901-4076-A814-B701CD23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7CBF-F98A-4896-BDF1-F85CD561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4B88-3CD4-4F25-9BA4-D5CC253B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BCAD-403E-43BD-97C0-F1AE49D0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534A-0C8C-47C1-84B7-37F6695C77D2}" type="slidenum"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4448160" y="1714680"/>
            <a:ext cx="4695840" cy="3438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9298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Тип хордовые животные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Строение ланцетника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143680" y="5143680"/>
            <a:ext cx="400032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b3a2c7"/>
                </a:solidFill>
                <a:latin typeface="Constantia"/>
              </a:rPr>
              <a:t>Урок подготовлен учителем МОУ лицей №1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b3a2c7"/>
                </a:solidFill>
                <a:latin typeface="Arial Unicode MS"/>
                <a:ea typeface="Arial Unicode MS"/>
              </a:rPr>
              <a:t> </a:t>
            </a:r>
            <a:r>
              <a:rPr b="0" lang="ru-RU" sz="2500" spc="-1" strike="noStrike">
                <a:solidFill>
                  <a:srgbClr val="b3a2c7"/>
                </a:solidFill>
                <a:latin typeface="Arial Unicode MS"/>
                <a:ea typeface="Arial Unicode MS"/>
              </a:rPr>
              <a:t>г. Славянска-на-Кубани</a:t>
            </a:r>
            <a:r>
              <a:rPr b="0" lang="ru-RU" sz="2500" spc="-1" strike="noStrike">
                <a:solidFill>
                  <a:srgbClr val="b3a2c7"/>
                </a:solidFill>
                <a:latin typeface="Constanti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b3a2c7"/>
                </a:solidFill>
                <a:latin typeface="Constantia"/>
              </a:rPr>
              <a:t>Дегтяренко Ю.Г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3171960"/>
            <a:ext cx="514368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onstantia"/>
              </a:rPr>
              <a:t>Кровеносная система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13840" y="1143000"/>
            <a:ext cx="8929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Замкнутая, движение крови осуществляется за счёт сокращения мышц жаберных артерий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Сердца нет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Кровь бесцветная, лишена форменных элементов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onstantia"/>
              </a:rPr>
              <a:t>Опорно-двигательная система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9997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onstantia"/>
              </a:rPr>
              <a:t>Внутренний скелет – </a:t>
            </a:r>
            <a:r>
              <a:rPr b="1" lang="ru-RU" sz="3500" spc="-1" strike="noStrike">
                <a:solidFill>
                  <a:srgbClr val="7030a0"/>
                </a:solidFill>
                <a:latin typeface="Constantia"/>
              </a:rPr>
              <a:t>хорда.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onstantia"/>
              </a:rPr>
              <a:t>Мускулатура имеет сегментарное строение. 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onstantia"/>
              </a:rPr>
              <a:t>Раздельнополые животные. 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onstantia"/>
              </a:rPr>
              <a:t>Половые органы имеют сегментарное строение.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onstantia"/>
              </a:rPr>
              <a:t>Оплодотворение наружное.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onstantia"/>
              </a:rPr>
              <a:t>Сперматозоиды и яйца выделяются в околожаберную полость.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Заголовок 1"/>
          <p:cNvSpPr/>
          <p:nvPr/>
        </p:nvSpPr>
        <p:spPr>
          <a:xfrm>
            <a:off x="142920" y="2786040"/>
            <a:ext cx="90010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Половая система, размножение и развит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Содержимое 3" descr=""/>
          <p:cNvPicPr/>
          <p:nvPr/>
        </p:nvPicPr>
        <p:blipFill>
          <a:blip r:embed="rId1"/>
          <a:stretch/>
        </p:blipFill>
        <p:spPr>
          <a:xfrm>
            <a:off x="-30240" y="-19080"/>
            <a:ext cx="9491760" cy="71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-142920" y="0"/>
            <a:ext cx="950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9" name="Содержимое 3" descr=""/>
          <p:cNvPicPr/>
          <p:nvPr/>
        </p:nvPicPr>
        <p:blipFill>
          <a:blip r:embed="rId1"/>
          <a:stretch/>
        </p:blipFill>
        <p:spPr>
          <a:xfrm>
            <a:off x="85680" y="-49320"/>
            <a:ext cx="911376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onstantia"/>
              </a:rPr>
              <a:t>Значение хордовых для человек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1" name="Содержимое 3" descr=""/>
          <p:cNvPicPr/>
          <p:nvPr/>
        </p:nvPicPr>
        <p:blipFill>
          <a:blip r:embed="rId1"/>
          <a:stretch/>
        </p:blipFill>
        <p:spPr>
          <a:xfrm>
            <a:off x="-42840" y="665280"/>
            <a:ext cx="9180360" cy="61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onstantia"/>
              </a:rPr>
              <a:t>Внешний вид бесчерепных на примере ланцетник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Размер – 5-8 см., тело имеет обтекаемую форму, голова не обособлена от туловища, хвост ромбовидной формы (похож на ланцет)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onstantia"/>
              </a:rPr>
              <a:t>Среда обитания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Ведут донный образ жизни, зарываются в песок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010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Constantia"/>
              </a:rPr>
              <a:t>Пищеварительная систем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-360" y="928800"/>
            <a:ext cx="471492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ищевые частицы склеиваются в глотке и поступают в кишечник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ищеварительная система включает рот, ротовую полость, глотку, среднюю кишку, куда впадает проток печени, заднюю кишку, анальное отверсти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ищеварительная система сквозная, слабо дифференцирована на отдел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меется печёночный вырост, в котором вырабатываются пищеварительные фермент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429080" y="1500120"/>
            <a:ext cx="47149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onstantia"/>
              </a:rPr>
              <a:t>Дыхательная систем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857160"/>
            <a:ext cx="46432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азообмен осуществляется в жаберных щелях, расположенных в стенке глотк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ода с растворённым в ней кислородом, поступает через рот в глотку, затем проходит через жаберные щели, в которых осуществляется газообмен, и через околожаберную полость выходит наружу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4429080" y="1357200"/>
            <a:ext cx="471492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onstantia"/>
              </a:rPr>
              <a:t>Выделительная систем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856800"/>
            <a:ext cx="4572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апоминает органы выделения многощетинковых кольчатых червей (соленоциты – аналоги протонефридиев, но содержащие только один жгутик вместо пучка ресничек.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асполагаются сегментарно вдоль  глотки и открываются в околожаберную полость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4500720" y="2143080"/>
            <a:ext cx="464328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nstantia"/>
              </a:rPr>
              <a:t>Нервная система и органы чувств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785520"/>
            <a:ext cx="44956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рвная система в виде трубочки, не разделённой на головной и спинной мозг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т нервной трубки отходят многочисленные нервы ко всем тканям тел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Имеются осязательные, химические и светочувствительные рецепторы, разбросанные по всей поверхности тел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357800" y="2214720"/>
            <a:ext cx="47289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7-02-13T12:59:17Z</dcterms:modified>
  <cp:revision>14</cp:revision>
  <dc:subject/>
  <dc:title>Тип хордовые животные.</dc:title>
</cp:coreProperties>
</file>