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E46-7E13-4D5D-AE69-8631714D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82D-4EB1-4388-8101-0E8F2CB6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FC5-BFCD-4AD9-B882-30AA5887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17A-C204-4B62-9E06-39928820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F1C-A330-4FB3-A058-BF895046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A4C-0506-4554-AE6D-06AD40FB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834-EF0D-49FB-AEA7-E6413F23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109-09FD-4F77-95EE-1F7B10BD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0FD-6615-4CC2-BF21-8049195F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6BE-D8B1-4E0B-B79E-1F2EABCC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E5C-B4E4-4D14-B3D0-9B38BB2B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0A3-72D3-4841-B6F2-964E78DA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8113-6601-40C4-8E71-334E78A789BD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448160" y="1714680"/>
            <a:ext cx="4695840" cy="343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Тип хордовые животные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троение ланцетника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143680" y="5143680"/>
            <a:ext cx="4000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3a2c7"/>
                </a:solidFill>
                <a:latin typeface="Constantia"/>
              </a:rPr>
              <a:t>Урок подготовлен учителем МОУ лицей №1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3a2c7"/>
                </a:solidFill>
                <a:latin typeface="Arial Unicode MS"/>
                <a:ea typeface="Arial Unicode MS"/>
              </a:rPr>
              <a:t> </a:t>
            </a:r>
            <a:r>
              <a:rPr b="0" lang="ru-RU" sz="2500" spc="-1" strike="noStrike">
                <a:solidFill>
                  <a:srgbClr val="b3a2c7"/>
                </a:solidFill>
                <a:latin typeface="Arial Unicode MS"/>
                <a:ea typeface="Arial Unicode MS"/>
              </a:rPr>
              <a:t>г. Славянска-на-Кубани</a:t>
            </a:r>
            <a:r>
              <a:rPr b="0" lang="ru-RU" sz="2500" spc="-1" strike="noStrike">
                <a:solidFill>
                  <a:srgbClr val="b3a2c7"/>
                </a:solidFill>
                <a:latin typeface="Constant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3a2c7"/>
                </a:solidFill>
                <a:latin typeface="Constantia"/>
              </a:rPr>
              <a:t>Дегтяренко Ю.Г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3171960"/>
            <a:ext cx="51436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Кровеносная система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3840" y="1143000"/>
            <a:ext cx="8929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Замкнутая, движение крови осуществляется за счёт сокращения мышц жаберных артерий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ердца не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ровь бесцветная, лишена форменных элементов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Опорно-двигательная система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99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Внутренний скелет – </a:t>
            </a:r>
            <a:r>
              <a:rPr b="1" lang="ru-RU" sz="3500" spc="-1" strike="noStrike">
                <a:solidFill>
                  <a:srgbClr val="7030a0"/>
                </a:solidFill>
                <a:latin typeface="Constantia"/>
              </a:rPr>
              <a:t>хорда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Мускулатура имеет сегментарное строение.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Раздельнополые животные.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Половые органы имеют сегментарное строение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Оплодотворение наружное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onstantia"/>
              </a:rPr>
              <a:t>Сперматозоиды и яйца выделяются в околожаберную полость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142920" y="2786040"/>
            <a:ext cx="9001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Половая система, размножение и 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-30240" y="-19080"/>
            <a:ext cx="9491760" cy="71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42920" y="0"/>
            <a:ext cx="95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85680" y="-49320"/>
            <a:ext cx="91137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tantia"/>
              </a:rPr>
              <a:t>Значение хордовых для челове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-42840" y="665280"/>
            <a:ext cx="9180360" cy="61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nstantia"/>
              </a:rPr>
              <a:t>Внешний вид бесчерепных на примере ланцетни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Размер – 5-8 см., тело имеет обтекаемую форму, голова не обособлена от туловища, хвост ромбовидной формы (похож на ланцет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nstantia"/>
              </a:rPr>
              <a:t>Среда обитания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Ведут донный образ жизни, зарываются в песок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01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nstantia"/>
              </a:rPr>
              <a:t>Пищеварительная систем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60" y="928800"/>
            <a:ext cx="47149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щевые частицы склеиваются в глотке и поступают в кишечни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щеварительная система включает рот, ротовую полость, глотку, среднюю кишку, куда впадает проток печени, заднюю кишку, анальное отверст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щеварительная система сквозная, слабо дифференцирована на отдел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меется печёночный вырост, в котором вырабатываются пищеварительные фермен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429080" y="1500120"/>
            <a:ext cx="4714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onstantia"/>
              </a:rPr>
              <a:t>Дыхательная систем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857160"/>
            <a:ext cx="4643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азообмен осуществляется в жаберных щелях, расположенных в стенке глот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да с растворённым в ней кислородом, поступает через рот в глотку, затем проходит через жаберные щели, в которых осуществляется газообмен, и через околожаберную полость выходит наружу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429080" y="1357200"/>
            <a:ext cx="47149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nstantia"/>
              </a:rPr>
              <a:t>Выделительная систем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856800"/>
            <a:ext cx="4572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поминает органы выделения многощетинковых кольчатых червей (соленоциты – аналоги протонефридиев, но содержащие только один жгутик вместо пучка ресничек.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полагаются сегментарно вдоль  глотки и открываются в околожаберную полос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500720" y="2143080"/>
            <a:ext cx="46432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nstantia"/>
              </a:rPr>
              <a:t>Нервная система и органы чувст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785520"/>
            <a:ext cx="4495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рвная система в виде трубочки, не разделённой на головной и спинной мозг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 нервной трубки отходят многочисленные нервы ко всем тканям тел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меются осязательные, химические и светочувствительные рецепторы, разбросанные по всей поверхности тел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357800" y="2214720"/>
            <a:ext cx="4728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02-13T12:59:17Z</dcterms:modified>
  <cp:revision>14</cp:revision>
  <dc:subject/>
  <dc:title>Тип хордовые животные.</dc:title>
</cp:coreProperties>
</file>