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84F-9248-4BDF-B2B2-A45DD32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F4B-2AFB-4BA6-BB9E-130A0C75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C02-6046-45CE-BF69-B42E11CC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382-8B0D-40E9-A41C-C56C5690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68A-F63E-478D-B4EF-7D23584A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9C88-C010-49A9-850D-64AB806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4972-54E8-4A0F-995D-A431414F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62C-BB5D-430D-8872-02726E7F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87BE-6FA8-42EB-85DD-3736AD5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1894-C472-47A8-824F-7DFE3389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ECF3-A6AA-4359-9306-B9F4E3B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F3E-F93E-40D0-8DC7-D519D7F0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552-0CE8-49A3-A3B4-8E7265E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AF6A-8098-4983-B262-C2D2331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6E3-83F7-443D-8D14-66C9A1A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6D6C-918E-4219-BC8D-347BA7A2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EB70-E967-4F21-B69C-6C771627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FC8-843F-44D8-AAAB-6DC4F23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7B8-AF8F-4CE0-8C98-9DFB0FC5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135-A395-429C-B3A0-CE71AB97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50B-D1E8-4F91-97C6-FA0CE55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AF4-FFFC-4CB8-ABF0-3D966FC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24F-1120-4581-B801-10E3407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354-FDE2-4E51-9C7D-D6A5724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6ec"/>
            </a:gs>
            <a:gs pos="100000">
              <a:srgbClr val="ff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6AA0-6C48-4993-BD41-3BE840A718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6ec"/>
            </a:gs>
            <a:gs pos="100000">
              <a:srgbClr val="ff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1E75-3BF8-4905-BB88-DAF1764EE1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bio.1september.ru/2004/41/8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2420640"/>
            <a:ext cx="8604360" cy="28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5e93c9"/>
                </a:solidFill>
                <a:latin typeface="Tahoma"/>
              </a:rPr>
              <a:t>Как зимой помочь птицам?</a:t>
            </a:r>
            <a:endParaRPr b="1" lang="en-US" sz="7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Picture 4" descr="MCj04234330000[1]"/>
          <p:cNvPicPr/>
          <p:nvPr/>
        </p:nvPicPr>
        <p:blipFill>
          <a:blip r:embed="rId1"/>
          <a:stretch/>
        </p:blipFill>
        <p:spPr>
          <a:xfrm>
            <a:off x="2484360" y="476280"/>
            <a:ext cx="3960720" cy="2516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5286240" y="571680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0909"/>
                </a:solidFill>
                <a:latin typeface="Times New Roman"/>
                <a:ea typeface="Times New Roman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0909"/>
                </a:solidFill>
                <a:latin typeface="Times New Roman"/>
                <a:ea typeface="Times New Roman"/>
              </a:rPr>
              <a:t>Воспитатель Александрова Е.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7168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e93c9"/>
                </a:solidFill>
                <a:latin typeface="Times New Roman"/>
                <a:ea typeface="Times New Roman"/>
              </a:rPr>
              <a:t>Если у кормушки нет крыши, то всю еду накроет снегом. Если птице не на что сесть или зацепиться лапками, есть ей будет неудоб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6" descr="MCj04234330000[1]"/>
          <p:cNvPicPr/>
          <p:nvPr/>
        </p:nvPicPr>
        <p:blipFill>
          <a:blip r:embed="rId1"/>
          <a:stretch/>
        </p:blipFill>
        <p:spPr>
          <a:xfrm>
            <a:off x="1071720" y="214200"/>
            <a:ext cx="2520720" cy="160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Картинка 10 из 503">
            <a:hlinkClick r:id="rId2"/>
          </p:cNvPr>
          <p:cNvPicPr/>
          <p:nvPr/>
        </p:nvPicPr>
        <p:blipFill>
          <a:blip r:embed="rId3"/>
          <a:srcRect l="49986" t="0" r="0" b="354"/>
          <a:stretch/>
        </p:blipFill>
        <p:spPr>
          <a:xfrm>
            <a:off x="1143000" y="1916280"/>
            <a:ext cx="3571920" cy="4652640"/>
          </a:xfrm>
          <a:prstGeom prst="rect">
            <a:avLst/>
          </a:prstGeom>
          <a:ln w="38160">
            <a:solidFill>
              <a:srgbClr val="aeae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83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464"/>
                </a:solidFill>
                <a:latin typeface="Tahoma"/>
              </a:rPr>
              <a:t>Чем кормить птиц зимой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Rectangle 382"/>
          <p:cNvSpPr/>
          <p:nvPr/>
        </p:nvSpPr>
        <p:spPr>
          <a:xfrm>
            <a:off x="1965240" y="11923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61"/>
          <p:cNvSpPr/>
          <p:nvPr/>
        </p:nvSpPr>
        <p:spPr>
          <a:xfrm>
            <a:off x="1965240" y="11923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860" descr="MCj04303760000[1]"/>
          <p:cNvPicPr/>
          <p:nvPr/>
        </p:nvPicPr>
        <p:blipFill>
          <a:blip r:embed="rId1"/>
          <a:stretch/>
        </p:blipFill>
        <p:spPr>
          <a:xfrm>
            <a:off x="1116000" y="2565360"/>
            <a:ext cx="93492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71640" y="2421000"/>
          <a:ext cx="7991280" cy="332748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935280"/>
                <a:gridCol w="720720"/>
                <a:gridCol w="1008000"/>
                <a:gridCol w="936720"/>
                <a:gridCol w="934920"/>
                <a:gridCol w="93492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Подсолнеч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(не жаре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Овес или овсяная к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Просо, пш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Арбузные и дынные семе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Кедровые оре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Ягоды рябины, бузины, черему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Хлебные кр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неги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Попол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Вороб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вирис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Дят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5975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Осенью многие птицы покидают свои родные места и летят зимовать на юг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Большинство из них хорошо переносит зимнюю стужу, но зимой под снегом  и льдом они не могут найти себе пищу, поэтому не холод, а голод заставляют их отправиться в дальнее путешеств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Не все птицы улетают на зиму в теплые края. В родных местах остаются те, которые могут и зимой находить себе пищу. Такие птицы называются </a:t>
            </a:r>
            <a:r>
              <a:rPr b="0" i="1" lang="ru-RU" sz="2400" spc="-1" strike="noStrike" u="sng">
                <a:solidFill>
                  <a:srgbClr val="5e93c9"/>
                </a:solidFill>
                <a:uFillTx/>
                <a:latin typeface="Tahoma"/>
              </a:rPr>
              <a:t>зимующ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4220640"/>
            <a:ext cx="7705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e93c9"/>
                </a:solidFill>
                <a:latin typeface="Tahoma"/>
              </a:rPr>
              <a:t>Эти птицы живут у нас круглый год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21"/>
          <p:cNvGrpSpPr/>
          <p:nvPr/>
        </p:nvGrpSpPr>
        <p:grpSpPr>
          <a:xfrm>
            <a:off x="3492360" y="1557360"/>
            <a:ext cx="2663280" cy="2302560"/>
            <a:chOff x="3492360" y="1557360"/>
            <a:chExt cx="2663280" cy="2302560"/>
          </a:xfrm>
        </p:grpSpPr>
        <p:pic>
          <p:nvPicPr>
            <p:cNvPr id="115" name="Picture 5" descr="0808c8ea2bc10288ef65f2116eb4d364"/>
            <p:cNvPicPr/>
            <p:nvPr/>
          </p:nvPicPr>
          <p:blipFill>
            <a:blip r:embed="rId1"/>
            <a:stretch/>
          </p:blipFill>
          <p:spPr>
            <a:xfrm>
              <a:off x="3667320" y="1557360"/>
              <a:ext cx="2219400" cy="160452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16" name="Group 6"/>
            <p:cNvGrpSpPr/>
            <p:nvPr/>
          </p:nvGrpSpPr>
          <p:grpSpPr>
            <a:xfrm>
              <a:off x="3492360" y="2891520"/>
              <a:ext cx="2663280" cy="968400"/>
              <a:chOff x="3492360" y="2891520"/>
              <a:chExt cx="2663280" cy="968400"/>
            </a:xfrm>
          </p:grpSpPr>
          <p:sp>
            <p:nvSpPr>
              <p:cNvPr id="117" name="AutoShape 7"/>
              <p:cNvSpPr/>
              <p:nvPr/>
            </p:nvSpPr>
            <p:spPr>
              <a:xfrm>
                <a:off x="3668400" y="2986200"/>
                <a:ext cx="2372760" cy="76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3492360" y="2891520"/>
                <a:ext cx="2663280" cy="9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Поползен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19" name="Group 22"/>
          <p:cNvGrpSpPr/>
          <p:nvPr/>
        </p:nvGrpSpPr>
        <p:grpSpPr>
          <a:xfrm>
            <a:off x="250920" y="260280"/>
            <a:ext cx="2663280" cy="2518560"/>
            <a:chOff x="250920" y="260280"/>
            <a:chExt cx="2663280" cy="2518560"/>
          </a:xfrm>
        </p:grpSpPr>
        <p:pic>
          <p:nvPicPr>
            <p:cNvPr id="120" name="Picture 10" descr="sinica5"/>
            <p:cNvPicPr/>
            <p:nvPr/>
          </p:nvPicPr>
          <p:blipFill>
            <a:blip r:embed="rId2"/>
            <a:srcRect l="12186" t="24420" r="20746" b="13256"/>
            <a:stretch/>
          </p:blipFill>
          <p:spPr>
            <a:xfrm>
              <a:off x="365400" y="260280"/>
              <a:ext cx="2548800" cy="19587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21" name="Group 11"/>
            <p:cNvGrpSpPr/>
            <p:nvPr/>
          </p:nvGrpSpPr>
          <p:grpSpPr>
            <a:xfrm>
              <a:off x="250920" y="1795320"/>
              <a:ext cx="2662920" cy="983520"/>
              <a:chOff x="250920" y="1795320"/>
              <a:chExt cx="2662920" cy="983520"/>
            </a:xfrm>
          </p:grpSpPr>
          <p:sp>
            <p:nvSpPr>
              <p:cNvPr id="122" name="AutoShape 12"/>
              <p:cNvSpPr/>
              <p:nvPr/>
            </p:nvSpPr>
            <p:spPr>
              <a:xfrm>
                <a:off x="427320" y="1891080"/>
                <a:ext cx="2372040" cy="77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250920" y="1795320"/>
                <a:ext cx="2662920" cy="9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иница</a:t>
                </a: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24" name="Group 19"/>
          <p:cNvGrpSpPr/>
          <p:nvPr/>
        </p:nvGrpSpPr>
        <p:grpSpPr>
          <a:xfrm>
            <a:off x="6516720" y="260280"/>
            <a:ext cx="2231640" cy="2591640"/>
            <a:chOff x="6516720" y="260280"/>
            <a:chExt cx="2231640" cy="2591640"/>
          </a:xfrm>
        </p:grpSpPr>
        <p:pic>
          <p:nvPicPr>
            <p:cNvPr id="125" name="Picture 15" descr="Воробей полевой"/>
            <p:cNvPicPr/>
            <p:nvPr/>
          </p:nvPicPr>
          <p:blipFill>
            <a:blip r:embed="rId3"/>
            <a:stretch/>
          </p:blipFill>
          <p:spPr>
            <a:xfrm>
              <a:off x="6595200" y="260280"/>
              <a:ext cx="2153160" cy="2284560"/>
            </a:xfrm>
            <a:prstGeom prst="rect">
              <a:avLst/>
            </a:prstGeom>
            <a:ln cap="rnd" w="22320">
              <a:solidFill>
                <a:srgbClr val="ff9675"/>
              </a:solidFill>
              <a:miter/>
            </a:ln>
          </p:spPr>
        </p:pic>
        <p:grpSp>
          <p:nvGrpSpPr>
            <p:cNvPr id="126" name="Group 16"/>
            <p:cNvGrpSpPr/>
            <p:nvPr/>
          </p:nvGrpSpPr>
          <p:grpSpPr>
            <a:xfrm>
              <a:off x="6516720" y="2111040"/>
              <a:ext cx="2152800" cy="740880"/>
              <a:chOff x="6516720" y="2111040"/>
              <a:chExt cx="2152800" cy="740880"/>
            </a:xfrm>
          </p:grpSpPr>
          <p:sp>
            <p:nvSpPr>
              <p:cNvPr id="127" name="AutoShape 17"/>
              <p:cNvSpPr/>
              <p:nvPr/>
            </p:nvSpPr>
            <p:spPr>
              <a:xfrm>
                <a:off x="6676920" y="2111040"/>
                <a:ext cx="1913760" cy="74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ff9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8"/>
              <p:cNvSpPr/>
              <p:nvPr/>
            </p:nvSpPr>
            <p:spPr>
              <a:xfrm>
                <a:off x="6516720" y="2111040"/>
                <a:ext cx="2152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Воробей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7920000" cy="3743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6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иницы почти круглый год живут в лесах, парках и садах. Зимой в поисках корма они собираются в стайки и перебираются ближе к жилью человека. Когда нет насекомых, синицы едят семена деревьев и кустарников, любят хлеб и са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203640" y="333360"/>
            <a:ext cx="2663280" cy="2518560"/>
            <a:chOff x="3203640" y="333360"/>
            <a:chExt cx="2663280" cy="2518560"/>
          </a:xfrm>
        </p:grpSpPr>
        <p:pic>
          <p:nvPicPr>
            <p:cNvPr id="131" name="Picture 5" descr="sinica5"/>
            <p:cNvPicPr/>
            <p:nvPr/>
          </p:nvPicPr>
          <p:blipFill>
            <a:blip r:embed="rId1"/>
            <a:srcRect l="12186" t="24420" r="20746" b="13256"/>
            <a:stretch/>
          </p:blipFill>
          <p:spPr>
            <a:xfrm>
              <a:off x="3318120" y="333360"/>
              <a:ext cx="2548800" cy="19587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32" name="Group 6"/>
            <p:cNvGrpSpPr/>
            <p:nvPr/>
          </p:nvGrpSpPr>
          <p:grpSpPr>
            <a:xfrm>
              <a:off x="3203640" y="1868400"/>
              <a:ext cx="2662920" cy="983520"/>
              <a:chOff x="3203640" y="1868400"/>
              <a:chExt cx="2662920" cy="983520"/>
            </a:xfrm>
          </p:grpSpPr>
          <p:sp>
            <p:nvSpPr>
              <p:cNvPr id="133" name="AutoShape 7"/>
              <p:cNvSpPr/>
              <p:nvPr/>
            </p:nvSpPr>
            <p:spPr>
              <a:xfrm>
                <a:off x="3380040" y="1964160"/>
                <a:ext cx="2372040" cy="77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8"/>
              <p:cNvSpPr/>
              <p:nvPr/>
            </p:nvSpPr>
            <p:spPr>
              <a:xfrm>
                <a:off x="3203640" y="1868400"/>
                <a:ext cx="2662920" cy="9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иница</a:t>
                </a: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00000" y="3715920"/>
            <a:ext cx="7920000" cy="28083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6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Воробьи зимой тоже держаться поближе к человеку. В сильные морозы им холодно ночевать под открытым небом, поэтому они забиваются на ночь в щели домов, под крыши сарае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3276720" y="333360"/>
            <a:ext cx="2663280" cy="3023640"/>
            <a:chOff x="3276720" y="333360"/>
            <a:chExt cx="2663280" cy="3023640"/>
          </a:xfrm>
        </p:grpSpPr>
        <p:pic>
          <p:nvPicPr>
            <p:cNvPr id="137" name="Picture 9" descr="Воробей полевой"/>
            <p:cNvPicPr/>
            <p:nvPr/>
          </p:nvPicPr>
          <p:blipFill>
            <a:blip r:embed="rId1"/>
            <a:stretch/>
          </p:blipFill>
          <p:spPr>
            <a:xfrm>
              <a:off x="3370320" y="333360"/>
              <a:ext cx="2569680" cy="2665440"/>
            </a:xfrm>
            <a:prstGeom prst="rect">
              <a:avLst/>
            </a:prstGeom>
            <a:ln cap="rnd" w="22320">
              <a:solidFill>
                <a:srgbClr val="ff9675"/>
              </a:solidFill>
              <a:miter/>
            </a:ln>
          </p:spPr>
        </p:pic>
        <p:grpSp>
          <p:nvGrpSpPr>
            <p:cNvPr id="138" name="Group 10"/>
            <p:cNvGrpSpPr/>
            <p:nvPr/>
          </p:nvGrpSpPr>
          <p:grpSpPr>
            <a:xfrm>
              <a:off x="3276720" y="2492640"/>
              <a:ext cx="2569320" cy="864360"/>
              <a:chOff x="3276720" y="2492640"/>
              <a:chExt cx="2569320" cy="864360"/>
            </a:xfrm>
          </p:grpSpPr>
          <p:sp>
            <p:nvSpPr>
              <p:cNvPr id="139" name="AutoShape 11"/>
              <p:cNvSpPr/>
              <p:nvPr/>
            </p:nvSpPr>
            <p:spPr>
              <a:xfrm>
                <a:off x="3467880" y="2492640"/>
                <a:ext cx="2283840" cy="86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ff9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3276720" y="2492640"/>
                <a:ext cx="2569320" cy="7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Воробей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3212640"/>
            <a:ext cx="7920000" cy="331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вое название получил от слова «ползать». Зимой вместе с синицами прилетает к человеческому жилью. Есть он будет все, что сможет найти. Если найдет кормушку, то семена будет перетаскивать и прятать, делать запа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2916360" y="333360"/>
            <a:ext cx="3383640" cy="2589840"/>
            <a:chOff x="2916360" y="333360"/>
            <a:chExt cx="3383640" cy="2589840"/>
          </a:xfrm>
        </p:grpSpPr>
        <p:pic>
          <p:nvPicPr>
            <p:cNvPr id="143" name="Picture 9" descr="0808c8ea2bc10288ef65f2116eb4d364"/>
            <p:cNvPicPr/>
            <p:nvPr/>
          </p:nvPicPr>
          <p:blipFill>
            <a:blip r:embed="rId1"/>
            <a:stretch/>
          </p:blipFill>
          <p:spPr>
            <a:xfrm>
              <a:off x="3138840" y="333360"/>
              <a:ext cx="2819520" cy="180468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44" name="Group 10"/>
            <p:cNvGrpSpPr/>
            <p:nvPr/>
          </p:nvGrpSpPr>
          <p:grpSpPr>
            <a:xfrm>
              <a:off x="2916360" y="1833840"/>
              <a:ext cx="3383640" cy="1089360"/>
              <a:chOff x="2916360" y="1833840"/>
              <a:chExt cx="3383640" cy="1089360"/>
            </a:xfrm>
          </p:grpSpPr>
          <p:sp>
            <p:nvSpPr>
              <p:cNvPr id="145" name="AutoShape 11"/>
              <p:cNvSpPr/>
              <p:nvPr/>
            </p:nvSpPr>
            <p:spPr>
              <a:xfrm>
                <a:off x="3140280" y="1940400"/>
                <a:ext cx="3014640" cy="857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2"/>
              <p:cNvSpPr/>
              <p:nvPr/>
            </p:nvSpPr>
            <p:spPr>
              <a:xfrm>
                <a:off x="2916360" y="1833840"/>
                <a:ext cx="33836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Поползень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4292640"/>
            <a:ext cx="7705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e93c9"/>
                </a:solidFill>
                <a:latin typeface="Tahoma"/>
              </a:rPr>
              <a:t>Эти птицы прилетают к нам на зиму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5148360" y="1197000"/>
            <a:ext cx="3168000" cy="2736000"/>
            <a:chOff x="5148360" y="1197000"/>
            <a:chExt cx="3168000" cy="2736000"/>
          </a:xfrm>
        </p:grpSpPr>
        <p:pic>
          <p:nvPicPr>
            <p:cNvPr id="149" name="Picture 4" descr="bu_16"/>
            <p:cNvPicPr/>
            <p:nvPr/>
          </p:nvPicPr>
          <p:blipFill>
            <a:blip r:embed="rId1"/>
            <a:srcRect l="23078" t="13181" r="13479" b="12110"/>
            <a:stretch/>
          </p:blipFill>
          <p:spPr>
            <a:xfrm>
              <a:off x="5545440" y="1197000"/>
              <a:ext cx="2474280" cy="22089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50" name="Group 5"/>
            <p:cNvGrpSpPr/>
            <p:nvPr/>
          </p:nvGrpSpPr>
          <p:grpSpPr>
            <a:xfrm>
              <a:off x="5148360" y="2945520"/>
              <a:ext cx="3168000" cy="987480"/>
              <a:chOff x="5148360" y="2945520"/>
              <a:chExt cx="3168000" cy="98748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5248800" y="3042000"/>
                <a:ext cx="2969280" cy="777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5148360" y="2945520"/>
                <a:ext cx="3168000" cy="9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Свиристел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3" name="Group 8"/>
          <p:cNvGrpSpPr/>
          <p:nvPr/>
        </p:nvGrpSpPr>
        <p:grpSpPr>
          <a:xfrm>
            <a:off x="684360" y="549360"/>
            <a:ext cx="3310560" cy="2591640"/>
            <a:chOff x="684360" y="549360"/>
            <a:chExt cx="3310560" cy="2591640"/>
          </a:xfrm>
        </p:grpSpPr>
        <p:pic>
          <p:nvPicPr>
            <p:cNvPr id="154" name="Picture 9" descr="440986995_ca7b268c43"/>
            <p:cNvPicPr/>
            <p:nvPr/>
          </p:nvPicPr>
          <p:blipFill>
            <a:blip r:embed="rId2"/>
            <a:stretch/>
          </p:blipFill>
          <p:spPr>
            <a:xfrm>
              <a:off x="793080" y="549360"/>
              <a:ext cx="3067200" cy="213984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55" name="Group 10"/>
            <p:cNvGrpSpPr/>
            <p:nvPr/>
          </p:nvGrpSpPr>
          <p:grpSpPr>
            <a:xfrm>
              <a:off x="684360" y="2094120"/>
              <a:ext cx="3310560" cy="1046880"/>
              <a:chOff x="684360" y="2094120"/>
              <a:chExt cx="3310560" cy="1046880"/>
            </a:xfrm>
          </p:grpSpPr>
          <p:sp>
            <p:nvSpPr>
              <p:cNvPr id="156" name="AutoShape 11"/>
              <p:cNvSpPr/>
              <p:nvPr/>
            </p:nvSpPr>
            <p:spPr>
              <a:xfrm>
                <a:off x="903960" y="2196000"/>
                <a:ext cx="2948760" cy="82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2"/>
              <p:cNvSpPr/>
              <p:nvPr/>
            </p:nvSpPr>
            <p:spPr>
              <a:xfrm>
                <a:off x="684360" y="2094120"/>
                <a:ext cx="3310560" cy="10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негирь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3212640"/>
            <a:ext cx="7920000" cy="331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7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Зимой в наших лесах появляется много снегирей. Сюда они прилетают из северных лесов. Появление снегиря всегда связано с первым снегом, отсюда и название этой птицы. Как только снег подтает, птицы улета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43280" y="549360"/>
            <a:ext cx="3310560" cy="2591640"/>
            <a:chOff x="2843280" y="549360"/>
            <a:chExt cx="3310560" cy="2591640"/>
          </a:xfrm>
        </p:grpSpPr>
        <p:pic>
          <p:nvPicPr>
            <p:cNvPr id="160" name="Picture 9" descr="440986995_ca7b268c43"/>
            <p:cNvPicPr/>
            <p:nvPr/>
          </p:nvPicPr>
          <p:blipFill>
            <a:blip r:embed="rId1"/>
            <a:stretch/>
          </p:blipFill>
          <p:spPr>
            <a:xfrm>
              <a:off x="2952000" y="549360"/>
              <a:ext cx="3067200" cy="213984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61" name="Group 10"/>
            <p:cNvGrpSpPr/>
            <p:nvPr/>
          </p:nvGrpSpPr>
          <p:grpSpPr>
            <a:xfrm>
              <a:off x="2843280" y="2094120"/>
              <a:ext cx="3310560" cy="1046880"/>
              <a:chOff x="2843280" y="2094120"/>
              <a:chExt cx="3310560" cy="1046880"/>
            </a:xfrm>
          </p:grpSpPr>
          <p:sp>
            <p:nvSpPr>
              <p:cNvPr id="162" name="AutoShape 11"/>
              <p:cNvSpPr/>
              <p:nvPr/>
            </p:nvSpPr>
            <p:spPr>
              <a:xfrm>
                <a:off x="3062880" y="2196000"/>
                <a:ext cx="2948760" cy="82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12"/>
              <p:cNvSpPr/>
              <p:nvPr/>
            </p:nvSpPr>
            <p:spPr>
              <a:xfrm>
                <a:off x="2843280" y="2094120"/>
                <a:ext cx="3310560" cy="10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негирь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2997000"/>
            <a:ext cx="8209080" cy="367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7000"/>
          </a:bodyPr>
          <a:p>
            <a:pPr marL="6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виристель живет в тайге (хвойные, густые леса). Птенцов кормит комарами, которых в тайге видимо-невидимо. Кроме комаров свиристель питается ягодами рябины, клюквы, калины. С приходом зимы ягод становится меньше, а комары исчезают. Поэтому птицы собираются в стаи и летят южн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2843280" y="333360"/>
            <a:ext cx="3168000" cy="2736000"/>
            <a:chOff x="2843280" y="333360"/>
            <a:chExt cx="3168000" cy="2736000"/>
          </a:xfrm>
        </p:grpSpPr>
        <p:pic>
          <p:nvPicPr>
            <p:cNvPr id="166" name="Picture 9" descr="bu_16"/>
            <p:cNvPicPr/>
            <p:nvPr/>
          </p:nvPicPr>
          <p:blipFill>
            <a:blip r:embed="rId1"/>
            <a:srcRect l="23078" t="13181" r="13479" b="12110"/>
            <a:stretch/>
          </p:blipFill>
          <p:spPr>
            <a:xfrm>
              <a:off x="3240360" y="333360"/>
              <a:ext cx="2474280" cy="22089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67" name="Group 10"/>
            <p:cNvGrpSpPr/>
            <p:nvPr/>
          </p:nvGrpSpPr>
          <p:grpSpPr>
            <a:xfrm>
              <a:off x="2843280" y="2081880"/>
              <a:ext cx="3168000" cy="987480"/>
              <a:chOff x="2843280" y="2081880"/>
              <a:chExt cx="3168000" cy="987480"/>
            </a:xfrm>
          </p:grpSpPr>
          <p:sp>
            <p:nvSpPr>
              <p:cNvPr id="168" name="AutoShape 11"/>
              <p:cNvSpPr/>
              <p:nvPr/>
            </p:nvSpPr>
            <p:spPr>
              <a:xfrm>
                <a:off x="2943720" y="2178360"/>
                <a:ext cx="2969280" cy="777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2843280" y="2081880"/>
                <a:ext cx="3168000" cy="9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Свиристел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13:55:08Z</dcterms:created>
  <dc:creator>Ленок</dc:creator>
  <dc:description/>
  <dc:language>en-US</dc:language>
  <cp:lastModifiedBy>acer</cp:lastModifiedBy>
  <dcterms:modified xsi:type="dcterms:W3CDTF">2017-01-26T05:58:58Z</dcterms:modified>
  <cp:revision>6</cp:revision>
  <dc:subject/>
  <dc:title>Слайд 1</dc:title>
</cp:coreProperties>
</file>