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EBD-23D0-4D68-91A2-8C410189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065-14E9-41C2-91AB-A7E68949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910-62BF-4997-9155-290C229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F15-E7DF-445E-AC7B-F63EF521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36A-1C08-4CE5-9D01-B4DD9F10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D13-5189-4B83-9EC3-EA02C95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B95-8767-472F-9069-5B8736D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465-235F-4797-8F2D-77BCBC50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466-5C56-4787-8B5C-96A48B89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494-12FD-416F-8242-C591ED6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7E8-27CF-4277-B008-5B2151A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07B-ED45-4635-A762-2935F97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473-2F9C-40A4-9794-B2DBFD649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smileplanet.ru/_ph/663/2/6307503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86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1c11"/>
                </a:solidFill>
                <a:latin typeface="Calibri"/>
              </a:rPr>
              <a:t>«ЖИВОТНЫЕ ЖАРКИХ СТР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-6480" y="5589720"/>
            <a:ext cx="914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итель-логопед Касакова Н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итель-логопед МБДОУ МО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Детский сад№ 70»</a:t>
            </a: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юрий\Desktop\ЖИВОТНЫЕ ЖАРКИХ СТРАН\кенгур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от хорошая задумка –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На животик вешать сумку!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Можно в ней носить детей,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И скакать среди степ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://img1.liveinternet.ru/images/attach/c/6/91/10/91010177_large_MTS_Blaggiii1244376pictur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357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от лошадки, все в полосках,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Может быть они в матросках?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Нет, они такого цвета.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Угадайте, кто же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C 0.13472 -0.28518 0.26962 -0.57037 0.26788 -0.56921 C 0.26649 -0.56736 0.03646 -0.08565 -0.00868 0.00972 E"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900igr.net/datai/biologija/Voprosy-pro-organizmy/0005-016-Blits-vopro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Посмотрите, он каков!</a:t>
            </a:r>
            <a:br>
              <a:rPr sz="4000"/>
            </a:b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Ходит посреди песков,</a:t>
            </a:r>
            <a:br>
              <a:rPr sz="4000"/>
            </a:b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Бережёт в горбах водицу –</a:t>
            </a:r>
            <a:br>
              <a:rPr sz="4000"/>
            </a:b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Вода в пустыне пригоди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http://i1.alfi.lt/5337/88/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Только в Африке найду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Зверя этого в пруду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Если выйдет он на сушу,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Станет очень неуклюжи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юрий\Desktop\ЖИВОТНЫЕ ЖАРКИХ СТРАН\жираф.jpg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143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632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Вот живой подъёмный кран,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Обитатель жарких стран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Со стволов многоэтажных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Рвёт и листья, и бана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4" descr="антилопа.jpg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8620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Зебры очень испугались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И от страха вдаль умчались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В панике им вслед галопом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Поскакала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юрий\Desktop\ЖИВОТНЫЕ ЖАРКИХ СТРАН\дикобра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Он чуть-чуть ежа крупнее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И колючки подлиннее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В зоопарке видел раз…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Кто же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 rot="10800000">
            <a:off x="1331280" y="6858000"/>
            <a:ext cx="61196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pazitiff.info/uploads/posts/2011-02/thumbs/1298400779_koala-in-eucalyptus-tree-austral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ишка эвкалипт жует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н в Австралии живе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юрий\Desktop\ЖИВОТНЫЕ ЖАРКИХ СТРАН\муравье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вовсе не медведь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уравьёв он любит е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forum.norma4.net.ua/attachments/galereya-fleima/104048d1242723804-zhyvotnyie-1227437199_rrsrrs-ryirrsrs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785840"/>
            <a:ext cx="75722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Затаившись средь ветвей,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сю окрестность и зверей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Словно сцену из партера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идит чёрная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жарких стр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651640" y="1426680"/>
            <a:ext cx="32400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жунглях звон везде стоит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жунглях слон во всю труби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жирафа шея длинна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видать ему вокруг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бры грива лошадиная 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ля всех хороший дру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пустыне поутр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скакала кенгур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лнца все в глазах искрит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игрятами лежит тигриц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й Африке за все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храбрый ле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60200" y="1125360"/>
            <a:ext cx="5472360" cy="4607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6667560" y="5013360"/>
            <a:ext cx="2449440" cy="1792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8028000" y="157320"/>
            <a:ext cx="112068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4"/>
          <a:stretch/>
        </p:blipFill>
        <p:spPr>
          <a:xfrm>
            <a:off x="-4680" y="5732640"/>
            <a:ext cx="1380960" cy="1029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5"/>
          <a:stretch/>
        </p:blipFill>
        <p:spPr>
          <a:xfrm>
            <a:off x="324000" y="-12600"/>
            <a:ext cx="14014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0" y="112680"/>
            <a:ext cx="905364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5229360"/>
            <a:ext cx="76150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-163440" y="-9360"/>
            <a:ext cx="96217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2320" y="522936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валочку идё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е любит сладкий мё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мбука листья пожуё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ложится на живо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naturelight.ru/photo/2007-10-24/35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4572000"/>
            <a:ext cx="6357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Запах чувствует отлично,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Падаль – вот ее добыча.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Ну зачем ей гигиена?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Что попало ест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00312 -0.65879 E">
                                      <p:cBhvr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тветы на загадки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. Лев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1. Бегемот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2. Обезьяна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    12. Жираф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3. Слон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3. Антилоп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4. Тигр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4. Дикобраз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5. Черепаха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5. Коал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6. Носорог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6. Муравьед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7. Крокодил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7. Пантер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8. Кенгуру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8. Панд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9. Зебра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9. Гиен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0. Верблюд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 rot="10800000">
            <a:off x="457200" y="681192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zoo-dom.com.ua/upload/articles/ru/20090526105338_fo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Полюбуйтесь поскорей!</a:t>
            </a: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Перед вами – царь зверей,</a:t>
            </a: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Всколыхнулась чудо-грива,</a:t>
            </a: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Шелковиста и краси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Это что за озорница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На лиане веселится?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6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52560" y="5276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что за озорниц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ане весел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хвосте качается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ет и кривля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юрий\Desktop\ЖИВОТНЫЕ ЖАРКИХ СТРАН\с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Носом-шлангом великан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Моется, как в душе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Этот житель жарких стран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Всех крупней на суш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image.ucoz.net/_ph/18/6473265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57120" y="-360"/>
            <a:ext cx="98582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н красивый, как огонь, с чёрными полосками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чень грозные клыки, лапы, когти - велики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трашен даже взрослым он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юрий\Desktop\ЖИВОТНЫЕ ЖАРКИХ СТРАН\черепаха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еуклюжа, тихоходна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осит дом с собой в походах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ём живет одна без страх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 соседей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://thekievtimes.com/wp-content/uploads/2013/02/4553-e1360913993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 бегемотом так похожи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ба очень толстокож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 носу есть острый рог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десь пасётся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byaki.net/uploads/posts/2012-04/1333305887_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Шум и крик на водопое,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Что случилось там такое?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сю округу разбудил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Этот нильский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8:37:47Z</dcterms:created>
  <dc:creator>юрий</dc:creator>
  <dc:description/>
  <dc:language>en-US</dc:language>
  <cp:lastModifiedBy>ннннннн</cp:lastModifiedBy>
  <dcterms:modified xsi:type="dcterms:W3CDTF">2017-02-12T21:09:58Z</dcterms:modified>
  <cp:revision>50</cp:revision>
  <dc:subject/>
  <dc:title>Слайд 1</dc:title>
</cp:coreProperties>
</file>