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674-5475-48FD-B631-0FDA4B8A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8A2-EC4D-4DA4-8C97-46EC5FB3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531-5D6C-4065-9AFA-FBFC3707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535-EF58-4A2F-8447-EA363895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62E-EF6D-4740-BF43-C8CD0739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25B-25EF-46A3-BDD0-50FC1A31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F58-68E7-43DD-84CA-3CD041F0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58D-B4B5-436D-81C2-68F44CD4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97F-3808-4F0F-A837-47D2E207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73D-90D8-402E-B7AE-D8C00501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7E8-6C31-4A8B-95A4-1A198BB9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F14-1961-40CE-8B9E-BD17F4C6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A122-569F-4DB9-A1EF-E734A8B92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smileplanet.ru/_ph/663/2/6307503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868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e1c11"/>
                </a:solidFill>
                <a:latin typeface="Calibri"/>
              </a:rPr>
              <a:t>«ЖИВОТНЫЕ ЖАРКИХ СТРА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-6480" y="5589720"/>
            <a:ext cx="9144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читель-логопед Касакова Н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читель-логопед МБДОУ МО г. Красно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Детский сад№ 70»</a:t>
            </a:r>
            <a:r>
              <a:rPr b="1" lang="ru-RU" sz="2000" spc="-1" strike="noStrike">
                <a:solidFill>
                  <a:srgbClr val="1e1c11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юрий\Desktop\ЖИВОТНЫЕ ЖАРКИХ СТРАН\кенгуру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Вот хорошая задумка –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На животик вешать сумку!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Можно в ней носить детей,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И скакать среди степ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http://img1.liveinternet.ru/images/attach/c/6/91/10/91010177_large_MTS_Blaggiii1244376pictur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3574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Вот лошадки, все в полосках,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Может быть они в матросках?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Нет, они такого цвета.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Угадайте, кто же эт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C 0.13472 -0.28518 0.26962 -0.57037 0.26788 -0.56921 C 0.26649 -0.56736 0.03646 -0.08565 -0.00868 0.00972 E">
                                      <p:cBhvr>
                                        <p:cTn id="105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http://900igr.net/datai/biologija/Voprosy-pro-organizmy/0005-016-Blits-vopros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alibri"/>
              </a:rPr>
              <a:t>Посмотрите, он каков!</a:t>
            </a:r>
            <a:br>
              <a:rPr sz="4000"/>
            </a:br>
            <a:r>
              <a:rPr b="1" lang="ru-RU" sz="4000" spc="-1" strike="noStrike">
                <a:solidFill>
                  <a:srgbClr val="403152"/>
                </a:solidFill>
                <a:latin typeface="Calibri"/>
              </a:rPr>
              <a:t>Ходит посреди песков,</a:t>
            </a:r>
            <a:br>
              <a:rPr sz="4000"/>
            </a:br>
            <a:r>
              <a:rPr b="1" lang="ru-RU" sz="4000" spc="-1" strike="noStrike">
                <a:solidFill>
                  <a:srgbClr val="403152"/>
                </a:solidFill>
                <a:latin typeface="Calibri"/>
              </a:rPr>
              <a:t>Бережёт в горбах водицу –</a:t>
            </a:r>
            <a:br>
              <a:rPr sz="4000"/>
            </a:br>
            <a:r>
              <a:rPr b="1" lang="ru-RU" sz="4000" spc="-1" strike="noStrike">
                <a:solidFill>
                  <a:srgbClr val="403152"/>
                </a:solidFill>
                <a:latin typeface="Calibri"/>
              </a:rPr>
              <a:t>Вода в пустыне пригодит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http://i1.alfi.lt/5337/88/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Только в Африке найду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Зверя этого в пруду.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Если выйдет он на сушу,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Станет очень неуклюжи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юрий\Desktop\ЖИВОТНЫЕ ЖАРКИХ СТРАН\жираф.jpg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8143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4632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Вот живой подъёмный кран,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Обитатель жарких стран.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Со стволов многоэтажных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Рвёт и листья, и банан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4" descr="антилопа.jpg"/>
          <p:cNvPicPr/>
          <p:nvPr/>
        </p:nvPicPr>
        <p:blipFill>
          <a:blip r:embed="rId1"/>
          <a:stretch/>
        </p:blipFill>
        <p:spPr>
          <a:xfrm>
            <a:off x="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78620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Зебры очень испугались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И от страха вдаль умчались.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В панике им вслед галопом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Поскакала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юрий\Desktop\ЖИВОТНЫЕ ЖАРКИХ СТРАН\дикобраз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8584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Он чуть-чуть ежа крупнее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И колючки подлиннее.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В зоопарке видел раз…</a:t>
            </a:r>
            <a:br>
              <a:rPr sz="4000"/>
            </a:br>
            <a:r>
              <a:rPr b="1" lang="ru-RU" sz="4000" spc="-1" strike="noStrike">
                <a:solidFill>
                  <a:srgbClr val="eeece1"/>
                </a:solidFill>
                <a:latin typeface="Calibri"/>
              </a:rPr>
              <a:t>Кто же эт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 rot="10800000">
            <a:off x="1331280" y="6858000"/>
            <a:ext cx="611964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http://pazitiff.info/uploads/posts/2011-02/thumbs/1298400779_koala-in-eucalyptus-tree-austral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ишка эвкалипт жует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н в Австралии живе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юрий\Desktop\ЖИВОТНЫЕ ЖАРКИХ СТРАН\муравьед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то вовсе не медведь,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уравьёв он любит е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://forum.norma4.net.ua/attachments/galereya-fleima/104048d1242723804-zhyvotnyie-1227437199_rrsrrs-ryirrsrs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785840"/>
            <a:ext cx="75722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Затаившись средь ветвей,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Всю окрестность и зверей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Словно сцену из партера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Видит чёрная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 жарких стр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5651640" y="1426680"/>
            <a:ext cx="324000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жунглях звон везде стоит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жунглях слон во всю труби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жирафа шея длинна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 видать ему вокруг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ебры грива лошадиная 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для всех хороший дру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 пустыне поутр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скакала кенгур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олнца все в глазах искрит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игрятами лежит тигриц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екой Африке за все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 храбрый ле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160200" y="1125360"/>
            <a:ext cx="5472360" cy="4607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6667560" y="5013360"/>
            <a:ext cx="2449440" cy="1792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"/>
          <p:cNvPicPr/>
          <p:nvPr/>
        </p:nvPicPr>
        <p:blipFill>
          <a:blip r:embed="rId3"/>
          <a:stretch/>
        </p:blipFill>
        <p:spPr>
          <a:xfrm>
            <a:off x="8028000" y="157320"/>
            <a:ext cx="1120680" cy="1255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4"/>
          <a:stretch/>
        </p:blipFill>
        <p:spPr>
          <a:xfrm>
            <a:off x="-4680" y="5732640"/>
            <a:ext cx="1380960" cy="1029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"/>
          <p:cNvPicPr/>
          <p:nvPr/>
        </p:nvPicPr>
        <p:blipFill>
          <a:blip r:embed="rId5"/>
          <a:stretch/>
        </p:blipFill>
        <p:spPr>
          <a:xfrm>
            <a:off x="324000" y="-12600"/>
            <a:ext cx="14014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8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8" dur="2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бъект 3" descr=""/>
          <p:cNvPicPr/>
          <p:nvPr/>
        </p:nvPicPr>
        <p:blipFill>
          <a:blip r:embed="rId1"/>
          <a:stretch/>
        </p:blipFill>
        <p:spPr>
          <a:xfrm>
            <a:off x="0" y="112680"/>
            <a:ext cx="905364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5229360"/>
            <a:ext cx="761508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2" descr=""/>
          <p:cNvPicPr/>
          <p:nvPr/>
        </p:nvPicPr>
        <p:blipFill>
          <a:blip r:embed="rId1"/>
          <a:stretch/>
        </p:blipFill>
        <p:spPr>
          <a:xfrm>
            <a:off x="-163440" y="-9360"/>
            <a:ext cx="96217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2320" y="522936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ревалочку идёт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не любит сладкий мёд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мбука листья пожуё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ложится на живо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naturelight.ru/photo/2007-10-24/35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480" y="4572000"/>
            <a:ext cx="63579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Запах чувствует отлично, 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Падаль – вот ее добыча. 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Ну зачем ей гигиена? 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Что попало ест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L 0.00312 -0.65879 E">
                                      <p:cBhvr>
                                        <p:cTn id="16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тветы на загадки: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. Лев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1. Бегемот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2. Обезьяна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       12. Жираф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3. Слон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3. Антилопа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4. Тигр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4. Дикобраз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5. Черепаха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5. Коала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6. Носорог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6. Муравьед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7. Крокодил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7. Пантера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8. Кенгуру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8. Панда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9. Зебра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9. Гиена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10. Верблюд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 rot="10800000">
            <a:off x="457200" y="681192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zoo-dom.com.ua/upload/articles/ru/20090526105338_fot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Полюбуйтесь поскорей!</a:t>
            </a:r>
            <a:br>
              <a:rPr sz="4000"/>
            </a:b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Перед вами – царь зверей,</a:t>
            </a:r>
            <a:br>
              <a:rPr sz="4000"/>
            </a:b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Всколыхнулась чудо-грива,</a:t>
            </a:r>
            <a:br>
              <a:rPr sz="4000"/>
            </a:b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Шелковиста и краси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1427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Это что за озорница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На лиане веселится?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68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52560" y="5276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что за озорниц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лиане весел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хвосте качается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чет и кривля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юрий\Desktop\ЖИВОТНЫЕ ЖАРКИХ СТРАН\сл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Носом-шлангом великан</a:t>
            </a: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Моется, как в душе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Этот житель жарких стран</a:t>
            </a: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Всех крупней на суш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image.ucoz.net/_ph/18/6473265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57120" y="-360"/>
            <a:ext cx="98582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н красивый, как огонь, с чёрными полосками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чень грозные клыки, лапы, когти - велики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трашен даже взрослым он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юрий\Desktop\ЖИВОТНЫЕ ЖАРКИХ СТРАН\черепаха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еуклюжа, тихоходна,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осит дом с собой в походах,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нём живет одна без страх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 соседей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http://thekievtimes.com/wp-content/uploads/2013/02/4553-e13609139939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 бегемотом так похожи!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ба очень толстокожи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 носу есть острый рог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десь пасётся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://byaki.net/uploads/posts/2012-04/1333305887_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Шум и крик на водопое,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Что случилось там такое?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Всю округу разбудил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Этот нильский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8:37:47Z</dcterms:created>
  <dc:creator>юрий</dc:creator>
  <dc:description/>
  <dc:language>en-US</dc:language>
  <cp:lastModifiedBy>ннннннн</cp:lastModifiedBy>
  <dcterms:modified xsi:type="dcterms:W3CDTF">2017-02-12T21:09:58Z</dcterms:modified>
  <cp:revision>50</cp:revision>
  <dc:subject/>
  <dc:title>Слайд 1</dc:title>
</cp:coreProperties>
</file>