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1A5-7C67-4405-9E6D-858F4D78089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310D-C363-4909-A762-ACF35CD8DB4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AAE07381-5205-47A1-A2E2-6E01FA2A12C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164-F9A8-49E1-97D7-DF9E9F668BC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7DB24EBE-686D-4CBA-BEB3-1DD64317CA9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31F-0D0A-456C-9E1A-7C8EB4E36DB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EB4F3146-8518-4A3E-8A87-EE6309E6655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BE3-A6CA-4507-A285-4625C001B87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38E6CFB4-5878-4DEA-8956-06D952C88F1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765D-300E-402D-AB34-1E0384D65B5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803EC7D9-FF69-42DB-B460-40733E9AAA6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47680" y="750960"/>
            <a:ext cx="45928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7BC-9F9C-4B20-A40B-EDE2D1D304A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EEED2F33-66C7-477F-8F50-03AF85112AE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859-F4DB-4632-A17B-57163FAFD3A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698DE699-429B-4B13-AE48-35032E450ED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FB8-C34C-464E-AE41-8C744ACA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58F-FAE0-41F3-BC9A-D233308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C72-49DB-4E21-B32B-AF42D3B7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394-106D-4EF1-96AC-CD6C8D71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9A3-F3ED-4B34-8226-4E8EFEE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531-A16B-438D-80B7-E7FB0667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A6B-A0AA-4015-AD23-1349B2B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CF6-6CD3-44BE-B806-4E718DE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6A5-4C1C-4841-A6F7-EF3ECAE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731-407E-425C-92AA-BF92116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5B5-6D27-4A5D-B7F9-DCD4D76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337-8A0D-4BC3-9393-DF26FC9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01B-91A7-4154-9032-C19139C2EE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1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Times New Roman"/>
              </a:rPr>
              <a:t>Воспитатель: Шахмирзоева Р.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1"/>
          <a:stretch/>
        </p:blipFill>
        <p:spPr>
          <a:xfrm>
            <a:off x="493560" y="1243080"/>
            <a:ext cx="8126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84360" y="333360"/>
            <a:ext cx="777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313440" cy="248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79280" y="157320"/>
            <a:ext cx="7380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Times New Roman"/>
              </a:rPr>
              <a:t>Упражнения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50920" y="981000"/>
            <a:ext cx="53388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Мнем и отщип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Надавливаем и размаз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Скатываем шарики, раскатываем колб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Режем на кус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Лепим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4032360" cy="30243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440000" y="3959280"/>
            <a:ext cx="1800000" cy="26431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451640" y="404640"/>
            <a:ext cx="1548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1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SDC11689.JPG"/>
          <p:cNvPicPr/>
          <p:nvPr/>
        </p:nvPicPr>
        <p:blipFill>
          <a:blip r:embed="rId1"/>
          <a:stretch/>
        </p:blipFill>
        <p:spPr>
          <a:xfrm>
            <a:off x="571680" y="214200"/>
            <a:ext cx="385272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6" descr="SDC11686.JPG"/>
          <p:cNvPicPr/>
          <p:nvPr/>
        </p:nvPicPr>
        <p:blipFill>
          <a:blip r:embed="rId2"/>
          <a:stretch/>
        </p:blipFill>
        <p:spPr>
          <a:xfrm>
            <a:off x="4643280" y="214200"/>
            <a:ext cx="3857760" cy="5143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1214280" y="5500800"/>
            <a:ext cx="30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кин В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214960" y="52862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рашов 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95280" y="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Times New Roman"/>
              </a:rPr>
              <a:t>Упражнения  с кру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785880"/>
            <a:ext cx="404352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Пересыпаем кр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Найди игру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Игра «Зол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«Отгадай, какая крупа в мешочк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«Сухой бассейн» из гороха и фа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:\Documents and Settings\aaa\Рабочий стол\фотографии)\SDC11679.JPG"/>
          <p:cNvPicPr/>
          <p:nvPr/>
        </p:nvPicPr>
        <p:blipFill>
          <a:blip r:embed="rId1"/>
          <a:stretch/>
        </p:blipFill>
        <p:spPr>
          <a:xfrm>
            <a:off x="500040" y="3357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000080" y="642924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ок «Умелые ру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Documents and Settings\aaa\Рабочий стол\фотографии)\SDC11682.JPG"/>
          <p:cNvPicPr/>
          <p:nvPr/>
        </p:nvPicPr>
        <p:blipFill>
          <a:blip r:embed="rId2"/>
          <a:stretch/>
        </p:blipFill>
        <p:spPr>
          <a:xfrm>
            <a:off x="4929120" y="10000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5643720" y="585792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ов Бог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116000" y="260280"/>
            <a:ext cx="6851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Times New Roman"/>
              </a:rPr>
              <a:t>Упражнения с мяч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50920" y="1052640"/>
            <a:ext cx="4465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ахватыв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мяч всей кистью и отпуск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К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ат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мяч по часовой 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ерж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и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одной рукой – другой рукой выполн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я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ввинчивающие движения, пощелкивания, пощипы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Выполнять упражнения надо обязательно каждой рукой по оч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175280" cy="31305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76" name="TextBox 4"/>
          <p:cNvSpPr/>
          <p:nvPr/>
        </p:nvSpPr>
        <p:spPr>
          <a:xfrm>
            <a:off x="5357880" y="57862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771640" y="353880"/>
            <a:ext cx="3672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Шну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C:\Documents and Settings\aaa\Рабочий стол\фотографии)\SDC11711.JPG"/>
          <p:cNvPicPr/>
          <p:nvPr/>
        </p:nvPicPr>
        <p:blipFill>
          <a:blip r:embed="rId1"/>
          <a:stretch/>
        </p:blipFill>
        <p:spPr>
          <a:xfrm rot="20895600">
            <a:off x="288720" y="1555920"/>
            <a:ext cx="4394160" cy="3295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85840" y="5000760"/>
            <a:ext cx="1458720" cy="155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96720" cy="140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17" descr="C:\Documents and Settings\aaa\Рабочий стол\фотографии)\SDC11712.JPG"/>
          <p:cNvPicPr/>
          <p:nvPr/>
        </p:nvPicPr>
        <p:blipFill>
          <a:blip r:embed="rId4"/>
          <a:stretch/>
        </p:blipFill>
        <p:spPr>
          <a:xfrm rot="315000">
            <a:off x="5057640" y="1417680"/>
            <a:ext cx="3403800" cy="453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5"/>
          <a:stretch/>
        </p:blipFill>
        <p:spPr>
          <a:xfrm>
            <a:off x="7358040" y="142920"/>
            <a:ext cx="1584360" cy="13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7429680" y="5143680"/>
            <a:ext cx="1517400" cy="151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7"/>
          <a:stretch/>
        </p:blipFill>
        <p:spPr>
          <a:xfrm>
            <a:off x="4000680" y="4500720"/>
            <a:ext cx="1500120" cy="1353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TextBox 16"/>
          <p:cNvSpPr/>
          <p:nvPr/>
        </p:nvSpPr>
        <p:spPr>
          <a:xfrm>
            <a:off x="5214960" y="6286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о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1928880" y="5429160"/>
            <a:ext cx="25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нов М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ов Бог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ова М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Times New Roman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2946240" cy="396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K:\2003\фотографии)\пальчиковая гимнастика\SDC11806.JPG"/>
          <p:cNvPicPr/>
          <p:nvPr/>
        </p:nvPicPr>
        <p:blipFill>
          <a:blip r:embed="rId2"/>
          <a:stretch/>
        </p:blipFill>
        <p:spPr>
          <a:xfrm>
            <a:off x="3357720" y="1643040"/>
            <a:ext cx="5632200" cy="442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786120" y="62866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А» класс, воспитатель Шахмирзоева Р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3714840"/>
            <a:ext cx="8229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30752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30752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азвитие руки находится в тесной связи с развитием речи и мышлени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ем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ребенка.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аибольший эффект дают упражнения в игровой форме, со стихотворным текстом, в которых поэтическое слово выполняет роль ритмической организации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9320" y="144360"/>
            <a:ext cx="4379760" cy="385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500720" y="142920"/>
            <a:ext cx="457200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5:46:49Z</dcterms:created>
  <dc:creator>Анатолий</dc:creator>
  <dc:description/>
  <dc:language>en-US</dc:language>
  <cp:lastModifiedBy>1</cp:lastModifiedBy>
  <dcterms:modified xsi:type="dcterms:W3CDTF">2012-01-29T17:46:39Z</dcterms:modified>
  <cp:revision>16</cp:revision>
  <dc:subject/>
  <dc:title>Слайд 1</dc:title>
</cp:coreProperties>
</file>