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15.jpeg" ContentType="image/jpeg"/>
  <Override PartName="/ppt/media/image25.jpeg" ContentType="image/jpeg"/>
  <Override PartName="/ppt/media/image2.png" ContentType="image/png"/>
  <Override PartName="/ppt/media/image3.png" ContentType="image/png"/>
  <Override PartName="/ppt/media/image17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E8750-625A-4D70-8EFF-53655FEA9344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5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BF312-4EA3-4E63-8D27-F35906C54B5A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"/>
          <p:cNvSpPr/>
          <p:nvPr/>
        </p:nvSpPr>
        <p:spPr>
          <a:xfrm>
            <a:off x="3902040" y="9516960"/>
            <a:ext cx="2978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71600"/>
                <a:tab algn="l" pos="946080"/>
                <a:tab algn="l" pos="1420920"/>
                <a:tab algn="l" pos="1897200"/>
                <a:tab algn="l" pos="2371680"/>
                <a:tab algn="l" pos="2846520"/>
                <a:tab algn="l" pos="3321000"/>
                <a:tab algn="l" pos="3795840"/>
                <a:tab algn="l" pos="4270320"/>
                <a:tab algn="l" pos="4745160"/>
                <a:tab algn="l" pos="5219640"/>
                <a:tab algn="l" pos="5694480"/>
                <a:tab algn="l" pos="6168960"/>
                <a:tab algn="l" pos="6643800"/>
                <a:tab algn="l" pos="7118280"/>
                <a:tab algn="l" pos="7593120"/>
                <a:tab algn="l" pos="8067600"/>
                <a:tab algn="l" pos="8542440"/>
                <a:tab algn="l" pos="9016920"/>
                <a:tab algn="l" pos="9491760"/>
                <a:tab algn="l" pos="10058400"/>
              </a:tabLst>
            </a:pPr>
            <a:fld id="{FFC0914B-158C-4BCD-9D37-8122FF0DD419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"/>
          <p:cNvSpPr/>
          <p:nvPr/>
        </p:nvSpPr>
        <p:spPr>
          <a:xfrm>
            <a:off x="1147680" y="743040"/>
            <a:ext cx="4592880" cy="3774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688680" y="4758840"/>
            <a:ext cx="549756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5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2BA5E-52B6-44F2-A347-EA6F8F7DEFCB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"/>
          <p:cNvSpPr/>
          <p:nvPr/>
        </p:nvSpPr>
        <p:spPr>
          <a:xfrm>
            <a:off x="3902040" y="9516960"/>
            <a:ext cx="2978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71600"/>
                <a:tab algn="l" pos="946080"/>
                <a:tab algn="l" pos="1420920"/>
                <a:tab algn="l" pos="1897200"/>
                <a:tab algn="l" pos="2371680"/>
                <a:tab algn="l" pos="2846520"/>
                <a:tab algn="l" pos="3321000"/>
                <a:tab algn="l" pos="3795840"/>
                <a:tab algn="l" pos="4270320"/>
                <a:tab algn="l" pos="4745160"/>
                <a:tab algn="l" pos="5219640"/>
                <a:tab algn="l" pos="5694480"/>
                <a:tab algn="l" pos="6168960"/>
                <a:tab algn="l" pos="6643800"/>
                <a:tab algn="l" pos="7118280"/>
                <a:tab algn="l" pos="7593120"/>
                <a:tab algn="l" pos="8067600"/>
                <a:tab algn="l" pos="8542440"/>
                <a:tab algn="l" pos="9016920"/>
                <a:tab algn="l" pos="9491760"/>
                <a:tab algn="l" pos="10058400"/>
              </a:tabLst>
            </a:pPr>
            <a:fld id="{9F6FB3EF-6DC1-47FD-B6E2-538DD98F2960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"/>
          <p:cNvSpPr/>
          <p:nvPr/>
        </p:nvSpPr>
        <p:spPr>
          <a:xfrm>
            <a:off x="1147680" y="743040"/>
            <a:ext cx="4592880" cy="3774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688680" y="4758840"/>
            <a:ext cx="549756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5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E0CF1-0D6C-42DE-A5FB-53AD75BF2239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"/>
          <p:cNvSpPr/>
          <p:nvPr/>
        </p:nvSpPr>
        <p:spPr>
          <a:xfrm>
            <a:off x="3902040" y="9516960"/>
            <a:ext cx="2978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71600"/>
                <a:tab algn="l" pos="946080"/>
                <a:tab algn="l" pos="1420920"/>
                <a:tab algn="l" pos="1897200"/>
                <a:tab algn="l" pos="2371680"/>
                <a:tab algn="l" pos="2846520"/>
                <a:tab algn="l" pos="3321000"/>
                <a:tab algn="l" pos="3795840"/>
                <a:tab algn="l" pos="4270320"/>
                <a:tab algn="l" pos="4745160"/>
                <a:tab algn="l" pos="5219640"/>
                <a:tab algn="l" pos="5694480"/>
                <a:tab algn="l" pos="6168960"/>
                <a:tab algn="l" pos="6643800"/>
                <a:tab algn="l" pos="7118280"/>
                <a:tab algn="l" pos="7593120"/>
                <a:tab algn="l" pos="8067600"/>
                <a:tab algn="l" pos="8542440"/>
                <a:tab algn="l" pos="9016920"/>
                <a:tab algn="l" pos="9491760"/>
                <a:tab algn="l" pos="10058400"/>
              </a:tabLst>
            </a:pPr>
            <a:fld id="{07A5A58F-0224-4061-BBAE-FC7AC50DD980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1147680" y="743040"/>
            <a:ext cx="4592880" cy="3774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688680" y="4758840"/>
            <a:ext cx="549756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5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AD722-1DA0-44E0-A27A-B5640CC74B01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"/>
          <p:cNvSpPr/>
          <p:nvPr/>
        </p:nvSpPr>
        <p:spPr>
          <a:xfrm>
            <a:off x="3902040" y="9516960"/>
            <a:ext cx="2978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71600"/>
                <a:tab algn="l" pos="946080"/>
                <a:tab algn="l" pos="1420920"/>
                <a:tab algn="l" pos="1897200"/>
                <a:tab algn="l" pos="2371680"/>
                <a:tab algn="l" pos="2846520"/>
                <a:tab algn="l" pos="3321000"/>
                <a:tab algn="l" pos="3795840"/>
                <a:tab algn="l" pos="4270320"/>
                <a:tab algn="l" pos="4745160"/>
                <a:tab algn="l" pos="5219640"/>
                <a:tab algn="l" pos="5694480"/>
                <a:tab algn="l" pos="6168960"/>
                <a:tab algn="l" pos="6643800"/>
                <a:tab algn="l" pos="7118280"/>
                <a:tab algn="l" pos="7593120"/>
                <a:tab algn="l" pos="8067600"/>
                <a:tab algn="l" pos="8542440"/>
                <a:tab algn="l" pos="9016920"/>
                <a:tab algn="l" pos="9491760"/>
                <a:tab algn="l" pos="10058400"/>
              </a:tabLst>
            </a:pPr>
            <a:fld id="{E802A650-374F-49FA-BAED-38041D1DABCD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1147680" y="743040"/>
            <a:ext cx="4592880" cy="3774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688680" y="4758840"/>
            <a:ext cx="549756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5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C51A3-1A79-4A1B-B8EC-683AFE69059D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"/>
          <p:cNvSpPr/>
          <p:nvPr/>
        </p:nvSpPr>
        <p:spPr>
          <a:xfrm>
            <a:off x="3902040" y="9516960"/>
            <a:ext cx="2978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71600"/>
                <a:tab algn="l" pos="946080"/>
                <a:tab algn="l" pos="1420920"/>
                <a:tab algn="l" pos="1897200"/>
                <a:tab algn="l" pos="2371680"/>
                <a:tab algn="l" pos="2846520"/>
                <a:tab algn="l" pos="3321000"/>
                <a:tab algn="l" pos="3795840"/>
                <a:tab algn="l" pos="4270320"/>
                <a:tab algn="l" pos="4745160"/>
                <a:tab algn="l" pos="5219640"/>
                <a:tab algn="l" pos="5694480"/>
                <a:tab algn="l" pos="6168960"/>
                <a:tab algn="l" pos="6643800"/>
                <a:tab algn="l" pos="7118280"/>
                <a:tab algn="l" pos="7593120"/>
                <a:tab algn="l" pos="8067600"/>
                <a:tab algn="l" pos="8542440"/>
                <a:tab algn="l" pos="9016920"/>
                <a:tab algn="l" pos="9491760"/>
                <a:tab algn="l" pos="10058400"/>
              </a:tabLst>
            </a:pPr>
            <a:fld id="{E59CA994-74C8-45C2-8645-61AB3A12F6B8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1147680" y="750960"/>
            <a:ext cx="4592880" cy="375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688680" y="4758840"/>
            <a:ext cx="549756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5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D7CEF-A71E-4B69-813E-A4056221DE30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"/>
          <p:cNvSpPr/>
          <p:nvPr/>
        </p:nvSpPr>
        <p:spPr>
          <a:xfrm>
            <a:off x="3902040" y="9516960"/>
            <a:ext cx="2978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71600"/>
                <a:tab algn="l" pos="946080"/>
                <a:tab algn="l" pos="1420920"/>
                <a:tab algn="l" pos="1897200"/>
                <a:tab algn="l" pos="2371680"/>
                <a:tab algn="l" pos="2846520"/>
                <a:tab algn="l" pos="3321000"/>
                <a:tab algn="l" pos="3795840"/>
                <a:tab algn="l" pos="4270320"/>
                <a:tab algn="l" pos="4745160"/>
                <a:tab algn="l" pos="5219640"/>
                <a:tab algn="l" pos="5694480"/>
                <a:tab algn="l" pos="6168960"/>
                <a:tab algn="l" pos="6643800"/>
                <a:tab algn="l" pos="7118280"/>
                <a:tab algn="l" pos="7593120"/>
                <a:tab algn="l" pos="8067600"/>
                <a:tab algn="l" pos="8542440"/>
                <a:tab algn="l" pos="9016920"/>
                <a:tab algn="l" pos="9491760"/>
                <a:tab algn="l" pos="10058400"/>
              </a:tabLst>
            </a:pPr>
            <a:fld id="{7C46CE3B-ACE0-4E2B-ABEC-26ED788EDF2A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"/>
          <p:cNvSpPr/>
          <p:nvPr/>
        </p:nvSpPr>
        <p:spPr>
          <a:xfrm>
            <a:off x="1147680" y="743040"/>
            <a:ext cx="4592880" cy="3774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688680" y="4758840"/>
            <a:ext cx="549756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5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AE582-B2C3-4A72-B551-BEBD70AC5F43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"/>
          <p:cNvSpPr/>
          <p:nvPr/>
        </p:nvSpPr>
        <p:spPr>
          <a:xfrm>
            <a:off x="3902040" y="9516960"/>
            <a:ext cx="2978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71600"/>
                <a:tab algn="l" pos="946080"/>
                <a:tab algn="l" pos="1420920"/>
                <a:tab algn="l" pos="1897200"/>
                <a:tab algn="l" pos="2371680"/>
                <a:tab algn="l" pos="2846520"/>
                <a:tab algn="l" pos="3321000"/>
                <a:tab algn="l" pos="3795840"/>
                <a:tab algn="l" pos="4270320"/>
                <a:tab algn="l" pos="4745160"/>
                <a:tab algn="l" pos="5219640"/>
                <a:tab algn="l" pos="5694480"/>
                <a:tab algn="l" pos="6168960"/>
                <a:tab algn="l" pos="6643800"/>
                <a:tab algn="l" pos="7118280"/>
                <a:tab algn="l" pos="7593120"/>
                <a:tab algn="l" pos="8067600"/>
                <a:tab algn="l" pos="8542440"/>
                <a:tab algn="l" pos="9016920"/>
                <a:tab algn="l" pos="9491760"/>
                <a:tab algn="l" pos="10058400"/>
              </a:tabLst>
            </a:pPr>
            <a:fld id="{630A7790-FE8A-4051-A216-D4E986AB998C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1147680" y="743040"/>
            <a:ext cx="4592880" cy="3774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688680" y="4758840"/>
            <a:ext cx="549756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2C7E-F929-4ECA-887F-8BDE4A01A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38EC-E24A-40B6-AB50-1BE8B27A6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9F79-909C-4FAC-BAFA-A91504A17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4E27-3C40-4B41-B6CE-F914AE400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2AB4-6274-489D-B7CF-EA6930D65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EE7B-6419-4F9F-8DC2-CCFD8773A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E9A4-CCB7-41FC-A715-F972DB533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B854-7A05-4DA3-8200-5CD24344F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6B84-780C-4FEE-A9FC-4DBEA17F9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B74C-7548-4BB1-A130-9CC52830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3D04-EFFE-4492-A05F-C621A8D9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F53E-FFDD-438E-B214-71F574910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82F7E-190D-45D2-9248-8EB7197E2E3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pn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116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11617"/>
                </a:solidFill>
                <a:latin typeface="Times New Roman"/>
              </a:rPr>
              <a:t>Воспитатель: Шахмирзоева Р.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Прямоугольник 4" descr=""/>
          <p:cNvPicPr/>
          <p:nvPr/>
        </p:nvPicPr>
        <p:blipFill>
          <a:blip r:embed="rId1"/>
          <a:stretch/>
        </p:blipFill>
        <p:spPr>
          <a:xfrm>
            <a:off x="493560" y="1243080"/>
            <a:ext cx="812664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"/>
          <p:cNvSpPr/>
          <p:nvPr/>
        </p:nvSpPr>
        <p:spPr>
          <a:xfrm>
            <a:off x="684360" y="333360"/>
            <a:ext cx="7775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8680" indent="-3286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10058400"/>
              </a:tabLst>
            </a:pPr>
            <a:r>
              <a:rPr b="1" lang="en-GB" sz="3200" spc="-1" strike="noStrike">
                <a:solidFill>
                  <a:srgbClr val="990033"/>
                </a:solidFill>
                <a:latin typeface="Times New Roman"/>
              </a:rPr>
              <a:t>Средства развития мелкой мотор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3313080" cy="2486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2"/>
          <a:stretch/>
        </p:blipFill>
        <p:spPr>
          <a:xfrm>
            <a:off x="755640" y="3932280"/>
            <a:ext cx="3384720" cy="2536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"/>
          <p:cNvPicPr/>
          <p:nvPr/>
        </p:nvPicPr>
        <p:blipFill>
          <a:blip r:embed="rId3"/>
          <a:stretch/>
        </p:blipFill>
        <p:spPr>
          <a:xfrm>
            <a:off x="5003640" y="1125360"/>
            <a:ext cx="3313440" cy="2486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"/>
          <p:cNvPicPr/>
          <p:nvPr/>
        </p:nvPicPr>
        <p:blipFill>
          <a:blip r:embed="rId4"/>
          <a:stretch/>
        </p:blipFill>
        <p:spPr>
          <a:xfrm>
            <a:off x="4932360" y="3860640"/>
            <a:ext cx="3384720" cy="253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179280" y="157320"/>
            <a:ext cx="738036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0033"/>
                </a:solidFill>
                <a:latin typeface="Times New Roman"/>
              </a:rPr>
              <a:t>Упражнения с пластилин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250920" y="981000"/>
            <a:ext cx="5338800" cy="27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8680" indent="-32868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10058400"/>
              </a:tabLst>
            </a:pPr>
            <a:r>
              <a:rPr b="0" lang="en-GB" sz="2400" spc="-1" strike="noStrike">
                <a:solidFill>
                  <a:srgbClr val="990033"/>
                </a:solidFill>
                <a:latin typeface="Times New Roman"/>
              </a:rPr>
              <a:t>Мнем и отщипыва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10058400"/>
              </a:tabLst>
            </a:pPr>
            <a:r>
              <a:rPr b="0" lang="en-GB" sz="2400" spc="-1" strike="noStrike">
                <a:solidFill>
                  <a:srgbClr val="990033"/>
                </a:solidFill>
                <a:latin typeface="Times New Roman"/>
              </a:rPr>
              <a:t>Надавливаем и размазыва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10058400"/>
              </a:tabLst>
            </a:pPr>
            <a:r>
              <a:rPr b="0" lang="en-GB" sz="2400" spc="-1" strike="noStrike">
                <a:solidFill>
                  <a:srgbClr val="990033"/>
                </a:solidFill>
                <a:latin typeface="Times New Roman"/>
              </a:rPr>
              <a:t>Скатываем шарики, раскатываем колбас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10058400"/>
              </a:tabLst>
            </a:pPr>
            <a:r>
              <a:rPr b="0" lang="en-GB" sz="2400" spc="-1" strike="noStrike">
                <a:solidFill>
                  <a:srgbClr val="990033"/>
                </a:solidFill>
                <a:latin typeface="Times New Roman"/>
              </a:rPr>
              <a:t>Режем на кусо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10058400"/>
              </a:tabLst>
            </a:pPr>
            <a:r>
              <a:rPr b="0" lang="en-GB" sz="2400" spc="-1" strike="noStrike">
                <a:solidFill>
                  <a:srgbClr val="990033"/>
                </a:solidFill>
                <a:latin typeface="Times New Roman"/>
              </a:rPr>
              <a:t>Лепим карти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4643280" y="3573360"/>
            <a:ext cx="4032360" cy="3024360"/>
          </a:xfrm>
          <a:prstGeom prst="rect">
            <a:avLst/>
          </a:prstGeom>
          <a:ln w="19080">
            <a:solidFill>
              <a:srgbClr val="990033"/>
            </a:solidFill>
            <a:miter/>
          </a:ln>
        </p:spPr>
      </p:pic>
      <p:pic>
        <p:nvPicPr>
          <p:cNvPr id="60" name="Picture 4" descr=""/>
          <p:cNvPicPr/>
          <p:nvPr/>
        </p:nvPicPr>
        <p:blipFill>
          <a:blip r:embed="rId2"/>
          <a:stretch/>
        </p:blipFill>
        <p:spPr>
          <a:xfrm>
            <a:off x="1440000" y="3959280"/>
            <a:ext cx="1800000" cy="264312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  <p:pic>
        <p:nvPicPr>
          <p:cNvPr id="61" name="Picture 5" descr=""/>
          <p:cNvPicPr/>
          <p:nvPr/>
        </p:nvPicPr>
        <p:blipFill>
          <a:blip r:embed="rId3"/>
          <a:stretch/>
        </p:blipFill>
        <p:spPr>
          <a:xfrm>
            <a:off x="7451640" y="404640"/>
            <a:ext cx="1548000" cy="28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500"/>
                            </p:stCondLst>
                            <p:childTnLst>
                              <p:par>
                                <p:cTn id="4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5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1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Содержимое 4" descr="SDC11689.JPG"/>
          <p:cNvPicPr/>
          <p:nvPr/>
        </p:nvPicPr>
        <p:blipFill>
          <a:blip r:embed="rId1"/>
          <a:stretch/>
        </p:blipFill>
        <p:spPr>
          <a:xfrm>
            <a:off x="571680" y="214200"/>
            <a:ext cx="3852720" cy="5143680"/>
          </a:xfrm>
          <a:prstGeom prst="rect">
            <a:avLst/>
          </a:prstGeom>
          <a:ln w="0">
            <a:noFill/>
          </a:ln>
        </p:spPr>
      </p:pic>
      <p:pic>
        <p:nvPicPr>
          <p:cNvPr id="64" name="Содержимое 6" descr="SDC11686.JPG"/>
          <p:cNvPicPr/>
          <p:nvPr/>
        </p:nvPicPr>
        <p:blipFill>
          <a:blip r:embed="rId2"/>
          <a:stretch/>
        </p:blipFill>
        <p:spPr>
          <a:xfrm>
            <a:off x="4643280" y="214200"/>
            <a:ext cx="3857760" cy="5143680"/>
          </a:xfrm>
          <a:prstGeom prst="rect">
            <a:avLst/>
          </a:prstGeom>
          <a:ln w="0">
            <a:noFill/>
          </a:ln>
        </p:spPr>
      </p:pic>
      <p:sp>
        <p:nvSpPr>
          <p:cNvPr id="65" name="TextBox 7"/>
          <p:cNvSpPr/>
          <p:nvPr/>
        </p:nvSpPr>
        <p:spPr>
          <a:xfrm>
            <a:off x="1214280" y="5500800"/>
            <a:ext cx="301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вкин Вад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8"/>
          <p:cNvSpPr/>
          <p:nvPr/>
        </p:nvSpPr>
        <p:spPr>
          <a:xfrm>
            <a:off x="5214960" y="5286240"/>
            <a:ext cx="271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драшов Оле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1"/>
          <p:cNvSpPr/>
          <p:nvPr/>
        </p:nvSpPr>
        <p:spPr>
          <a:xfrm>
            <a:off x="395280" y="0"/>
            <a:ext cx="82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0033"/>
                </a:solidFill>
                <a:latin typeface="Times New Roman"/>
              </a:rPr>
              <a:t>Упражнения  с круп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457200" y="785880"/>
            <a:ext cx="4043520" cy="57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8680" indent="-32868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10058400"/>
              </a:tabLst>
            </a:pPr>
            <a:r>
              <a:rPr b="0" lang="en-GB" sz="2000" spc="-1" strike="noStrike">
                <a:solidFill>
                  <a:srgbClr val="990033"/>
                </a:solidFill>
                <a:latin typeface="Times New Roman"/>
              </a:rPr>
              <a:t>Пересыпаем круп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10058400"/>
              </a:tabLst>
            </a:pPr>
            <a:r>
              <a:rPr b="0" lang="en-GB" sz="2000" spc="-1" strike="noStrike">
                <a:solidFill>
                  <a:srgbClr val="990033"/>
                </a:solidFill>
                <a:latin typeface="Times New Roman"/>
              </a:rPr>
              <a:t>Найди игруш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10058400"/>
              </a:tabLst>
            </a:pPr>
            <a:r>
              <a:rPr b="0" lang="en-GB" sz="2000" spc="-1" strike="noStrike">
                <a:solidFill>
                  <a:srgbClr val="990033"/>
                </a:solidFill>
                <a:latin typeface="Times New Roman"/>
              </a:rPr>
              <a:t>Игра «Золуш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10058400"/>
              </a:tabLst>
            </a:pPr>
            <a:r>
              <a:rPr b="0" lang="en-GB" sz="2000" spc="-1" strike="noStrike">
                <a:solidFill>
                  <a:srgbClr val="990033"/>
                </a:solidFill>
                <a:latin typeface="Times New Roman"/>
              </a:rPr>
              <a:t>«Отгадай, какая крупа в мешочк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10058400"/>
              </a:tabLst>
            </a:pPr>
            <a:r>
              <a:rPr b="0" lang="en-GB" sz="2000" spc="-1" strike="noStrike">
                <a:solidFill>
                  <a:srgbClr val="990033"/>
                </a:solidFill>
                <a:latin typeface="Times New Roman"/>
              </a:rPr>
              <a:t>«Сухой бассейн» из гороха и фас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C:\Documents and Settings\aaa\Рабочий стол\фотографии)\SDC11679.JPG"/>
          <p:cNvPicPr/>
          <p:nvPr/>
        </p:nvPicPr>
        <p:blipFill>
          <a:blip r:embed="rId1"/>
          <a:stretch/>
        </p:blipFill>
        <p:spPr>
          <a:xfrm>
            <a:off x="500040" y="3357720"/>
            <a:ext cx="4191120" cy="3143160"/>
          </a:xfrm>
          <a:prstGeom prst="rect">
            <a:avLst/>
          </a:prstGeom>
          <a:ln w="0">
            <a:noFill/>
          </a:ln>
        </p:spPr>
      </p:pic>
      <p:sp>
        <p:nvSpPr>
          <p:cNvPr id="70" name="TextBox 6"/>
          <p:cNvSpPr/>
          <p:nvPr/>
        </p:nvSpPr>
        <p:spPr>
          <a:xfrm>
            <a:off x="1000080" y="6429240"/>
            <a:ext cx="66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ужок «Умелые ручк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C:\Documents and Settings\aaa\Рабочий стол\фотографии)\SDC11682.JPG"/>
          <p:cNvPicPr/>
          <p:nvPr/>
        </p:nvPicPr>
        <p:blipFill>
          <a:blip r:embed="rId2"/>
          <a:stretch/>
        </p:blipFill>
        <p:spPr>
          <a:xfrm>
            <a:off x="4929120" y="1000080"/>
            <a:ext cx="3429000" cy="4572000"/>
          </a:xfrm>
          <a:prstGeom prst="rect">
            <a:avLst/>
          </a:prstGeom>
          <a:ln w="0">
            <a:noFill/>
          </a:ln>
        </p:spPr>
      </p:pic>
      <p:sp>
        <p:nvSpPr>
          <p:cNvPr id="72" name="TextBox 8"/>
          <p:cNvSpPr/>
          <p:nvPr/>
        </p:nvSpPr>
        <p:spPr>
          <a:xfrm>
            <a:off x="5643720" y="5857920"/>
            <a:ext cx="29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аров Богда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1"/>
          <p:cNvSpPr/>
          <p:nvPr/>
        </p:nvSpPr>
        <p:spPr>
          <a:xfrm>
            <a:off x="1116000" y="260280"/>
            <a:ext cx="68515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300"/>
                </a:solidFill>
                <a:latin typeface="Times New Roman"/>
              </a:rPr>
              <a:t>Упражнения с мяч</a:t>
            </a:r>
            <a:r>
              <a:rPr b="0" lang="ru-RU" sz="4000" spc="-1" strike="noStrike">
                <a:solidFill>
                  <a:srgbClr val="003300"/>
                </a:solidFill>
                <a:latin typeface="Times New Roman"/>
              </a:rPr>
              <a:t>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"/>
          <p:cNvSpPr/>
          <p:nvPr/>
        </p:nvSpPr>
        <p:spPr>
          <a:xfrm>
            <a:off x="250920" y="1052640"/>
            <a:ext cx="4465440" cy="56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9120" indent="-51912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Times New Roman"/>
              <a:buAutoNum type="arabicPeriod"/>
              <a:tabLst>
                <a:tab algn="l" pos="519120"/>
                <a:tab algn="l" pos="966960"/>
                <a:tab algn="l" pos="1415880"/>
                <a:tab algn="l" pos="1865160"/>
                <a:tab algn="l" pos="2314440"/>
                <a:tab algn="l" pos="2763720"/>
                <a:tab algn="l" pos="3213000"/>
                <a:tab algn="l" pos="3662280"/>
                <a:tab algn="l" pos="4111560"/>
                <a:tab algn="l" pos="4560840"/>
                <a:tab algn="l" pos="5010120"/>
                <a:tab algn="l" pos="5459400"/>
                <a:tab algn="l" pos="5908680"/>
                <a:tab algn="l" pos="6357960"/>
                <a:tab algn="l" pos="6807240"/>
                <a:tab algn="l" pos="7256520"/>
                <a:tab algn="l" pos="7705800"/>
                <a:tab algn="l" pos="8155080"/>
                <a:tab algn="l" pos="8604360"/>
                <a:tab algn="l" pos="9053640"/>
                <a:tab algn="l" pos="9502920"/>
                <a:tab algn="l" pos="10058400"/>
              </a:tabLst>
            </a:pPr>
            <a:r>
              <a:rPr b="0" lang="en-GB" sz="24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З</a:t>
            </a:r>
            <a:r>
              <a:rPr b="0" lang="en-GB" sz="2400" spc="-1" strike="noStrike">
                <a:solidFill>
                  <a:srgbClr val="003300"/>
                </a:solidFill>
                <a:latin typeface="Times New Roman"/>
              </a:rPr>
              <a:t>ахватыва</a:t>
            </a: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ем</a:t>
            </a:r>
            <a:r>
              <a:rPr b="0" lang="en-GB" sz="2400" spc="-1" strike="noStrike">
                <a:solidFill>
                  <a:srgbClr val="003300"/>
                </a:solidFill>
                <a:latin typeface="Times New Roman"/>
              </a:rPr>
              <a:t> мяч всей кистью и отпуска</a:t>
            </a: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ем</a:t>
            </a:r>
            <a:r>
              <a:rPr b="0" lang="en-GB" sz="2400" spc="-1" strike="noStrike">
                <a:solidFill>
                  <a:srgbClr val="003300"/>
                </a:solidFill>
                <a:latin typeface="Times New Roman"/>
              </a:rPr>
              <a:t> е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9120" indent="-51912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Times New Roman"/>
              <a:buAutoNum type="arabicPeriod"/>
              <a:tabLst>
                <a:tab algn="l" pos="519120"/>
                <a:tab algn="l" pos="966960"/>
                <a:tab algn="l" pos="1415880"/>
                <a:tab algn="l" pos="1865160"/>
                <a:tab algn="l" pos="2314440"/>
                <a:tab algn="l" pos="2763720"/>
                <a:tab algn="l" pos="3213000"/>
                <a:tab algn="l" pos="3662280"/>
                <a:tab algn="l" pos="4111560"/>
                <a:tab algn="l" pos="4560840"/>
                <a:tab algn="l" pos="5010120"/>
                <a:tab algn="l" pos="5459400"/>
                <a:tab algn="l" pos="5908680"/>
                <a:tab algn="l" pos="6357960"/>
                <a:tab algn="l" pos="6807240"/>
                <a:tab algn="l" pos="7256520"/>
                <a:tab algn="l" pos="7705800"/>
                <a:tab algn="l" pos="8155080"/>
                <a:tab algn="l" pos="8604360"/>
                <a:tab algn="l" pos="9053640"/>
                <a:tab algn="l" pos="950292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К</a:t>
            </a:r>
            <a:r>
              <a:rPr b="0" lang="en-GB" sz="2400" spc="-1" strike="noStrike">
                <a:solidFill>
                  <a:srgbClr val="003300"/>
                </a:solidFill>
                <a:latin typeface="Times New Roman"/>
              </a:rPr>
              <a:t>ата</a:t>
            </a: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ем</a:t>
            </a:r>
            <a:r>
              <a:rPr b="0" lang="en-GB" sz="2400" spc="-1" strike="noStrike">
                <a:solidFill>
                  <a:srgbClr val="003300"/>
                </a:solidFill>
                <a:latin typeface="Times New Roman"/>
              </a:rPr>
              <a:t> мяч по часовой стрел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9120" indent="-51912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Times New Roman"/>
              <a:buAutoNum type="arabicPeriod"/>
              <a:tabLst>
                <a:tab algn="l" pos="519120"/>
                <a:tab algn="l" pos="966960"/>
                <a:tab algn="l" pos="1415880"/>
                <a:tab algn="l" pos="1865160"/>
                <a:tab algn="l" pos="2314440"/>
                <a:tab algn="l" pos="2763720"/>
                <a:tab algn="l" pos="3213000"/>
                <a:tab algn="l" pos="3662280"/>
                <a:tab algn="l" pos="4111560"/>
                <a:tab algn="l" pos="4560840"/>
                <a:tab algn="l" pos="5010120"/>
                <a:tab algn="l" pos="5459400"/>
                <a:tab algn="l" pos="5908680"/>
                <a:tab algn="l" pos="6357960"/>
                <a:tab algn="l" pos="6807240"/>
                <a:tab algn="l" pos="7256520"/>
                <a:tab algn="l" pos="7705800"/>
                <a:tab algn="l" pos="8155080"/>
                <a:tab algn="l" pos="8604360"/>
                <a:tab algn="l" pos="9053640"/>
                <a:tab algn="l" pos="950292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Д</a:t>
            </a:r>
            <a:r>
              <a:rPr b="0" lang="en-GB" sz="2400" spc="-1" strike="noStrike">
                <a:solidFill>
                  <a:srgbClr val="003300"/>
                </a:solidFill>
                <a:latin typeface="Times New Roman"/>
              </a:rPr>
              <a:t>ерж</a:t>
            </a: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им</a:t>
            </a:r>
            <a:r>
              <a:rPr b="0" lang="en-GB" sz="2400" spc="-1" strike="noStrike">
                <a:solidFill>
                  <a:srgbClr val="003300"/>
                </a:solidFill>
                <a:latin typeface="Times New Roman"/>
              </a:rPr>
              <a:t> одной рукой – другой рукой выполн</a:t>
            </a: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яем</a:t>
            </a:r>
            <a:r>
              <a:rPr b="0" lang="en-GB" sz="2400" spc="-1" strike="noStrike">
                <a:solidFill>
                  <a:srgbClr val="003300"/>
                </a:solidFill>
                <a:latin typeface="Times New Roman"/>
              </a:rPr>
              <a:t> ввинчивающие движения, пощелкивания, пощипы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9120" indent="-51912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519120"/>
                <a:tab algn="l" pos="966960"/>
                <a:tab algn="l" pos="1415880"/>
                <a:tab algn="l" pos="1865160"/>
                <a:tab algn="l" pos="2314440"/>
                <a:tab algn="l" pos="2763720"/>
                <a:tab algn="l" pos="3213000"/>
                <a:tab algn="l" pos="3662280"/>
                <a:tab algn="l" pos="4111560"/>
                <a:tab algn="l" pos="4560840"/>
                <a:tab algn="l" pos="5010120"/>
                <a:tab algn="l" pos="5459400"/>
                <a:tab algn="l" pos="5908680"/>
                <a:tab algn="l" pos="6357960"/>
                <a:tab algn="l" pos="6807240"/>
                <a:tab algn="l" pos="7256520"/>
                <a:tab algn="l" pos="7705800"/>
                <a:tab algn="l" pos="8155080"/>
                <a:tab algn="l" pos="8604360"/>
                <a:tab algn="l" pos="9053640"/>
                <a:tab algn="l" pos="9502920"/>
                <a:tab algn="l" pos="10058400"/>
              </a:tabLst>
            </a:pPr>
            <a:r>
              <a:rPr b="0" lang="en-GB" sz="2400" spc="-1" strike="noStrike">
                <a:solidFill>
                  <a:srgbClr val="003300"/>
                </a:solidFill>
                <a:latin typeface="Times New Roman"/>
              </a:rPr>
              <a:t>Выполнять упражнения надо обязательно каждой рукой по очеред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4716360" y="2205000"/>
            <a:ext cx="4175280" cy="3130560"/>
          </a:xfrm>
          <a:prstGeom prst="rect">
            <a:avLst/>
          </a:prstGeom>
          <a:ln w="19080">
            <a:solidFill>
              <a:srgbClr val="009999"/>
            </a:solidFill>
            <a:miter/>
          </a:ln>
        </p:spPr>
      </p:pic>
      <p:sp>
        <p:nvSpPr>
          <p:cNvPr id="76" name="TextBox 4"/>
          <p:cNvSpPr/>
          <p:nvPr/>
        </p:nvSpPr>
        <p:spPr>
          <a:xfrm>
            <a:off x="5357880" y="5786280"/>
            <a:ext cx="348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нчарова Кс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1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1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771640" y="353880"/>
            <a:ext cx="36720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imes New Roman"/>
              </a:rPr>
              <a:t>Шнуров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6" descr="C:\Documents and Settings\aaa\Рабочий стол\фотографии)\SDC11711.JPG"/>
          <p:cNvPicPr/>
          <p:nvPr/>
        </p:nvPicPr>
        <p:blipFill>
          <a:blip r:embed="rId1"/>
          <a:stretch/>
        </p:blipFill>
        <p:spPr>
          <a:xfrm rot="20895600">
            <a:off x="288720" y="1555920"/>
            <a:ext cx="4394160" cy="32954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"/>
          <p:cNvPicPr/>
          <p:nvPr/>
        </p:nvPicPr>
        <p:blipFill>
          <a:blip r:embed="rId2"/>
          <a:stretch/>
        </p:blipFill>
        <p:spPr>
          <a:xfrm>
            <a:off x="285840" y="5000760"/>
            <a:ext cx="1458720" cy="15555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80" name="Picture 3" descr=""/>
          <p:cNvPicPr/>
          <p:nvPr/>
        </p:nvPicPr>
        <p:blipFill>
          <a:blip r:embed="rId3"/>
          <a:stretch/>
        </p:blipFill>
        <p:spPr>
          <a:xfrm>
            <a:off x="285840" y="428760"/>
            <a:ext cx="1296720" cy="14079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81" name="Picture 17" descr="C:\Documents and Settings\aaa\Рабочий стол\фотографии)\SDC11712.JPG"/>
          <p:cNvPicPr/>
          <p:nvPr/>
        </p:nvPicPr>
        <p:blipFill>
          <a:blip r:embed="rId4"/>
          <a:stretch/>
        </p:blipFill>
        <p:spPr>
          <a:xfrm rot="315000">
            <a:off x="5057640" y="1417680"/>
            <a:ext cx="3403800" cy="45385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5"/>
          <a:stretch/>
        </p:blipFill>
        <p:spPr>
          <a:xfrm>
            <a:off x="7358040" y="142920"/>
            <a:ext cx="1584360" cy="13572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83" name="Picture 7" descr=""/>
          <p:cNvPicPr/>
          <p:nvPr/>
        </p:nvPicPr>
        <p:blipFill>
          <a:blip r:embed="rId6"/>
          <a:stretch/>
        </p:blipFill>
        <p:spPr>
          <a:xfrm>
            <a:off x="7429680" y="5143680"/>
            <a:ext cx="1517400" cy="15174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84" name="Picture 9" descr=""/>
          <p:cNvPicPr/>
          <p:nvPr/>
        </p:nvPicPr>
        <p:blipFill>
          <a:blip r:embed="rId7"/>
          <a:stretch/>
        </p:blipFill>
        <p:spPr>
          <a:xfrm>
            <a:off x="4000680" y="4500720"/>
            <a:ext cx="1500120" cy="13539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85" name="TextBox 16"/>
          <p:cNvSpPr/>
          <p:nvPr/>
        </p:nvSpPr>
        <p:spPr>
          <a:xfrm>
            <a:off x="5214960" y="62866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веткова Ма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7"/>
          <p:cNvSpPr/>
          <p:nvPr/>
        </p:nvSpPr>
        <p:spPr>
          <a:xfrm>
            <a:off x="1928880" y="5429160"/>
            <a:ext cx="256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ланов Ми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аров Богд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веткова Ма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300"/>
                </a:solidFill>
                <a:latin typeface="Times New Roman"/>
              </a:rPr>
              <a:t>Народные пальчиковые иг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285840" y="1285920"/>
            <a:ext cx="2946240" cy="3967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K:\2003\фотографии)\пальчиковая гимнастика\SDC11806.JPG"/>
          <p:cNvPicPr/>
          <p:nvPr/>
        </p:nvPicPr>
        <p:blipFill>
          <a:blip r:embed="rId2"/>
          <a:stretch/>
        </p:blipFill>
        <p:spPr>
          <a:xfrm>
            <a:off x="3357720" y="1643040"/>
            <a:ext cx="5632200" cy="4429080"/>
          </a:xfrm>
          <a:prstGeom prst="rect">
            <a:avLst/>
          </a:prstGeom>
          <a:ln w="0">
            <a:noFill/>
          </a:ln>
        </p:spPr>
      </p:pic>
      <p:sp>
        <p:nvSpPr>
          <p:cNvPr id="90" name="TextBox 5"/>
          <p:cNvSpPr/>
          <p:nvPr/>
        </p:nvSpPr>
        <p:spPr>
          <a:xfrm>
            <a:off x="3786120" y="6286680"/>
            <a:ext cx="55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«А» класс, воспитатель Шахмирзоева Р.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457200" y="3714840"/>
            <a:ext cx="82296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8680" indent="-3286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28680"/>
                <a:tab algn="l" pos="885960"/>
                <a:tab algn="l" pos="1800360"/>
                <a:tab algn="l" pos="2714760"/>
                <a:tab algn="l" pos="3629160"/>
                <a:tab algn="l" pos="4543560"/>
                <a:tab algn="l" pos="5457960"/>
                <a:tab algn="l" pos="6372360"/>
                <a:tab algn="l" pos="7286760"/>
                <a:tab algn="l" pos="8201160"/>
                <a:tab algn="l" pos="9115560"/>
                <a:tab algn="l" pos="10029960"/>
                <a:tab algn="l" pos="10307520"/>
                <a:tab algn="l" pos="10756800"/>
                <a:tab algn="l" pos="10760040"/>
                <a:tab algn="l" pos="10763280"/>
                <a:tab algn="l" pos="10766520"/>
                <a:tab algn="l" pos="10769760"/>
                <a:tab algn="l" pos="10772640"/>
                <a:tab algn="l" pos="10775880"/>
                <a:tab algn="l" pos="1077912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28680"/>
                <a:tab algn="l" pos="885960"/>
                <a:tab algn="l" pos="1800360"/>
                <a:tab algn="l" pos="2714760"/>
                <a:tab algn="l" pos="3629160"/>
                <a:tab algn="l" pos="4543560"/>
                <a:tab algn="l" pos="5457960"/>
                <a:tab algn="l" pos="6372360"/>
                <a:tab algn="l" pos="7286760"/>
                <a:tab algn="l" pos="8201160"/>
                <a:tab algn="l" pos="9115560"/>
                <a:tab algn="l" pos="10029960"/>
                <a:tab algn="l" pos="10307520"/>
                <a:tab algn="l" pos="10756800"/>
                <a:tab algn="l" pos="10760040"/>
                <a:tab algn="l" pos="10763280"/>
                <a:tab algn="l" pos="10766520"/>
                <a:tab algn="l" pos="10769760"/>
                <a:tab algn="l" pos="10772640"/>
                <a:tab algn="l" pos="10775880"/>
                <a:tab algn="l" pos="1077912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Р</a:t>
            </a:r>
            <a:r>
              <a:rPr b="0" lang="en-GB" sz="2800" spc="-1" strike="noStrike">
                <a:solidFill>
                  <a:srgbClr val="333399"/>
                </a:solidFill>
                <a:latin typeface="Times New Roman"/>
              </a:rPr>
              <a:t>азвитие руки находится в тесной связи с развитием речи и мышлени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ем</a:t>
            </a:r>
            <a:r>
              <a:rPr b="0" lang="en-GB" sz="2800" spc="-1" strike="noStrike">
                <a:solidFill>
                  <a:srgbClr val="333399"/>
                </a:solidFill>
                <a:latin typeface="Times New Roman"/>
              </a:rPr>
              <a:t> ребенка. 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Наибольший эффект дают упражнения в игровой форме, со стихотворным текстом, в которых поэтическое слово выполняет роль ритмической организации дви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1"/>
          <a:stretch/>
        </p:blipFill>
        <p:spPr>
          <a:xfrm>
            <a:off x="49320" y="144360"/>
            <a:ext cx="4379760" cy="38563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/>
          <p:cNvPicPr/>
          <p:nvPr/>
        </p:nvPicPr>
        <p:blipFill>
          <a:blip r:embed="rId2"/>
          <a:stretch/>
        </p:blipFill>
        <p:spPr>
          <a:xfrm>
            <a:off x="4500720" y="142920"/>
            <a:ext cx="4572000" cy="385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2T15:46:49Z</dcterms:created>
  <dc:creator>Анатолий</dc:creator>
  <dc:description/>
  <dc:language>en-US</dc:language>
  <cp:lastModifiedBy>1</cp:lastModifiedBy>
  <dcterms:modified xsi:type="dcterms:W3CDTF">2012-01-29T17:46:39Z</dcterms:modified>
  <cp:revision>16</cp:revision>
  <dc:subject/>
  <dc:title>Слайд 1</dc:title>
</cp:coreProperties>
</file>