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F7F-BD1B-49F2-A115-C8FA1240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B04-A67D-45BA-BBFC-366C7FAF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6E1-BA23-45A6-AB81-6EB21587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052-5F5B-479C-9E81-0E71EF46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14F-19D7-4626-A8BB-B3DE12F7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F00-8D28-4692-B637-B6A1C6D7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32D-43AB-4162-BB68-F303EDE6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6EB-1DB6-4F3A-BE73-D9FA81B4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A00-458E-4781-942F-8DF2FD0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958-13CA-4B7F-9E4E-ABF508C8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4C9-E5A5-4EAD-8FFD-7DC100E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238-C70F-4674-8010-E79741F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F0A61-7151-4B11-A68B-CD550D781E7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еи науки в Санкт-Петербур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: Соппа Ольга Вале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анкт-Петербург ГБОУ лицей № 5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407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ой Готторпский глобус – первый в мире глобус-планетарий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19640" y="220680"/>
            <a:ext cx="3810240" cy="5000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33760" y="537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ерца Большого Готторпского Глобуса с изображением герба Готторп-Голштинских герцогов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808520" cy="6408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44960" y="15876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ьер кабинета ученого XVII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741920" cy="707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429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еренц-зал Санкт-Петербургской академии наук XVII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624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танический музе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. Профессора Попова,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33360" y="1628640"/>
            <a:ext cx="667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цы древес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5832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цы плодов и сем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лекция семян злаков и изделий из их соло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3800" y="1628640"/>
            <a:ext cx="75582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мажное полотенце из волокон фик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55640" y="1557360"/>
            <a:ext cx="629136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оологический музе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 Университетская наб.,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3800" y="1628640"/>
            <a:ext cx="80964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епаха Матам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4076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ей антропологии и этнограф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ниверситетская наб,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08000" y="1905120"/>
            <a:ext cx="756144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нгский гав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3800" y="1268280"/>
            <a:ext cx="809640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елет синего к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696960"/>
            <a:ext cx="6281640" cy="61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чело Березовского мам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3800" y="700200"/>
            <a:ext cx="8096400" cy="54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гаданский мамонт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3800" y="723960"/>
            <a:ext cx="80964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мальский мамонт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3800" y="836640"/>
            <a:ext cx="80964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елет Таймырского мам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54579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Южный с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5796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ик Петр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Лизетте  в Риг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60520"/>
            <a:ext cx="867564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вотные Петр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204920"/>
            <a:ext cx="820728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Астрономическая Обсерватория РАН</a:t>
            </a:r>
            <a:br>
              <a:rPr sz="4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33360" y="1341360"/>
            <a:ext cx="667728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льтура и быт населения С. Америки – от эскимосов до индейце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0000" y="1417680"/>
            <a:ext cx="4032360" cy="48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1417680"/>
            <a:ext cx="42480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 территории обсерватории находится большой радиотелеско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46000" y="1771560"/>
            <a:ext cx="7452000" cy="4183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189000"/>
            <a:ext cx="746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 солнечных телескопа и 2 астрограф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7705800" cy="2595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7705800" cy="2816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ескоп для осмотра окрест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228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4319640" cy="511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3196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319640" cy="4464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1749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тай, Монголия и Коре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5200" y="1079640"/>
            <a:ext cx="679284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1680" y="32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ревянная декоративная тарелка с изображением дракона. Индон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38800" y="3432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ет традиционного дома. Индонезия. Минангкаб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4102200"/>
            <a:ext cx="3477960" cy="254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5640" y="600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ические ушные фигурные серьги замужней женщины. Индонезия. Бат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амские близне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53337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4149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звездного неба Большого Готторпского глобуса-планетария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809880" cy="452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867280" y="4869000"/>
            <a:ext cx="30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везды различных величин Большого Готторпского глобуса-планетария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4:53:58Z</dcterms:created>
  <dc:creator>Оля</dc:creator>
  <dc:description/>
  <dc:language>en-US</dc:language>
  <cp:lastModifiedBy/>
  <dcterms:modified xsi:type="dcterms:W3CDTF">2017-02-12T22:45:05Z</dcterms:modified>
  <cp:revision>7</cp:revision>
  <dc:subject/>
  <dc:title>Музеи науки в Санкт-Петербурге</dc:title>
</cp:coreProperties>
</file>