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0.gif" ContentType="image/gif"/>
  <Override PartName="/ppt/media/image9.gif" ContentType="image/gif"/>
  <Override PartName="/ppt/media/image12.wmf" ContentType="image/x-wmf"/>
  <Override PartName="/ppt/media/image1.gif" ContentType="image/gif"/>
  <Override PartName="/ppt/media/image6.jpeg" ContentType="image/jpeg"/>
  <Override PartName="/ppt/media/image21.gif" ContentType="image/gif"/>
  <Override PartName="/ppt/media/image1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4.jpeg" ContentType="image/jpeg"/>
  <Override PartName="/ppt/media/image22.gif" ContentType="image/gif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1804-3C40-4A3B-A187-9CFDD63C2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BA0-9DFB-434A-8662-27EFEE2F0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570-05AE-43C2-8FAB-CC7DF619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91A-8C05-47C0-A85B-B03F7EB8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D36-4442-4885-9BBF-AA812870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7A2-34F2-44A7-832A-CABBB6B1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A96-7EC8-4BCA-BE60-7EAE294C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36E-812E-406F-9479-541D4B7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3FD-AC56-42E8-8254-D9A0370D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B19-1E6B-46E5-9469-3A77402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8CB-241D-488F-BF22-8942464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70E-66D2-417B-BA93-AEC1648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689-9F1D-476C-9CE7-C2531D9C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1AB-9E30-481E-A05D-A95998D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cc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333-C69A-4AF0-8E4B-6FDA28568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9B3-3379-49C6-8EB0-2150AB634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55640" y="2997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СЛИ БЫ НЕ БЫЛО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3492360" y="4076640"/>
            <a:ext cx="51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МУЗЫКИ?"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395280" y="765000"/>
            <a:ext cx="439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" ЧТО СТАЛО БЫ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2411280" y="1628640"/>
            <a:ext cx="64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С ЛИТЕРАТУРОЙ,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Picture 11" descr="clef"/>
          <p:cNvPicPr/>
          <p:nvPr/>
        </p:nvPicPr>
        <p:blipFill>
          <a:blip r:embed="rId1"/>
          <a:stretch/>
        </p:blipFill>
        <p:spPr>
          <a:xfrm>
            <a:off x="684360" y="4076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нимированный gif"/>
          <p:cNvPicPr/>
          <p:nvPr/>
        </p:nvPicPr>
        <p:blipFill>
          <a:blip r:embed="rId2"/>
          <a:stretch/>
        </p:blipFill>
        <p:spPr>
          <a:xfrm>
            <a:off x="1692360" y="522936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анимированный gif"/>
          <p:cNvPicPr/>
          <p:nvPr/>
        </p:nvPicPr>
        <p:blipFill>
          <a:blip r:embed="rId3"/>
          <a:stretch/>
        </p:blipFill>
        <p:spPr>
          <a:xfrm>
            <a:off x="6156360" y="0"/>
            <a:ext cx="2016000" cy="1852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7"/>
          <p:cNvSpPr/>
          <p:nvPr/>
        </p:nvSpPr>
        <p:spPr>
          <a:xfrm>
            <a:off x="4752360" y="522936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729-2450-42A3-A53A-94DFBF1BF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203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00"/>
                </a:solidFill>
                <a:uFillTx/>
                <a:latin typeface="Comic Sans MS"/>
              </a:rPr>
              <a:t>"Песня о снежинке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з к/ф. «Чародеи» сл.Л.Дербенева, муз. Е.Крыла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Когда приходит год молодой, а старый уходит в 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Снежинку хрупкую спрячь в ладонь желание загад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Смотри с надеждой в ночную синь, некрепко ладонь сжим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 все о чем желаешь проси загадывай и жел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рипев: И Новый год, что вот-вот наста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сполнит вмиг мечту тво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Если снежинка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В твоей ладони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Когда в дом входит год молодой, а старый уходит про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Дано свершиться мечте любой, такая уж эта но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Затихнет все и замерзнет вокруг в преддверии новых дн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 обернется снежинка вдруг Жар-птицей в руке тво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рипев: И Новый год, что вот-вот наста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Исполнит вмиг мечту тво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Если снежинка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В твоей ладони не раст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Comic Sans MS"/>
              </a:rPr>
              <a:t>Пока часы двенадцать бь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215215"/>
          <p:cNvPicPr/>
          <p:nvPr/>
        </p:nvPicPr>
        <p:blipFill>
          <a:blip r:embed="rId1"/>
          <a:stretch/>
        </p:blipFill>
        <p:spPr>
          <a:xfrm>
            <a:off x="611280" y="4076640"/>
            <a:ext cx="96660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0199717"/>
          <p:cNvPicPr/>
          <p:nvPr/>
        </p:nvPicPr>
        <p:blipFill>
          <a:blip r:embed="rId2"/>
          <a:stretch/>
        </p:blipFill>
        <p:spPr>
          <a:xfrm>
            <a:off x="2556000" y="4076640"/>
            <a:ext cx="95724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G00392_"/>
          <p:cNvPicPr/>
          <p:nvPr/>
        </p:nvPicPr>
        <p:blipFill>
          <a:blip r:embed="rId3"/>
          <a:stretch/>
        </p:blipFill>
        <p:spPr>
          <a:xfrm>
            <a:off x="395280" y="1052640"/>
            <a:ext cx="2773440" cy="13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BD20663_"/>
          <p:cNvPicPr/>
          <p:nvPr/>
        </p:nvPicPr>
        <p:blipFill>
          <a:blip r:embed="rId4"/>
          <a:stretch/>
        </p:blipFill>
        <p:spPr>
          <a:xfrm>
            <a:off x="755640" y="5608800"/>
            <a:ext cx="107964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215215"/>
          <p:cNvPicPr/>
          <p:nvPr/>
        </p:nvPicPr>
        <p:blipFill>
          <a:blip r:embed="rId5"/>
          <a:stretch/>
        </p:blipFill>
        <p:spPr>
          <a:xfrm>
            <a:off x="3059280" y="1557360"/>
            <a:ext cx="77148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j0215215"/>
          <p:cNvPicPr/>
          <p:nvPr/>
        </p:nvPicPr>
        <p:blipFill>
          <a:blip r:embed="rId6"/>
          <a:stretch/>
        </p:blipFill>
        <p:spPr>
          <a:xfrm>
            <a:off x="611280" y="18900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0215215"/>
          <p:cNvPicPr/>
          <p:nvPr/>
        </p:nvPicPr>
        <p:blipFill>
          <a:blip r:embed="rId7"/>
          <a:stretch/>
        </p:blipFill>
        <p:spPr>
          <a:xfrm>
            <a:off x="1763640" y="2708280"/>
            <a:ext cx="10288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C72-5095-45D8-B538-193D0AE83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Bookman Old Style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632D-53FA-4078-A96A-EE321B591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2551"/>
          <p:cNvPicPr/>
          <p:nvPr/>
        </p:nvPicPr>
        <p:blipFill>
          <a:blip r:embed="rId1"/>
          <a:stretch/>
        </p:blipFill>
        <p:spPr>
          <a:xfrm>
            <a:off x="3995640" y="333360"/>
            <a:ext cx="4707000" cy="5904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59" name="WordArt 8"/>
          <p:cNvSpPr txBox="1"/>
          <p:nvPr/>
        </p:nvSpPr>
        <p:spPr>
          <a:xfrm rot="5400000">
            <a:off x="-1584720" y="2600280"/>
            <a:ext cx="626436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6699"/>
                    </a:gs>
                    <a:gs pos="100000">
                      <a:srgbClr val="33ccff"/>
                    </a:gs>
                  </a:gsLst>
                  <a:lin ang="18900000"/>
                </a:gradFill>
                <a:latin typeface="Bookman Old Style"/>
              </a:rPr>
              <a:t>БАСНЯ</a:t>
            </a:r>
            <a:endParaRPr b="0" lang="en-US" sz="12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6699"/>
                  </a:gs>
                  <a:gs pos="100000">
                    <a:srgbClr val="33ccff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CE0-613E-4F3B-9A68-5DDF5C15F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324000" y="549360"/>
            <a:ext cx="151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дуэт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979640" y="907920"/>
            <a:ext cx="3999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+</a:t>
            </a:r>
            <a:endParaRPr b="1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556000" y="549360"/>
            <a:ext cx="295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винтет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WordArt 8"/>
          <p:cNvSpPr txBox="1"/>
          <p:nvPr/>
        </p:nvSpPr>
        <p:spPr>
          <a:xfrm rot="5400000">
            <a:off x="5796000" y="981000"/>
            <a:ext cx="21600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</a:t>
            </a:r>
            <a:endParaRPr b="0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6227640" y="476280"/>
            <a:ext cx="18716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трио</a:t>
            </a:r>
            <a:endParaRPr b="0" lang="en-US" sz="12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8172360" y="907920"/>
            <a:ext cx="50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</a:t>
            </a:r>
            <a:endParaRPr b="1" lang="en-US" sz="1200" spc="1" strike="noStrike">
              <a:ln w="64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324000" y="3357720"/>
            <a:ext cx="8496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Verdana"/>
              </a:rPr>
              <a:t>КВАРТЕ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CED-D494-4013-BC81-ECFE65CA9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0" y="836640"/>
            <a:ext cx="8569440" cy="37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К В А Р Т Е Т - 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ансамбль из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 </a:t>
            </a:r>
            <a:r>
              <a:rPr b="1" lang="en-US" sz="12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3300"/>
                </a:solidFill>
                <a:latin typeface="Bookman Old Style"/>
              </a:rPr>
              <a:t>четырёх исполнителей</a:t>
            </a:r>
            <a:endParaRPr b="1" lang="en-US" sz="12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33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A6C-FF2D-4D3A-BFDA-3378F9929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трунно-смычковая групп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рипка и а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олонч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виола"/>
          <p:cNvPicPr/>
          <p:nvPr/>
        </p:nvPicPr>
        <p:blipFill>
          <a:blip r:embed="rId1">
            <a:lum contrast="12000"/>
          </a:blip>
          <a:srcRect l="9124" t="0" r="13625" b="3763"/>
          <a:stretch/>
        </p:blipFill>
        <p:spPr>
          <a:xfrm>
            <a:off x="684360" y="3860640"/>
            <a:ext cx="2447640" cy="223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бас"/>
          <p:cNvPicPr/>
          <p:nvPr/>
        </p:nvPicPr>
        <p:blipFill>
          <a:blip r:embed="rId2"/>
          <a:stretch/>
        </p:blipFill>
        <p:spPr>
          <a:xfrm>
            <a:off x="5292720" y="3357720"/>
            <a:ext cx="3313080" cy="3116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скрипка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203640" y="1197000"/>
            <a:ext cx="205272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7d8bf4dcfabf58efbc79fc642110bfd3"/>
          <p:cNvPicPr/>
          <p:nvPr/>
        </p:nvPicPr>
        <p:blipFill>
          <a:blip r:embed="rId4"/>
          <a:stretch/>
        </p:blipFill>
        <p:spPr>
          <a:xfrm>
            <a:off x="3851280" y="4724280"/>
            <a:ext cx="1306440" cy="136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8cc8ca993ba70f6685c2e884a8c72f98"/>
          <p:cNvPicPr/>
          <p:nvPr/>
        </p:nvPicPr>
        <p:blipFill>
          <a:blip r:embed="rId5"/>
          <a:stretch/>
        </p:blipFill>
        <p:spPr>
          <a:xfrm>
            <a:off x="6732720" y="1341360"/>
            <a:ext cx="104904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34B-4A9F-4D61-A50C-008DD3C26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сполнении музыки участвуют четыре струнных инструмента:  2 скрипки, альт и виолончель 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1476360" y="0"/>
            <a:ext cx="5616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струнный квартет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1" name="Picture 4" descr="j0295395"/>
          <p:cNvPicPr/>
          <p:nvPr/>
        </p:nvPicPr>
        <p:blipFill>
          <a:blip r:embed="rId1"/>
          <a:stretch/>
        </p:blipFill>
        <p:spPr>
          <a:xfrm>
            <a:off x="395280" y="5013360"/>
            <a:ext cx="230184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j0295397"/>
          <p:cNvPicPr/>
          <p:nvPr/>
        </p:nvPicPr>
        <p:blipFill>
          <a:blip r:embed="rId2"/>
          <a:stretch/>
        </p:blipFill>
        <p:spPr>
          <a:xfrm>
            <a:off x="2411280" y="3284640"/>
            <a:ext cx="2395800" cy="1589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j0295401"/>
          <p:cNvPicPr/>
          <p:nvPr/>
        </p:nvPicPr>
        <p:blipFill>
          <a:blip r:embed="rId3"/>
          <a:stretch/>
        </p:blipFill>
        <p:spPr>
          <a:xfrm>
            <a:off x="6156360" y="3141720"/>
            <a:ext cx="2469960" cy="166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295398"/>
          <p:cNvPicPr/>
          <p:nvPr/>
        </p:nvPicPr>
        <p:blipFill>
          <a:blip r:embed="rId4"/>
          <a:stretch/>
        </p:blipFill>
        <p:spPr>
          <a:xfrm>
            <a:off x="4140360" y="5165640"/>
            <a:ext cx="2409840" cy="169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7EE-AF6E-4584-9FBD-F48F99B44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-main-pic" descr="Картинка 6 из 257"/>
          <p:cNvPicPr/>
          <p:nvPr/>
        </p:nvPicPr>
        <p:blipFill>
          <a:blip r:embed="rId1"/>
          <a:stretch/>
        </p:blipFill>
        <p:spPr>
          <a:xfrm>
            <a:off x="826920" y="404640"/>
            <a:ext cx="4154760" cy="6048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32000" y="1413000"/>
            <a:ext cx="4032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Александр Порфи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Бор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4968-D1B0-4AE9-8013-6D2209482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7423" t="12720" r="37621" b="10968"/>
          <a:stretch/>
        </p:blipFill>
        <p:spPr>
          <a:xfrm>
            <a:off x="324000" y="0"/>
            <a:ext cx="2036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1557360"/>
            <a:ext cx="65880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рип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трунный смычковый инструмент, самый высокий по звучанию, наиболее богатый по выразительным и техническим возможностям среди инструментов скрипичного семе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2843280" y="404640"/>
            <a:ext cx="39607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крипка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92" name="Picture 5" descr="Image50"/>
          <p:cNvPicPr/>
          <p:nvPr/>
        </p:nvPicPr>
        <p:blipFill>
          <a:blip r:embed="rId2"/>
          <a:stretch/>
        </p:blipFill>
        <p:spPr>
          <a:xfrm>
            <a:off x="3995640" y="4221000"/>
            <a:ext cx="3278160" cy="2173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AD8-683B-4A1E-A3C0-3083DA576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age51"/>
          <p:cNvPicPr/>
          <p:nvPr/>
        </p:nvPicPr>
        <p:blipFill>
          <a:blip r:embed="rId1"/>
          <a:srcRect l="8163" t="11032" r="0" b="0"/>
          <a:stretch/>
        </p:blipFill>
        <p:spPr>
          <a:xfrm>
            <a:off x="324000" y="189000"/>
            <a:ext cx="8820000" cy="6329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619280" y="47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ШЕБНЫЙ СМЫ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</a:rPr>
              <a:t>НОРВЕЖСКАЯ НАРОДНАЯ ПЕС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1268280"/>
            <a:ext cx="23749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Пришёл к нам в с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зыкант-старич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уках музык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шебный смыч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дарил по стру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бежался на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нцует, игр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ётся,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Шёл мимо бог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ыхал скрип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спыхнула зави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душе бог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родай свою скрип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беден и с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дам за неё теб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еба амба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780000" y="1268280"/>
            <a:ext cx="266364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! Скрипку св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родам ник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ужна эта скрип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 мне од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звуки е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селится на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нцует, игра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ётся,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7:23:10Z</dcterms:created>
  <dc:creator>юб</dc:creator>
  <dc:description/>
  <dc:language>en-US</dc:language>
  <cp:lastModifiedBy>Наталья</cp:lastModifiedBy>
  <dcterms:modified xsi:type="dcterms:W3CDTF">2011-09-07T00:12:11Z</dcterms:modified>
  <cp:revision>10</cp:revision>
  <dc:subject/>
  <dc:title>Слайд 1</dc:title>
</cp:coreProperties>
</file>