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50B-224D-4BCC-AFB2-3B32DEC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2A5-4043-4CC2-A896-AAEC5029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947-C130-460A-A4FF-22AFBF5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9D3-1002-403C-AD5D-A56381EB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E3E-E180-4AF1-9DC5-50B35E53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680-F02A-4955-B36E-9CD7E94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783-BE4A-4066-9FEB-3952A267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796-CFCE-45A8-BF3C-A817B1D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EF2-D2A7-42C0-AD73-55F43832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0A6-397C-4AD7-820D-15913FD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92F-E3DB-4EAE-9108-896B42A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9C5-5BBB-4D46-8AEB-74A6C04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310C-81FD-4783-A0CB-05253A70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643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Осторожно ветер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Из калитки выше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стучал в окош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робежал по крыш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играл нем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етками черёму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журил за что-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оробьёв знаком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И расправил бод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Молодые крыль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летел  куда-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перегонки с пылью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66"/>
                </a:solidFill>
                <a:latin typeface="Arial"/>
              </a:rPr>
              <a:t>Михаил Исаков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равила постановки знаков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Если однородные члены соединяются одиночным союзом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не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Если однородные члены связаны бессоюзной связью, 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 Если однородные члены соединены  противительными союзам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, но, да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 Если однородные члены соединены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вторяющимися  союзами 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ые ста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. Если однородные члены объединены в пары, то запятая ставится только на границе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 группа.</a:t>
            </a: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. Курение является  вредной и опасной привычкой для здоровья.2.Это знают все. 3. Но люди курят и отравляют свой организм никотином.4. Они не задумываются о страшных последствиях. Забывают о ядовитых веществах, содержащихся в табачном ды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2 группа.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. И  ацетон и ртуть и свинец и мышьяк разрушают организм курильщика. 6.  Продолжительность жизни в результате курения сокращается на  6-8 лет. 7. Это исследовали и доказали учёные всего 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3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8.  Ежедневно в России умирает 300 тысяч человек. 9. Страшная и ужасная  статистика. 10. Помни знай о вреде курения и борись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4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1. При царе Михаиле Фёдоровиче курильщиков  били  палками по стопам и отрезали нос и уши. 12. Это  было  страшно, жестоко, но эффективно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5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3. Прислушайся к нашим советам. 14. Откажись от вредных привычек и закаляйся занимайся спортом и веди здоровый образ жизн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1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. Курение является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вредной и опасной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привычкой для здоровья.2.Это знают все. 3. Но люди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курят и отравляют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вой организм никотином.4. Они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не задумываютс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страшных последствиях. З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абывают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ядовитых веществах, содержащихся в табачном ды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2 группа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. 5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 ацетон, и ртуть, и свинец, и мышьяк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разрушают организм курильщика. 6.  Продолжительность жизни в результате курения сокращается на  6-8 лет. 7. Это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сследовали и доказал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учёные всего 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3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8.  Ежедневно в России умирает 300 тысяч человек. 9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Страшная и ужасна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 статистика. 10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Помни, знай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вреде курения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борись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4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1. При царе Михаиле Фёдоровиче курильщиков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бил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палками по стопам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отрезал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d60093"/>
                </a:solidFill>
                <a:latin typeface="Arial"/>
              </a:rPr>
              <a:t>нос 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d60093"/>
                </a:solidFill>
                <a:latin typeface="Arial"/>
              </a:rPr>
              <a:t>уш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. 12. Это  было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страшно, жестоко, но эффективно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5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3. Прислушайся к нашим советам. 14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Откажись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т вредных привычек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закаляйся, занимайс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портом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веди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здоровый образ жизн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549360"/>
            <a:ext cx="108108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49360"/>
            <a:ext cx="100800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052640"/>
            <a:ext cx="79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05264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125360"/>
            <a:ext cx="719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1052640"/>
            <a:ext cx="1511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125360"/>
            <a:ext cx="1511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916280"/>
            <a:ext cx="1081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91628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916280"/>
            <a:ext cx="936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1916280"/>
            <a:ext cx="1008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500280"/>
            <a:ext cx="129564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500280"/>
            <a:ext cx="107928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24720" y="350028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24720" y="357336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71628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78936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3716280"/>
            <a:ext cx="936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789360"/>
            <a:ext cx="936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36572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429264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4292640"/>
            <a:ext cx="1224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365720"/>
            <a:ext cx="1224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436572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4365720"/>
            <a:ext cx="647640" cy="0"/>
          </a:xfrm>
          <a:prstGeom prst="line">
            <a:avLst/>
          </a:prstGeom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4581360"/>
            <a:ext cx="2520720" cy="0"/>
          </a:xfrm>
          <a:prstGeom prst="line">
            <a:avLst/>
          </a:prstGeom>
          <a:ln w="5724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4581360"/>
            <a:ext cx="1800360" cy="0"/>
          </a:xfrm>
          <a:prstGeom prst="line">
            <a:avLst/>
          </a:prstGeom>
          <a:ln w="5724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4941720"/>
            <a:ext cx="12952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4869000"/>
            <a:ext cx="12952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157720"/>
            <a:ext cx="1297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5229360"/>
            <a:ext cx="1297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5229360"/>
            <a:ext cx="136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157720"/>
            <a:ext cx="136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544500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51664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0" spc="-1" strike="noStrike" u="sng">
                <a:solidFill>
                  <a:srgbClr val="a50021"/>
                </a:solidFill>
                <a:uFillTx/>
                <a:latin typeface="Script MT Bold"/>
              </a:rPr>
              <a:t>ТРЕНАЖЕР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Script MT Bold"/>
              </a:rPr>
              <a:t>Признаки однородных чле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твечают  на один и тот</a:t>
            </a:r>
            <a:r>
              <a:rPr b="1" i="1" lang="en-US" sz="3200" spc="-1" strike="noStrike">
                <a:solidFill>
                  <a:srgbClr val="0000ff"/>
                </a:solidFill>
                <a:latin typeface="Script MT Bold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же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Являются одним членом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тносятся к одному и тому же члену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бычно выражены одной и той же частью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Произносятся с перечислительной интон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равила постановки знаков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Если однородные члены соединяются одиночным союзом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не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Если однородные члены связаны бессоюзной связью, 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 Если однородные члены соединены  противительными союзам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, но, да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 Если однородные члены соединены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вторяющимися  союзами 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ые ста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. Если однородные члены объединены в пары, то запятая ставится только на границе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ю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вариант.1В,2А,3А,4В,5С,6А,7В,8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 вариант.1А,2А,3В,4С,5А,6В,7В,8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 вариант.1В,2В,3А,4С,5А,6В,7В,8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4 вариант.1В,2В,3В,4С,5А,6С,7А,8С,9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0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 вариант.1А,2В,3С,4В,5В,6В,7В,8С,9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0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54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н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549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84280"/>
            <a:ext cx="381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Признаки  однородных членов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119700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дить в тексте  однородные члены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 расставлять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ть их синтаксическ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авлять схемы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229600" cy="533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твечают  на один и тот же в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08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1.  Что необычного в этом стихотворении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2. Найдите и выпишите грамматическую  основу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3. Сколько в этом предложении сказуемых и сколько подлежащих они поясняют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4. На какой вопрос они отвечают и какова грамматическая форма этих глаголов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5. С какой интонацией они читаю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6. Как называются подобные члены предложени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Являются одним членом предл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тносятся к одному и тому же члену предл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бычно выражены одной и той же частью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Произносятся с перечислительной интонаци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6600" spc="-1" strike="noStrike">
                <a:solidFill>
                  <a:srgbClr val="9900cc"/>
                </a:solidFill>
                <a:latin typeface="Arial"/>
              </a:rPr>
              <a:t>Ветер  вышел, постучал, пробежал, поиграл, пожурил и расправил, полетел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268280"/>
            <a:ext cx="266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13372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7664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19700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34136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99736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4172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306864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321300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0536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86900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01336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73408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87700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8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Arial"/>
              </a:rPr>
              <a:t>Тема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Однородные члены предложения и знаки препинания при н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135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549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549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у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381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cript MT Bold"/>
              </a:rPr>
              <a:t>1. Признаки  однородных членов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1197000"/>
            <a:ext cx="3816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Находить в тексте  однородные члены пред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Правильно расставлять знаки препин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Употреблять в своей реч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21040" y="4724280"/>
            <a:ext cx="1400400" cy="180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3573360"/>
            <a:ext cx="259272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341360"/>
            <a:ext cx="259236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0"/>
            <a:ext cx="259236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1413000"/>
            <a:ext cx="2592360" cy="23032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645000"/>
            <a:ext cx="2592360" cy="23032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557360"/>
            <a:ext cx="144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860640"/>
            <a:ext cx="180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907920"/>
            <a:ext cx="136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700280"/>
            <a:ext cx="1944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3860640"/>
            <a:ext cx="1871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260280"/>
            <a:ext cx="187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184464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321300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3794"/>
                </a:moveTo>
                <a:lnTo>
                  <a:pt x="31253" y="10800"/>
                </a:lnTo>
                <a:lnTo>
                  <a:pt x="1724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44500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44500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3794"/>
                </a:moveTo>
                <a:lnTo>
                  <a:pt x="31253" y="10800"/>
                </a:lnTo>
                <a:lnTo>
                  <a:pt x="1724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328464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3794"/>
                </a:moveTo>
                <a:lnTo>
                  <a:pt x="31269" y="10800"/>
                </a:lnTo>
                <a:lnTo>
                  <a:pt x="17257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1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С.  Утром прилетали синицы и клевали пше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С.  В наших  лесах живут медведи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лисы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вол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В.  Мы очень спешили к поезду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но опозд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4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В.  По склонам гор видны сосны и ели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клёны и  ду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5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А.  Порыв ветра вырвался из-за деревьев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закружил пыль  на дороге и умчался.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1125360"/>
            <a:ext cx="1656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197000"/>
            <a:ext cx="1656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112536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1197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205000"/>
            <a:ext cx="1295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205000"/>
            <a:ext cx="79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220500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314172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3213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14172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3213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149720"/>
            <a:ext cx="863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14972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14972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6494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5084640"/>
            <a:ext cx="129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5157720"/>
            <a:ext cx="129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084640"/>
            <a:ext cx="1368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157720"/>
            <a:ext cx="1368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5445000"/>
            <a:ext cx="115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5516640"/>
            <a:ext cx="115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Знаки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413000"/>
            <a:ext cx="5400720" cy="50403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35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9079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6720" y="5589720"/>
            <a:ext cx="64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470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хемы соединения и разделения однород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,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могут употребляться союзы 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о, д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5. 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4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Михаил</cp:lastModifiedBy>
  <dcterms:modified xsi:type="dcterms:W3CDTF">2010-11-11T12:07:30Z</dcterms:modified>
  <cp:revision>39</cp:revision>
  <dc:subject/>
  <dc:title>Тема : Знаки препинания в предложениях с однородными членами</dc:title>
</cp:coreProperties>
</file>