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AEB-F2F9-46DE-9EDC-925EFAEB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4019-5EC9-4D7F-83AC-38F2222F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E54-09B1-4F47-AC36-C64E3319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2C6-5AD5-48BF-BF30-9C1FCB18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907-E42F-427F-8233-BB2F1BC1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6E5-C330-45A9-A42C-627D333A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08F-5AA0-4510-A5D1-6C28E576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942-BC03-4519-8B96-A33DDB63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720-B710-4841-A1B2-CA40F7D3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E3E-2788-4F90-BA59-5090BE2C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711-50A9-431B-9E19-3F2AE746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79A-A651-47F2-BACC-E147A778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8AA8-30D5-4027-B71E-48E35BBDC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76438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Осторожно ветер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Из калитки вышел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Постучал в окошк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Пробежал по крыш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Поиграл немн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Ветками черёмух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Пожурил за что-т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Воробьёв знаком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И расправил бод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Молодые крыль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Полетел  куда-т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Вперегонки с пылью</a:t>
            </a:r>
            <a:r>
              <a:rPr b="1" i="1" lang="en-US" sz="27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66"/>
                </a:solidFill>
                <a:latin typeface="Arial"/>
              </a:rPr>
              <a:t>Михаил Исаковск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Правила постановки знаков препинания при однородных чле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 Если однородные члены соединяются одиночным союзом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ятая не став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. Если однородные члены связаны бессоюзной связью, запятая став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. Если однородные члены соединены  противительными союзами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а, но, да,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ятая став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. Если однородные члены соединены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повторяющимися  союзами 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ятые ставя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. Если однородные члены объединены в пары, то запятая ставится только на границе п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1 группа.</a:t>
            </a: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. Курение является  вредной и опасной привычкой для здоровья.2.Это знают все. 3. Но люди курят и отравляют свой организм никотином.4. Они не задумываются о страшных последствиях. Забывают о ядовитых веществах, содержащихся в табачном дым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2 группа.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. И  ацетон и ртуть и свинец и мышьяк разрушают организм курильщика. 6.  Продолжительность жизни в результате курения сокращается на  6-8 лет. 7. Это исследовали и доказали учёные всего мир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3 группа.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8.  Ежедневно в России умирает 300 тысяч человек. 9. Страшная и ужасная  статистика. 10. Помни знай о вреде курения и борись с ни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4 группа.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11. При царе Михаиле Фёдоровиче курильщиков  били  палками по стопам и отрезали нос и уши. 12. Это  было  страшно, жестоко, но эффективно!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5 группа.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13. Прислушайся к нашим советам. 14. Откажись от вредных привычек и закаляйся занимайся спортом и веди здоровый образ жизни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1 группа.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1. Курение является 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вредной и опасной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привычкой для здоровья.2.Это знают все. 3. Но люди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курят и отравляют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свой организм никотином.4. Они 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не задумываются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о страшных последствиях. З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абывают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о ядовитых веществах, содержащихся в табачном дым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2 группа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. 5.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И  ацетон, и ртуть, и свинец, и мышьяк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разрушают организм курильщика. 6.  Продолжительность жизни в результате курения сокращается на  6-8 лет. 7. Это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исследовали и доказали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учёные всего мир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3 группа.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8.  Ежедневно в России умирает 300 тысяч человек. 9.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Страшная и ужасная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 статистика. 10.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Помни, знай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о вреде курения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и борись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с ни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4 группа.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11. При царе Михаиле Фёдоровиче курильщиков 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били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 палками по стопам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отрезали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d60093"/>
                </a:solidFill>
                <a:latin typeface="Arial"/>
              </a:rPr>
              <a:t>нос и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d60093"/>
                </a:solidFill>
                <a:latin typeface="Arial"/>
              </a:rPr>
              <a:t>уши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. 12. Это  было 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страшно, жестоко, но эффективно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!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5 группа.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13. Прислушайся к нашим советам. 14.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Откажись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от вредных привычек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и закаляйся, занимайся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спортом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веди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здоровый образ жизни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549360"/>
            <a:ext cx="1081080" cy="0"/>
          </a:xfrm>
          <a:prstGeom prst="line">
            <a:avLst/>
          </a:prstGeom>
          <a:ln w="572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549360"/>
            <a:ext cx="1008000" cy="0"/>
          </a:xfrm>
          <a:prstGeom prst="line">
            <a:avLst/>
          </a:prstGeom>
          <a:ln w="572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1052640"/>
            <a:ext cx="7923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1052640"/>
            <a:ext cx="792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1125360"/>
            <a:ext cx="71928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1052640"/>
            <a:ext cx="151128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1125360"/>
            <a:ext cx="151128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1916280"/>
            <a:ext cx="108108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1916280"/>
            <a:ext cx="863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1916280"/>
            <a:ext cx="9367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88000" y="1916280"/>
            <a:ext cx="100836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3500280"/>
            <a:ext cx="1295640" cy="0"/>
          </a:xfrm>
          <a:prstGeom prst="line">
            <a:avLst/>
          </a:prstGeom>
          <a:ln w="572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3500280"/>
            <a:ext cx="1079280" cy="0"/>
          </a:xfrm>
          <a:prstGeom prst="line">
            <a:avLst/>
          </a:prstGeom>
          <a:ln w="572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24720" y="3500280"/>
            <a:ext cx="863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24720" y="3573360"/>
            <a:ext cx="863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3716280"/>
            <a:ext cx="647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3789360"/>
            <a:ext cx="647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67280" y="3716280"/>
            <a:ext cx="93636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3789360"/>
            <a:ext cx="93636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4365720"/>
            <a:ext cx="647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4292640"/>
            <a:ext cx="647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4292640"/>
            <a:ext cx="12240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365720"/>
            <a:ext cx="12240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4365720"/>
            <a:ext cx="432000" cy="0"/>
          </a:xfrm>
          <a:prstGeom prst="line">
            <a:avLst/>
          </a:prstGeom>
          <a:ln w="3816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04000" y="4365720"/>
            <a:ext cx="647640" cy="0"/>
          </a:xfrm>
          <a:prstGeom prst="line">
            <a:avLst/>
          </a:prstGeom>
          <a:ln w="3816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4581360"/>
            <a:ext cx="2520720" cy="0"/>
          </a:xfrm>
          <a:prstGeom prst="line">
            <a:avLst/>
          </a:prstGeom>
          <a:ln w="5724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2360" y="4581360"/>
            <a:ext cx="1800360" cy="0"/>
          </a:xfrm>
          <a:prstGeom prst="line">
            <a:avLst/>
          </a:prstGeom>
          <a:ln w="5724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4941720"/>
            <a:ext cx="129528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4869000"/>
            <a:ext cx="129528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5157720"/>
            <a:ext cx="129708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5229360"/>
            <a:ext cx="129708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4360" y="5229360"/>
            <a:ext cx="13687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5157720"/>
            <a:ext cx="13687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5445000"/>
            <a:ext cx="647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5516640"/>
            <a:ext cx="647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1988640"/>
            <a:ext cx="8209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0" spc="-1" strike="noStrike" u="sng">
                <a:solidFill>
                  <a:srgbClr val="a50021"/>
                </a:solidFill>
                <a:uFillTx/>
                <a:latin typeface="Script MT Bold"/>
              </a:rPr>
              <a:t>ТРЕНАЖЕР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Script MT Bold"/>
              </a:rPr>
              <a:t>Признаки однородных чле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Script MT Bold"/>
              </a:rPr>
              <a:t>Отвечают  на один и тот</a:t>
            </a:r>
            <a:r>
              <a:rPr b="1" i="1" lang="en-US" sz="3200" spc="-1" strike="noStrike">
                <a:solidFill>
                  <a:srgbClr val="0000ff"/>
                </a:solidFill>
                <a:latin typeface="Script MT Bold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Script MT Bold"/>
              </a:rPr>
              <a:t>же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Script MT Bold"/>
              </a:rPr>
              <a:t>Являются одним членом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Script MT Bold"/>
              </a:rPr>
              <a:t>Относятся к одному и тому же члену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Script MT Bold"/>
              </a:rPr>
              <a:t>Обычно выражены одной и той же частью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Script MT Bold"/>
              </a:rPr>
              <a:t>Произносятся с перечислительной интон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Правила постановки знаков препинания при однородных чле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 Если однородные члены соединяются одиночным союзом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ятая не став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. Если однородные члены связаны бессоюзной связью, запятая став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. Если однородные члены соединены  противительными союзами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а, но, да,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ятая став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. Если однородные члены соединены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повторяющимися  союзами 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ятые ставя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. Если однородные члены объединены в пары, то запятая ставится только на границе п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лю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вариант.1В,2А,3А,4В,5С,6А,7В,8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2 вариант.1А,2А,3В,4С,5А,6В,7В,8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3 вариант.1В,2В,3А,4С,5А,6В,7В,8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4 вариант.1В,2В,3В,4С,5А,6С,7А,8С,9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0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5 вариант.1А,2В,3С,4В,5В,6В,7В,8С,9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0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404640"/>
            <a:ext cx="8207280" cy="61930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404640"/>
            <a:ext cx="0" cy="61930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1197000"/>
            <a:ext cx="77043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54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Зн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54936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м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484280"/>
            <a:ext cx="381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Признаки  однородных членов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1197000"/>
            <a:ext cx="381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дить в тексте  однородные члены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авильно расставлять знаки преп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ять их синтаксическую 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ставлять схемы предложений с однородными чле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68360" y="1197000"/>
            <a:ext cx="15825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532720" y="1197000"/>
            <a:ext cx="1429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530280"/>
            <a:ext cx="8229600" cy="5338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724360" y="620640"/>
            <a:ext cx="2881440" cy="3384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532720" y="6165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10800" y="7443"/>
                </a:moveTo>
                <a:lnTo>
                  <a:pt x="13376" y="10054"/>
                </a:ln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lnTo>
                  <a:pt x="17763" y="14406"/>
                </a:lnTo>
                <a:lnTo>
                  <a:pt x="16109" y="14406"/>
                </a:lnTo>
                <a:lnTo>
                  <a:pt x="16109" y="21595"/>
                </a:lnTo>
                <a:lnTo>
                  <a:pt x="5491" y="21595"/>
                </a:lnTo>
                <a:lnTo>
                  <a:pt x="5491" y="14406"/>
                </a:lnTo>
                <a:lnTo>
                  <a:pt x="3837" y="14406"/>
                </a:lnTo>
                <a:close/>
              </a:path>
              <a:path fill="darkenLess" w="21600" h="28812">
                <a:moveTo>
                  <a:pt x="13376" y="10054"/>
                </a:move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close/>
              </a:path>
              <a:path fill="darkenLess" w="21600" h="28812">
                <a:moveTo>
                  <a:pt x="9877" y="17905"/>
                </a:moveTo>
                <a:lnTo>
                  <a:pt x="11723" y="17905"/>
                </a:lnTo>
                <a:lnTo>
                  <a:pt x="11723" y="21595"/>
                </a:lnTo>
                <a:lnTo>
                  <a:pt x="16109" y="21595"/>
                </a:lnTo>
                <a:lnTo>
                  <a:pt x="16109" y="14406"/>
                </a:lnTo>
                <a:lnTo>
                  <a:pt x="5491" y="14406"/>
                </a:lnTo>
                <a:lnTo>
                  <a:pt x="5491" y="21595"/>
                </a:lnTo>
                <a:lnTo>
                  <a:pt x="9877" y="21595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AlteSchwabacherEF"/>
              </a:rPr>
              <a:t>Отвечают  на один и тот же вопро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8532720" y="6165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10800" y="7443"/>
                </a:moveTo>
                <a:lnTo>
                  <a:pt x="13376" y="10054"/>
                </a:ln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lnTo>
                  <a:pt x="17763" y="14406"/>
                </a:lnTo>
                <a:lnTo>
                  <a:pt x="16109" y="14406"/>
                </a:lnTo>
                <a:lnTo>
                  <a:pt x="16109" y="21595"/>
                </a:lnTo>
                <a:lnTo>
                  <a:pt x="5491" y="21595"/>
                </a:lnTo>
                <a:lnTo>
                  <a:pt x="5491" y="14406"/>
                </a:lnTo>
                <a:lnTo>
                  <a:pt x="3837" y="14406"/>
                </a:lnTo>
                <a:close/>
              </a:path>
              <a:path fill="darkenLess" w="21600" h="28812">
                <a:moveTo>
                  <a:pt x="13376" y="10054"/>
                </a:move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close/>
              </a:path>
              <a:path fill="darkenLess" w="21600" h="28812">
                <a:moveTo>
                  <a:pt x="9877" y="17905"/>
                </a:moveTo>
                <a:lnTo>
                  <a:pt x="11723" y="17905"/>
                </a:lnTo>
                <a:lnTo>
                  <a:pt x="11723" y="21595"/>
                </a:lnTo>
                <a:lnTo>
                  <a:pt x="16109" y="21595"/>
                </a:lnTo>
                <a:lnTo>
                  <a:pt x="16109" y="14406"/>
                </a:lnTo>
                <a:lnTo>
                  <a:pt x="5491" y="14406"/>
                </a:lnTo>
                <a:lnTo>
                  <a:pt x="5491" y="21595"/>
                </a:lnTo>
                <a:lnTo>
                  <a:pt x="9877" y="21595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208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1.  Что необычного в этом стихотворении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2. Найдите и выпишите грамматическую  основу предло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3. Сколько в этом предложении сказуемых и сколько подлежащих они поясняют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4. На какой вопрос они отвечают и какова грамматическая форма этих глаголов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5. С какой интонацией они читаютс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6. Как называются подобные члены предложени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AlteSchwabacherEF"/>
              </a:rPr>
              <a:t>Являются одним членом предл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8532720" y="6165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10800" y="7443"/>
                </a:moveTo>
                <a:lnTo>
                  <a:pt x="13376" y="10054"/>
                </a:ln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lnTo>
                  <a:pt x="17763" y="14406"/>
                </a:lnTo>
                <a:lnTo>
                  <a:pt x="16109" y="14406"/>
                </a:lnTo>
                <a:lnTo>
                  <a:pt x="16109" y="21595"/>
                </a:lnTo>
                <a:lnTo>
                  <a:pt x="5491" y="21595"/>
                </a:lnTo>
                <a:lnTo>
                  <a:pt x="5491" y="14406"/>
                </a:lnTo>
                <a:lnTo>
                  <a:pt x="3837" y="14406"/>
                </a:lnTo>
                <a:close/>
              </a:path>
              <a:path fill="darkenLess" w="21600" h="28812">
                <a:moveTo>
                  <a:pt x="13376" y="10054"/>
                </a:move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close/>
              </a:path>
              <a:path fill="darkenLess" w="21600" h="28812">
                <a:moveTo>
                  <a:pt x="9877" y="17905"/>
                </a:moveTo>
                <a:lnTo>
                  <a:pt x="11723" y="17905"/>
                </a:lnTo>
                <a:lnTo>
                  <a:pt x="11723" y="21595"/>
                </a:lnTo>
                <a:lnTo>
                  <a:pt x="16109" y="21595"/>
                </a:lnTo>
                <a:lnTo>
                  <a:pt x="16109" y="14406"/>
                </a:lnTo>
                <a:lnTo>
                  <a:pt x="5491" y="14406"/>
                </a:lnTo>
                <a:lnTo>
                  <a:pt x="5491" y="21595"/>
                </a:lnTo>
                <a:lnTo>
                  <a:pt x="9877" y="21595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AlteSchwabacherEF"/>
              </a:rPr>
              <a:t>Относятся к одному и тому же члену предл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8532720" y="6165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10800" y="7443"/>
                </a:moveTo>
                <a:lnTo>
                  <a:pt x="13376" y="10054"/>
                </a:ln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lnTo>
                  <a:pt x="17763" y="14406"/>
                </a:lnTo>
                <a:lnTo>
                  <a:pt x="16109" y="14406"/>
                </a:lnTo>
                <a:lnTo>
                  <a:pt x="16109" y="21595"/>
                </a:lnTo>
                <a:lnTo>
                  <a:pt x="5491" y="21595"/>
                </a:lnTo>
                <a:lnTo>
                  <a:pt x="5491" y="14406"/>
                </a:lnTo>
                <a:lnTo>
                  <a:pt x="3837" y="14406"/>
                </a:lnTo>
                <a:close/>
              </a:path>
              <a:path fill="darkenLess" w="21600" h="28812">
                <a:moveTo>
                  <a:pt x="13376" y="10054"/>
                </a:move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close/>
              </a:path>
              <a:path fill="darkenLess" w="21600" h="28812">
                <a:moveTo>
                  <a:pt x="9877" y="17905"/>
                </a:moveTo>
                <a:lnTo>
                  <a:pt x="11723" y="17905"/>
                </a:lnTo>
                <a:lnTo>
                  <a:pt x="11723" y="21595"/>
                </a:lnTo>
                <a:lnTo>
                  <a:pt x="16109" y="21595"/>
                </a:lnTo>
                <a:lnTo>
                  <a:pt x="16109" y="14406"/>
                </a:lnTo>
                <a:lnTo>
                  <a:pt x="5491" y="14406"/>
                </a:lnTo>
                <a:lnTo>
                  <a:pt x="5491" y="21595"/>
                </a:lnTo>
                <a:lnTo>
                  <a:pt x="9877" y="21595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2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AlteSchwabacherEF"/>
              </a:rPr>
              <a:t>Обычно выражены одной и той же частью реч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532720" y="6165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10800" y="7443"/>
                </a:moveTo>
                <a:lnTo>
                  <a:pt x="13376" y="10054"/>
                </a:ln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lnTo>
                  <a:pt x="17763" y="14406"/>
                </a:lnTo>
                <a:lnTo>
                  <a:pt x="16109" y="14406"/>
                </a:lnTo>
                <a:lnTo>
                  <a:pt x="16109" y="21595"/>
                </a:lnTo>
                <a:lnTo>
                  <a:pt x="5491" y="21595"/>
                </a:lnTo>
                <a:lnTo>
                  <a:pt x="5491" y="14406"/>
                </a:lnTo>
                <a:lnTo>
                  <a:pt x="3837" y="14406"/>
                </a:lnTo>
                <a:close/>
              </a:path>
              <a:path fill="darkenLess" w="21600" h="28812">
                <a:moveTo>
                  <a:pt x="13376" y="10054"/>
                </a:move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close/>
              </a:path>
              <a:path fill="darkenLess" w="21600" h="28812">
                <a:moveTo>
                  <a:pt x="9877" y="17905"/>
                </a:moveTo>
                <a:lnTo>
                  <a:pt x="11723" y="17905"/>
                </a:lnTo>
                <a:lnTo>
                  <a:pt x="11723" y="21595"/>
                </a:lnTo>
                <a:lnTo>
                  <a:pt x="16109" y="21595"/>
                </a:lnTo>
                <a:lnTo>
                  <a:pt x="16109" y="14406"/>
                </a:lnTo>
                <a:lnTo>
                  <a:pt x="5491" y="14406"/>
                </a:lnTo>
                <a:lnTo>
                  <a:pt x="5491" y="21595"/>
                </a:lnTo>
                <a:lnTo>
                  <a:pt x="9877" y="21595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AlteSchwabacherEF"/>
              </a:rPr>
              <a:t>Произносятся с перечислительной интонацие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532720" y="6165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10800" y="7443"/>
                </a:moveTo>
                <a:lnTo>
                  <a:pt x="13376" y="10054"/>
                </a:ln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lnTo>
                  <a:pt x="17763" y="14406"/>
                </a:lnTo>
                <a:lnTo>
                  <a:pt x="16109" y="14406"/>
                </a:lnTo>
                <a:lnTo>
                  <a:pt x="16109" y="21595"/>
                </a:lnTo>
                <a:lnTo>
                  <a:pt x="5491" y="21595"/>
                </a:lnTo>
                <a:lnTo>
                  <a:pt x="5491" y="14406"/>
                </a:lnTo>
                <a:lnTo>
                  <a:pt x="3837" y="14406"/>
                </a:lnTo>
                <a:close/>
              </a:path>
              <a:path fill="darkenLess" w="21600" h="28812">
                <a:moveTo>
                  <a:pt x="13376" y="10054"/>
                </a:move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close/>
              </a:path>
              <a:path fill="darkenLess" w="21600" h="28812">
                <a:moveTo>
                  <a:pt x="9877" y="17905"/>
                </a:moveTo>
                <a:lnTo>
                  <a:pt x="11723" y="17905"/>
                </a:lnTo>
                <a:lnTo>
                  <a:pt x="11723" y="21595"/>
                </a:lnTo>
                <a:lnTo>
                  <a:pt x="16109" y="21595"/>
                </a:lnTo>
                <a:lnTo>
                  <a:pt x="16109" y="14406"/>
                </a:lnTo>
                <a:lnTo>
                  <a:pt x="5491" y="14406"/>
                </a:lnTo>
                <a:lnTo>
                  <a:pt x="5491" y="21595"/>
                </a:lnTo>
                <a:lnTo>
                  <a:pt x="9877" y="21595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7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6600" spc="-1" strike="noStrike">
                <a:solidFill>
                  <a:srgbClr val="9900cc"/>
                </a:solidFill>
                <a:latin typeface="Arial"/>
              </a:rPr>
              <a:t>Ветер  вышел, постучал, пробежал, поиграл, пожурил и расправил, полетел</a:t>
            </a:r>
            <a:r>
              <a:rPr b="0" i="1" lang="en-US" sz="28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268280"/>
            <a:ext cx="266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2133720"/>
            <a:ext cx="4103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276640"/>
            <a:ext cx="4103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1197000"/>
            <a:ext cx="273708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341360"/>
            <a:ext cx="273708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997360"/>
            <a:ext cx="3887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3141720"/>
            <a:ext cx="3887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3068640"/>
            <a:ext cx="33134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3213000"/>
            <a:ext cx="33134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005360"/>
            <a:ext cx="36007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149720"/>
            <a:ext cx="36007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4869000"/>
            <a:ext cx="4319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5013360"/>
            <a:ext cx="43196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734080"/>
            <a:ext cx="360036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877000"/>
            <a:ext cx="360036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81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800000"/>
                </a:solidFill>
                <a:uFillTx/>
                <a:latin typeface="Arial"/>
              </a:rPr>
              <a:t>Тема </a:t>
            </a: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Однородные члены предложения и знаки препинания при них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04640"/>
            <a:ext cx="8207280" cy="619308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50000">
                <a:srgbClr val="fbeac7"/>
              </a:gs>
              <a:gs pos="100000">
                <a:srgbClr val="fee7f2"/>
              </a:gs>
            </a:gsLst>
            <a:lin ang="13500000"/>
          </a:gra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404640"/>
            <a:ext cx="0" cy="61930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1197000"/>
            <a:ext cx="77043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549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Что надо 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54936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Что надо ум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484280"/>
            <a:ext cx="381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cript MT Bold"/>
              </a:rPr>
              <a:t>1. Признаки  однородных членов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1197000"/>
            <a:ext cx="38163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Script MT Bold"/>
              </a:rPr>
              <a:t>Находить в тексте  однородные члены предл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Script MT Bold"/>
              </a:rPr>
              <a:t>Правильно расставлять знаки препин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Script MT Bold"/>
              </a:rPr>
              <a:t>Употреблять в своей реч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68360" y="1197000"/>
            <a:ext cx="15825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532720" y="1197000"/>
            <a:ext cx="1429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21040" y="4724280"/>
            <a:ext cx="1400400" cy="1800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3573360"/>
            <a:ext cx="2592720" cy="230364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35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1341360"/>
            <a:ext cx="2592360" cy="230364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35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0"/>
            <a:ext cx="2592360" cy="230364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35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1413000"/>
            <a:ext cx="2592360" cy="230328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35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3645000"/>
            <a:ext cx="2592360" cy="230328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3500000"/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1557360"/>
            <a:ext cx="1440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3860640"/>
            <a:ext cx="1800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907920"/>
            <a:ext cx="136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08720" y="1700280"/>
            <a:ext cx="1944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3860640"/>
            <a:ext cx="1871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260280"/>
            <a:ext cx="1873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1844640"/>
            <a:ext cx="649080" cy="28908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66" h="21600">
                <a:moveTo>
                  <a:pt x="0" y="0"/>
                </a:moveTo>
                <a:lnTo>
                  <a:pt x="48466" y="0"/>
                </a:lnTo>
                <a:lnTo>
                  <a:pt x="48466" y="21600"/>
                </a:lnTo>
                <a:lnTo>
                  <a:pt x="0" y="21600"/>
                </a:lnTo>
                <a:close/>
              </a:path>
              <a:path fill="lightenLess" w="48466" h="21600">
                <a:moveTo>
                  <a:pt x="0" y="0"/>
                </a:moveTo>
                <a:lnTo>
                  <a:pt x="48466" y="0"/>
                </a:lnTo>
                <a:lnTo>
                  <a:pt x="47066" y="1400"/>
                </a:lnTo>
                <a:lnTo>
                  <a:pt x="1400" y="1400"/>
                </a:lnTo>
                <a:close/>
              </a:path>
              <a:path fill="darken" w="48466" h="21600">
                <a:moveTo>
                  <a:pt x="48466" y="0"/>
                </a:moveTo>
                <a:lnTo>
                  <a:pt x="48466" y="21600"/>
                </a:lnTo>
                <a:lnTo>
                  <a:pt x="47066" y="20200"/>
                </a:lnTo>
                <a:lnTo>
                  <a:pt x="47066" y="1400"/>
                </a:lnTo>
                <a:close/>
              </a:path>
              <a:path fill="darkenLess" w="48466" h="21600">
                <a:moveTo>
                  <a:pt x="48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6" y="20200"/>
                </a:lnTo>
                <a:close/>
              </a:path>
              <a:path fill="lighten" w="48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6" h="21600">
                <a:moveTo>
                  <a:pt x="17226" y="3794"/>
                </a:moveTo>
                <a:lnTo>
                  <a:pt x="31239" y="10800"/>
                </a:lnTo>
                <a:lnTo>
                  <a:pt x="1722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8000" y="3213000"/>
            <a:ext cx="649440" cy="289080"/>
          </a:xfrm>
          <a:custGeom>
            <a:avLst/>
            <a:gdLst>
              <a:gd name="textAreaLeft" fmla="*/ 18720 w 649440"/>
              <a:gd name="textAreaRight" fmla="*/ 630720 w 64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93" h="21600">
                <a:moveTo>
                  <a:pt x="0" y="0"/>
                </a:moveTo>
                <a:lnTo>
                  <a:pt x="48493" y="0"/>
                </a:lnTo>
                <a:lnTo>
                  <a:pt x="48493" y="21600"/>
                </a:lnTo>
                <a:lnTo>
                  <a:pt x="0" y="21600"/>
                </a:lnTo>
                <a:close/>
              </a:path>
              <a:path fill="lightenLess" w="48493" h="21600">
                <a:moveTo>
                  <a:pt x="0" y="0"/>
                </a:moveTo>
                <a:lnTo>
                  <a:pt x="48493" y="0"/>
                </a:lnTo>
                <a:lnTo>
                  <a:pt x="47093" y="1400"/>
                </a:lnTo>
                <a:lnTo>
                  <a:pt x="1400" y="1400"/>
                </a:lnTo>
                <a:close/>
              </a:path>
              <a:path fill="darken" w="48493" h="21600">
                <a:moveTo>
                  <a:pt x="48493" y="0"/>
                </a:moveTo>
                <a:lnTo>
                  <a:pt x="48493" y="21600"/>
                </a:lnTo>
                <a:lnTo>
                  <a:pt x="47093" y="20200"/>
                </a:lnTo>
                <a:lnTo>
                  <a:pt x="47093" y="1400"/>
                </a:lnTo>
                <a:close/>
              </a:path>
              <a:path fill="darkenLess" w="48493" h="21600">
                <a:moveTo>
                  <a:pt x="48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93" y="20200"/>
                </a:lnTo>
                <a:close/>
              </a:path>
              <a:path fill="lighten" w="48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93" h="21600">
                <a:moveTo>
                  <a:pt x="17240" y="3794"/>
                </a:moveTo>
                <a:lnTo>
                  <a:pt x="31253" y="10800"/>
                </a:lnTo>
                <a:lnTo>
                  <a:pt x="1724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5445000"/>
            <a:ext cx="649080" cy="28908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66" h="21600">
                <a:moveTo>
                  <a:pt x="0" y="0"/>
                </a:moveTo>
                <a:lnTo>
                  <a:pt x="48466" y="0"/>
                </a:lnTo>
                <a:lnTo>
                  <a:pt x="48466" y="21600"/>
                </a:lnTo>
                <a:lnTo>
                  <a:pt x="0" y="21600"/>
                </a:lnTo>
                <a:close/>
              </a:path>
              <a:path fill="lightenLess" w="48466" h="21600">
                <a:moveTo>
                  <a:pt x="0" y="0"/>
                </a:moveTo>
                <a:lnTo>
                  <a:pt x="48466" y="0"/>
                </a:lnTo>
                <a:lnTo>
                  <a:pt x="47066" y="1400"/>
                </a:lnTo>
                <a:lnTo>
                  <a:pt x="1400" y="1400"/>
                </a:lnTo>
                <a:close/>
              </a:path>
              <a:path fill="darken" w="48466" h="21600">
                <a:moveTo>
                  <a:pt x="48466" y="0"/>
                </a:moveTo>
                <a:lnTo>
                  <a:pt x="48466" y="21600"/>
                </a:lnTo>
                <a:lnTo>
                  <a:pt x="47066" y="20200"/>
                </a:lnTo>
                <a:lnTo>
                  <a:pt x="47066" y="1400"/>
                </a:lnTo>
                <a:close/>
              </a:path>
              <a:path fill="darkenLess" w="48466" h="21600">
                <a:moveTo>
                  <a:pt x="48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6" y="20200"/>
                </a:lnTo>
                <a:close/>
              </a:path>
              <a:path fill="lighten" w="48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6" h="21600">
                <a:moveTo>
                  <a:pt x="17226" y="3794"/>
                </a:moveTo>
                <a:lnTo>
                  <a:pt x="31239" y="10800"/>
                </a:lnTo>
                <a:lnTo>
                  <a:pt x="1722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5445000"/>
            <a:ext cx="649440" cy="289080"/>
          </a:xfrm>
          <a:custGeom>
            <a:avLst/>
            <a:gdLst>
              <a:gd name="textAreaLeft" fmla="*/ 18720 w 649440"/>
              <a:gd name="textAreaRight" fmla="*/ 630720 w 64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93" h="21600">
                <a:moveTo>
                  <a:pt x="0" y="0"/>
                </a:moveTo>
                <a:lnTo>
                  <a:pt x="48493" y="0"/>
                </a:lnTo>
                <a:lnTo>
                  <a:pt x="48493" y="21600"/>
                </a:lnTo>
                <a:lnTo>
                  <a:pt x="0" y="21600"/>
                </a:lnTo>
                <a:close/>
              </a:path>
              <a:path fill="lightenLess" w="48493" h="21600">
                <a:moveTo>
                  <a:pt x="0" y="0"/>
                </a:moveTo>
                <a:lnTo>
                  <a:pt x="48493" y="0"/>
                </a:lnTo>
                <a:lnTo>
                  <a:pt x="47093" y="1400"/>
                </a:lnTo>
                <a:lnTo>
                  <a:pt x="1400" y="1400"/>
                </a:lnTo>
                <a:close/>
              </a:path>
              <a:path fill="darken" w="48493" h="21600">
                <a:moveTo>
                  <a:pt x="48493" y="0"/>
                </a:moveTo>
                <a:lnTo>
                  <a:pt x="48493" y="21600"/>
                </a:lnTo>
                <a:lnTo>
                  <a:pt x="47093" y="20200"/>
                </a:lnTo>
                <a:lnTo>
                  <a:pt x="47093" y="1400"/>
                </a:lnTo>
                <a:close/>
              </a:path>
              <a:path fill="darkenLess" w="48493" h="21600">
                <a:moveTo>
                  <a:pt x="48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93" y="20200"/>
                </a:lnTo>
                <a:close/>
              </a:path>
              <a:path fill="lighten" w="48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93" h="21600">
                <a:moveTo>
                  <a:pt x="17240" y="3794"/>
                </a:moveTo>
                <a:lnTo>
                  <a:pt x="31253" y="10800"/>
                </a:lnTo>
                <a:lnTo>
                  <a:pt x="1724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6360" y="3284640"/>
            <a:ext cx="649080" cy="288720"/>
          </a:xfrm>
          <a:custGeom>
            <a:avLst/>
            <a:gdLst>
              <a:gd name="textAreaLeft" fmla="*/ 18720 w 649080"/>
              <a:gd name="textAreaRight" fmla="*/ 630360 w 64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7" y="3794"/>
                </a:moveTo>
                <a:lnTo>
                  <a:pt x="31269" y="10800"/>
                </a:lnTo>
                <a:lnTo>
                  <a:pt x="17257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1вари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С.  Утром прилетали синицы и клевали пше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2 вари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С.  В наших  лесах живут медведи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 лисы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 вол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3 вари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В.  Мы очень спешили к поезду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 но опозда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4 вари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В.  По склонам гор видны сосны и ели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клёны и  дуб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5 вариа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А.  Порыв ветра вырвался из-за деревьев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Script MT Bold"/>
              </a:rPr>
              <a:t> </a:t>
            </a:r>
            <a:r>
              <a:rPr b="1" i="1" lang="en-US" sz="2600" spc="-1" strike="noStrike">
                <a:solidFill>
                  <a:srgbClr val="0000ff"/>
                </a:solidFill>
                <a:latin typeface="Script MT Bold"/>
              </a:rPr>
              <a:t>закружил пыль  на дороге и умчался.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1125360"/>
            <a:ext cx="1656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1197000"/>
            <a:ext cx="1656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1125360"/>
            <a:ext cx="1224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1197000"/>
            <a:ext cx="1224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2205000"/>
            <a:ext cx="12956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2205000"/>
            <a:ext cx="7920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04000" y="2205000"/>
            <a:ext cx="792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3141720"/>
            <a:ext cx="1224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3213000"/>
            <a:ext cx="1224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3141720"/>
            <a:ext cx="1224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3213000"/>
            <a:ext cx="1224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4149720"/>
            <a:ext cx="8636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4149720"/>
            <a:ext cx="4320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4149720"/>
            <a:ext cx="792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4149720"/>
            <a:ext cx="6494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5084640"/>
            <a:ext cx="12967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59280" y="5157720"/>
            <a:ext cx="12967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5084640"/>
            <a:ext cx="13683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5157720"/>
            <a:ext cx="13683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4000" y="5445000"/>
            <a:ext cx="11523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5516640"/>
            <a:ext cx="11523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Знаки препинания при однородных чле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1413000"/>
            <a:ext cx="5400720" cy="504036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350000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3280" y="9079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56720" y="5589720"/>
            <a:ext cx="647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4470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хемы соединения и разделения однородных членов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О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О,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О,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О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(могут употребляться союзы  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но, д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4.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О,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О,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О,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5. О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О, О </a:t>
            </a:r>
            <a:r>
              <a:rPr b="0" lang="ru-RU" sz="5400" spc="-1" strike="noStrike">
                <a:solidFill>
                  <a:srgbClr val="0099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 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84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44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0:42:35Z</dcterms:created>
  <dc:creator>макс</dc:creator>
  <dc:description/>
  <dc:language>en-US</dc:language>
  <cp:lastModifiedBy>Михаил</cp:lastModifiedBy>
  <dcterms:modified xsi:type="dcterms:W3CDTF">2010-11-11T12:07:30Z</dcterms:modified>
  <cp:revision>39</cp:revision>
  <dc:subject/>
  <dc:title>Тема : Знаки препинания в предложениях с однородными членами</dc:title>
</cp:coreProperties>
</file>