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FAA-0E80-45FF-8418-706CD451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1DF-715A-4DA4-87C4-256A097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256-C362-4BB4-803A-F6AB54B1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1FE-BA31-456E-AFCA-A07492C1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711E-7303-4A88-A053-46D6814F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652B-A35D-46AF-8247-6D24E0D0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1D5-93EB-49B5-95D9-7962FD3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217D-B7BB-418F-9B39-AD7903C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AB6-D45B-4351-A696-1248C6D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6A7-0617-4086-A987-B250DF9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6AF4-024C-488E-A570-D8A54AB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685-501C-48E2-93ED-D88E9E1C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9447-ECC4-4C0B-8071-8D73E32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5B89-08BF-44D9-89DB-6F2E7F1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41C-EA84-4A7C-A9FD-EE633A2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12E6-848F-4277-A336-32C6466A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246-96BD-4F89-8022-2FEFD8F3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DDD-82EC-4C17-92E3-B6E1443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965-7631-45B9-91AC-871CC74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C2F-B449-403D-AEA6-1EFD205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0DD-E55E-4FF1-BA6D-0AA8060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9F6-FCC2-4F5C-A2C2-E2F1B7A3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BBE-834F-4403-A4EC-24C710A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A41-FD05-45CF-BBB3-90064C1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6EEB-483C-4AD9-B635-261C13300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E115-CEB0-4EE6-BF07-D8BD8E0E3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Безопасное поведение детей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 дорог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ила воспита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вошеева  И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торожно д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F:\травматизм\4047_original.jpg"/>
          <p:cNvPicPr/>
          <p:nvPr/>
        </p:nvPicPr>
        <p:blipFill>
          <a:blip r:embed="rId1"/>
          <a:stretch/>
        </p:blipFill>
        <p:spPr>
          <a:xfrm>
            <a:off x="2786040" y="928800"/>
            <a:ext cx="3871800" cy="32144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857480" y="857160"/>
            <a:ext cx="28573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Зна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F:\травматизм\загруженное.jpg"/>
          <p:cNvPicPr/>
          <p:nvPr/>
        </p:nvPicPr>
        <p:blipFill>
          <a:blip r:embed="rId1"/>
          <a:stretch/>
        </p:blipFill>
        <p:spPr>
          <a:xfrm>
            <a:off x="571680" y="64296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F:\травматизм\загруженное (1).jpg"/>
          <p:cNvPicPr/>
          <p:nvPr/>
        </p:nvPicPr>
        <p:blipFill>
          <a:blip r:embed="rId2"/>
          <a:stretch/>
        </p:blipFill>
        <p:spPr>
          <a:xfrm>
            <a:off x="5143680" y="2786040"/>
            <a:ext cx="330660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714400" y="4785840"/>
            <a:ext cx="35002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у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F:\травматизм\images (1).jpg"/>
          <p:cNvPicPr/>
          <p:nvPr/>
        </p:nvPicPr>
        <p:blipFill>
          <a:blip r:embed="rId1"/>
          <a:srcRect l="12504" t="0" r="9370" b="1559"/>
          <a:stretch/>
        </p:blipFill>
        <p:spPr>
          <a:xfrm>
            <a:off x="500040" y="642960"/>
            <a:ext cx="3146400" cy="26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травматизм\images (2).jpg"/>
          <p:cNvPicPr/>
          <p:nvPr/>
        </p:nvPicPr>
        <p:blipFill>
          <a:blip r:embed="rId2"/>
          <a:stretch/>
        </p:blipFill>
        <p:spPr>
          <a:xfrm>
            <a:off x="5357880" y="78588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травматизм\images (3).jpg"/>
          <p:cNvPicPr/>
          <p:nvPr/>
        </p:nvPicPr>
        <p:blipFill>
          <a:blip r:embed="rId3"/>
          <a:srcRect l="15249" t="0" r="18153" b="15215"/>
          <a:stretch/>
        </p:blipFill>
        <p:spPr>
          <a:xfrm>
            <a:off x="3143160" y="2643120"/>
            <a:ext cx="254160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00760" y="571320"/>
            <a:ext cx="30715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</a:rPr>
              <a:t>Доро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F:\травматизм\images (4).jpg"/>
          <p:cNvPicPr/>
          <p:nvPr/>
        </p:nvPicPr>
        <p:blipFill>
          <a:blip r:embed="rId1"/>
          <a:stretch/>
        </p:blipFill>
        <p:spPr>
          <a:xfrm>
            <a:off x="571680" y="642960"/>
            <a:ext cx="4143240" cy="24638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23" name="Picture 3" descr="F:\травматизм\images (5).jpg"/>
          <p:cNvPicPr/>
          <p:nvPr/>
        </p:nvPicPr>
        <p:blipFill>
          <a:blip r:embed="rId2"/>
          <a:stretch/>
        </p:blipFill>
        <p:spPr>
          <a:xfrm>
            <a:off x="3514680" y="3286080"/>
            <a:ext cx="4762440" cy="2214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124" name="Прямоугольник 5"/>
          <p:cNvSpPr/>
          <p:nvPr/>
        </p:nvSpPr>
        <p:spPr>
          <a:xfrm>
            <a:off x="714240" y="3244680"/>
            <a:ext cx="43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215968"/>
                </a:solidFill>
                <a:latin typeface="Times New Roman"/>
              </a:rPr>
              <a:t>Троту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2880" y="92844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Times New Roman"/>
              </a:rPr>
              <a:t>Детская 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Times New Roman"/>
              </a:rPr>
              <a:t>площ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499840" y="3857760"/>
            <a:ext cx="1714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Times New Roman"/>
              </a:rPr>
              <a:t>Па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F:\травматизм\images (6).jpg"/>
          <p:cNvPicPr/>
          <p:nvPr/>
        </p:nvPicPr>
        <p:blipFill>
          <a:blip r:embed="rId1"/>
          <a:stretch/>
        </p:blipFill>
        <p:spPr>
          <a:xfrm>
            <a:off x="571680" y="642960"/>
            <a:ext cx="3814560" cy="28573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28" name="Picture 3" descr="F:\травматизм\images (7).jpg"/>
          <p:cNvPicPr/>
          <p:nvPr/>
        </p:nvPicPr>
        <p:blipFill>
          <a:blip r:embed="rId2"/>
          <a:stretch/>
        </p:blipFill>
        <p:spPr>
          <a:xfrm>
            <a:off x="4714920" y="3309840"/>
            <a:ext cx="3564000" cy="23716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0720" y="856800"/>
            <a:ext cx="3643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жар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142720" y="4143240"/>
            <a:ext cx="30006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кор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F:\травматизм\images (8).jpg"/>
          <p:cNvPicPr/>
          <p:nvPr/>
        </p:nvPicPr>
        <p:blipFill>
          <a:blip r:embed="rId1"/>
          <a:stretch/>
        </p:blipFill>
        <p:spPr>
          <a:xfrm>
            <a:off x="500040" y="571680"/>
            <a:ext cx="3878280" cy="20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F:\травматизм\images (9).jpg"/>
          <p:cNvPicPr/>
          <p:nvPr/>
        </p:nvPicPr>
        <p:blipFill>
          <a:blip r:embed="rId2"/>
          <a:stretch/>
        </p:blipFill>
        <p:spPr>
          <a:xfrm>
            <a:off x="5357880" y="4071960"/>
            <a:ext cx="2876400" cy="1590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F:\травматизм\images (10).jpg"/>
          <p:cNvPicPr/>
          <p:nvPr/>
        </p:nvPicPr>
        <p:blipFill>
          <a:blip r:embed="rId3"/>
          <a:stretch/>
        </p:blipFill>
        <p:spPr>
          <a:xfrm>
            <a:off x="2857680" y="2322360"/>
            <a:ext cx="3043080" cy="19638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9"/>
          <p:cNvSpPr/>
          <p:nvPr/>
        </p:nvSpPr>
        <p:spPr>
          <a:xfrm>
            <a:off x="5715000" y="264312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Аварийна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857160" y="1162080"/>
            <a:ext cx="73580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ы! Пап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неситесь ответственно к нашим сов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едь от Вашей культуры поведения на улице, в общественном транспорте, от Вашего уважения правил дорожного движения зависит жизнь и здоровье Ваше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рпение и ответственность за ребенка поможет нам вместе воспитать у него навыки и привычку безопасного поведения на улиц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857160" y="1154160"/>
            <a:ext cx="735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еобходимо  инструктировать детей по правилам поведения на дорогах ежеднев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714560" y="571680"/>
            <a:ext cx="37861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Играя изучаем правил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C:\Users\работа\Desktop\фото\SAM_4190.JPG"/>
          <p:cNvPicPr/>
          <p:nvPr/>
        </p:nvPicPr>
        <p:blipFill>
          <a:blip r:embed="rId1"/>
          <a:stretch/>
        </p:blipFill>
        <p:spPr>
          <a:xfrm>
            <a:off x="571680" y="500040"/>
            <a:ext cx="4159080" cy="32148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88" name="Picture 3" descr="C:\Users\работа\Desktop\фото\SAM_4184.JPG"/>
          <p:cNvPicPr/>
          <p:nvPr/>
        </p:nvPicPr>
        <p:blipFill>
          <a:blip r:embed="rId2"/>
          <a:stretch/>
        </p:blipFill>
        <p:spPr>
          <a:xfrm>
            <a:off x="4357800" y="3143160"/>
            <a:ext cx="3929040" cy="29466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2920" y="642600"/>
            <a:ext cx="307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28760" y="571680"/>
            <a:ext cx="3357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Посмотри направо, посмот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лево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D:\Фото сад\DSCF3121.JPG"/>
          <p:cNvPicPr/>
          <p:nvPr/>
        </p:nvPicPr>
        <p:blipFill>
          <a:blip r:embed="rId1"/>
          <a:stretch/>
        </p:blipFill>
        <p:spPr>
          <a:xfrm>
            <a:off x="4286160" y="3000240"/>
            <a:ext cx="4037040" cy="30146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92" name="Picture 2" descr="D:\Фото сад\DSCF3120.JPG"/>
          <p:cNvPicPr/>
          <p:nvPr/>
        </p:nvPicPr>
        <p:blipFill>
          <a:blip r:embed="rId2"/>
          <a:stretch/>
        </p:blipFill>
        <p:spPr>
          <a:xfrm>
            <a:off x="571680" y="571680"/>
            <a:ext cx="4143240" cy="28368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356840"/>
            <a:ext cx="360036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Нельзя игра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 дорог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D:\Фото сад\DSCF3123.JPG"/>
          <p:cNvPicPr/>
          <p:nvPr/>
        </p:nvPicPr>
        <p:blipFill>
          <a:blip r:embed="rId1"/>
          <a:srcRect l="5820" t="19214" r="21401" b="9054"/>
          <a:stretch/>
        </p:blipFill>
        <p:spPr>
          <a:xfrm>
            <a:off x="4572000" y="1428840"/>
            <a:ext cx="3643200" cy="40798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F:\Анализ программ\мои проекты\материал\P1180733.JPG"/>
          <p:cNvPicPr/>
          <p:nvPr/>
        </p:nvPicPr>
        <p:blipFill>
          <a:blip r:embed="rId1"/>
          <a:srcRect l="0" t="19850" r="816" b="0"/>
          <a:stretch/>
        </p:blipFill>
        <p:spPr>
          <a:xfrm>
            <a:off x="500040" y="571680"/>
            <a:ext cx="4286160" cy="30715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99" name="Рисунок 4" descr="F:\Анализ программ\мои проекты\материал\Изображение.jpg"/>
          <p:cNvPicPr/>
          <p:nvPr/>
        </p:nvPicPr>
        <p:blipFill>
          <a:blip r:embed="rId2"/>
          <a:stretch/>
        </p:blipFill>
        <p:spPr>
          <a:xfrm>
            <a:off x="4643280" y="3000240"/>
            <a:ext cx="3659400" cy="29019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Фото сад\DSCF3122.JPG"/>
          <p:cNvPicPr/>
          <p:nvPr/>
        </p:nvPicPr>
        <p:blipFill>
          <a:blip r:embed="rId1"/>
          <a:stretch/>
        </p:blipFill>
        <p:spPr>
          <a:xfrm>
            <a:off x="3071880" y="928800"/>
            <a:ext cx="5086440" cy="37972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6426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Как мы знаем правила дорожного движения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:\травматизм\13539638836022.gif"/>
          <p:cNvPicPr/>
          <p:nvPr/>
        </p:nvPicPr>
        <p:blipFill>
          <a:blip r:embed="rId1"/>
          <a:stretch/>
        </p:blipFill>
        <p:spPr>
          <a:xfrm>
            <a:off x="2857680" y="785880"/>
            <a:ext cx="4214520" cy="42148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Admin</cp:lastModifiedBy>
  <dcterms:modified xsi:type="dcterms:W3CDTF">2016-03-13T15:41:03Z</dcterms:modified>
  <cp:revision>41</cp:revision>
  <dc:subject/>
  <dc:title>Слайд 1</dc:title>
</cp:coreProperties>
</file>