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BF5-38D3-4B78-AE6A-DAB2C5EB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75B-DB07-4CA0-B724-46143EA4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CBD-386E-437F-8E5B-869DF5AA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392-1523-4AFC-BA91-DD3A7AB2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58A4-3060-447F-A849-0E787AD4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147-B256-4183-8031-3719078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915D-369C-4A52-AD99-53E54484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C28-CC42-410C-898A-5A4CEAA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686-5CF3-4C7E-B19A-907CD625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82FC-9F26-46EA-AE51-BCA7A4E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6A19-E0B0-4DF4-8668-883CABDF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B60-2824-4D04-9FAC-D275499F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3C21-B670-45D7-ADC1-AB843F7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5BAA-F1A5-4CD4-A8C8-4E38541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BC4E-2C4C-494B-A7D5-45B32A5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0AB2-11AC-444C-AE0C-BD7EABDE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D3EE-4757-4837-9448-35E84FE7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BEE-D301-404E-BF90-224B8D00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B3D-260C-4642-A599-68573D90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CA5-662A-4ADF-96EF-CD3B229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555-F1A5-41D4-A20C-B8DDD23D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881-0BCF-41AC-87DB-52DB975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59E-3661-4619-8697-4FB838D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833-53DC-4AB4-9F1E-852565C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05CB-AF3F-40F0-AF69-1CEF3E789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75C-DE43-40D2-B933-0DEF34CE7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Безопасное поведение детей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дорог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ила воспита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вошеева  И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торожно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F:\травматизм\4047_original.jpg"/>
          <p:cNvPicPr/>
          <p:nvPr/>
        </p:nvPicPr>
        <p:blipFill>
          <a:blip r:embed="rId1"/>
          <a:stretch/>
        </p:blipFill>
        <p:spPr>
          <a:xfrm>
            <a:off x="2786040" y="928800"/>
            <a:ext cx="3871800" cy="32144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857480" y="857160"/>
            <a:ext cx="28573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Зна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F:\травматизм\загруженное.jpg"/>
          <p:cNvPicPr/>
          <p:nvPr/>
        </p:nvPicPr>
        <p:blipFill>
          <a:blip r:embed="rId1"/>
          <a:stretch/>
        </p:blipFill>
        <p:spPr>
          <a:xfrm>
            <a:off x="571680" y="64296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F:\травматизм\загруженное (1).jpg"/>
          <p:cNvPicPr/>
          <p:nvPr/>
        </p:nvPicPr>
        <p:blipFill>
          <a:blip r:embed="rId2"/>
          <a:stretch/>
        </p:blipFill>
        <p:spPr>
          <a:xfrm>
            <a:off x="5143680" y="2786040"/>
            <a:ext cx="330660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714400" y="4785840"/>
            <a:ext cx="35002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у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F:\травматизм\images (1).jpg"/>
          <p:cNvPicPr/>
          <p:nvPr/>
        </p:nvPicPr>
        <p:blipFill>
          <a:blip r:embed="rId1"/>
          <a:srcRect l="12504" t="0" r="9370" b="1559"/>
          <a:stretch/>
        </p:blipFill>
        <p:spPr>
          <a:xfrm>
            <a:off x="500040" y="642960"/>
            <a:ext cx="3146400" cy="26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травматизм\images (2).jpg"/>
          <p:cNvPicPr/>
          <p:nvPr/>
        </p:nvPicPr>
        <p:blipFill>
          <a:blip r:embed="rId2"/>
          <a:stretch/>
        </p:blipFill>
        <p:spPr>
          <a:xfrm>
            <a:off x="5357880" y="78588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травматизм\images (3).jpg"/>
          <p:cNvPicPr/>
          <p:nvPr/>
        </p:nvPicPr>
        <p:blipFill>
          <a:blip r:embed="rId3"/>
          <a:srcRect l="15249" t="0" r="18153" b="15215"/>
          <a:stretch/>
        </p:blipFill>
        <p:spPr>
          <a:xfrm>
            <a:off x="3143160" y="2643120"/>
            <a:ext cx="254160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00760" y="571320"/>
            <a:ext cx="30715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</a:rPr>
              <a:t>Доро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F:\травматизм\images (4).jpg"/>
          <p:cNvPicPr/>
          <p:nvPr/>
        </p:nvPicPr>
        <p:blipFill>
          <a:blip r:embed="rId1"/>
          <a:stretch/>
        </p:blipFill>
        <p:spPr>
          <a:xfrm>
            <a:off x="571680" y="642960"/>
            <a:ext cx="4143240" cy="24638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23" name="Picture 3" descr="F:\травматизм\images (5).jpg"/>
          <p:cNvPicPr/>
          <p:nvPr/>
        </p:nvPicPr>
        <p:blipFill>
          <a:blip r:embed="rId2"/>
          <a:stretch/>
        </p:blipFill>
        <p:spPr>
          <a:xfrm>
            <a:off x="3514680" y="3286080"/>
            <a:ext cx="4762440" cy="2214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24" name="Прямоугольник 5"/>
          <p:cNvSpPr/>
          <p:nvPr/>
        </p:nvSpPr>
        <p:spPr>
          <a:xfrm>
            <a:off x="714240" y="3244680"/>
            <a:ext cx="43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215968"/>
                </a:solidFill>
                <a:latin typeface="Times New Roman"/>
              </a:rPr>
              <a:t>Трот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2880" y="92844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Times New Roman"/>
              </a:rPr>
              <a:t>Детская </a:t>
            </a:r>
            <a:br>
              <a:rPr sz="4000"/>
            </a:br>
            <a:r>
              <a:rPr b="1" lang="ru-RU" sz="4000" spc="-1" strike="noStrike">
                <a:solidFill>
                  <a:srgbClr val="4f6228"/>
                </a:solidFill>
                <a:latin typeface="Times New Roman"/>
              </a:rPr>
              <a:t>площ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499840" y="3857760"/>
            <a:ext cx="171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Times New Roman"/>
              </a:rPr>
              <a:t>Пар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F:\травматизм\images (6).jpg"/>
          <p:cNvPicPr/>
          <p:nvPr/>
        </p:nvPicPr>
        <p:blipFill>
          <a:blip r:embed="rId1"/>
          <a:stretch/>
        </p:blipFill>
        <p:spPr>
          <a:xfrm>
            <a:off x="571680" y="642960"/>
            <a:ext cx="3814560" cy="28573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28" name="Picture 3" descr="F:\травматизм\images (7).jpg"/>
          <p:cNvPicPr/>
          <p:nvPr/>
        </p:nvPicPr>
        <p:blipFill>
          <a:blip r:embed="rId2"/>
          <a:stretch/>
        </p:blipFill>
        <p:spPr>
          <a:xfrm>
            <a:off x="4714920" y="3309840"/>
            <a:ext cx="3564000" cy="23716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856800"/>
            <a:ext cx="3643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жар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42720" y="4143240"/>
            <a:ext cx="30006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кор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:\травматизм\images (8).jpg"/>
          <p:cNvPicPr/>
          <p:nvPr/>
        </p:nvPicPr>
        <p:blipFill>
          <a:blip r:embed="rId1"/>
          <a:stretch/>
        </p:blipFill>
        <p:spPr>
          <a:xfrm>
            <a:off x="500040" y="571680"/>
            <a:ext cx="3878280" cy="20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F:\травматизм\images (9).jpg"/>
          <p:cNvPicPr/>
          <p:nvPr/>
        </p:nvPicPr>
        <p:blipFill>
          <a:blip r:embed="rId2"/>
          <a:stretch/>
        </p:blipFill>
        <p:spPr>
          <a:xfrm>
            <a:off x="5357880" y="4071960"/>
            <a:ext cx="2876400" cy="1590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F:\травматизм\images (10).jpg"/>
          <p:cNvPicPr/>
          <p:nvPr/>
        </p:nvPicPr>
        <p:blipFill>
          <a:blip r:embed="rId3"/>
          <a:stretch/>
        </p:blipFill>
        <p:spPr>
          <a:xfrm>
            <a:off x="2857680" y="2322360"/>
            <a:ext cx="3043080" cy="1963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9"/>
          <p:cNvSpPr/>
          <p:nvPr/>
        </p:nvSpPr>
        <p:spPr>
          <a:xfrm>
            <a:off x="5715000" y="264312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Аварийная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e46c0a"/>
                </a:solidFill>
                <a:latin typeface="Times New Roman"/>
              </a:rPr>
              <a:t>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857160" y="1162080"/>
            <a:ext cx="73580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ы! Пап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тнеситесь ответственно к нашим сов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едь от Вашей культуры поведения на улице, в общественном транспорте, от Вашего уважения правил дорожного движения зависит жизнь и здоровье Ваше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рпение и ответственность за ребенка поможет нам вместе воспитать у него навыки и привычку безопасного поведения на ули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857160" y="1154160"/>
            <a:ext cx="735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еобходимо  инструктировать детей по правилам поведения на дорогах ежеднев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714560" y="571680"/>
            <a:ext cx="37861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Играя изучаем правил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C:\Users\работа\Desktop\фото\SAM_4190.JPG"/>
          <p:cNvPicPr/>
          <p:nvPr/>
        </p:nvPicPr>
        <p:blipFill>
          <a:blip r:embed="rId1"/>
          <a:stretch/>
        </p:blipFill>
        <p:spPr>
          <a:xfrm>
            <a:off x="571680" y="500040"/>
            <a:ext cx="4159080" cy="3214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88" name="Picture 3" descr="C:\Users\работа\Desktop\фото\SAM_4184.JPG"/>
          <p:cNvPicPr/>
          <p:nvPr/>
        </p:nvPicPr>
        <p:blipFill>
          <a:blip r:embed="rId2"/>
          <a:stretch/>
        </p:blipFill>
        <p:spPr>
          <a:xfrm>
            <a:off x="4357800" y="3143160"/>
            <a:ext cx="3929040" cy="29466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2920" y="642600"/>
            <a:ext cx="307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28760" y="571680"/>
            <a:ext cx="3357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«Посмотри направо, посмот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лево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D:\Фото сад\DSCF3121.JPG"/>
          <p:cNvPicPr/>
          <p:nvPr/>
        </p:nvPicPr>
        <p:blipFill>
          <a:blip r:embed="rId1"/>
          <a:stretch/>
        </p:blipFill>
        <p:spPr>
          <a:xfrm>
            <a:off x="4286160" y="3000240"/>
            <a:ext cx="4037040" cy="301464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92" name="Picture 2" descr="D:\Фото сад\DSCF3120.JPG"/>
          <p:cNvPicPr/>
          <p:nvPr/>
        </p:nvPicPr>
        <p:blipFill>
          <a:blip r:embed="rId2"/>
          <a:stretch/>
        </p:blipFill>
        <p:spPr>
          <a:xfrm>
            <a:off x="571680" y="571680"/>
            <a:ext cx="4143240" cy="283680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356840"/>
            <a:ext cx="360036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Нельзя игра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 дорог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D:\Фото сад\DSCF3123.JPG"/>
          <p:cNvPicPr/>
          <p:nvPr/>
        </p:nvPicPr>
        <p:blipFill>
          <a:blip r:embed="rId1"/>
          <a:srcRect l="5820" t="19214" r="21401" b="9054"/>
          <a:stretch/>
        </p:blipFill>
        <p:spPr>
          <a:xfrm>
            <a:off x="4572000" y="1428840"/>
            <a:ext cx="3643200" cy="4079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F:\Анализ программ\мои проекты\материал\P1180733.JPG"/>
          <p:cNvPicPr/>
          <p:nvPr/>
        </p:nvPicPr>
        <p:blipFill>
          <a:blip r:embed="rId1"/>
          <a:srcRect l="0" t="19850" r="816" b="0"/>
          <a:stretch/>
        </p:blipFill>
        <p:spPr>
          <a:xfrm>
            <a:off x="500040" y="571680"/>
            <a:ext cx="4286160" cy="30715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99" name="Рисунок 4" descr="F:\Анализ программ\мои проекты\материал\Изображение.jpg"/>
          <p:cNvPicPr/>
          <p:nvPr/>
        </p:nvPicPr>
        <p:blipFill>
          <a:blip r:embed="rId2"/>
          <a:stretch/>
        </p:blipFill>
        <p:spPr>
          <a:xfrm>
            <a:off x="4643280" y="3000240"/>
            <a:ext cx="3659400" cy="290196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Фото сад\DSCF3122.JPG"/>
          <p:cNvPicPr/>
          <p:nvPr/>
        </p:nvPicPr>
        <p:blipFill>
          <a:blip r:embed="rId1"/>
          <a:stretch/>
        </p:blipFill>
        <p:spPr>
          <a:xfrm>
            <a:off x="3071880" y="928800"/>
            <a:ext cx="5086440" cy="37972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6426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Как мы знаем правила дорожного движения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травматизм\13539638836022.gif"/>
          <p:cNvPicPr/>
          <p:nvPr/>
        </p:nvPicPr>
        <p:blipFill>
          <a:blip r:embed="rId1"/>
          <a:stretch/>
        </p:blipFill>
        <p:spPr>
          <a:xfrm>
            <a:off x="2857680" y="785880"/>
            <a:ext cx="4214520" cy="421488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Admin</cp:lastModifiedBy>
  <dcterms:modified xsi:type="dcterms:W3CDTF">2016-03-13T15:41:03Z</dcterms:modified>
  <cp:revision>41</cp:revision>
  <dc:subject/>
  <dc:title>Слайд 1</dc:title>
</cp:coreProperties>
</file>