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DDCE-27CC-4E7C-9E84-03992CE47E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730B-0612-4950-838E-6044AED4B2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4A83-17BB-41CF-A7BF-267BC2C9E8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64D6-BABE-49D3-98DE-935B83AA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FDD-3C95-4EF7-89C9-F9EF2AA2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587-113F-4C2D-91ED-EBB5F7F8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1E5-6924-4031-8558-BFF2993D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377F-04F4-41B0-A218-42C5A7A1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A06-09AB-4F50-82D5-A8C25A0B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806-94D1-47F5-B8E9-49FC0859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660-218B-48E0-8148-BA0210D0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0EF3-6891-4A01-99CF-BBC6EA02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4EE-4450-4ED8-832E-21FCBCE0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464-589F-48D2-86A1-504BF12F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F0D5-99AA-4E40-AB70-4DFB5857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57B2-9834-4D64-B734-843C7A63FF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.w.w.x-atom.ru/art1/art.htm" TargetMode="External"/><Relationship Id="rId3" Type="http://schemas.openxmlformats.org/officeDocument/2006/relationships/hyperlink" Target="http://w.w.w.x-atom.ru/art1/art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11280" y="76500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Franklin Gothic Heavy"/>
              </a:rPr>
              <a:t>Православные праздни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ождество Христ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 честь рождения  Иисуса Хр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ождение, воплощение, приход в мир Спасителя - одно из важнейших событий евангельской исто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аздник справляемы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5 декабря ( 7 января по новому стилю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iconrozhdxristovo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684360" y="1700280"/>
            <a:ext cx="3333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рещение Господне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ли Богоя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тмечается в  честь крещения Иисуса Христа в водах Иордана Иоанном Предтечей или Иоанном Крестите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6 января – (19 января по новому  стил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iconkreshgos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826920" y="184464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ретение Господ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аздник посвящен встрече старца Симеона с младенцем Иисусом и предсказанием его будущего распятия на кр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иходится на 40-ой день после Рожд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мечается 2 февраля- (15 февраля по новому стил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iconsretenie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900000" y="1700280"/>
            <a:ext cx="2971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лаговещение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есвятой Богород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инесение архангелом Гавриилом "благой вести" Деве Марии о рождении, о воплощении от неё Спасителя - этого важнейшего, согласно христианскому вероучению, события на пути спасения рода человече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равляется 25 мар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 7 апреля по новому стил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blagovpic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39640" y="1844640"/>
            <a:ext cx="3390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ход Господень в Иерусалим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(Вербное воскрес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ербное воскресение, это возвращение Иисуса Христа из его странствий в Иерусалим, последний вход его в город. Отмечается в последнее воскресенье Великого п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ся неделя от Вербного воскресенья до Пасхи называется Страстная неделя. Всю эту неделю Иисус Христос готовился к сме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iconvxodvierusalim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84464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знесение на небо Иисуса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ознесение на небо Иисуса Христа, воплотившегося Бога и Сына Божьего, - великое, завершающее событие евангельской истории, в честь него установлен один из величайших христианских праздников, отмечаемый 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40-ой день после Пасхи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iconvoznesenie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611280" y="1773360"/>
            <a:ext cx="2981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шествие Святого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ятидесятница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шествие Святого Духа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на апостолов почитается с глубокой древности как событие в котором проявил себя снизошедший в мир Дух Божий, освятив начало проповеди Христова учения, начала церкви как сообщества объединённых одной верой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минается через 50 дней после Пасхи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iconsoshestvsvdux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773360"/>
            <a:ext cx="2981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еображение Господ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аздник в ч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ображения Иисуса Христа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перед учениками на горе Фавор. Этот праздник в России называют "Яблочный Спас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меч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9 августа по новому сти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iconpreobrazhenie"/>
          <p:cNvPicPr/>
          <p:nvPr/>
        </p:nvPicPr>
        <p:blipFill>
          <a:blip r:embed="rId2">
            <a:lum contrast="26000"/>
          </a:blip>
          <a:stretch/>
        </p:blipFill>
        <p:spPr>
          <a:xfrm>
            <a:off x="539640" y="184464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спение Пресвятой Богородиц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50920" y="1052640"/>
            <a:ext cx="5041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Успение (по славянски - смерть,"усыпление" Богородицы - событие, глубоко чтимое христианским ми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гда свершилась кончина Богородицы, дом, где находилась умершая , апостолы, иерусалимские жёны и первые священники христианской общины, окутало облако. И в этом облаке появился Спаситель Сын с  ангельским сонмом и  принял душу из её тела, а затем передал её двум ангелам, которые унесли её на небо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ме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8 августа по новому сти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iconuspenie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39640" y="1844640"/>
            <a:ext cx="29624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95280" y="5300640"/>
          <a:ext cx="8291520" cy="1371600"/>
        </p:xfrm>
        <a:graphic>
          <a:graphicData uri="http://schemas.openxmlformats.org/drawingml/2006/table">
            <a:tbl>
              <a:tblPr/>
              <a:tblGrid>
                <a:gridCol w="82915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ое зад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  Подобрать        материал об одном из ДВУНАДЕСЯТЫХ праздников</a:t>
                      </a: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640" y="5013000"/>
            <a:ext cx="8229600" cy="165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нутренний мир храма раскроет содержание и духовный смысл православных празднико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//w.w.w.x-atom.ru\art1\art.ht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ttp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//scmen.kmtn.ru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:810/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a voslavprazdniki.ht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ttp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//w.w.w.eparhia-saratov.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340000" y="55897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коностас  церкви  отражает все главные православные праз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468360" y="2492280"/>
          <a:ext cx="4038480" cy="269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49228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8" descr="иконостас церкви ильи пророка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324000" y="1413000"/>
            <a:ext cx="3700440" cy="4752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0" y="155736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раотеческий ч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ророческий ч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Times New Roman"/>
              </a:rPr>
              <a:t>Праздничный ч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Деисусный чин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Местный чин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5"/>
          <a:stretch/>
        </p:blipFill>
        <p:spPr>
          <a:xfrm>
            <a:off x="4211640" y="1700280"/>
            <a:ext cx="2973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280" y="549360"/>
            <a:ext cx="828036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52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авославные праздники отображают главные  события жизни  Иисуса Христа, Девы Марии и  апосто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Главных праздников 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ни называю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ВУНАДЕСЯТЫЕ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4Воскресение Христово и Двунадесятые праздники 1"/>
          <p:cNvPicPr/>
          <p:nvPr/>
        </p:nvPicPr>
        <p:blipFill>
          <a:blip r:embed="rId2"/>
          <a:stretch/>
        </p:blipFill>
        <p:spPr>
          <a:xfrm>
            <a:off x="468360" y="549360"/>
            <a:ext cx="476244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лендарь православных праздников начинается в сентяб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Diagram 19"/>
          <p:cNvGrpSpPr/>
          <p:nvPr/>
        </p:nvGrpSpPr>
        <p:grpSpPr>
          <a:xfrm>
            <a:off x="900360" y="1627920"/>
            <a:ext cx="7413480" cy="4985280"/>
            <a:chOff x="900360" y="1627920"/>
            <a:chExt cx="7413480" cy="4985280"/>
          </a:xfrm>
        </p:grpSpPr>
        <p:sp>
          <p:nvSpPr>
            <p:cNvPr id="60" name="_s2052"/>
            <p:cNvSpPr/>
            <p:nvPr/>
          </p:nvSpPr>
          <p:spPr>
            <a:xfrm flipH="1">
              <a:off x="4395240" y="4096080"/>
              <a:ext cx="1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2053"/>
            <p:cNvSpPr/>
            <p:nvPr/>
          </p:nvSpPr>
          <p:spPr>
            <a:xfrm>
              <a:off x="3235680" y="4148640"/>
              <a:ext cx="2611800" cy="24645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ВЕС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Благовещ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Вербное воскрес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Вознесение на неб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Иисуса Хрис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2054"/>
            <p:cNvSpPr/>
            <p:nvPr/>
          </p:nvSpPr>
          <p:spPr>
            <a:xfrm>
              <a:off x="4323240" y="4096080"/>
              <a:ext cx="720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2055"/>
            <p:cNvSpPr/>
            <p:nvPr/>
          </p:nvSpPr>
          <p:spPr>
            <a:xfrm>
              <a:off x="5774040" y="3069000"/>
              <a:ext cx="2539800" cy="238572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И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ведение во хра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ождество Христо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рещение Господн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ретение Господн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2056"/>
            <p:cNvSpPr/>
            <p:nvPr/>
          </p:nvSpPr>
          <p:spPr>
            <a:xfrm flipV="1">
              <a:off x="4395240" y="4653000"/>
              <a:ext cx="1440" cy="7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2057"/>
            <p:cNvSpPr/>
            <p:nvPr/>
          </p:nvSpPr>
          <p:spPr>
            <a:xfrm>
              <a:off x="3419640" y="1627920"/>
              <a:ext cx="2538000" cy="236988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64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ОСЕН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Рождество Пресвят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Богородиц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Воздвижения честн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Креста Господ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2058"/>
            <p:cNvSpPr/>
            <p:nvPr/>
          </p:nvSpPr>
          <p:spPr>
            <a:xfrm>
              <a:off x="900360" y="2853360"/>
              <a:ext cx="2612160" cy="237492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ЛЕТ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шествие Святого Дух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еображение Господн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Успение Пресвят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огородицы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нимательно просмотрите следующую информацию о праздниках и запишите её в  форме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11280" y="2852640"/>
          <a:ext cx="8137440" cy="2808360"/>
        </p:xfrm>
        <a:graphic>
          <a:graphicData uri="http://schemas.openxmlformats.org/drawingml/2006/table">
            <a:tbl>
              <a:tblPr/>
              <a:tblGrid>
                <a:gridCol w="1085760"/>
                <a:gridCol w="2325600"/>
                <a:gridCol w="2524320"/>
                <a:gridCol w="2201760"/>
              </a:tblGrid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00"/>
                      </a:solidFill>
                    </a:lnL>
                    <a:lnR w="28080">
                      <a:solidFill>
                        <a:srgbClr val="ffff00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звание празд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00"/>
                      </a:solidFill>
                    </a:lnL>
                    <a:lnR w="28080">
                      <a:solidFill>
                        <a:srgbClr val="ffff00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гда отмеча-ется (по новому стилю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00"/>
                      </a:solidFill>
                    </a:lnL>
                    <a:lnR w="28080">
                      <a:solidFill>
                        <a:srgbClr val="ffff00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мысловое содержание празд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00"/>
                      </a:solidFill>
                    </a:lnL>
                    <a:lnR w="28080">
                      <a:solidFill>
                        <a:srgbClr val="ffff00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 w="280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00"/>
                      </a:solidFill>
                    </a:lnL>
                    <a:lnR w="28080">
                      <a:solidFill>
                        <a:srgbClr val="ffff00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00"/>
                      </a:solidFill>
                    </a:lnL>
                    <a:lnR w="28080">
                      <a:solidFill>
                        <a:srgbClr val="ffff00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00"/>
                      </a:solidFill>
                    </a:lnL>
                    <a:lnR w="28080">
                      <a:solidFill>
                        <a:srgbClr val="ffff00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00"/>
                      </a:solidFill>
                    </a:lnL>
                    <a:lnR w="28080">
                      <a:solidFill>
                        <a:srgbClr val="ffff00"/>
                      </a:solidFill>
                    </a:lnR>
                    <a:lnT w="2808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ождество Пресвятой Богород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аздник в честь рождения Девы Марии, земной Матери Иисуса Христа, в честь "начатка" нашего спасения", как говорится о нём в церковных песноп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 праздну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8 сентябр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 21 по новому стилю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rozhbogomb"/>
          <p:cNvPicPr/>
          <p:nvPr/>
        </p:nvPicPr>
        <p:blipFill>
          <a:blip r:embed="rId2">
            <a:lum contrast="52000"/>
          </a:blip>
          <a:stretch/>
        </p:blipFill>
        <p:spPr>
          <a:xfrm>
            <a:off x="826920" y="1916280"/>
            <a:ext cx="2990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здвижение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честного Креста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5564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тмеча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7 сентября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в честь обретения (находки) в первой половине IV века императрицей  Еленой, матерью императора Константина Великого, креста, на котором был распят Иисус Христо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iconvozchestkresta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900000" y="184464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ведение во храм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Пресвятой Богород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360" y="16002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аздник в честь одного из описанных в «Протоевангелии» событий детства Девы Марии — события, означившего начало ее жизни в Иерусалимском хра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 справ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1 ноября-(4 декабря по новому стил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protoe2"/>
          <p:cNvPicPr/>
          <p:nvPr/>
        </p:nvPicPr>
        <p:blipFill>
          <a:blip r:embed="rId2">
            <a:lum contrast="56000"/>
          </a:blip>
          <a:stretch/>
        </p:blipFill>
        <p:spPr>
          <a:xfrm>
            <a:off x="468360" y="1844640"/>
            <a:ext cx="2990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08:20:31Z</dcterms:created>
  <dc:creator>БММЦ 26313</dc:creator>
  <dc:description/>
  <dc:language>en-US</dc:language>
  <cp:lastModifiedBy>PopovaNS</cp:lastModifiedBy>
  <dcterms:modified xsi:type="dcterms:W3CDTF">2011-02-08T08:25:17Z</dcterms:modified>
  <cp:revision>21</cp:revision>
  <dc:subject/>
  <dc:title>Слайд 1</dc:title>
</cp:coreProperties>
</file>